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D4B-26C2-4E7C-B95B-FD9EF2B9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D93-7231-4436-BAE8-F512811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D9C-2784-4F58-A1AC-E5C47CB3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D71-3313-4A19-9E1C-EAD58BB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810-E6A3-449A-B1F8-DAD4BAD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C43-2522-416A-A3E9-D3DEC81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3CD-B8AB-4FCF-A571-7906F63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492-DEB9-42C4-B5F3-4295C70E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1D8-F8F9-4D12-9BAF-218A346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0D2-1612-4BDA-A0A0-D7204C24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CFA-F42F-41A1-9C3E-37645C0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34C-E60B-405C-BD77-1A14359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04D8-564A-40AB-AED8-712F89B01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«Писатель на все време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минация: «По тургеневским мест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Я был воспитан на Тургенев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а Спас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DSC6744"/>
          <p:cNvPicPr/>
          <p:nvPr/>
        </p:nvPicPr>
        <p:blipFill>
          <a:blip r:embed="rId1"/>
          <a:stretch/>
        </p:blipFill>
        <p:spPr>
          <a:xfrm>
            <a:off x="684360" y="1173240"/>
            <a:ext cx="792936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раз за границ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е 1838 года Варвара Петровна провожает сына Ивана из Петербурга за границу для продолжения учёбы. Направляется будущий классик на пароходе в Любек, затем сухим путём в Берлин. Там его ждёт «свёт» того времени, он полностью погрузится в неизведанный мир и  будет наслаждаться 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линский университ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pernplatzUniversitaet1855"/>
          <p:cNvPicPr/>
          <p:nvPr/>
        </p:nvPicPr>
        <p:blipFill>
          <a:blip r:embed="rId1"/>
          <a:stretch/>
        </p:blipFill>
        <p:spPr>
          <a:xfrm>
            <a:off x="539640" y="1268280"/>
            <a:ext cx="8110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тут в нашем Тургеневе начнут появляться черты будущего г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растно он изучал историю греческой литературы, слушал латинские древности у Цумпа, на дому зубрил латинскую и греческую грамматику - подготовки петербургского университета не хватало». Изучал Гегеля. Он то и привлекал его больше всего, впрочем как и всех русских в Бер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к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Владимирович Станкевич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лись осенью 1838 года  благодаря Грановскому. Через некоторое время Иван вошёл в его близкое окружение, после они стали хорошими друз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кевич (как позже и Белинский) принял, полюбил его таким, как он есть «не белого, не черного, а просто живого Тургене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ного он дал И.С. Тургеневу. Сколько жарких споров было у них, сколько вместе они пережили и могли пережить. Но болезнь взяла св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кевич умер 7 ию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40 г. в возрасте 26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361"/>
          <p:cNvPicPr/>
          <p:nvPr/>
        </p:nvPicPr>
        <p:blipFill>
          <a:blip r:embed="rId1"/>
          <a:stretch/>
        </p:blipFill>
        <p:spPr>
          <a:xfrm>
            <a:off x="4284720" y="333360"/>
            <a:ext cx="45496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о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озвращении в Россию он был «нарядным, блестящим юношей, любил франтить – носил лорнет, щеголял разноцветными сюртуками и жилетам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жил в Спасском, зимой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есколько лет в Петербурге он встретит любовь всей  жизни, и всю жизнь свою отдаст только ей одной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ард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44020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на Виардо- дочь испанского тенора Мануэля Гарси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ардо – певица, покорившая всю Европу и сердце нашего героя на долгие г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41008-10_1"/>
          <p:cNvPicPr/>
          <p:nvPr/>
        </p:nvPicPr>
        <p:blipFill>
          <a:blip r:embed="rId1"/>
          <a:stretch/>
        </p:blipFill>
        <p:spPr>
          <a:xfrm>
            <a:off x="4941720" y="1208160"/>
            <a:ext cx="39229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тавен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9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тавенель - имение Виардо в шестидесяти километрах на восток от Парижа. Старинный замок, времен Францис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уда и последовал Тургенев за своей люб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сто ему очень подходило. Воздух Иль де Франса, голубая дымка полей - именно для него, комната с зелёными обоями, ветер нёс ему запах сирени, лугов, пол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 написал он пятую часть вообще всего своего творения – а работал сорок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юбой рассказ про известного человека начинают с места его рождения, так и я начну свой с того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д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гласная с политикой государства, и теряющая голос Виардо переезжает на виллу в немецкий город Бад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уже поняли Тургенев тоже там. Там же он отстраивает дом, рядом с виллой Виардо. Прекрасно чувствует себя, наслаждается природой, Германией. Но идиллию вскоре прервёт война Франции с Герман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лла Турге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3newfototogalley200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Иван вынужден поехать в Россию из-за подозрения российских властей в связи Тургенева с противниками Российской Импе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скоре подозрения были сняты, и  Тургенев снова отправляется в Пари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жива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 с Виардо приобрели здесь прекрасную виллу – в трёх четвертях часа езды от Парижа, я отстраиваю себе павильон, который будет готов не раньше 20 августа,- но где я немедленно поселюс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 Тургенева. Бужив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e1db2f41f520e95cd1dae5efc300f5a"/>
          <p:cNvPicPr/>
          <p:nvPr/>
        </p:nvPicPr>
        <p:blipFill>
          <a:blip r:embed="rId1"/>
          <a:stretch/>
        </p:blipFill>
        <p:spPr>
          <a:xfrm>
            <a:off x="611280" y="1197000"/>
            <a:ext cx="78501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в письмо Толстого, Тургенев тем же летом собирается наведаться в Орловскую губе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риезду мирится с Толстым, посещает Ясную Поляну. Несколько дней проводит в гост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в начале 79 года умер  старший брат Тургенева Никол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жизни Ивана большой роли он не сыграл. «Николай был помещик, хозяин, скуповатый делец. Всё это чуждо Ивану Сергеевич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е дни проводил тогда Тургенев в любимом душе его Спас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, сраженный болезнью, он мог только мечтать увидеть родные места сн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генев рад, что Полонский согласился ехать в Спасское и б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ван Сергеевич писал Полонско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гда будете в Спасском, поклонитесь от меня моему дому, саду, моему молодому дубу - родине поклонитесь, которую я уже, вероятно,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ь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мучился он в последние свои минуты, пробовал разные способы лечения, была даже операция, прошедшая успешно, но спасти или продлить жизнь писателя не удалос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л в страшных муках, во время приступов просил убить себя, такая невыносимая была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отошедший, весь преобразился. Может быть, и никогда красив так н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ер Иван Сергеевич Тургенев 22 авгус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3 сентября) 1883 года. В Буживале.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авещал похоронить себя в Санкт-Петербурге, на Волковом кладбище, рядом с могилой друга В.Г. Белинско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ыб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связей было у Тургенева с местом где он рос, творил, охотился, любил. Спасское крепко сидит у него в душе и никогда не уйдёт от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одился И.С. Тургенев в городе Орле, но всё свое детство провёл в родовом имении Лутовин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ещание писателя было выполнено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2213280" y="596736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ила И.С. Тургенева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ское-Лутови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rel-8"/>
          <p:cNvPicPr/>
          <p:nvPr/>
        </p:nvPicPr>
        <p:blipFill>
          <a:blip r:embed="rId1"/>
          <a:stretch/>
        </p:blipFill>
        <p:spPr>
          <a:xfrm>
            <a:off x="395280" y="1052640"/>
            <a:ext cx="83408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вара Петровна Тургенева (Лутовинова) Деспотичная, властная женщина с тяжёлой судьбой, но безмерно любившая сво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arvara_Petrovna_Turgeneva"/>
          <p:cNvPicPr/>
          <p:nvPr/>
        </p:nvPicPr>
        <p:blipFill>
          <a:blip r:embed="rId1"/>
          <a:stretch/>
        </p:blipFill>
        <p:spPr>
          <a:xfrm>
            <a:off x="4691160" y="1484280"/>
            <a:ext cx="42861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Николаевич Тургенев. Участник Отечественной войны 1812 года, кавалер Знака отличия Военного ордена. Женился на Варваре Петровне по расчету, изменял жене, и не любил е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mgB"/>
          <p:cNvPicPr/>
          <p:nvPr/>
        </p:nvPicPr>
        <p:blipFill>
          <a:blip r:embed="rId1"/>
          <a:stretch/>
        </p:blipFill>
        <p:spPr>
          <a:xfrm>
            <a:off x="5219640" y="134136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, регулярно бившая, с поводом и без повод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ец не участвовавший в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многим И.С. Тургенев был обязан родителям. На мать он держал обиду до её смерт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зато какой простор для души создавало Спасское. С его лесами, полями, ручьями, крепост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учи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546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ухой полянке за прудом слушал будущий гений крепостного, но грамотного человека Пунина. Он и познакомил Ивана с литературой. Позже Тургенев называл его «первым своим учителем словесност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8150103"/>
          <p:cNvPicPr/>
          <p:nvPr/>
        </p:nvPicPr>
        <p:blipFill>
          <a:blip r:embed="rId1"/>
          <a:stretch/>
        </p:blipFill>
        <p:spPr>
          <a:xfrm>
            <a:off x="4878360" y="1125360"/>
            <a:ext cx="382428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ая природа Спасского давала все условия для занятия охото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Тургенев с детства пристрастился к этому занятию и преуспел в нём. «Часто приходил он с полной сеткой дичи набитой до упору». Позже этот опыт послужил началом цикла рассказов «Записки охот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3T18:14:55Z</dcterms:created>
  <dc:creator>1</dc:creator>
  <dc:description/>
  <dc:language>en-US</dc:language>
  <cp:lastModifiedBy>User</cp:lastModifiedBy>
  <dcterms:modified xsi:type="dcterms:W3CDTF">2019-02-22T20:49:04Z</dcterms:modified>
  <cp:revision>11</cp:revision>
  <dc:subject/>
  <dc:title>Слайд 1</dc:title>
</cp:coreProperties>
</file>