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65F-E2A3-444B-9247-D41CA807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9CE-E812-4D63-B92E-2CE92002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84C-5A4E-4688-871A-94C84D0E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19B-70A6-4850-840B-C3EA5C71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D56-7D14-45F6-AF30-34740DB0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E78-7B41-4A79-ACD2-B2634FE3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DD7-CA38-40F2-AE76-EB516F4C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934-CCCC-44E8-BDB0-39ECDF7F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7D2-07E1-401C-BF0E-59AB9AF5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B37-D24D-48B7-BE24-4E50E9E0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FA3-6606-4EBB-A75B-B5071E3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82B-8C32-4502-8660-7874FD4B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FEA-3C03-4879-A44B-3F8E6D5C8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«Писатель на все време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оминация: «По тургеневским мест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«Я был воспитан на Тургеневе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. Н. Толс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а Спас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DSC6744"/>
          <p:cNvPicPr/>
          <p:nvPr/>
        </p:nvPicPr>
        <p:blipFill>
          <a:blip r:embed="rId1"/>
          <a:stretch/>
        </p:blipFill>
        <p:spPr>
          <a:xfrm>
            <a:off x="684360" y="1173240"/>
            <a:ext cx="792936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й раз за границ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е 1838 года Варвара Петровна провожает сына Ивана из Петербурга за границу для продолжения учёбы. Направляется будущий классик на пароходе в Любек, затем сухим путём в Берлин. Там его ждёт «свёт» того времени, он полностью погрузится в неизведанный мир и  будет наслаждаться 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рлинский университ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pernplatzUniversitaet1855"/>
          <p:cNvPicPr/>
          <p:nvPr/>
        </p:nvPicPr>
        <p:blipFill>
          <a:blip r:embed="rId1"/>
          <a:stretch/>
        </p:blipFill>
        <p:spPr>
          <a:xfrm>
            <a:off x="539640" y="1268280"/>
            <a:ext cx="81108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но тут в нашем Тургеневе начнут появляться черты будущего г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трастно он изучал историю греческой литературы, слушал латинские древности у Цумпа, на дому зубрил латинскую и греческую грамматику - подготовки петербургского университета не хватало». Изучал Гегеля. Он то и привлекал его больше всего, впрочем как и всех русских в Берл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к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лай Владимирович Станкевич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лись осенью 1838 года  благодаря Грановскому. Через некоторое время Иван вошёл в его близкое окружение, после они стали хорошими друзь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кевич (как позже и Белинский) принял, полюбил его таким, как он есть «не белого, не черного, а просто живого Тургене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ного он дал И.С. Тургеневу. Сколько жарких споров было у них, сколько вместе они пережили и могли пережить. Но болезнь взяла св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кевич умер 7 ию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40 г. в возрасте 26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361"/>
          <p:cNvPicPr/>
          <p:nvPr/>
        </p:nvPicPr>
        <p:blipFill>
          <a:blip r:embed="rId1"/>
          <a:stretch/>
        </p:blipFill>
        <p:spPr>
          <a:xfrm>
            <a:off x="4284720" y="333360"/>
            <a:ext cx="45496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осс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озвращении в Россию он был «нарядным, блестящим юношей, любил франтить – носил лорнет, щеголял разноцветными сюртуками и жилетам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м жил в Спасском, зимой в Моск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несколько лет в Петербурге он встретит любовь всей  жизни, и всю жизнь свою отдаст только ей одной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ард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44020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на Виардо- дочь испанского тенора Мануэля Гарси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ардо – певица, покорившая всю Европу и сердце нашего героя на долгие г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41008-10_1"/>
          <p:cNvPicPr/>
          <p:nvPr/>
        </p:nvPicPr>
        <p:blipFill>
          <a:blip r:embed="rId1"/>
          <a:stretch/>
        </p:blipFill>
        <p:spPr>
          <a:xfrm>
            <a:off x="4941720" y="1208160"/>
            <a:ext cx="392292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тавен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9"/>
          <p:cNvPicPr/>
          <p:nvPr/>
        </p:nvPicPr>
        <p:blipFill>
          <a:blip r:embed="rId1"/>
          <a:stretch/>
        </p:blipFill>
        <p:spPr>
          <a:xfrm>
            <a:off x="684360" y="1197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тавенель - имение Виардо в шестидесяти километрах на восток от Парижа. Старинный замок, времен Францис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Туда и последовал Тургенев за своей люб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сто ему очень подходило. Воздух Иль де Франса, голубая дымка полей - именно для него, комната с зелёными обоями, ветер нёс ему запах сирени, лугов, поле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м написал он пятую часть вообще всего своего творения – а работал сорок л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любой рассказ про известного человека начинают с места его рождения, так и я начну свой с того 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де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гласная с политикой государства, и теряющая голос Виардо переезжает на виллу в немецкий город Бад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 уже поняли Тургенев тоже там. Там же он отстраивает дом, рядом с виллой Виардо. Прекрасно чувствует себя, наслаждается природой, Германией. Но идиллию вскоре прервёт война Франции с Герман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лла Турген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3newfototogalley200"/>
          <p:cNvPicPr/>
          <p:nvPr/>
        </p:nvPicPr>
        <p:blipFill>
          <a:blip r:embed="rId1"/>
          <a:stretch/>
        </p:blipFill>
        <p:spPr>
          <a:xfrm>
            <a:off x="611280" y="1197000"/>
            <a:ext cx="81374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же Иван вынужден поехать в Россию из-за подозрения российских властей в связи Тургенева с противниками Российской Импе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вскоре подозрения были сняты, и  Тургенев снова отправляется в Париж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жива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ы с Виардо приобрели здесь прекрасную виллу – в трёх четвертях часа езды от Парижа, я отстраиваю себе павильон, который будет готов не раньше 20 августа,- но где я немедленно поселюс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 Тургенева. Бужив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ae1db2f41f520e95cd1dae5efc300f5a"/>
          <p:cNvPicPr/>
          <p:nvPr/>
        </p:nvPicPr>
        <p:blipFill>
          <a:blip r:embed="rId1"/>
          <a:stretch/>
        </p:blipFill>
        <p:spPr>
          <a:xfrm>
            <a:off x="611280" y="1197000"/>
            <a:ext cx="785016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в письмо Толстого, Тургенев тем же летом собирается наведаться в Орловскую губер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приезду мирится с Толстым, посещает Ясную Поляну. Несколько дней проводит в гост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же в начале 79 года умер  старший брат Тургенева Никола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жизни Ивана большой роли он не сыграл. «Николай был помещик, хозяин, скуповатый делец. Всё это чуждо Ивану Сергеевич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ие дни проводил тогда Тургенев в любимом душе его Спасс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, сраженный болезнью, он мог только мечтать увидеть родные места сн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ргенев рад, что Полонский согласился ехать в Спасское и без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ван Сергеевич писал Полонско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огда будете в Спасском, поклонитесь от меня моему дому, саду, моему молодому дубу - родине поклонитесь, которую я уже, вероятно, никогда не увиж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дь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мучился он в последние свои минуты, пробовал разные способы лечения, была даже операция, прошедшая успешно, но спасти или продлить жизнь писателя не удалось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ирал в страшных муках, во время приступов просил убить себя, такая невыносимая была бо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отошедший, весь преобразился. Может быть, и никогда красив так не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ер Иван Сергеевич Тургенев 22 авгус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3 сентября) 1883 года. В Буживале.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завещал похоронить себя в Санкт-Петербурге, на Волковом кладбище, рядом с могилой друга В.Г. Белинского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ыб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о связей было у Тургенева с местом где он рос, творил, охотился, любил. Спасское крепко сидит у него в душе и никогда не уйдёт от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Родился И.С. Тургенев в городе Орле, но всё свое детство провёл в родовом имении Лутовинов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вещание писателя было выполнено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2213280" y="596736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гила И.С. Тургенева. 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ское-Лутовин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rel-8"/>
          <p:cNvPicPr/>
          <p:nvPr/>
        </p:nvPicPr>
        <p:blipFill>
          <a:blip r:embed="rId1"/>
          <a:stretch/>
        </p:blipFill>
        <p:spPr>
          <a:xfrm>
            <a:off x="395280" y="1052640"/>
            <a:ext cx="83408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330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вара Петровна Тургенева (Лутовинова) Деспотичная, властная женщина с тяжёлой судьбой, но безмерно любившая своих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Varvara_Petrovna_Turgeneva"/>
          <p:cNvPicPr/>
          <p:nvPr/>
        </p:nvPicPr>
        <p:blipFill>
          <a:blip r:embed="rId1"/>
          <a:stretch/>
        </p:blipFill>
        <p:spPr>
          <a:xfrm>
            <a:off x="4691160" y="1484280"/>
            <a:ext cx="428616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гей Николаевич Тургенев. Участник Отечественной войны 1812 года, кавалер Знака отличия Военного ордена. Женился на Варваре Петровне по расчету, изменял жене, и не любил её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imgB"/>
          <p:cNvPicPr/>
          <p:nvPr/>
        </p:nvPicPr>
        <p:blipFill>
          <a:blip r:embed="rId1"/>
          <a:stretch/>
        </p:blipFill>
        <p:spPr>
          <a:xfrm>
            <a:off x="5219640" y="1341360"/>
            <a:ext cx="36543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, регулярно бившая, с поводом и без повод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ец не участвовавший в вос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многим И.С. Тургенев был обязан родителям. На мать он держал обиду до её смерт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зато какой простор для души создавало Спасское. С его лесами, полями, ручьями, крепост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й учит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546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глухой полянке за прудом слушал будущий гений крепостного, но грамотного человека Пунина. Он и познакомил Ивана с литературой. Позже Тургенев называл его «первым своим учителем словесност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8150103"/>
          <p:cNvPicPr/>
          <p:nvPr/>
        </p:nvPicPr>
        <p:blipFill>
          <a:blip r:embed="rId1"/>
          <a:stretch/>
        </p:blipFill>
        <p:spPr>
          <a:xfrm>
            <a:off x="4878360" y="1125360"/>
            <a:ext cx="3824280" cy="50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гатая природа Спасского давала все условия для занятия охотой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дой Тургенев с детства пристрастился к этому занятию и преуспел в нём. «Часто приходил он с полной сеткой дичи набитой до упору». Позже этот опыт послужил началом цикла рассказов «Записки охот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3T18:14:55Z</dcterms:created>
  <dc:creator>1</dc:creator>
  <dc:description/>
  <dc:language>en-US</dc:language>
  <cp:lastModifiedBy>User</cp:lastModifiedBy>
  <dcterms:modified xsi:type="dcterms:W3CDTF">2019-02-22T20:49:04Z</dcterms:modified>
  <cp:revision>11</cp:revision>
  <dc:subject/>
  <dc:title>Слайд 1</dc:title>
</cp:coreProperties>
</file>