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415D-6242-409A-8D3A-DD4DE02AE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4895-1D31-479D-8A4E-3139F215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9E8C-A84B-48D6-B3C5-FE7001A91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CEDC-B3FF-4BB4-BD23-758F1C1BD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19695-ACAA-4B4A-A056-567808770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83E0-620A-492F-96DE-EDC0CE33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5181-43C4-40FD-BE4B-C33CFF4C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E683-9D22-4A56-84FA-0C7ACBE6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D118-9B6D-4F75-93A2-8098F65B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14826-34D2-4A2A-AEB8-F4543CB9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3392-159D-4990-BCBF-D2928A24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718E-BE59-4088-91BB-2B79F516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BB9B-3FD7-42B1-A960-8EE76CF2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D7EC-45DB-44AF-BFAE-024D6C6B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99A36-DB94-4BF0-A733-B4DC3119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EADA-D988-4030-9E67-D051F1414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A3D8-2980-4B28-B8C6-E9DA294A4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30AB-F161-4299-A3A7-84928DF1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544D-925C-43ED-9B4B-0A892718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B1D2-C3CB-473D-9D5F-86F58FCE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4330-08ED-430C-96FE-29F58265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B258-1622-4870-8356-7789AFB9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CBB0-400A-4E18-8AE8-C07C657E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2308-1965-4FEA-97B2-8E0209ED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3DE4-D32B-4905-ADE4-C778412DD2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A233-AEC0-4BEA-8AB2-29BD3992F9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25360" y="2047680"/>
            <a:ext cx="7875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"/>
              </a:rPr>
              <a:t>               </a:t>
            </a:r>
            <a:r>
              <a:rPr b="1" lang="en-US" sz="4800" spc="-1" strike="noStrike">
                <a:solidFill>
                  <a:srgbClr val="ffffff"/>
                </a:solidFill>
                <a:latin typeface="Century"/>
              </a:rPr>
              <a:t>Дружба людей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"/>
              </a:rPr>
              <a:t>                  </a:t>
            </a:r>
            <a:r>
              <a:rPr b="1" lang="en-US" sz="4800" spc="-1" strike="noStrike">
                <a:solidFill>
                  <a:srgbClr val="ffffff"/>
                </a:solidFill>
                <a:latin typeface="Century"/>
              </a:rPr>
              <a:t>и звере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95280" y="284040"/>
            <a:ext cx="3816360" cy="28180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rcRect l="13566" t="0" r="0" b="0"/>
          <a:stretch/>
        </p:blipFill>
        <p:spPr>
          <a:xfrm>
            <a:off x="4716360" y="476280"/>
            <a:ext cx="3672000" cy="27716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250920" y="3645000"/>
            <a:ext cx="4105080" cy="27302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003640" y="3446640"/>
            <a:ext cx="381636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716360" y="3357720"/>
            <a:ext cx="4249800" cy="31827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4788000" y="260280"/>
            <a:ext cx="4105080" cy="27306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rcRect l="4002" t="6002" r="7242" b="-36"/>
          <a:stretch/>
        </p:blipFill>
        <p:spPr>
          <a:xfrm>
            <a:off x="0" y="1268280"/>
            <a:ext cx="4824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rcRect l="8447" t="3951" r="0" b="5511"/>
          <a:stretch/>
        </p:blipFill>
        <p:spPr>
          <a:xfrm>
            <a:off x="250920" y="189000"/>
            <a:ext cx="4681440" cy="33112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rcRect l="4127" t="3749" r="3699" b="166"/>
          <a:stretch/>
        </p:blipFill>
        <p:spPr>
          <a:xfrm>
            <a:off x="4140360" y="2781360"/>
            <a:ext cx="48243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rcRect l="3999" t="7989" r="0" b="0"/>
          <a:stretch/>
        </p:blipFill>
        <p:spPr>
          <a:xfrm>
            <a:off x="395280" y="333360"/>
            <a:ext cx="5184720" cy="33098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rcRect l="4285" t="3875" r="1417" b="0"/>
          <a:stretch/>
        </p:blipFill>
        <p:spPr>
          <a:xfrm>
            <a:off x="4211640" y="3213000"/>
            <a:ext cx="446400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rcRect l="4617" t="3448" r="6775" b="0"/>
          <a:stretch/>
        </p:blipFill>
        <p:spPr>
          <a:xfrm>
            <a:off x="250920" y="189000"/>
            <a:ext cx="4968720" cy="36273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rcRect l="9645" t="14743" r="22866" b="5277"/>
          <a:stretch/>
        </p:blipFill>
        <p:spPr>
          <a:xfrm>
            <a:off x="4859280" y="3429000"/>
            <a:ext cx="403380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rcRect l="2509" t="9396" r="3746" b="2404"/>
          <a:stretch/>
        </p:blipFill>
        <p:spPr>
          <a:xfrm>
            <a:off x="250920" y="189000"/>
            <a:ext cx="5400720" cy="33843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rcRect l="6481" t="11660" r="2495" b="-71"/>
          <a:stretch/>
        </p:blipFill>
        <p:spPr>
          <a:xfrm>
            <a:off x="3635280" y="2997360"/>
            <a:ext cx="504036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rcRect l="6335" t="3806" r="1285" b="10758"/>
          <a:stretch/>
        </p:blipFill>
        <p:spPr>
          <a:xfrm>
            <a:off x="324000" y="189000"/>
            <a:ext cx="5040000" cy="31068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rcRect l="5164" t="4631" r="24680" b="0"/>
          <a:stretch/>
        </p:blipFill>
        <p:spPr>
          <a:xfrm>
            <a:off x="3995640" y="1989000"/>
            <a:ext cx="4896000" cy="44816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1077840" y="2602080"/>
            <a:ext cx="2592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390920" cy="3294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5651640" y="404640"/>
            <a:ext cx="3087720" cy="41767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1979640" y="3068640"/>
            <a:ext cx="4464000" cy="35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4103640" cy="27291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rcRect l="1581" t="5178" r="5877" b="4994"/>
          <a:stretch/>
        </p:blipFill>
        <p:spPr>
          <a:xfrm>
            <a:off x="4284720" y="1700280"/>
            <a:ext cx="41767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4465440" cy="33512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rcRect l="0" t="-247" r="6293" b="0"/>
          <a:stretch/>
        </p:blipFill>
        <p:spPr>
          <a:xfrm>
            <a:off x="5076720" y="3463920"/>
            <a:ext cx="36720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4T15:19:08Z</dcterms:created>
  <dc:creator>n1</dc:creator>
  <dc:description/>
  <dc:language>en-US</dc:language>
  <cp:lastModifiedBy>n1</cp:lastModifiedBy>
  <dcterms:modified xsi:type="dcterms:W3CDTF">2014-05-04T16:51:45Z</dcterms:modified>
  <cp:revision>13</cp:revision>
  <dc:subject/>
  <dc:title>Слайд 1</dc:title>
</cp:coreProperties>
</file>