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BC1-9658-44FD-8B74-53E298C6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C29-48B7-4260-A118-5178514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DC6-4A54-456D-A9BD-3E688A92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FA0-BDC1-4688-9986-2C1527A7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68A-FD23-42F0-9448-F9308CFA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3ECC-9B60-4FD0-8E29-2EF8FCB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BD6-2DE6-498A-AB1C-301EF96A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D45-9845-4BA4-A85C-AE8313D3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6BA-0A75-4025-BD11-6AF0FB5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C14-183D-4A39-84E9-4037947B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A480-E9F8-4D80-A30B-B6BC991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A0A-CF0A-4C95-A18A-31B67A8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B6F1-4A54-4B81-95DA-38FEA8E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0770-911C-4DBB-965E-71D73846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BEA-BF2C-4CFD-905C-97A85080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B3A-0FFD-4E9E-8DA1-7C462171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E6D-E384-4AB5-9350-85BAD52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E19-2FF6-4922-868B-ACE4457F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AE4-29B9-45A1-8BD7-68F9F77A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F97-3D82-4CD5-987B-9EA89A5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8C6-95FC-4FC3-80E8-4D5C2261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ABA-412A-433E-9BA6-A572300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0DC-80F6-49DC-8F9A-D013546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B53-2BD5-461F-9EB1-C3881C0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C09-8A69-42D2-9A31-EB65C9E113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37BC-71B5-4CF4-A1AD-A9D7061ED7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5360" y="2047680"/>
            <a:ext cx="787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"/>
              </a:rPr>
              <a:t>               </a:t>
            </a: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Дружба люде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и звер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284040"/>
            <a:ext cx="3816360" cy="2818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rcRect l="13566" t="0" r="0" b="0"/>
          <a:stretch/>
        </p:blipFill>
        <p:spPr>
          <a:xfrm>
            <a:off x="4716360" y="476280"/>
            <a:ext cx="3672000" cy="277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4105080" cy="2730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003640" y="3446640"/>
            <a:ext cx="3816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249800" cy="318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002" t="6002" r="7242" b="-36"/>
          <a:stretch/>
        </p:blipFill>
        <p:spPr>
          <a:xfrm>
            <a:off x="0" y="1268280"/>
            <a:ext cx="482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8447" t="3951" r="0" b="5511"/>
          <a:stretch/>
        </p:blipFill>
        <p:spPr>
          <a:xfrm>
            <a:off x="250920" y="189000"/>
            <a:ext cx="4681440" cy="3311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4127" t="3749" r="3699" b="166"/>
          <a:stretch/>
        </p:blipFill>
        <p:spPr>
          <a:xfrm>
            <a:off x="4140360" y="278136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3999" t="7989" r="0" b="0"/>
          <a:stretch/>
        </p:blipFill>
        <p:spPr>
          <a:xfrm>
            <a:off x="395280" y="333360"/>
            <a:ext cx="5184720" cy="330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4285" t="3875" r="1417" b="0"/>
          <a:stretch/>
        </p:blipFill>
        <p:spPr>
          <a:xfrm>
            <a:off x="4211640" y="3213000"/>
            <a:ext cx="44640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4617" t="3448" r="6775" b="0"/>
          <a:stretch/>
        </p:blipFill>
        <p:spPr>
          <a:xfrm>
            <a:off x="250920" y="189000"/>
            <a:ext cx="4968720" cy="362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9645" t="14743" r="22866" b="5277"/>
          <a:stretch/>
        </p:blipFill>
        <p:spPr>
          <a:xfrm>
            <a:off x="4859280" y="3429000"/>
            <a:ext cx="4033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2509" t="9396" r="3746" b="2404"/>
          <a:stretch/>
        </p:blipFill>
        <p:spPr>
          <a:xfrm>
            <a:off x="250920" y="189000"/>
            <a:ext cx="5400720" cy="338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6481" t="11660" r="2495" b="-71"/>
          <a:stretch/>
        </p:blipFill>
        <p:spPr>
          <a:xfrm>
            <a:off x="3635280" y="299736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6335" t="3806" r="1285" b="10758"/>
          <a:stretch/>
        </p:blipFill>
        <p:spPr>
          <a:xfrm>
            <a:off x="324000" y="189000"/>
            <a:ext cx="5040000" cy="3106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5164" t="4631" r="24680" b="0"/>
          <a:stretch/>
        </p:blipFill>
        <p:spPr>
          <a:xfrm>
            <a:off x="3995640" y="1989000"/>
            <a:ext cx="4896000" cy="448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077840" y="2602080"/>
            <a:ext cx="259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0920" cy="329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087720" cy="417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4464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103640" cy="2729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1581" t="5178" r="5877" b="4994"/>
          <a:stretch/>
        </p:blipFill>
        <p:spPr>
          <a:xfrm>
            <a:off x="4284720" y="1700280"/>
            <a:ext cx="417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5440" cy="3351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-247" r="6293" b="0"/>
          <a:stretch/>
        </p:blipFill>
        <p:spPr>
          <a:xfrm>
            <a:off x="5076720" y="3463920"/>
            <a:ext cx="3672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5:19:08Z</dcterms:created>
  <dc:creator>n1</dc:creator>
  <dc:description/>
  <dc:language>en-US</dc:language>
  <cp:lastModifiedBy>n1</cp:lastModifiedBy>
  <dcterms:modified xsi:type="dcterms:W3CDTF">2014-05-04T16:51:45Z</dcterms:modified>
  <cp:revision>13</cp:revision>
  <dc:subject/>
  <dc:title>Слайд 1</dc:title>
</cp:coreProperties>
</file>