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121-01BF-4DC0-B4EB-FAD02A1C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9F0-5997-4A2C-9A90-6183485F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1F5-F325-4C0A-8A7B-FBEBF5F5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E7A-446A-4E77-B7D4-7537A3A4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C80C-B2C8-4824-8BA7-66CCC7E2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6403-6227-4B39-BEED-757BFFD3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80F8-B07F-4A31-9E3E-E355FD5B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05E4-FCF1-452C-B8D2-9DF2041A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0216-E7DA-4118-9FC0-3B295A23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C9D8-A714-4E95-8C58-E43D7F25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C9F0-1EFB-4D92-B638-335BDACC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533-A218-401F-B097-FEB6EFC2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6A03-C7BE-42B1-8E8F-1BA52539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01F6-21C4-4277-A42B-3FFF0BB6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1E9B-187F-4715-A6C4-C86F70F5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ED30-3190-4411-8CD9-60F1BB36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39B0-FBAD-49A7-90E6-692787B0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69204-474F-4F2C-84A0-BD3E1BDF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FEE47-D4AB-43BC-A01F-F303D802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DD100-E7BA-405A-952E-82714D4B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8470A-A209-4164-B84C-AB6D4187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6A71C-0C41-458B-9B47-928131BB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198-7B0C-49AC-92B6-FF19C99F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5AB8F-4BDC-476B-B250-1D5BC567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46376-77AB-4CFA-B363-1CBCB333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D4B31-8199-4805-B40C-68EBE6B0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BFAA9-971F-4CBE-BE9C-E05100EE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D0F59-B088-4D05-9DA4-E0ED2C21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2183B-9560-48BF-8B41-50CF35D4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9CEF1-7D41-47FC-8BF4-D8F0FD1E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C9154-73A3-4707-B77E-3E8AC10A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F35C2-9EC1-48B1-8D1C-A5B387D8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2234-B71C-4568-A2F5-68D05B76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FFA-5817-4CDB-9750-F8E7A3B2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1C923-9A92-4031-BF08-F18D91DE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C2C45-8937-4ADF-9D6B-0102A520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F67A4-BB6A-4055-834A-D96D3631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F2AFA-D64D-4338-870F-7839EFBD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1DF6B-D9F6-4E16-8F82-346A5E2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074F3-683F-4372-AD6B-4AA2F635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5CA89-7708-4DA1-A707-EF7C47CA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6F4FC-D365-4B62-B00D-8B0CA083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BCD87-0D14-4EB2-A48A-1990717F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B60-EC8E-43D2-9953-1E7C8623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20D-EB93-42A7-AAF8-753E0DE5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DFF-197D-457C-9EF1-2210DE0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F9C-93E7-4046-95A3-09CDC855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B45-617C-4895-9198-8141EA67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E6DA-B239-457F-A02E-5AFFF82DE11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ea157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ea157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ea157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BC41-FB83-40A6-BC64-0FF4D7B1386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FCB5-E001-4781-A927-66635A89CF9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FEF5-4194-4C33-827F-7DB23D76681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75580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С.А.Есенин. «Пугачёв» - поэма на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 историческую тему. 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71680" y="4168800"/>
            <a:ext cx="1612800" cy="2016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734040" y="147960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итература, 8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Поэма «Пугачёв»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599840"/>
            <a:ext cx="45435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этой драме история не была для Есенина самоцелью, он не стремился детализировать события крестьянские войны. В стихах больше просматривается современная Россия, нежели времена Екатерины Второй. Романтический цвет, в который окрашены фигуры Пугачева и его сподвижников, несет в себе кровавый оттенок двадцатых годов двадцатого ве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5340240" y="1268280"/>
            <a:ext cx="3510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Вопросы: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8588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каком произведении русской литературы автор прибегает к образу Емельяна Пугачёва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сравнивать произведение А.Пушкина и С.Есенина,  каким предстаёт предводитель восстания в этих произведениях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 чём говорит Пугачёв у Есенина? К чему призывает? О чём горюет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вы понимаете строки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ложил себе зарок молчать до срок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жет дорога в жуткое пространство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уна, как желтый медведь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мокрой траве ворочаетс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ик, Яик, ты меня зва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оном придавленной черни!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 rot="315600">
            <a:off x="7078320" y="4024440"/>
            <a:ext cx="19429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e5b6f"/>
                </a:solidFill>
                <a:latin typeface="Trebuchet MS"/>
              </a:rPr>
              <a:t>Определите виды тропов, как они помогают понять художественные особенности поэмы?</a:t>
            </a:r>
            <a:endParaRPr b="0" lang="en-US" sz="29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2855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жет дорога в жуткое пространство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Мне нравится степей твоих медь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Луна, как желтый медведь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Яик, Яик, ты меня звал стон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давленной черни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Словно яблоко тяжелое виснет с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еи твоя голов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Слышен прялки ровный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говор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Стонет Русь от цепких лапищ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Колокол луны скатился ниже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7591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Задание: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12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етом 1922 года Есенин читал поэму М.Горькому в Берлине. Горький вспоминал об этом так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Взволновал он меня до спазм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  горле, рыдать хотелос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мнится, я не мог сказать ему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икаких похвал, да он – я думаю –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не нуждался в  них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е настроение вызвала у вас поэма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7572240" y="2286000"/>
            <a:ext cx="1285920" cy="1860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0" y="2571840"/>
            <a:ext cx="1428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Домашнее задание: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тить на вопросы на стр. 130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ь выразительное чтение отрывка из поэмы «Пугачев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читать рассказ М. Горького «Песня о соколе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6:11:18Z</dcterms:created>
  <dc:creator>Admin</dc:creator>
  <dc:description/>
  <dc:language>en-US</dc:language>
  <cp:lastModifiedBy>Наталья</cp:lastModifiedBy>
  <dcterms:modified xsi:type="dcterms:W3CDTF">2015-02-17T16:52:59Z</dcterms:modified>
  <cp:revision>26</cp:revision>
  <dc:subject/>
  <dc:title>С.А.Есенин. Слово о поэте. «Пугачёв» - поэма на историческую тему. </dc:title>
</cp:coreProperties>
</file>