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3C8-F7E3-4A84-A2D0-B307731F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ADC-A8D2-494C-A28A-7EC905A4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06B-D39E-452C-90AC-79D392EA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971-0FB5-4AE7-995E-AE59E28B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76C-2A9D-49CB-9CE4-5AEBFE6E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B74D-9524-4B97-907E-55D5919B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8726-CD3A-4CE8-8809-906D52F7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CB89-AAC5-45C3-A5AB-40BA7C00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BB35-68FB-42AA-8767-B64090AC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4278-C532-472A-B44B-4F1DBFB1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4512-AFBE-4F40-AF73-064FA485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041-9305-4DAA-8A8C-19F4F906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A15-CEDE-4613-A451-995890D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8195-CC15-45D0-8EB9-7E4FAF0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728B-8A5B-4D70-B644-62DAA809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CCFB-4020-45BD-B3D7-DB9729E0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8775-2CC9-4FE5-912E-E6EE3074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6AAC2-8657-4681-8EF1-124F04AE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90D72-066D-446D-B4A8-91DE9FFB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81DD3-CEDE-4093-A55D-0ACA9985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D7363-FD7E-409F-A3C3-05C99850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FFAC9-FFBD-4CD4-A17A-024580F9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4B6-46DD-4C83-B8C0-DB256EE3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0CFD5-1093-456D-A0DF-ADC399CD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AF3A8-76B3-4AA8-9FE2-305326F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6CF84-1C35-4551-BE8E-893D2D1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937D8-0538-4B71-8CE1-C16C4CB5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009FC-64C7-4E5A-9D62-78BB1755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28A74-6C87-4BFE-8830-20170AF8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816FC-0993-4E9F-AF1C-36263C6A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A01C-B272-4FD8-9E57-8D3C686C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0096-CE66-4C99-91E5-DA297CFD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2711-CE9C-4ACB-BA03-D374BCD2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D6C-7F5C-47AE-BBEC-49B0E813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D6BA1-CBAF-4618-8A2A-77EDC022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82D4-2300-4064-A961-9961C1F3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CF19-7645-4EF7-90D9-5D7A9DDF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5B554-D76A-4F7A-9208-FB386E5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E8C2-74ED-438F-98C9-D92B9DC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C5006-0E1F-4FF3-BF04-55DAD48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B4B1-EBF8-4CFF-A918-2A45957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EFBF-6AE5-4067-911F-BF82A176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3D3E0-B873-4948-BC31-DDA64E21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82C-8768-4132-A782-65C5A793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E8E-CE8C-44FC-A094-E6C2A00A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567-BAAC-468A-91FA-0397AEF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CFB-4DB2-4394-956D-12A59BFB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D0F-F8BB-444E-9F49-893D0B2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E85F-4294-4E7C-9B91-EFEFA40F069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ea157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ea157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ea157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9774-EA38-4080-91BD-CED9B1AA865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6DFC-E00B-4AC6-8FC8-DA40767E59D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E382-DF2A-48DB-B093-90AC037462E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75580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С.А.Есенин. «Пугачёв» - поэма на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 историческую тему. 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71680" y="4168800"/>
            <a:ext cx="1612800" cy="2016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734040" y="1479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итература, 8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Поэма «Пугачёв»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599840"/>
            <a:ext cx="45435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этой драме история не была для Есенина самоцелью, он не стремился детализировать события крестьянские войны. В стихах больше просматривается современная Россия, нежели времена Екатерины Второй. Романтический цвет, в который окрашены фигуры Пугачева и его сподвижников, несет в себе кровавый оттенок двадцатых годов двадцатого ве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340240" y="1268280"/>
            <a:ext cx="3510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Вопросы: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8588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аком произведении русской литературы автор прибегает к образу Емельяна Пугачёв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сравнивать произведение А.Пушкина и С.Есенина,  каким предстаёт предводитель восстания в этих произведениях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 чём говорит Пугачёв у Есенина? К чему призывает? О чём горюет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понимаете строки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ложил себе зарок молчать до срок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жет дорога в жуткое пространство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уна, как желтый медведь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мокрой траве ворочаетс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ик, Яик, ты меня зва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оном придавленной черни!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 rot="315600">
            <a:off x="7078320" y="4024440"/>
            <a:ext cx="19429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5b6f"/>
                </a:solidFill>
                <a:latin typeface="Trebuchet MS"/>
              </a:rPr>
              <a:t>Определите виды тропов, как они помогают понять художественные особенности поэмы?</a:t>
            </a:r>
            <a:endParaRPr b="0" lang="en-US" sz="29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2855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жет дорога в жуткое пространство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Мне нравится степей твоих медь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Луна, как желтый медведь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Яик, Яик, ты меня звал стон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давленной черни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Словно яблоко тяжелое виснет с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еи твоя голов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Слышен прялки ровны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говор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Стонет Русь от цепких лапищ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Колокол луны скатился ниже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7591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12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етом 1922 года Есенин читал поэму М.Горькому в Берлине. Горький вспоминал об этом так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Взволновал он меня до спазм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  горле, рыдать хотелос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ится, я не мог сказать ему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каких похвал, да он – я думаю 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не нуждался в  них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е настроение вызвала у вас поэм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7572240" y="2286000"/>
            <a:ext cx="1285920" cy="1860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0" y="2571840"/>
            <a:ext cx="1428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Домашнее задание: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тить на вопросы на стр. 130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 выразительное чтение отрывка из поэмы «Пугачев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читать рассказ М. Горького «Песня о соколе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11:18Z</dcterms:created>
  <dc:creator>Admin</dc:creator>
  <dc:description/>
  <dc:language>en-US</dc:language>
  <cp:lastModifiedBy>Наталья</cp:lastModifiedBy>
  <dcterms:modified xsi:type="dcterms:W3CDTF">2015-02-17T16:52:59Z</dcterms:modified>
  <cp:revision>26</cp:revision>
  <dc:subject/>
  <dc:title>С.А.Есенин. Слово о поэте. «Пугачёв» - поэма на историческую тему. </dc:title>
</cp:coreProperties>
</file>