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BD6-5F29-48C1-9567-31C037A3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89F-E487-4A1A-8F4F-2C41EBB4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D11-2B65-4C63-A2F0-AD987929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45F-0252-48AA-BA89-C10A4E5B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7422-CC19-45ED-9906-F7193BFE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0912-B86F-465F-BF44-408CBC34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AFAB-6E57-4701-AF90-57842CF8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7A9D-E4FB-4C12-A67E-BDFDD1AE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9B81-2B58-4D8E-9A08-B51CA8A3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29B2-2EB3-4682-BF6A-878BD380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BC4F-5940-4778-B355-63EA289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391-B366-491A-BA4A-EAAC40C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5E36-0BC9-46A1-BBC6-7185D8A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27AE-1E48-4D61-B5DC-F179EA7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F3E1-7104-42A9-8201-B3C0528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6672-3295-4A93-858C-6DF2B26D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3024-E8DE-4534-A761-24C681ED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BE9-747A-4C9C-8206-EA663867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A15-84D5-4AD0-A7F6-618B64B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9D1-60B5-4E61-B61B-400F204D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DF2-D154-4650-A8A0-2E17CCCE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4DF-8E7C-46F1-8D5D-37E381F3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168-5633-46D3-A906-8F034B36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9C7-5735-410C-902E-BE89181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4aa7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4aa7d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aa7d0"/>
                </a:gs>
                <a:gs pos="100000">
                  <a:srgbClr val="224d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aa7d0"/>
                </a:gs>
                <a:gs pos="100000">
                  <a:srgbClr val="224d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4aa7d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462B-866C-4A1B-A2A0-3C0660B6EE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4aa7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4aa7d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aa7d0"/>
                </a:gs>
                <a:gs pos="100000">
                  <a:srgbClr val="224d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aa7d0"/>
                </a:gs>
                <a:gs pos="100000">
                  <a:srgbClr val="224d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4aa7d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834E-3655-4B8A-A5B4-5A6855B424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3887640" cy="2869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507960" y="328464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3"/>
          <a:stretch/>
        </p:blipFill>
        <p:spPr>
          <a:xfrm>
            <a:off x="431640" y="476280"/>
            <a:ext cx="3965760" cy="2665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4"/>
          <a:srcRect l="0" t="0" r="-534" b="-38"/>
          <a:stretch/>
        </p:blipFill>
        <p:spPr>
          <a:xfrm>
            <a:off x="4572000" y="476280"/>
            <a:ext cx="3816360" cy="266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284720" y="76500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C:\Users\Наталья\Desktop\през 5в\1779.jpg"/>
          <p:cNvPicPr/>
          <p:nvPr/>
        </p:nvPicPr>
        <p:blipFill>
          <a:blip r:embed="rId1"/>
          <a:stretch/>
        </p:blipFill>
        <p:spPr>
          <a:xfrm>
            <a:off x="395280" y="333360"/>
            <a:ext cx="4159080" cy="5697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Наталья\Desktop\през 5в\sredi_sotrudnikov_b.jpg"/>
          <p:cNvPicPr/>
          <p:nvPr/>
        </p:nvPicPr>
        <p:blipFill>
          <a:blip r:embed="rId2"/>
          <a:stretch/>
        </p:blipFill>
        <p:spPr>
          <a:xfrm>
            <a:off x="5148360" y="531720"/>
            <a:ext cx="3492360" cy="530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284720" y="76500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C:\Users\Наталья\Desktop\през 5в\img6.jpg"/>
          <p:cNvPicPr/>
          <p:nvPr/>
        </p:nvPicPr>
        <p:blipFill>
          <a:blip r:embed="rId1"/>
          <a:stretch/>
        </p:blipFill>
        <p:spPr>
          <a:xfrm>
            <a:off x="179280" y="1268280"/>
            <a:ext cx="5569200" cy="417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Наталья\Desktop\през 5в\130357_640.jpg"/>
          <p:cNvPicPr/>
          <p:nvPr/>
        </p:nvPicPr>
        <p:blipFill>
          <a:blip r:embed="rId2"/>
          <a:stretch/>
        </p:blipFill>
        <p:spPr>
          <a:xfrm>
            <a:off x="5940360" y="1335240"/>
            <a:ext cx="3030480" cy="412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284720" y="76500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2" descr="C:\Users\Наталья\Desktop\през 5в\0_90cba_edf1f8c7_XL.jpg"/>
          <p:cNvPicPr/>
          <p:nvPr/>
        </p:nvPicPr>
        <p:blipFill>
          <a:blip r:embed="rId1"/>
          <a:stretch/>
        </p:blipFill>
        <p:spPr>
          <a:xfrm>
            <a:off x="465120" y="836640"/>
            <a:ext cx="8327880" cy="525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284720" y="76500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2" descr="C:\Users\Наталья\Desktop\през 5в\092c7cafa42f31fdeda7dd99d01ef8ac.jpg"/>
          <p:cNvPicPr/>
          <p:nvPr/>
        </p:nvPicPr>
        <p:blipFill>
          <a:blip r:embed="rId1"/>
          <a:stretch/>
        </p:blipFill>
        <p:spPr>
          <a:xfrm>
            <a:off x="395280" y="692280"/>
            <a:ext cx="3809880" cy="494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Наталья\Desktop\през 5в\img-375809-5db1458020.jpeg"/>
          <p:cNvPicPr/>
          <p:nvPr/>
        </p:nvPicPr>
        <p:blipFill>
          <a:blip r:embed="rId2"/>
          <a:stretch/>
        </p:blipFill>
        <p:spPr>
          <a:xfrm>
            <a:off x="4356000" y="1413000"/>
            <a:ext cx="4510080" cy="396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7734240" y="5145120"/>
            <a:ext cx="98640" cy="122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Наталья\Desktop\през 5в\116976347_anons_esenin_03.jpg"/>
          <p:cNvPicPr/>
          <p:nvPr/>
        </p:nvPicPr>
        <p:blipFill>
          <a:blip r:embed="rId2"/>
          <a:stretch/>
        </p:blipFill>
        <p:spPr>
          <a:xfrm>
            <a:off x="762120" y="463680"/>
            <a:ext cx="7619760" cy="59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«Я,… наверно, навеки имею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нежность грустную русской души…»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6" name="Picture 10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038480" cy="45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 С.А.Есенину </a:t>
            </a:r>
            <a:br>
              <a:rPr sz="4000"/>
            </a:br>
            <a:r>
              <a:rPr b="1" lang="ru-RU" sz="3200" spc="-1" strike="noStrike">
                <a:solidFill>
                  <a:srgbClr val="fffdd1"/>
                </a:solidFill>
                <a:latin typeface="Times New Roman"/>
              </a:rPr>
              <a:t>на Ваганьковском кладбище в Москве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714680" y="1617840"/>
            <a:ext cx="571500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5640" y="1844640"/>
            <a:ext cx="66960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1268280"/>
            <a:ext cx="74883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С.А.Есенин</a:t>
            </a:r>
            <a:br>
              <a:rPr sz="6600"/>
            </a:b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и</a:t>
            </a:r>
            <a:br>
              <a:rPr sz="6600"/>
            </a:b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его творчество</a:t>
            </a:r>
            <a:br>
              <a:rPr sz="6600"/>
            </a:b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941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иргазина Эвелина, 8 Б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БУ «СОШ №7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 Давлекано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500720" y="54936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995640" y="1773360"/>
            <a:ext cx="47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dd1"/>
                </a:solidFill>
                <a:latin typeface="Times New Roman"/>
              </a:rPr>
              <a:t>3 октября 1895 г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dd1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fffdd1"/>
                </a:solidFill>
                <a:latin typeface="Times New Roman"/>
              </a:rPr>
              <a:t>28 декабря 1925 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175280" y="393372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й ты, Русь, моя родн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аты — в ризах образ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 видать конца и края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лько синь сосет глаза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87760" cy="460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87640" y="549000"/>
            <a:ext cx="3816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ТСТВО ПОЭ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ло Константонов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язанская обла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381560" cy="3286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2" name="Rectangle 7"/>
          <p:cNvSpPr/>
          <p:nvPr/>
        </p:nvSpPr>
        <p:spPr>
          <a:xfrm>
            <a:off x="250920" y="4219920"/>
            <a:ext cx="43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любил этот дом деревянн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бревнах теплилась грозная морщ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а печь как-то дико и стран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ывала в дождливую ночь.</a:t>
            </a:r>
            <a:r>
              <a:rPr b="0" lang="ru-RU" sz="2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402080" cy="330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5" name="Picture 6" descr="C:\Users\Наталья\Desktop\през 5в\0015-015-Semja.jpg"/>
          <p:cNvPicPr/>
          <p:nvPr/>
        </p:nvPicPr>
        <p:blipFill>
          <a:blip r:embed="rId1"/>
          <a:stretch/>
        </p:blipFill>
        <p:spPr>
          <a:xfrm>
            <a:off x="468360" y="64764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«Нет поэта без Родины!»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.Есенин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2190600" y="1650960"/>
            <a:ext cx="4762800" cy="442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«Моя лирика жива одной большой любовью, любовью к Родине!»</a:t>
            </a:r>
            <a:br>
              <a:rPr sz="3600"/>
            </a:br>
            <a:r>
              <a:rPr b="1" lang="ru-RU" sz="3600" spc="-1" strike="noStrike">
                <a:solidFill>
                  <a:srgbClr val="fffdd1"/>
                </a:solidFill>
                <a:latin typeface="Times New Roman"/>
              </a:rPr>
              <a:t>                                     С.Есенин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62012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4360" y="277560"/>
            <a:ext cx="43909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C:\Users\Наталья\Desktop\през 5в\image10.jpg"/>
          <p:cNvPicPr/>
          <p:nvPr/>
        </p:nvPicPr>
        <p:blipFill>
          <a:blip r:embed="rId1"/>
          <a:stretch/>
        </p:blipFill>
        <p:spPr>
          <a:xfrm>
            <a:off x="684360" y="981000"/>
            <a:ext cx="8111880" cy="540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360" y="277560"/>
            <a:ext cx="43909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C:\Users\Наталья\Desktop\през 5в\20120518063619!Esenin9.jpg"/>
          <p:cNvPicPr/>
          <p:nvPr/>
        </p:nvPicPr>
        <p:blipFill>
          <a:blip r:embed="rId1"/>
          <a:stretch/>
        </p:blipFill>
        <p:spPr>
          <a:xfrm>
            <a:off x="108000" y="284040"/>
            <a:ext cx="4248000" cy="2832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Наталья\Desktop\през 5в\i_005.jpg"/>
          <p:cNvPicPr/>
          <p:nvPr/>
        </p:nvPicPr>
        <p:blipFill>
          <a:blip r:embed="rId2"/>
          <a:stretch/>
        </p:blipFill>
        <p:spPr>
          <a:xfrm>
            <a:off x="4175280" y="2276640"/>
            <a:ext cx="4968720" cy="427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8:34:12Z</dcterms:created>
  <dc:creator>ЛОРЕТЦ</dc:creator>
  <dc:description/>
  <dc:language>en-US</dc:language>
  <cp:lastModifiedBy>Наталья</cp:lastModifiedBy>
  <dcterms:modified xsi:type="dcterms:W3CDTF">2015-02-17T12:14:35Z</dcterms:modified>
  <cp:revision>27</cp:revision>
  <dc:subject/>
  <dc:title>Есенин и его творче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f0000000000010250300207f7000400038000</vt:lpwstr>
  </property>
</Properties>
</file>