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9CA-163C-4A8E-8A1F-E53536EF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A421-39B0-4D00-B538-775C4AD5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B1C7-4519-4990-8348-90E945F0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E762-DC30-4C45-8521-039290A6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3721-CC37-492B-A079-4A508B1D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42D2-8842-449E-8CB7-8AB7274E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0837-BDAB-4678-A4F8-4ED4E647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C475-4D38-42AA-BA3C-0821AFD8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7284-EC0A-4EBF-8252-CFE869FF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E039-1540-4030-AF93-D38CD912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B5ED-B823-4FE5-957D-496D27FD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D92-9EC2-4A63-ADA7-15F9F556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C72E-C317-486C-921F-9F15B817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B0B8-D228-4A77-92E5-64C9B3DD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6874-CA03-4C2D-9795-7965461F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8BCF-E55B-463C-B6CD-FF9457B9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02F3-9065-4CE6-A219-592812B5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36A-185E-4E24-A690-9B648974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C8F-E1E0-471B-B8DE-8CDA5E2D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D2E3-DFD2-493B-B5E3-4117B1AA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D3CE-8E6D-490E-9854-8B20D2B5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C2D-BA2E-4921-BC9A-CBBCE058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57D-FFD7-4E0D-A221-98AC573D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15B-B555-4D13-8F00-8D695364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4aa7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4aa7d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aa7d0"/>
                </a:gs>
                <a:gs pos="100000">
                  <a:srgbClr val="224d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aa7d0"/>
                </a:gs>
                <a:gs pos="100000">
                  <a:srgbClr val="224d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4aa7d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4aa7d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03AB-E58D-4496-8AA5-9D2C658C6B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4aa7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4aa7d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aa7d0"/>
                </a:gs>
                <a:gs pos="100000">
                  <a:srgbClr val="224d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aa7d0"/>
                </a:gs>
                <a:gs pos="100000">
                  <a:srgbClr val="224d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4aa7d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4aa7d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4aa7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1C50-5BFB-4DE9-A622-78C1E1E310D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4500720" y="3284640"/>
            <a:ext cx="3887640" cy="2869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2"/>
          <a:stretch/>
        </p:blipFill>
        <p:spPr>
          <a:xfrm>
            <a:off x="507960" y="3284640"/>
            <a:ext cx="3848040" cy="2886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3"/>
          <a:stretch/>
        </p:blipFill>
        <p:spPr>
          <a:xfrm>
            <a:off x="431640" y="476280"/>
            <a:ext cx="3965760" cy="2665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"/>
          <p:cNvPicPr/>
          <p:nvPr/>
        </p:nvPicPr>
        <p:blipFill>
          <a:blip r:embed="rId4"/>
          <a:srcRect l="0" t="0" r="-534" b="-38"/>
          <a:stretch/>
        </p:blipFill>
        <p:spPr>
          <a:xfrm>
            <a:off x="4572000" y="476280"/>
            <a:ext cx="3816360" cy="2663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284720" y="765000"/>
            <a:ext cx="4859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C:\Users\Наталья\Desktop\през 5в\1779.jpg"/>
          <p:cNvPicPr/>
          <p:nvPr/>
        </p:nvPicPr>
        <p:blipFill>
          <a:blip r:embed="rId1"/>
          <a:stretch/>
        </p:blipFill>
        <p:spPr>
          <a:xfrm>
            <a:off x="395280" y="333360"/>
            <a:ext cx="4159080" cy="5697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C:\Users\Наталья\Desktop\през 5в\sredi_sotrudnikov_b.jpg"/>
          <p:cNvPicPr/>
          <p:nvPr/>
        </p:nvPicPr>
        <p:blipFill>
          <a:blip r:embed="rId2"/>
          <a:stretch/>
        </p:blipFill>
        <p:spPr>
          <a:xfrm>
            <a:off x="5148360" y="531720"/>
            <a:ext cx="3492360" cy="530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284720" y="765000"/>
            <a:ext cx="4859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2" descr="C:\Users\Наталья\Desktop\през 5в\img6.jpg"/>
          <p:cNvPicPr/>
          <p:nvPr/>
        </p:nvPicPr>
        <p:blipFill>
          <a:blip r:embed="rId1"/>
          <a:stretch/>
        </p:blipFill>
        <p:spPr>
          <a:xfrm>
            <a:off x="179280" y="1268280"/>
            <a:ext cx="5569200" cy="4176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Users\Наталья\Desktop\през 5в\130357_640.jpg"/>
          <p:cNvPicPr/>
          <p:nvPr/>
        </p:nvPicPr>
        <p:blipFill>
          <a:blip r:embed="rId2"/>
          <a:stretch/>
        </p:blipFill>
        <p:spPr>
          <a:xfrm>
            <a:off x="5940360" y="1335240"/>
            <a:ext cx="3030480" cy="4127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284720" y="765000"/>
            <a:ext cx="4859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2" descr="C:\Users\Наталья\Desktop\през 5в\0_90cba_edf1f8c7_XL.jpg"/>
          <p:cNvPicPr/>
          <p:nvPr/>
        </p:nvPicPr>
        <p:blipFill>
          <a:blip r:embed="rId1"/>
          <a:stretch/>
        </p:blipFill>
        <p:spPr>
          <a:xfrm>
            <a:off x="465120" y="836640"/>
            <a:ext cx="8327880" cy="5256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284720" y="765000"/>
            <a:ext cx="4859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2" descr="C:\Users\Наталья\Desktop\през 5в\092c7cafa42f31fdeda7dd99d01ef8ac.jpg"/>
          <p:cNvPicPr/>
          <p:nvPr/>
        </p:nvPicPr>
        <p:blipFill>
          <a:blip r:embed="rId1"/>
          <a:stretch/>
        </p:blipFill>
        <p:spPr>
          <a:xfrm>
            <a:off x="395280" y="692280"/>
            <a:ext cx="3809880" cy="4943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Users\Наталья\Desktop\през 5в\img-375809-5db1458020.jpeg"/>
          <p:cNvPicPr/>
          <p:nvPr/>
        </p:nvPicPr>
        <p:blipFill>
          <a:blip r:embed="rId2"/>
          <a:stretch/>
        </p:blipFill>
        <p:spPr>
          <a:xfrm>
            <a:off x="4356000" y="1413000"/>
            <a:ext cx="4510080" cy="3968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1"/>
          <a:stretch/>
        </p:blipFill>
        <p:spPr>
          <a:xfrm>
            <a:off x="7734240" y="5145120"/>
            <a:ext cx="98640" cy="122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:\Users\Наталья\Desktop\през 5в\116976347_anons_esenin_03.jpg"/>
          <p:cNvPicPr/>
          <p:nvPr/>
        </p:nvPicPr>
        <p:blipFill>
          <a:blip r:embed="rId2"/>
          <a:stretch/>
        </p:blipFill>
        <p:spPr>
          <a:xfrm>
            <a:off x="762120" y="463680"/>
            <a:ext cx="7619760" cy="593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«Я,… наверно, навеки имею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нежность грустную русской души…»</a:t>
            </a: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66" name="Picture 10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4038480" cy="4537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Памятник С.А.Есенину </a:t>
            </a:r>
            <a:br>
              <a:rPr sz="4000"/>
            </a:br>
            <a:r>
              <a:rPr b="1" lang="ru-RU" sz="3200" spc="-1" strike="noStrike">
                <a:solidFill>
                  <a:srgbClr val="fffdd1"/>
                </a:solidFill>
                <a:latin typeface="Times New Roman"/>
              </a:rPr>
              <a:t>на Ваганьковском кладбище в Москве</a:t>
            </a:r>
            <a:endParaRPr b="1" lang="en-US" sz="32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1714680" y="1617840"/>
            <a:ext cx="5715000" cy="449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5640" y="1844640"/>
            <a:ext cx="669600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1268280"/>
            <a:ext cx="748836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66ff"/>
                </a:solidFill>
                <a:latin typeface="Times New Roman"/>
              </a:rPr>
              <a:t>С.А.Есенин</a:t>
            </a:r>
            <a:br>
              <a:rPr sz="6600"/>
            </a:br>
            <a:r>
              <a:rPr b="1" lang="ru-RU" sz="6600" spc="-1" strike="noStrike">
                <a:solidFill>
                  <a:srgbClr val="3366ff"/>
                </a:solidFill>
                <a:latin typeface="Times New Roman"/>
              </a:rPr>
              <a:t>и</a:t>
            </a:r>
            <a:br>
              <a:rPr sz="6600"/>
            </a:br>
            <a:r>
              <a:rPr b="1" lang="ru-RU" sz="6600" spc="-1" strike="noStrike">
                <a:solidFill>
                  <a:srgbClr val="3366ff"/>
                </a:solidFill>
                <a:latin typeface="Times New Roman"/>
              </a:rPr>
              <a:t>его творчество</a:t>
            </a:r>
            <a:br>
              <a:rPr sz="6600"/>
            </a:b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94136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иргазина Эвелина, 8 Б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БУ «СОШ №7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. Давлекано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4500720" y="54936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ергей Есени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995640" y="1773360"/>
            <a:ext cx="47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dd1"/>
                </a:solidFill>
                <a:latin typeface="Times New Roman"/>
              </a:rPr>
              <a:t>3 октября 1895 г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dd1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fffdd1"/>
                </a:solidFill>
                <a:latin typeface="Times New Roman"/>
              </a:rPr>
              <a:t>28 декабря 1925 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175280" y="393372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ой ты, Русь, моя родна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аты — в ризах образа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 видать конца и края—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олько синь сосет глаза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587760" cy="4608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787640" y="549000"/>
            <a:ext cx="381636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ЕТСТВО ПОЭ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ло Константонов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язанская обла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381560" cy="3286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2" name="Rectangle 7"/>
          <p:cNvSpPr/>
          <p:nvPr/>
        </p:nvSpPr>
        <p:spPr>
          <a:xfrm>
            <a:off x="250920" y="4219920"/>
            <a:ext cx="43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 любил этот дом деревянны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бревнах теплилась грозная морщ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ша печь как-то дико и странн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вывала в дождливую ночь.</a:t>
            </a:r>
            <a:r>
              <a:rPr b="0" lang="ru-RU" sz="2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4402080" cy="3301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26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35" name="Picture 6" descr="C:\Users\Наталья\Desktop\през 5в\0015-015-Semja.jpg"/>
          <p:cNvPicPr/>
          <p:nvPr/>
        </p:nvPicPr>
        <p:blipFill>
          <a:blip r:embed="rId1"/>
          <a:stretch/>
        </p:blipFill>
        <p:spPr>
          <a:xfrm>
            <a:off x="468360" y="64764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5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«Нет поэта без Родины!»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     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.Есенин</a:t>
            </a: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2190600" y="1650960"/>
            <a:ext cx="4762800" cy="4429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«Моя лирика жива одной большой любовью, любовью к Родине!»</a:t>
            </a:r>
            <a:br>
              <a:rPr sz="3600"/>
            </a:br>
            <a:r>
              <a:rPr b="1" lang="ru-RU" sz="3600" spc="-1" strike="noStrike">
                <a:solidFill>
                  <a:srgbClr val="fffdd1"/>
                </a:solidFill>
                <a:latin typeface="Times New Roman"/>
              </a:rPr>
              <a:t>                                     С.Есенин</a:t>
            </a: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7620120" cy="4038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4360" y="277560"/>
            <a:ext cx="43909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C:\Users\Наталья\Desktop\през 5в\image10.jpg"/>
          <p:cNvPicPr/>
          <p:nvPr/>
        </p:nvPicPr>
        <p:blipFill>
          <a:blip r:embed="rId1"/>
          <a:stretch/>
        </p:blipFill>
        <p:spPr>
          <a:xfrm>
            <a:off x="684360" y="981000"/>
            <a:ext cx="8111880" cy="540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4360" y="277560"/>
            <a:ext cx="43909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2" descr="C:\Users\Наталья\Desktop\през 5в\20120518063619!Esenin9.jpg"/>
          <p:cNvPicPr/>
          <p:nvPr/>
        </p:nvPicPr>
        <p:blipFill>
          <a:blip r:embed="rId1"/>
          <a:stretch/>
        </p:blipFill>
        <p:spPr>
          <a:xfrm>
            <a:off x="108000" y="284040"/>
            <a:ext cx="4248000" cy="2832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Users\Наталья\Desktop\през 5в\i_005.jpg"/>
          <p:cNvPicPr/>
          <p:nvPr/>
        </p:nvPicPr>
        <p:blipFill>
          <a:blip r:embed="rId2"/>
          <a:stretch/>
        </p:blipFill>
        <p:spPr>
          <a:xfrm>
            <a:off x="4175280" y="2276640"/>
            <a:ext cx="4968720" cy="427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8:34:12Z</dcterms:created>
  <dc:creator>ЛОРЕТЦ</dc:creator>
  <dc:description/>
  <dc:language>en-US</dc:language>
  <cp:lastModifiedBy>Наталья</cp:lastModifiedBy>
  <dcterms:modified xsi:type="dcterms:W3CDTF">2015-02-17T12:14:35Z</dcterms:modified>
  <cp:revision>27</cp:revision>
  <dc:subject/>
  <dc:title>Есенин и его творче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f0000000000010250300207f7000400038000</vt:lpwstr>
  </property>
</Properties>
</file>