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Неизвестный пользователь" initials="Н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9-01-05T20:28:49.219000000" idx="1">
    <p:pos x="7337" y="200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A6E-0B3F-4BA6-B8FB-634FCA6E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894-E506-4EFC-932E-8B0D385A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CFA-29D1-49E2-8F51-07D19C8F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B65-1A32-4953-B36F-7B56E227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025-097E-4512-9545-7C33ACCA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C41-2A6B-4348-B9ED-D146959E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FA6-DD29-4AE3-8CC7-1C9C6684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9EA-2123-499A-BB0D-C8C24FE8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E2D-F50C-4E29-924C-5A022AD1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443-E21F-4535-A54A-F0FF990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6EF-277D-4E62-8ADD-35EEEC3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ACE-DC45-48C0-ABDB-55D954E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CBA7-089E-4D9C-8CEC-3103B6E76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 Light"/>
              </a:rPr>
              <a:t>Профессия кондитер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87400" y="3602160"/>
            <a:ext cx="870732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готовила ученица 2б класса ГБОУ СОШ № 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фонова Александ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3602160"/>
            <a:ext cx="34765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85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Кондитер-вкусная профессия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3560" y="1763640"/>
            <a:ext cx="1051560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дитер это человек, который занимается выпечкой и приготовлением сладостей: тортов, пирожных, десертов, печенья,конфет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544680" y="3179880"/>
            <a:ext cx="4843440" cy="3208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2"/>
          <a:stretch/>
        </p:blipFill>
        <p:spPr>
          <a:xfrm>
            <a:off x="5121360" y="10836360"/>
            <a:ext cx="5116320" cy="3327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3"/>
          <a:stretch/>
        </p:blipFill>
        <p:spPr>
          <a:xfrm>
            <a:off x="7186680" y="3216240"/>
            <a:ext cx="3543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5680" y="1717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кондитерские изделия появились в Древней Греции-это конфеты из мёда и разнообразных фр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ейцы майя в своё время открыли секрет приготовления шокол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тели древней Индии использовали тростниковый сахар для приготовления сладких пал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58690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6323040" y="3646440"/>
            <a:ext cx="57085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Мастерств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ессия кондитер востребована во все времена! Многие любят полакомиться сладостями.Чтобы стать профессионалом высокого уровня нужно пройти обучение , много практики , строго придерживаться рецептурам, иметь художественный вкус и творческое вообра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318960" y="3849840"/>
            <a:ext cx="2897280" cy="2844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2"/>
          <a:stretch/>
        </p:blipFill>
        <p:spPr>
          <a:xfrm>
            <a:off x="3216240" y="3749760"/>
            <a:ext cx="2548080" cy="2990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"/>
          <p:cNvPicPr/>
          <p:nvPr/>
        </p:nvPicPr>
        <p:blipFill>
          <a:blip r:embed="rId3"/>
          <a:stretch/>
        </p:blipFill>
        <p:spPr>
          <a:xfrm>
            <a:off x="5838840" y="3787920"/>
            <a:ext cx="46069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А вам захотелось вкусняшек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20347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дитер это ВОЛШЕБНИК,который дарит нам радость и хорошее настроение, ведь ни один праздник не обходится без сладкого , будь то  день рождения или  новый г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98280" y="3651120"/>
            <a:ext cx="35388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5T17:11:59Z</dcterms:created>
  <dc:creator>Неизвестный пользователь</dc:creator>
  <dc:description/>
  <dc:language>en-US</dc:language>
  <cp:lastModifiedBy>Надежда Михайлова</cp:lastModifiedBy>
  <dcterms:modified xsi:type="dcterms:W3CDTF">2019-02-23T16:40:29Z</dcterms:modified>
  <cp:revision>5</cp:revision>
  <dc:subject/>
  <dc:title>Профессия кондитер.</dc:title>
</cp:coreProperties>
</file>