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Неизвестный пользователь" initials="Н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9-01-05T20:28:49.219000000" idx="1">
    <p:pos x="7337" y="2003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0E5-FC3F-43E4-AE1A-E780DCAA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43F-5A7A-436C-A053-A65214AB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94F-4492-4B7C-B388-D264453D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829-EBA8-4F71-A7CC-3770DBCD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93D-691F-4E31-8D4F-1AFBBB16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88E-0589-4415-8D1A-64F9ED94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2D4-AB9B-47EA-8AFD-24A1F3BD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9D4-C15C-4172-9D11-FA8BECCF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26D-EE49-4141-8149-29023643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12B-8F68-4EE5-B882-5E673F33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857-3936-47C4-A4B2-4E3FC723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F0B-F0D5-45A0-8BA1-75532E6E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6FF7-C4A9-4053-B60E-9D9D6A97E9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 Light"/>
              </a:rPr>
              <a:t>Профессия кондитер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87400" y="3602160"/>
            <a:ext cx="8707320" cy="23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готовила ученица 2б класса ГБОУ СОШ № 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фонова Александ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3602160"/>
            <a:ext cx="34765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185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Кондитер-вкусная профессия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3560" y="1763640"/>
            <a:ext cx="10515600" cy="14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дитер это человек, который занимается выпечкой и приготовлением сладостей: тортов, пирожных, десертов, печенья,конфет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544680" y="3179880"/>
            <a:ext cx="4843440" cy="3208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"/>
          <p:cNvPicPr/>
          <p:nvPr/>
        </p:nvPicPr>
        <p:blipFill>
          <a:blip r:embed="rId2"/>
          <a:stretch/>
        </p:blipFill>
        <p:spPr>
          <a:xfrm>
            <a:off x="5121360" y="10836360"/>
            <a:ext cx="5116320" cy="33274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3"/>
          <a:stretch/>
        </p:blipFill>
        <p:spPr>
          <a:xfrm>
            <a:off x="7186680" y="3216240"/>
            <a:ext cx="35431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5680" y="1717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е кондитерские изделия появились в Древней Греции-это конфеты из мёда и разнообразных фру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ейцы майя в своё время открыли секрет приготовления шокол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тели древней Индии использовали тростниковый сахар для приготовления сладких пало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58690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2"/>
          <a:stretch/>
        </p:blipFill>
        <p:spPr>
          <a:xfrm>
            <a:off x="6323040" y="3646440"/>
            <a:ext cx="57085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Мастерств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фессия кондитер востребована во все времена! Многие любят полакомиться сладостями.Чтобы стать профессионалом высокого уровня нужно пройти обучение , много практики , строго придерживаться рецептурам, иметь художественный вкус и творческое воображ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318960" y="3849840"/>
            <a:ext cx="2897280" cy="2844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"/>
          <p:cNvPicPr/>
          <p:nvPr/>
        </p:nvPicPr>
        <p:blipFill>
          <a:blip r:embed="rId2"/>
          <a:stretch/>
        </p:blipFill>
        <p:spPr>
          <a:xfrm>
            <a:off x="3216240" y="3749760"/>
            <a:ext cx="2548080" cy="29908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"/>
          <p:cNvPicPr/>
          <p:nvPr/>
        </p:nvPicPr>
        <p:blipFill>
          <a:blip r:embed="rId3"/>
          <a:stretch/>
        </p:blipFill>
        <p:spPr>
          <a:xfrm>
            <a:off x="5838840" y="3787920"/>
            <a:ext cx="46069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А вам захотелось вкусняшек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20347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дитер это ВОЛШЕБНИК,который дарит нам радость и хорошее настроение, ведь ни один праздник не обходится без сладкого , будь то  день рождения или  новый г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"/>
          <p:cNvPicPr/>
          <p:nvPr/>
        </p:nvPicPr>
        <p:blipFill>
          <a:blip r:embed="rId1"/>
          <a:stretch/>
        </p:blipFill>
        <p:spPr>
          <a:xfrm>
            <a:off x="98280" y="3651120"/>
            <a:ext cx="35388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5T17:11:59Z</dcterms:created>
  <dc:creator>Неизвестный пользователь</dc:creator>
  <dc:description/>
  <dc:language>en-US</dc:language>
  <cp:lastModifiedBy>Надежда Михайлова</cp:lastModifiedBy>
  <dcterms:modified xsi:type="dcterms:W3CDTF">2019-02-23T16:40:29Z</dcterms:modified>
  <cp:revision>5</cp:revision>
  <dc:subject/>
  <dc:title>Профессия кондитер.</dc:title>
</cp:coreProperties>
</file>