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ACEC-EBC2-4743-980B-89D53C90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7573-8B24-458E-ACA9-1D3026E4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D9C1-73F9-44E7-9DC7-35146045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A5E2-AA38-4A77-A677-83429AAB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5B93-240E-4EF9-B09B-A0AF7BF8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BC5A-EFDD-4BDD-B9AC-86380B47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6A32-1D82-409F-83F5-BC464060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B31A-2CD8-4C88-8C0C-13CD49C4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E0D0-BC4C-47FE-B57C-76E3EEDD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1032-8C7B-4CBC-B1E2-82C50B8D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BC08-7CC2-4517-BA55-AA178BCF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8F44-1F42-4CA2-81FA-BF443ECE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FEC3-6D73-4B38-917D-09AE27D1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650F-2143-4375-98D2-011FDA1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3C7A-40C9-4E05-B956-EF5F0CC4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10A3-B580-46DD-9F52-248FE2A4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3037-138B-436D-A907-523369A6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9D42-FC40-43F9-BE51-F624B2E9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B13D-0FA9-45B3-9062-B2405C55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BA25-A64D-47A0-A932-FCC23C67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AA96-ADFB-4E6E-A592-4F08A7A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3091-7517-42B5-B730-4F8BDA97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71DC-99D7-42DC-AB12-812E9D8D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9406-B16E-41E1-874E-8A03DAC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6B0D-9F35-4AFA-9BC6-31E27ADEA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44BE-631D-4687-9A21-DA400E224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895480" y="4266720"/>
            <a:ext cx="6096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Разработка учител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МБОУ Вишневский УВ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Красноперекоп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Республики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Маршал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828800"/>
            <a:ext cx="773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СТЕМНО-ДЕЯТЕЛЬНОСТНЫЙ 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14600" y="2590920"/>
            <a:ext cx="5172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ХОД В ПРОЦЕССЕ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57400" y="3429000"/>
            <a:ext cx="5038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УЧЕНИЯ ИСТОРИИ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600200"/>
            <a:ext cx="3505320" cy="2743200"/>
          </a:xfrm>
          <a:prstGeom prst="rightArrowCallout">
            <a:avLst>
              <a:gd name="adj1" fmla="val 25002"/>
              <a:gd name="adj2" fmla="val 25000"/>
              <a:gd name="adj3" fmla="val 21297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РОЕК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447920"/>
            <a:ext cx="4419720" cy="312408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та по данной метод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ёт возможность разв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видуальные твор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особности  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297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28800" y="533520"/>
            <a:ext cx="5791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деятельност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52480" y="990720"/>
            <a:ext cx="570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щихся на уроках истори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ление опорных конспектов в виде плана, схемы, графика, диаграммы, рисунка и т.д. позволяет систематизировать учебную информацию, расположить ее в логической последовательности, выделить главное, аргументировать свою позицию, закрепить знания и умения прак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бота с исторической картой. Этот вид учебной деятельности позволяет не только получить систематизированную историческую информацию о том или ином событии, явлении, процессе, но и умело ориентироваться в историко-географическом простран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олнение сравнительно-обобщающей таблицы, которая станет итогом анализа и сопоставления сравниваемых фактов и обобщения исторических собы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ление биографических справок-характеристик исторических лич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основе оценок деятельност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сти, историками 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ременниками, дети учатся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вать собственну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гументированную оценку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но из заданий ЕГЭ как раз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ебует подобных знаний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м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28800" y="533520"/>
            <a:ext cx="5791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деятельност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52480" y="990720"/>
            <a:ext cx="570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щихся на уроках истори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72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исторических источников (документов). Один из ведущих видов познавательной деятельности в процессе изучения истории, который способствует формированию таких учебных умений и навыков как: анализ, синтез, сравнение, обобщение, оценка и критическое отношение к различным интерпретациям исторических фа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готовка и оформление сообщения, доклада, реферата. Этот вид учебной деятельности способствует формированию навыков поисковой и аналитической работы, учит грамотно оформлять в письменной форме итоги своих самостоятельных изыск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72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цензия на ответ товарища. Эта работа способствует формированию умений объективной самооценки и взаимной оценки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дания на образную реконструкцию исторических фак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изложение исторических событий от имени одного из участников, свидетелей, современников или потом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изложение сути исторических событий в диалоге, споре, беседе их непосредственных участников, представляющих разные (противоположные) мнения и оце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76720" y="2743200"/>
            <a:ext cx="2819160" cy="1981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ПЕТЕНТ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436600">
            <a:off x="6019920" y="4267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9829400">
            <a:off x="5802480" y="2587680"/>
            <a:ext cx="680760" cy="533520"/>
          </a:xfrm>
          <a:prstGeom prst="rightArrow">
            <a:avLst>
              <a:gd name="adj1" fmla="val 50000"/>
              <a:gd name="adj2" fmla="val 3189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9446000">
            <a:off x="2286000" y="4266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57000">
            <a:off x="2819160" y="2514240"/>
            <a:ext cx="747720" cy="561960"/>
          </a:xfrm>
          <a:prstGeom prst="leftArrow">
            <a:avLst>
              <a:gd name="adj1" fmla="val 50000"/>
              <a:gd name="adj2" fmla="val 3326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28800"/>
            <a:ext cx="2210040" cy="13716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адап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18288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гнити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познаватель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4952880"/>
            <a:ext cx="2438640" cy="1447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нформа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ехн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4952880"/>
            <a:ext cx="25146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00200" y="609480"/>
            <a:ext cx="63914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 обучения с помощью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33720" y="1219320"/>
            <a:ext cx="52959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ятельностного подхода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752480"/>
            <a:ext cx="13716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7400" y="609480"/>
            <a:ext cx="4952880" cy="21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ЛИЧН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3124080"/>
            <a:ext cx="6629400" cy="281952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формировавшаяся в образовательном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истема ценностных отношений к себе,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частникам образовательного проце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бразовательному процессу в ц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 его результа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33720" y="838080"/>
            <a:ext cx="4952880" cy="190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895480"/>
            <a:ext cx="7315200" cy="274320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своение учениками на базе одного, нескольких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сех учебных предметов способов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именяемых как в рамках образовательного процес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ак и при решении проблем в ре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жизненных ситуац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09680" y="914400"/>
            <a:ext cx="4953240" cy="190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124080"/>
            <a:ext cx="6934320" cy="243864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своение обучающимися конкретны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циального опыта, изучаемого в рам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тдельного учебного предмета, - знаний и навы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пыта решения проблем, опыта твор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ятельности, цен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ПИСОК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митриев С. В. Системно-деятельностный подход в технологии школьного обучения / С. В. Дмитриев // Школьные технологии. - 2003. - N 6. - С. 30-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ьин Г.Л. Как обеспечить качество обучения в информационном обществе? /Г.Л. Ильин //Народное образование.-2011.- №5.-стр.1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торский А. «Деятельность как содержание образования» /А. Хуторский «Народное образование» - 2003,  №8, стр.107-1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о-ориентированный подход к образованию //Управление школой. Газета Издательского дома «Первое сентября» - 2011,  №9, стр.14-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ый подход в обучении. Понятие проектирования как деятельности. Режим доступа: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festival.1septe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«Великая цель образовани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это не знания, а действ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        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Гербер Спенс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990720"/>
            <a:ext cx="3200400" cy="1904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1066680"/>
            <a:ext cx="4648320" cy="198144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СПОСОБНОСТЬ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К САМО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И ЛИЧНОСТНОМУ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САМООПРЕД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809880"/>
            <a:ext cx="3124080" cy="18288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733920"/>
            <a:ext cx="5029200" cy="2286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развитие у ученика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самостоятельно ставить учеб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проектировать пути их ре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контролировать и оценивать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676520" y="1371600"/>
            <a:ext cx="63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Системно-деятельност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400" y="2286000"/>
            <a:ext cx="558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подход включает в себ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1600" y="3200400"/>
            <a:ext cx="742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ряд педагогических технологий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3048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914400"/>
            <a:ext cx="4038480" cy="2895480"/>
          </a:xfrm>
          <a:prstGeom prst="rightArrowCallout">
            <a:avLst>
              <a:gd name="adj1" fmla="val 25002"/>
              <a:gd name="adj2" fmla="val 25000"/>
              <a:gd name="adj3" fmla="val 23246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РАЗНОУРОВНЕ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914400"/>
            <a:ext cx="4343400" cy="50292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1349280"/>
            <a:ext cx="3810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Возможность учителя помочь слабому ученику; давать более сложные задания си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учащему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Для сильных ученик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это утверждение в своих способностя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Для слабых – возможность испытать учебный успех, что повышает мотивацию к уч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353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990720"/>
            <a:ext cx="4114800" cy="2743200"/>
          </a:xfrm>
          <a:prstGeom prst="rightArrowCallout">
            <a:avLst>
              <a:gd name="adj1" fmla="val 25002"/>
              <a:gd name="adj2" fmla="val 25000"/>
              <a:gd name="adj3" fmla="val 25000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ССЛЕДОВАТЕЛЬ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762120"/>
            <a:ext cx="3962520" cy="396216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сть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остоятельно попол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и знания, изу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блему   и предлож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и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ой подход помо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ширять кругозор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ует мировоззре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1295280"/>
            <a:ext cx="4114800" cy="2286000"/>
          </a:xfrm>
          <a:prstGeom prst="rightArrowCallout">
            <a:avLst>
              <a:gd name="adj1" fmla="val 25002"/>
              <a:gd name="adj2" fmla="val 25000"/>
              <a:gd name="adj3" fmla="val 30000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762120"/>
            <a:ext cx="4114800" cy="41148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ная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ивает познавате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ует ЗУН, необход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азличных играх учащ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ваивают раз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ьные роли, уча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нять их на практик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048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523880"/>
            <a:ext cx="3886200" cy="259092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143000"/>
            <a:ext cx="4495680" cy="43434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менение и широкий вы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стей обога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держания образ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ние возмож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астия в различных Интерне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ектах, обучающего харак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лимпиадах, что помог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крыть потенциал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2705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1676520"/>
            <a:ext cx="3504960" cy="2666880"/>
          </a:xfrm>
          <a:prstGeom prst="rightArrowCallout">
            <a:avLst>
              <a:gd name="adj1" fmla="val 25002"/>
              <a:gd name="adj2" fmla="val 25000"/>
              <a:gd name="adj3" fmla="val 21904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ЗДОРОВЬ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БЕРЕГ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1143000"/>
            <a:ext cx="4647960" cy="419112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ование данного подх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воляет равномерно распреде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 время урока различные 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няя данную технолог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может черед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слительную деятельность с ТС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делять время на самостояте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2238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6T03:37:48Z</dcterms:created>
  <dc:creator>1</dc:creator>
  <dc:description/>
  <dc:language>en-US</dc:language>
  <cp:lastModifiedBy>1</cp:lastModifiedBy>
  <dcterms:modified xsi:type="dcterms:W3CDTF">2016-01-16T11:21:0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