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BEBF3-E137-45F6-B434-99B8A42D6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BBF6B-3505-4350-9284-95A6C59E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2058B-DC97-4E7E-B980-B718B65A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C7E56-6ACD-4DDD-9698-1D3275FFE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3E18-605A-4598-841A-5768047F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0BD7-9A9D-4239-92FD-CE5379BD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9FEB-67B9-4E3A-898B-ADE7A95D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D481-F385-4184-A7D0-74EE4383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F5B9-D980-46E3-BA3A-9CF4B466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28F8-4B27-47F8-A0AA-631C449B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A7C4-A6B4-486E-AD10-BE83D53F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9629B-02D7-457C-B525-81C02A6A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EC9D-45DF-4C2A-A575-FE897494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17E4-CCCD-49D3-816D-4F9B8774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EDC0-F47F-451B-82DB-248D3944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0A92-B962-4FC2-A0D9-35AE36A26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49F7-6ACD-4473-B899-C5F1137BB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AC066-681D-49E6-9CE3-BB142313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765A6-2801-4520-94E6-D3ECB6CF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2095A-FA32-40C5-9468-B465ABB0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6C6FE-42D7-4460-B24C-9111F78C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FE04E-6895-4050-8D1A-25708483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6694C-EE9C-458B-9C6E-470623E3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C6FAE-023D-49A6-939D-F58D5F8F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E3BB-E6F4-4C22-8A0B-11EF9A10A6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3EB8-C234-4DB8-B975-A67DB79B2B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895480" y="4266720"/>
            <a:ext cx="60962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Разработка учителя ист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МБОУ Вишневский УВ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Красноперекопского рай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Республики Кр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Маршал Н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66680" y="1828800"/>
            <a:ext cx="7734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ИСТЕМНО-ДЕЯТЕЛЬНОСТНЫЙ </a:t>
            </a:r>
            <a:endParaRPr b="1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514600" y="2590920"/>
            <a:ext cx="5172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ХОД В ПРОЦЕССЕ</a:t>
            </a:r>
            <a:endParaRPr b="1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057400" y="3429000"/>
            <a:ext cx="50385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УЧЕНИЯ ИСТОРИИ</a:t>
            </a:r>
            <a:endParaRPr b="1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57200" y="1600200"/>
            <a:ext cx="3505320" cy="2743200"/>
          </a:xfrm>
          <a:prstGeom prst="rightArrowCallout">
            <a:avLst>
              <a:gd name="adj1" fmla="val 25002"/>
              <a:gd name="adj2" fmla="val 25000"/>
              <a:gd name="adj3" fmla="val 21297"/>
              <a:gd name="adj4" fmla="val 6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ПРОЕКТ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ТЕХН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1447920"/>
            <a:ext cx="4419720" cy="3124080"/>
          </a:xfrm>
          <a:prstGeom prst="foldedCorner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бота по данной методи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ёт возможность разви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ндивидуальные творчес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пособности  уча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52480" y="3962520"/>
            <a:ext cx="29718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28800" y="533520"/>
            <a:ext cx="57913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ормы деятельности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752480" y="990720"/>
            <a:ext cx="570564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ащихся на уроках истории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ставление опорных конспектов в виде плана, схемы, графика, диаграммы, рисунка и т.д. позволяет систематизировать учебную информацию, расположить ее в логической последовательности, выделить главное, аргументировать свою позицию, закрепить знания и умения практичес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бота с исторической картой. Этот вид учебной деятельности позволяет не только получить систематизированную историческую информацию о том или ином событии, явлении, процессе, но и умело ориентироваться в историко-географическом пространст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полнение сравнительно-обобщающей таблицы, которая станет итогом анализа и сопоставления сравниваемых фактов и обобщения исторических событ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ставление биографических справок-характеристик исторических личнос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 основе оценок деятельности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ичности, историками и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временниками, дети учатся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авать собственную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ргументированную оценку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дно из заданий ЕГЭ как раз 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ребует подобных знаний 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м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28800" y="533520"/>
            <a:ext cx="57913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ормы деятельности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52480" y="990720"/>
            <a:ext cx="570564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ащихся на уроках истории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72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нализ исторических источников (документов). Один из ведущих видов познавательной деятельности в процессе изучения истории, который способствует формированию таких учебных умений и навыков как: анализ, синтез, сравнение, обобщение, оценка и критическое отношение к различным интерпретациям исторических фак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дготовка и оформление сообщения, доклада, реферата. Этот вид учебной деятельности способствует формированию навыков поисковой и аналитической работы, учит грамотно оформлять в письменной форме итоги своих самостоятельных изыск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572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цензия на ответ товарища. Эта работа способствует формированию умений объективной самооценки и взаимной оценки учеб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дания на образную реконструкцию исторических факт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изложение исторических событий от имени одного из участников, свидетелей, современников или потом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изложение сути исторических событий в диалоге, споре, беседе их непосредственных участников, представляющих разные (противоположные) мнения и оцен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76720" y="2743200"/>
            <a:ext cx="2819160" cy="1981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КРУ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КОМПЕТЕНТ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436600">
            <a:off x="6019920" y="42670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9829400">
            <a:off x="5802480" y="2587680"/>
            <a:ext cx="680760" cy="533520"/>
          </a:xfrm>
          <a:prstGeom prst="rightArrow">
            <a:avLst>
              <a:gd name="adj1" fmla="val 50000"/>
              <a:gd name="adj2" fmla="val 3189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9446000">
            <a:off x="2286000" y="426672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857000">
            <a:off x="2819160" y="2514240"/>
            <a:ext cx="747720" cy="561960"/>
          </a:xfrm>
          <a:prstGeom prst="leftArrow">
            <a:avLst>
              <a:gd name="adj1" fmla="val 50000"/>
              <a:gd name="adj2" fmla="val 33264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1828800"/>
            <a:ext cx="2210040" cy="13716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соци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адапти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компетен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29400" y="1828800"/>
            <a:ext cx="2209680" cy="12952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когнитив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познавательна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компетен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4952880"/>
            <a:ext cx="2438640" cy="14479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информацион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технологиче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компетен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24480" y="4952880"/>
            <a:ext cx="2514600" cy="1295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коммуникати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компетен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600200" y="609480"/>
            <a:ext cx="639144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зультат обучения с помощью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133720" y="1219320"/>
            <a:ext cx="52959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ятельностного подхода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1752480"/>
            <a:ext cx="1371600" cy="838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057400" y="609480"/>
            <a:ext cx="4952880" cy="2133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ЛИЧНОС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РЕЗУЛЬТАТЫ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3124080"/>
            <a:ext cx="6629400" cy="2819520"/>
          </a:xfrm>
          <a:prstGeom prst="bevel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сформировавшаяся в образовательном проце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система ценностных отношений к себе, друг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участникам образовательного процес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образовательному процессу в цел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и его результат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133720" y="838080"/>
            <a:ext cx="4952880" cy="1905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РЕЗУЛЬТАТЫ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2895480"/>
            <a:ext cx="7315200" cy="2743200"/>
          </a:xfrm>
          <a:prstGeom prst="bevel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освоение учениками на базе одного, нескольких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всех учебных предметов способов деятельн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рименяемых как в рамках образовательного процесс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так и при решении проблем в реа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жизненных ситуация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209680" y="914400"/>
            <a:ext cx="4953240" cy="1905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РЕДМЕ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РЕЗУЛЬТАТЫ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3124080"/>
            <a:ext cx="6934320" cy="2438640"/>
          </a:xfrm>
          <a:prstGeom prst="bevel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усвоение обучающимися конкретных эле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социального опыта, изучаемого в рамк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отдельного учебного предмета, - знаний и навык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опыта решения проблем, опыта творче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деятельности, ценнос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СПИСОК ИСТОЧ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митриев С. В. Системно-деятельностный подход в технологии школьного обучения / С. В. Дмитриев // Школьные технологии. - 2003. - N 6. - С. 30-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ьин Г.Л. Как обеспечить качество обучения в информационном обществе? /Г.Л. Ильин //Народное образование.-2011.- №5.-стр.1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уторский А. «Деятельность как содержание образования» /А. Хуторский «Народное образование» - 2003,  №8, стр.107-11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ятельностно-ориентированный подход к образованию //Управление школой. Газета Издательского дома «Первое сентября» - 2011,  №9, стр.14-1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ятельностный подход в обучении. Понятие проектирования как деятельности. Режим доступа: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http://festival.1septe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Monotype Corsiva"/>
              </a:rPr>
              <a:t>«Великая цель образования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Monotype Corsiva"/>
              </a:rPr>
              <a:t>это не знания, а действ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Monotype Corsiva"/>
              </a:rPr>
              <a:t>                          </a:t>
            </a:r>
            <a:r>
              <a:rPr b="1" lang="en-US" sz="4000" spc="-1" strike="noStrike">
                <a:solidFill>
                  <a:srgbClr val="000099"/>
                </a:solidFill>
                <a:latin typeface="Monotype Corsiva"/>
              </a:rPr>
              <a:t>Гербер Спенс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371600" y="3048120"/>
            <a:ext cx="2057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3520" y="990720"/>
            <a:ext cx="3200400" cy="190476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onotype Corsiva"/>
              </a:rPr>
              <a:t>ТРЕБ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onotype Corsiva"/>
              </a:rPr>
              <a:t>ФГ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14800" y="1066680"/>
            <a:ext cx="4648320" cy="198144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Monotype Corsiva"/>
              </a:rPr>
              <a:t>СПОСОБНОСТЬ ОБУЧАЮ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Monotype Corsiva"/>
              </a:rPr>
              <a:t>К САМОРАЗВИТ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Monotype Corsiva"/>
              </a:rPr>
              <a:t>И ЛИЧНОСТНОМУ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Monotype Corsiva"/>
              </a:rPr>
              <a:t>САМООПРЕДЕ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3809880"/>
            <a:ext cx="3124080" cy="182880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ЗАДА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9880" y="3733920"/>
            <a:ext cx="5029200" cy="22860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Monotype Corsiva"/>
              </a:rPr>
              <a:t>развитие у ученика 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Monotype Corsiva"/>
              </a:rPr>
              <a:t>   </a:t>
            </a:r>
            <a:r>
              <a:rPr b="1" lang="en-US" sz="1800" spc="-1" strike="noStrike">
                <a:solidFill>
                  <a:srgbClr val="000099"/>
                </a:solidFill>
                <a:latin typeface="Monotype Corsiva"/>
              </a:rPr>
              <a:t>самостоятельно ставить учеб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Monotype Corsiva"/>
              </a:rPr>
              <a:t>   </a:t>
            </a:r>
            <a:r>
              <a:rPr b="1" lang="en-US" sz="1800" spc="-1" strike="noStrike">
                <a:solidFill>
                  <a:srgbClr val="000099"/>
                </a:solidFill>
                <a:latin typeface="Monotype Corsiva"/>
              </a:rPr>
              <a:t>це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Monotype Corsiva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Monotype Corsiva"/>
              </a:rPr>
              <a:t>проектировать пути их реализ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Monotype Corsiva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Monotype Corsiva"/>
              </a:rPr>
              <a:t>контролировать и оценивать св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Monotype Corsiva"/>
              </a:rPr>
              <a:t>   </a:t>
            </a:r>
            <a:r>
              <a:rPr b="1" lang="en-US" sz="1800" spc="-1" strike="noStrike">
                <a:solidFill>
                  <a:srgbClr val="000099"/>
                </a:solidFill>
                <a:latin typeface="Monotype Corsiva"/>
              </a:rPr>
              <a:t>дости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676520" y="1371600"/>
            <a:ext cx="6362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latin typeface="Arial"/>
              </a:rPr>
              <a:t>Системно-деятельностный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latin typeface="Arial"/>
              <a:ea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057400" y="2286000"/>
            <a:ext cx="5581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latin typeface="Arial"/>
              </a:rPr>
              <a:t>подход включает в себ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371600" y="3200400"/>
            <a:ext cx="7429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latin typeface="Arial"/>
              </a:rPr>
              <a:t>ряд педагогических технологий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latin typeface="Arial"/>
              <a:ea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352680" y="3962520"/>
            <a:ext cx="3048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" y="914400"/>
            <a:ext cx="4038480" cy="2895480"/>
          </a:xfrm>
          <a:prstGeom prst="rightArrowCallout">
            <a:avLst>
              <a:gd name="adj1" fmla="val 25002"/>
              <a:gd name="adj2" fmla="val 25000"/>
              <a:gd name="adj3" fmla="val 23246"/>
              <a:gd name="adj4" fmla="val 6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Monotype Corsiva"/>
              </a:rPr>
              <a:t>РАЗНОУРОВНЕ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Monotype Corsiva"/>
              </a:rPr>
              <a:t>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95680" y="914400"/>
            <a:ext cx="4343400" cy="5029200"/>
          </a:xfrm>
          <a:prstGeom prst="foldedCorner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24280" y="1349280"/>
            <a:ext cx="3810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Возможность учителя помочь слабому ученику; давать более сложные задания сильн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учащему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Для сильных учеников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это утверждение в своих способностях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Для слабых – возможность испытать учебный успех, что повышает мотивацию к учен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9480" y="4038480"/>
            <a:ext cx="33530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20" y="990720"/>
            <a:ext cx="4114800" cy="2743200"/>
          </a:xfrm>
          <a:prstGeom prst="rightArrowCallout">
            <a:avLst>
              <a:gd name="adj1" fmla="val 25002"/>
              <a:gd name="adj2" fmla="val 25000"/>
              <a:gd name="adj3" fmla="val 25000"/>
              <a:gd name="adj4" fmla="val 6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ИССЛЕДОВАТЕЛЬ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МЕТ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762120"/>
            <a:ext cx="3962520" cy="3962160"/>
          </a:xfrm>
          <a:prstGeom prst="foldedCorner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зможность уча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амостоятельно пополн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вои знания, изуч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блему   и предлож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ути реш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акой подход помог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сширять кругозор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ормирует мировоззрени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0" y="3657600"/>
            <a:ext cx="3048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80880" y="1295280"/>
            <a:ext cx="4114800" cy="2286000"/>
          </a:xfrm>
          <a:prstGeom prst="rightArrowCallout">
            <a:avLst>
              <a:gd name="adj1" fmla="val 25002"/>
              <a:gd name="adj2" fmla="val 25000"/>
              <a:gd name="adj3" fmla="val 30000"/>
              <a:gd name="adj4" fmla="val 6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ИГР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ТЕХН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762120"/>
            <a:ext cx="4114800" cy="4114800"/>
          </a:xfrm>
          <a:prstGeom prst="foldedCorner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нная техн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звивает познаватель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ятельн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ормирует ЗУН, необходим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практическ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различных играх учащие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сваивают различ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циальные роли, учатс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менять их на практик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048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1523880"/>
            <a:ext cx="3886200" cy="2590920"/>
          </a:xfrm>
          <a:prstGeom prst="rightArrowCallout">
            <a:avLst>
              <a:gd name="adj1" fmla="val 25002"/>
              <a:gd name="adj2" fmla="val 25000"/>
              <a:gd name="adj3" fmla="val 24999"/>
              <a:gd name="adj4" fmla="val 6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ФОРМАЦИОН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ММУНИКАТИВ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1143000"/>
            <a:ext cx="4495680" cy="4343400"/>
          </a:xfrm>
          <a:prstGeom prst="foldedCorner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менение и широкий выб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зможностей обогащ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держания образова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спользование возможност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астия в различных Интернет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ектах, обучающего характер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лимпиадах, что помог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скрыть потенциал учащих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219320" y="3962520"/>
            <a:ext cx="2705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4920" y="1676520"/>
            <a:ext cx="3504960" cy="2666880"/>
          </a:xfrm>
          <a:prstGeom prst="rightArrowCallout">
            <a:avLst>
              <a:gd name="adj1" fmla="val 25002"/>
              <a:gd name="adj2" fmla="val 25000"/>
              <a:gd name="adj3" fmla="val 21904"/>
              <a:gd name="adj4" fmla="val 6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ЗДОРОВЬЕ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СБЕРЕГАЮ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ТЕХН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62520" y="1143000"/>
            <a:ext cx="4647960" cy="4191120"/>
          </a:xfrm>
          <a:prstGeom prst="foldedCorner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спользование данного подх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зволяет равномерно распредел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 время урока различные в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да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меняя данную технологию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итель может чередо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ыслительную деятельность с ТС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делять время на самостоятель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бот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47920" y="3809880"/>
            <a:ext cx="22381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6T03:37:48Z</dcterms:created>
  <dc:creator>1</dc:creator>
  <dc:description/>
  <dc:language>en-US</dc:language>
  <cp:lastModifiedBy>1</cp:lastModifiedBy>
  <dcterms:modified xsi:type="dcterms:W3CDTF">2016-01-16T11:21:0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