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FBB-D48E-41AF-8D45-D732CFBD12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D63-D99D-4BD6-A90E-5C67747A5BF9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B82-21C9-4D10-A338-20932B43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331-8879-4CAB-9402-D05E7010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2EA-56C4-4CC1-89E3-1D5574D3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55C-B63C-4E96-9A23-CBC6E302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8A8-8DCB-4ECE-9E61-7CD19CF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F93F-DB84-4F52-BABF-D63F9D8D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C501-2009-4D94-A313-C9C03659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CD16-AC88-4705-888B-820A9A92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F539-7CD0-4443-93CE-0E1AF2C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ED0-1197-4BFE-BA5E-C92A28AE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DFC-2431-48D6-BBE3-55E0C58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576A-49F3-4F14-A630-83DA0851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B08B-A55B-4DAA-A9D5-F18C1BEF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43B0-93B8-43DD-9823-3D42AC6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0EF-81D4-4FE2-9996-CFCE8F7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EBE7-DDC6-4783-85FC-B7EE743D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768D-32BC-4D41-87CC-CEBC3638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3999-D6CB-48A5-89AB-01594FA5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481-E37D-457B-8E58-0D2C51C9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D023-E3C6-4C22-AFD4-9C251FE6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65A-B33A-48CB-B32F-2E9A22F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6B1A-EE13-4475-8292-A72B0D6F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E8EE-FF4A-4EBE-9F32-96AEBD99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5AA1-3A9D-4BBF-B7AC-BF5D82D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E40B-1E0C-4A81-BEF0-D6E9843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CD78-EAA9-4003-8C01-403A901C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D200-A567-4E22-B3ED-C33B6C6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BA97-176B-401E-8A91-7EF8DFB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A768C-5409-4F08-AE36-A2764B3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54E9-6607-4160-A1AB-F1FEA936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5ADB-2193-4C5A-B722-F1C1000A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5B3-EEA1-4D5E-A59B-9E0CC427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C684-BB38-4B5A-8F42-D813E95F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AD2F-6142-4649-A275-888505AE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2CA3-EF4C-4E31-8360-A2917CD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140A-E74B-4C2C-BD14-0F7F40DE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9E7E-AAA0-48AF-B6AB-4D65F7A3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0580-5975-464E-BA55-8269E97A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0F3E2-CC59-4111-B9AB-418C94A0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FF4D-0BD8-4A28-BEC0-03815B8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B1E8-05E9-4BC4-AE36-8243C90F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B3478-55EF-402C-B6C4-0EE58CE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503-685A-4AA6-A092-1D586CC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0584-B50D-4B1D-9423-4DB8EC79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C00D-3F8D-4C5A-925A-24806A11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BC56-4E07-4B0E-AEB5-2BBBC571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E0B1E-D2D0-4F39-AAF5-ACAD7212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D72D8-0277-4568-A644-E6AACC15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033F-5F94-4357-991F-DAEB101C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FED0-6F92-432C-BCFF-6AF3D4B8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201B8-2135-496B-A9E4-82AB8E14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B9853-63DE-4E4D-8389-5D9ADE8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E02D4-AD27-49EE-9AD7-922DE6F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2E6-D982-40AE-925C-DD34DF14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9124-73A3-4AD7-9DB4-74E5805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6AE9-0AF5-4928-8A10-56447F8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FCC2-C6AD-4AEB-9128-488DE4C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D7EE5-BBB0-40D1-9C5D-B521D782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1839-E603-4DDF-AAC8-FDC69049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EEFF-A0C6-457C-BC23-D389DC6C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4A29-50D6-47B5-B73A-685184CE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15CA1-454D-45C7-A76E-385E608A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F0E5-64C5-4A7B-A95B-11E3C1F3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4F4DA-D1CC-4DF3-B82A-2A8C74CE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934-D783-488C-BBEC-1583A98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DC447-6E60-4EAE-A2D9-1EDAA639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C4A62-C440-4A5D-AFD2-EAE0D36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6FDF-0F9D-4BC7-A5E6-B1ECBE4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6E74-22E0-439D-AEB5-49AF69FF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F06E-472A-4B86-AD74-672E6C05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01208-57B2-4D1E-A52F-45A45091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D9C5B-E844-445F-9337-40793CD4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F266-2079-4FD0-A556-768668993B4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B16A-5357-4A21-8E55-B37368DF2B7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0BFD-BA80-4C1A-9BBF-AED8E3B941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C09C-4F4E-4477-860D-0B901BE6E1E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DE34-0A6F-4383-8FE5-672D500D03B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4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6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47C5-2251-4E6E-A444-CDD455A57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21304"/>
                </a:solidFill>
                <a:latin typeface="Times New Roman"/>
              </a:rPr>
              <a:t>АЛКИНЫ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пературы кипения и плавления алкинов, так же как и алкенов, закономерно повышаются при увеличении молекулярной массы соедин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ины имеют специфический запах. Они лучше растворяются в воде, чем алканы и алке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1000080" y="1541880"/>
            <a:ext cx="77868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Ацетилен получают в промышленности двумя способами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Термический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рекинг метан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50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С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+  3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Гидролиз карбида кальция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a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2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Ca(OH)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5" name="WordArt 7"/>
          <p:cNvSpPr txBox="1"/>
          <p:nvPr/>
        </p:nvSpPr>
        <p:spPr>
          <a:xfrm>
            <a:off x="1476360" y="549360"/>
            <a:ext cx="640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учение алкинов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6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Химические свойства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свойства ацетилена и его гомологов в основном определяются наличием в их молекулах тройной связи. Наиболее характерны для алкинов реакции присоеди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присоедин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240" y="1628280"/>
            <a:ext cx="7061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Галоге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цвечивание бромной воды является качественной реакцией на все непредельные углеводо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с бромной водой.avi" descr=""/>
          <p:cNvPicPr/>
          <p:nvPr/>
        </p:nvPicPr>
        <p:blipFill>
          <a:blip r:embed="rId1"/>
          <a:stretch/>
        </p:blipFill>
        <p:spPr>
          <a:xfrm>
            <a:off x="3143160" y="3929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4292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Гидрогалоген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Гидр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Гидрат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Взаимод с водой.avi" descr=""/>
          <p:cNvPicPr/>
          <p:nvPr/>
        </p:nvPicPr>
        <p:blipFill>
          <a:blip r:embed="rId1"/>
          <a:stretch/>
        </p:blipFill>
        <p:spPr>
          <a:xfrm>
            <a:off x="3214800" y="40719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4"/>
          <p:cNvSpPr/>
          <p:nvPr/>
        </p:nvSpPr>
        <p:spPr>
          <a:xfrm>
            <a:off x="1071720" y="2413080"/>
            <a:ext cx="74293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gSO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 +  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 [H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=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]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C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Окис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6" name="окисл марганц.avi" descr=""/>
          <p:cNvPicPr/>
          <p:nvPr/>
        </p:nvPicPr>
        <p:blipFill>
          <a:blip r:embed="rId1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1214280" y="1643040"/>
            <a:ext cx="714384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цетилен и его гомологи окисляются перманганатом калия с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сщеплением тройной связи и образованием карбоновых кислот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’  +  3[O]  +  H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O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  +  R’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лкины обесцвечивают раствор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MnO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, что используется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ля их качественного определения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Горение ацетил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66320" y="1752120"/>
            <a:ext cx="762012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горании (полном окислении) ацетилена выделяется большое количества теп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2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2С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 +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143680" y="4000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замещ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2" name="с аммиачным оксидом серебра.avi" descr=""/>
          <p:cNvPicPr/>
          <p:nvPr/>
        </p:nvPicPr>
        <p:blipFill>
          <a:blip r:embed="rId1"/>
          <a:stretch/>
        </p:blipFill>
        <p:spPr>
          <a:xfrm>
            <a:off x="5500800" y="42148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1000080" y="1643040"/>
            <a:ext cx="778680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ри взаимодействии ацетилена (или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) с аммиачными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створами оксида серебра выпадают осадки нерастворимых ацетиленидов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[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]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Ag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4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1000080" y="414324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ачественная реакция н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онцевую тройную связь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Реакция полимериз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66320" y="1752480"/>
            <a:ext cx="7620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меризация под действием водного раство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винилацетиле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римеризация ацетилена над активированным углем приводит к образованию бензола (реакц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елинск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, 6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ензол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5832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рименение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8" name="Picture 4" descr="U19_10"/>
          <p:cNvPicPr/>
          <p:nvPr/>
        </p:nvPicPr>
        <p:blipFill>
          <a:blip r:embed="rId1"/>
          <a:stretch/>
        </p:blipFill>
        <p:spPr>
          <a:xfrm>
            <a:off x="6524640" y="476280"/>
            <a:ext cx="2619360" cy="203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proxy1\Мои документы\Мои рисунки\Дихлорэтан.bmp"/>
          <p:cNvPicPr/>
          <p:nvPr/>
        </p:nvPicPr>
        <p:blipFill>
          <a:blip r:embed="rId2"/>
          <a:stretch/>
        </p:blipFill>
        <p:spPr>
          <a:xfrm>
            <a:off x="928800" y="1928880"/>
            <a:ext cx="6286320" cy="4584600"/>
          </a:xfrm>
          <a:prstGeom prst="rect">
            <a:avLst/>
          </a:prstGeom>
          <a:ln w="0">
            <a:noFill/>
          </a:ln>
        </p:spPr>
      </p:pic>
      <p:sp>
        <p:nvSpPr>
          <p:cNvPr id="400" name="Стрелка влево 4">
            <a:hlinkClick r:id="rId3" action="ppaction://hlinksldjump"/>
          </p:cNvPr>
          <p:cNvSpPr/>
          <p:nvPr/>
        </p:nvSpPr>
        <p:spPr>
          <a:xfrm>
            <a:off x="7572240" y="6072120"/>
            <a:ext cx="928800" cy="2858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e2d02"/>
                </a:solidFill>
                <a:latin typeface="Times New Roman"/>
              </a:rPr>
              <a:t>Сегодня на уроке вы узнает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85560" y="19288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ие о непредельных углеводор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тройной свя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мерия и номенклатур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ие свой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н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Стрелка вправо 3">
            <a:hlinkClick r:id="rId1" action="ppaction://hlinksldjump"/>
          </p:cNvPr>
          <p:cNvSpPr/>
          <p:nvPr/>
        </p:nvSpPr>
        <p:spPr>
          <a:xfrm>
            <a:off x="7000920" y="60008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онятие об алкина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1643040"/>
            <a:ext cx="7720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углеводороды, содержащие в молекуле одну тройную связь между атомами углерода, а качественный и количественный состав выражается общей формул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С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Н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2n</a:t>
            </a:r>
            <a:r>
              <a:rPr b="1" lang="ru-RU" sz="3600" spc="-1" strike="noStrike" baseline="-25000">
                <a:solidFill>
                  <a:srgbClr val="8c4e10"/>
                </a:solidFill>
                <a:latin typeface="Times New Roman"/>
              </a:rPr>
              <a:t> - 2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, где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n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  <a:ea typeface="Arial"/>
              </a:rPr>
              <a:t>≥ 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8c4e1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носятся к непредельным углеводородам, так как их молекулы содержат меньшее число атомов водорода, чем насыщен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Характеристика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тройной  связ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2000160"/>
            <a:ext cx="762012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гибридизации –         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лентный угол – </a:t>
            </a:r>
            <a:r>
              <a:rPr b="0" lang="en-US" sz="32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c4e1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лина связи  С = 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,12 н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─                      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  <a:ea typeface="Arial"/>
              </a:rPr>
              <a:t>линей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связи –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ковалентная  поляр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ипу перекрывания –  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π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4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Содержимое 3" descr="алкин.GIF"/>
          <p:cNvPicPr/>
          <p:nvPr/>
        </p:nvPicPr>
        <p:blipFill>
          <a:blip r:embed="rId1"/>
          <a:stretch/>
        </p:blipFill>
        <p:spPr>
          <a:xfrm>
            <a:off x="1428840" y="1752480"/>
            <a:ext cx="6715080" cy="46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7" name="образ ацетилена.avi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Гомологический</a:t>
            </a:r>
            <a:br>
              <a:rPr sz="4400"/>
            </a:b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ряд алк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71720" y="1571400"/>
            <a:ext cx="761976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2857680" y="20718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2857680" y="28576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2928960" y="37148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2928960" y="4572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2928960" y="53578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3000240" y="61437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2786040" y="14288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п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у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н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кс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п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2"/>
          <p:cNvSpPr txBox="1"/>
          <p:nvPr/>
        </p:nvSpPr>
        <p:spPr>
          <a:xfrm>
            <a:off x="2643120" y="6429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мерия алкинов</a:t>
            </a:r>
            <a:endParaRPr b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285920" y="1357200"/>
            <a:ext cx="731844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694b6"/>
                </a:solidFill>
                <a:latin typeface="Tahoma"/>
              </a:rPr>
              <a:t>Структурная изомерия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Изомерия положения тройной связи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6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Изомерия углеродного скелета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пен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   3-метилбутин-1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3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Межклассовая изомерия с алкадиенами и циклоалкенами,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= С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=СН–СН=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бутадиен-1,3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циклобутен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2b09"/>
                </a:solidFill>
                <a:latin typeface="Times New Roman"/>
              </a:rPr>
              <a:t>Выполните упражне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82600" y="3573000"/>
            <a:ext cx="7205760" cy="25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вещ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к нему три изомера разных видов изомерии. Назовите изом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4" descr="U12_06_pr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050920" y="1773360"/>
            <a:ext cx="55929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2:56:10Z</dcterms:created>
  <dc:creator>Дубровина О.В.</dc:creator>
  <dc:description/>
  <dc:language>en-US</dc:language>
  <cp:lastModifiedBy>Customer</cp:lastModifiedBy>
  <dcterms:modified xsi:type="dcterms:W3CDTF">2013-12-04T11:50:22Z</dcterms:modified>
  <cp:revision>5</cp:revision>
  <dc:subject/>
  <dc:title>Алкины</dc:title>
</cp:coreProperties>
</file>