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365E-C308-4F91-A597-D61FD62D2B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F096-CD94-47AA-955D-A705093DB241}" type="slidenum">
              <a:rPr b="0" lang="ru-RU" sz="1200" spc="-1" strike="noStrike">
                <a:solidFill>
                  <a:srgbClr val="0033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F18-468B-4C79-8A54-D8D69785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FD6-84E3-4D75-ACB7-1EFDFD26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CAE-6590-4C54-8FDE-3E34579C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706-1BF0-4C59-98ED-2979A89C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CE09-582F-4C2F-8988-589218F7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9944-DE98-41FA-8C5E-B99C70F3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3D46-9CD6-4BB4-A1E7-73BCA445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73C4-B825-4D14-A75D-7DB18116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5EEF-BC3F-45E1-89F7-5E46C4D9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0A31-0569-486E-B8DE-29B635C5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0E4-685F-4BC0-998A-3E1F85A9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7850-12FA-4132-81AA-08334380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6911-3842-4EA1-8F5D-64176AFC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DF30-B218-40C9-A83B-AD25ED13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DD4E-28D7-4421-AA0B-18DB545B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124D-7541-480F-95D7-803B2BA0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9792-6A7B-4979-A173-921E2CD0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74E2-0FB5-4E43-8C78-A90D6C0C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8A5-EEF8-4488-BD97-BB0141B5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F9438-8115-4500-9DD7-B5018B76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938-BB2B-4597-B9F1-F70DE4EA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1DBA-C964-47E0-9C5D-78AC20F7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064DA-19D2-4FAF-B1AD-916BBA23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7B7EB-4EB4-49F4-B70C-98F8BB48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4749-2E29-4FE8-88B3-F84011E5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20C5-E2BD-4157-905A-FDC1F82C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8605-B693-4FA4-8BD3-C3A0A02B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BE502-E329-47CD-AAF4-E897574C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E644E-6711-42CA-A043-F7F6A501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FAE4-910C-4801-B9DE-D5D53C4B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09B2-85F6-4801-9D10-26BD5103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5AE-441B-4E41-9115-867C5C7E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98123-DAFA-4472-8B36-CC1A5A8C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46323-CF13-4E93-A0D3-13710E4E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266DA-7AC7-470D-9DE0-29E3410D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250D2-0095-41BE-968D-60516135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15C86-90C3-4F23-8165-B3875460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345A0-7FD6-43E3-B0F1-E60B04FE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E153-6C79-4140-95ED-6E18AE6D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F34E7-346F-4F13-AA83-480F7021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BA60A-98E4-47A9-89F3-95F6A365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F7C5C-4E8C-49EB-AC5F-0A49B69D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4A1-4F14-49FE-904A-AB4A99C8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655E5-BBA5-4564-B8F8-788973F0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01BA0-1CE3-4DDD-B750-B2769BA7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53513-2445-4391-BFFE-C23EB708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BDFA5-332A-4DD2-B4CF-F575C081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C67C4-575E-4052-8F04-8F1FEF0A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144F5-80C3-4948-AAC0-52CDCDB2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55912-6863-4737-AF6E-B6F0F35C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973FE-FD29-4319-AB58-9FE0ED15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7E4F3-0FAD-4FB0-8C82-4EA72B52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2E081-F434-4DE9-8284-9158C833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D57-B19C-4553-A3F8-A6FEB1EE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23881-3F67-49FE-8755-946E0720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292C3-0DD9-4A8C-A897-12359A09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B47AE-41B3-4D3E-BAA5-AEAA6232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ADE4A-EB37-42DC-A466-80BDD66F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73C64-5DFB-44A0-B7B9-4443E454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6B363-DA6E-49D7-A10F-D1B5B942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41E2A-A54E-427B-8D03-16F45ECD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B7D9B-A44B-42C5-A725-AD14D0AD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2673D-644A-4D87-B521-B65CB602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821E1-60B9-4B6D-85CE-8567B4D3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D8E7-8F19-4817-B950-FFC183CE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BC818-DFEC-42A5-9055-A279366E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A3589-AED9-4642-B79B-02A1712C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561C4-D051-44A3-89D5-BBCE3F62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636E4-17B8-445F-9B71-21F8B5E5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903EC-C569-4A85-ABBE-6EDA2DB9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55BB3-9525-4941-A228-7205B3E7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57B49-FBAE-4DD3-92E0-44177DF1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8974-B87B-4937-B44B-F5EAE3B24D5D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91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52280" y="6553080"/>
            <a:ext cx="8839440" cy="763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35000" y="457200"/>
            <a:ext cx="68040" cy="594360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940960" y="457200"/>
            <a:ext cx="68040" cy="594360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0FCE-0BF7-4586-8489-CA4F44BE8BD2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91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52280" y="6553080"/>
            <a:ext cx="8839440" cy="763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35000" y="457200"/>
            <a:ext cx="68040" cy="594360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8940960" y="457200"/>
            <a:ext cx="68040" cy="594360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68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D70F-04FB-4C50-AAEC-64FACE0772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2EDD-BC2C-4167-B52B-B8BCFD2715EC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410F-2FCA-4937-8EEF-2D1E1CA058A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294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296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8119-BE43-4EA9-B48D-6B28EC0F16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21304"/>
                </a:solidFill>
                <a:latin typeface="Times New Roman"/>
              </a:rPr>
              <a:t>АЛКИНЫ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Физические свой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пературы кипения и плавления алкинов, так же как и алкенов, закономерно повышаются при увеличении молекулярной массы соедин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кины имеют специфический запах. Они лучше растворяются в воде, чем алканы и алке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1000080" y="1541880"/>
            <a:ext cx="77868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Ацетилен получают в промышленности двумя способами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1. 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Термический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крекинг метана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         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1500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2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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С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+  3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2. 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Гидролиз карбида кальция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aC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+  2H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C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+  Ca(OH)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5" name="WordArt 7"/>
          <p:cNvSpPr txBox="1"/>
          <p:nvPr/>
        </p:nvSpPr>
        <p:spPr>
          <a:xfrm>
            <a:off x="1476360" y="549360"/>
            <a:ext cx="6408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учение алкинов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76" name="горение ацетилена.avi" descr=""/>
          <p:cNvPicPr/>
          <p:nvPr/>
        </p:nvPicPr>
        <p:blipFill>
          <a:blip r:embed="rId1"/>
          <a:stretch/>
        </p:blipFill>
        <p:spPr>
          <a:xfrm>
            <a:off x="5786280" y="31431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Химические свойства алкин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имические свойства ацетилена и его гомологов в основном определяются наличием в их молекулах тройной связи. Наиболее характерны для алкинов реакции присоеди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Реакции присоедине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240" y="1628280"/>
            <a:ext cx="7061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Галоген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цвечивание бромной воды является качественной реакцией на все непредельные углеводор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с бромной водой.avi" descr=""/>
          <p:cNvPicPr/>
          <p:nvPr/>
        </p:nvPicPr>
        <p:blipFill>
          <a:blip r:embed="rId1"/>
          <a:stretch/>
        </p:blipFill>
        <p:spPr>
          <a:xfrm>
            <a:off x="3143160" y="39290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4292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Гидрогалоген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Гидр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Гидрата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Взаимод с водой.avi" descr=""/>
          <p:cNvPicPr/>
          <p:nvPr/>
        </p:nvPicPr>
        <p:blipFill>
          <a:blip r:embed="rId1"/>
          <a:stretch/>
        </p:blipFill>
        <p:spPr>
          <a:xfrm>
            <a:off x="3214800" y="40719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4"/>
          <p:cNvSpPr/>
          <p:nvPr/>
        </p:nvSpPr>
        <p:spPr>
          <a:xfrm>
            <a:off x="1071720" y="2413080"/>
            <a:ext cx="74293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gSO</a:t>
            </a:r>
            <a:r>
              <a:rPr b="1" lang="en-US" sz="1800" spc="-1" strike="noStrike" baseline="-25000">
                <a:solidFill>
                  <a:srgbClr val="003366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Н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  +  H</a:t>
            </a:r>
            <a:r>
              <a:rPr b="1" lang="en-US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  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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  [H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=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]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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 CH</a:t>
            </a:r>
            <a:r>
              <a:rPr b="1" lang="en-US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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H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Окисле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86" name="окисл марганц.avi" descr=""/>
          <p:cNvPicPr/>
          <p:nvPr/>
        </p:nvPicPr>
        <p:blipFill>
          <a:blip r:embed="rId1"/>
          <a:stretch/>
        </p:blipFill>
        <p:spPr>
          <a:xfrm>
            <a:off x="5572080" y="42148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4"/>
          <p:cNvSpPr/>
          <p:nvPr/>
        </p:nvSpPr>
        <p:spPr>
          <a:xfrm>
            <a:off x="1214280" y="1643040"/>
            <a:ext cx="714384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Ацетилен и его гомологи окисляются перманганатом калия с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сщеплением тройной связи и образованием карбоновых кислот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’  +  3[O]  +  H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O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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OOH  +  R’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OOH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Алкины обесцвечивают раствор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MnO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, что используется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для их качественного определения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Горение ацетилен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066320" y="1752120"/>
            <a:ext cx="762012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сгорании (полном окислении) ацетилена выделяется большое количества тепл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+  2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2С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+  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  +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горение ацетилена.avi" descr=""/>
          <p:cNvPicPr/>
          <p:nvPr/>
        </p:nvPicPr>
        <p:blipFill>
          <a:blip r:embed="rId1"/>
          <a:stretch/>
        </p:blipFill>
        <p:spPr>
          <a:xfrm>
            <a:off x="5143680" y="4000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" dur="1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Реакции замеще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92" name="с аммиачным оксидом серебра.avi" descr=""/>
          <p:cNvPicPr/>
          <p:nvPr/>
        </p:nvPicPr>
        <p:blipFill>
          <a:blip r:embed="rId1"/>
          <a:stretch/>
        </p:blipFill>
        <p:spPr>
          <a:xfrm>
            <a:off x="5500800" y="421488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4"/>
          <p:cNvSpPr/>
          <p:nvPr/>
        </p:nvSpPr>
        <p:spPr>
          <a:xfrm>
            <a:off x="1000080" y="1643040"/>
            <a:ext cx="778680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При взаимодействии ацетилена (или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R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) с аммиачными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растворами оксида серебра выпадают осадки нерастворимых ацетиленидов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H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+  2[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Ag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NH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)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]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H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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Ag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Ag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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+  4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NH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+  2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1000080" y="4143240"/>
            <a:ext cx="392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Качественная реакция на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концевую тройную связь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4" dur="1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Реакция полимериз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066320" y="1752480"/>
            <a:ext cx="7620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меризация под действием водного раствор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+ 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винилацетиле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Тримеризация ацетилена над активированным углем приводит к образованию бензола (реакц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елинск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, 60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бензол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583236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Применение алкин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98" name="Picture 4" descr="U19_10"/>
          <p:cNvPicPr/>
          <p:nvPr/>
        </p:nvPicPr>
        <p:blipFill>
          <a:blip r:embed="rId1"/>
          <a:stretch/>
        </p:blipFill>
        <p:spPr>
          <a:xfrm>
            <a:off x="6524640" y="476280"/>
            <a:ext cx="2619360" cy="203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C:\Documents and Settings\proxy1\Мои документы\Мои рисунки\Дихлорэтан.bmp"/>
          <p:cNvPicPr/>
          <p:nvPr/>
        </p:nvPicPr>
        <p:blipFill>
          <a:blip r:embed="rId2"/>
          <a:stretch/>
        </p:blipFill>
        <p:spPr>
          <a:xfrm>
            <a:off x="928800" y="1928880"/>
            <a:ext cx="6286320" cy="4584600"/>
          </a:xfrm>
          <a:prstGeom prst="rect">
            <a:avLst/>
          </a:prstGeom>
          <a:ln w="0">
            <a:noFill/>
          </a:ln>
        </p:spPr>
      </p:pic>
      <p:sp>
        <p:nvSpPr>
          <p:cNvPr id="400" name="Стрелка влево 4">
            <a:hlinkClick r:id="rId3" action="ppaction://hlinksldjump"/>
          </p:cNvPr>
          <p:cNvSpPr/>
          <p:nvPr/>
        </p:nvSpPr>
        <p:spPr>
          <a:xfrm>
            <a:off x="7572240" y="6072120"/>
            <a:ext cx="928800" cy="28584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e2d02"/>
                </a:solidFill>
                <a:latin typeface="Times New Roman"/>
              </a:rPr>
              <a:t>Сегодня на уроке вы узнает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85560" y="1928880"/>
            <a:ext cx="741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нятие о непредельных углеводород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а тройной связ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омерия и номенклатура алки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ие свой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чение алки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йства алки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нение алки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Стрелка вправо 3">
            <a:hlinkClick r:id="rId1" action="ppaction://hlinksldjump"/>
          </p:cNvPr>
          <p:cNvSpPr/>
          <p:nvPr/>
        </p:nvSpPr>
        <p:spPr>
          <a:xfrm>
            <a:off x="7000920" y="600084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Понятие об алкинах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66320" y="1643040"/>
            <a:ext cx="7720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c4e1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4e10"/>
                </a:solidFill>
                <a:latin typeface="Times New Roman"/>
              </a:rPr>
              <a:t>Алкины</a:t>
            </a:r>
            <a:r>
              <a:rPr b="0" lang="ru-RU" sz="2800" spc="-1" strike="noStrike">
                <a:solidFill>
                  <a:srgbClr val="8c4e1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углеводороды, содержащие в молекуле одну тройную связь между атомами углерода, а качественный и количественный состав выражается общей формул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С</a:t>
            </a:r>
            <a:r>
              <a:rPr b="1" lang="en-US" sz="3600" spc="-1" strike="noStrike" baseline="-25000">
                <a:solidFill>
                  <a:srgbClr val="8c4e1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Н</a:t>
            </a:r>
            <a:r>
              <a:rPr b="1" lang="en-US" sz="3600" spc="-1" strike="noStrike" baseline="-25000">
                <a:solidFill>
                  <a:srgbClr val="8c4e10"/>
                </a:solidFill>
                <a:latin typeface="Times New Roman"/>
              </a:rPr>
              <a:t>2n</a:t>
            </a:r>
            <a:r>
              <a:rPr b="1" lang="ru-RU" sz="3600" spc="-1" strike="noStrike" baseline="-25000">
                <a:solidFill>
                  <a:srgbClr val="8c4e10"/>
                </a:solidFill>
                <a:latin typeface="Times New Roman"/>
              </a:rPr>
              <a:t> - 2</a:t>
            </a: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, где </a:t>
            </a:r>
            <a:r>
              <a:rPr b="1" lang="en-US" sz="3600" spc="-1" strike="noStrike">
                <a:solidFill>
                  <a:srgbClr val="8c4e10"/>
                </a:solidFill>
                <a:latin typeface="Times New Roman"/>
              </a:rPr>
              <a:t>n </a:t>
            </a:r>
            <a:r>
              <a:rPr b="1" lang="en-US" sz="3600" spc="-1" strike="noStrike">
                <a:solidFill>
                  <a:srgbClr val="8c4e10"/>
                </a:solidFill>
                <a:latin typeface="Times New Roman"/>
                <a:ea typeface="Arial"/>
              </a:rPr>
              <a:t>≥ </a:t>
            </a: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8c4e1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8c4e1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4e10"/>
                </a:solidFill>
                <a:latin typeface="Times New Roman"/>
              </a:rPr>
              <a:t>Алки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носятся к непредельным углеводородам, так как их молекулы содержат меньшее число атомов водорода, чем насыщенн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4e10"/>
                </a:solidFill>
                <a:latin typeface="Times New Roman"/>
              </a:rPr>
              <a:t>Характеристика </a:t>
            </a:r>
            <a:br>
              <a:rPr sz="4400"/>
            </a:br>
            <a:r>
              <a:rPr b="1" lang="en-US" sz="4400" spc="-1" strike="noStrike">
                <a:solidFill>
                  <a:srgbClr val="8c4e10"/>
                </a:solidFill>
                <a:latin typeface="Times New Roman"/>
              </a:rPr>
              <a:t>тройной  связ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42640" y="2000160"/>
            <a:ext cx="762012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 гибридизации –          </a:t>
            </a:r>
            <a:r>
              <a:rPr b="1" lang="en-US" sz="3600" spc="-1" strike="noStrike">
                <a:solidFill>
                  <a:srgbClr val="8c4e10"/>
                </a:solidFill>
                <a:latin typeface="Times New Roman"/>
              </a:rPr>
              <a:t>s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лентный угол – </a:t>
            </a:r>
            <a:r>
              <a:rPr b="0" lang="en-US" sz="3200" spc="-1" strike="noStrike">
                <a:solidFill>
                  <a:srgbClr val="8c4e1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8c4e1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8c4e10"/>
                </a:solidFill>
                <a:latin typeface="Times New Roman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лина связи  С = С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8c4e1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8c4e10"/>
                </a:solidFill>
                <a:latin typeface="Times New Roman"/>
              </a:rPr>
              <a:t>,12 н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о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─                        </a:t>
            </a:r>
            <a:r>
              <a:rPr b="1" lang="ru-RU" sz="3200" spc="-1" strike="noStrike">
                <a:solidFill>
                  <a:srgbClr val="8c4e10"/>
                </a:solidFill>
                <a:latin typeface="Times New Roman"/>
                <a:ea typeface="Arial"/>
              </a:rPr>
              <a:t>линей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 связи –  </a:t>
            </a:r>
            <a:r>
              <a:rPr b="1" lang="ru-RU" sz="3200" spc="-1" strike="noStrike">
                <a:solidFill>
                  <a:srgbClr val="8c4e10"/>
                </a:solidFill>
                <a:latin typeface="Times New Roman"/>
              </a:rPr>
              <a:t>ковалентная  поляр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ипу перекрывания –   </a:t>
            </a:r>
            <a:r>
              <a:rPr b="1" lang="el-GR" sz="3600" spc="-1" strike="noStrike">
                <a:solidFill>
                  <a:srgbClr val="8c4e10"/>
                </a:solidFill>
                <a:latin typeface="Times New Roman"/>
              </a:rPr>
              <a:t>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 </a:t>
            </a:r>
            <a:r>
              <a:rPr b="1" lang="ru-RU" sz="3200" spc="-1" strike="noStrike">
                <a:solidFill>
                  <a:srgbClr val="8c4e1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600" spc="-1" strike="noStrike">
                <a:solidFill>
                  <a:srgbClr val="8c4e10"/>
                </a:solidFill>
                <a:latin typeface="Times New Roman"/>
              </a:rPr>
              <a:t>π</a:t>
            </a: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ая соединительная линия 4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Схема образования </a:t>
            </a:r>
            <a:br>
              <a:rPr sz="4400"/>
            </a:br>
            <a:r>
              <a:rPr b="1" lang="en-US" sz="4400" spc="-1" strike="noStrike">
                <a:solidFill>
                  <a:srgbClr val="8c4e10"/>
                </a:solidFill>
                <a:latin typeface="Times New Roman"/>
              </a:rPr>
              <a:t>sp</a:t>
            </a: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 -гибридных орбитале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5" name="Содержимое 3" descr="алкин.GIF"/>
          <p:cNvPicPr/>
          <p:nvPr/>
        </p:nvPicPr>
        <p:blipFill>
          <a:blip r:embed="rId1"/>
          <a:stretch/>
        </p:blipFill>
        <p:spPr>
          <a:xfrm>
            <a:off x="1428840" y="1752480"/>
            <a:ext cx="6715080" cy="464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Схема образования </a:t>
            </a:r>
            <a:br>
              <a:rPr sz="4400"/>
            </a:br>
            <a:r>
              <a:rPr b="1" lang="en-US" sz="4400" spc="-1" strike="noStrike">
                <a:solidFill>
                  <a:srgbClr val="8c4e10"/>
                </a:solidFill>
                <a:latin typeface="Times New Roman"/>
              </a:rPr>
              <a:t>sp</a:t>
            </a: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 -гибридных орбитале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7" name="образ ацетилена.avi" descr=""/>
          <p:cNvPicPr/>
          <p:nvPr/>
        </p:nvPicPr>
        <p:blipFill>
          <a:blip r:embed="rId1"/>
          <a:stretch/>
        </p:blipFill>
        <p:spPr>
          <a:xfrm>
            <a:off x="3352680" y="2666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Гомологический</a:t>
            </a:r>
            <a:br>
              <a:rPr sz="4400"/>
            </a:b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 ряд алк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</a:t>
            </a: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71720" y="1571400"/>
            <a:ext cx="761976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2857680" y="207180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1" name="Line 15"/>
          <p:cNvSpPr/>
          <p:nvPr/>
        </p:nvSpPr>
        <p:spPr>
          <a:xfrm>
            <a:off x="2857680" y="28576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2" name="Line 15"/>
          <p:cNvSpPr/>
          <p:nvPr/>
        </p:nvSpPr>
        <p:spPr>
          <a:xfrm>
            <a:off x="2928960" y="37148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2928960" y="457200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4" name="Line 15"/>
          <p:cNvSpPr/>
          <p:nvPr/>
        </p:nvSpPr>
        <p:spPr>
          <a:xfrm>
            <a:off x="2928960" y="53578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5" name="Line 15"/>
          <p:cNvSpPr/>
          <p:nvPr/>
        </p:nvSpPr>
        <p:spPr>
          <a:xfrm>
            <a:off x="3000240" y="614376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6" name="Прямоугольник 9"/>
          <p:cNvSpPr/>
          <p:nvPr/>
        </p:nvSpPr>
        <p:spPr>
          <a:xfrm>
            <a:off x="2786040" y="142884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т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п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ут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ент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екс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епт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WordArt 2"/>
          <p:cNvSpPr txBox="1"/>
          <p:nvPr/>
        </p:nvSpPr>
        <p:spPr>
          <a:xfrm>
            <a:off x="2643120" y="642960"/>
            <a:ext cx="39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4c2b0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омерия алкинов</a:t>
            </a:r>
            <a:endParaRPr b="1" lang="en-US" sz="1800" spc="1" strike="noStrike">
              <a:ln w="0">
                <a:noFill/>
              </a:ln>
              <a:solidFill>
                <a:srgbClr val="4c2b0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285920" y="1357200"/>
            <a:ext cx="731844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694b6"/>
                </a:solidFill>
                <a:latin typeface="Tahoma"/>
              </a:rPr>
              <a:t>Структурная изомерия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1.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 Изомерия положения тройной связи (начиная с С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Н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6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бутин-1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бутин-2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2. 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Изомерия углеродного скелета (начиная с С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Н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пентин-1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            3-метилбутин-1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3. 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Межклассовая изомерия с алкадиенами и циклоалкенами, (начиная с С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Н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= СН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–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–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=СН–СН=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–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бутин-1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        бутадиен-1,3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         циклобутен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2b09"/>
                </a:solidFill>
                <a:latin typeface="Times New Roman"/>
              </a:rPr>
              <a:t>Выполните упражне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182600" y="3573000"/>
            <a:ext cx="7205760" cy="25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веще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ьте к нему три изомера разных видов изомерии. Назовите изоме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4" descr="U12_06_pr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050920" y="1773360"/>
            <a:ext cx="559296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2:56:10Z</dcterms:created>
  <dc:creator>Дубровина О.В.</dc:creator>
  <dc:description/>
  <dc:language>en-US</dc:language>
  <cp:lastModifiedBy>Customer</cp:lastModifiedBy>
  <dcterms:modified xsi:type="dcterms:W3CDTF">2013-12-04T11:50:22Z</dcterms:modified>
  <cp:revision>5</cp:revision>
  <dc:subject/>
  <dc:title>Алкины</dc:title>
</cp:coreProperties>
</file>