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4.jpeg" ContentType="image/jpeg"/>
  <Override PartName="/ppt/media/image25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media/image1.png" ContentType="image/png"/>
  <Override PartName="/ppt/media/image3.png" ContentType="image/png"/>
  <Override PartName="/ppt/media/image1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A6A9-6CA2-45F1-9AE2-9FA9091F3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1609200"/>
            <a:ext cx="81439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440" y="4140720"/>
            <a:ext cx="81439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E353-D065-471A-B3D3-45F0D0B06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14440" y="1609200"/>
            <a:ext cx="3974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609200"/>
            <a:ext cx="3974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14440" y="4140720"/>
            <a:ext cx="3974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4140720"/>
            <a:ext cx="3974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B52B-6D58-4459-AB1E-26A81C7B5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14440" y="1609200"/>
            <a:ext cx="262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8080" y="1609200"/>
            <a:ext cx="262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9200"/>
            <a:ext cx="262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4440" y="4140720"/>
            <a:ext cx="262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8080" y="4140720"/>
            <a:ext cx="262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140720"/>
            <a:ext cx="262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6DB1-B599-4ABC-B05C-0E500E41E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7A95A-60DA-4D3F-BE4A-FC6FF14F5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14440" y="1609200"/>
            <a:ext cx="814392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E6735-F4DB-4B99-82E9-6F7E057C7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14440" y="1609200"/>
            <a:ext cx="81439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A0616-F12D-4F3B-A4A9-6D1350DF4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4440" y="1609200"/>
            <a:ext cx="39740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7560" y="1609200"/>
            <a:ext cx="39740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E2B4A-1177-4054-9916-AB4BDE45F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FA81B-BD9F-413B-9BC1-95C083D04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14440" y="320400"/>
            <a:ext cx="8143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4B1F0-2B60-4763-9508-09FEFFA06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14440" y="1609200"/>
            <a:ext cx="3974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7560" y="1609200"/>
            <a:ext cx="39740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4440" y="4140720"/>
            <a:ext cx="3974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22637-AE5A-45E0-85DF-26A9F644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14440" y="1609200"/>
            <a:ext cx="814392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422B-92F4-47B7-87D8-71FD8AF7F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14440" y="1609200"/>
            <a:ext cx="39740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7560" y="1609200"/>
            <a:ext cx="3974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7560" y="4140720"/>
            <a:ext cx="3974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B065C-FEF2-4A43-90D8-30344544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14440" y="1609200"/>
            <a:ext cx="3974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7560" y="1609200"/>
            <a:ext cx="3974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4440" y="4140720"/>
            <a:ext cx="81439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568DA-335B-46D6-BCE7-2ACE9A6E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14440" y="1609200"/>
            <a:ext cx="81439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4440" y="4140720"/>
            <a:ext cx="81439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2B1D3-90A8-4C0A-A2AD-987D5E70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14440" y="1609200"/>
            <a:ext cx="3974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7560" y="1609200"/>
            <a:ext cx="3974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4440" y="4140720"/>
            <a:ext cx="3974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7560" y="4140720"/>
            <a:ext cx="3974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13A86-B902-401C-906B-1F667C0D2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14440" y="1609200"/>
            <a:ext cx="262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68080" y="1609200"/>
            <a:ext cx="262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9200"/>
            <a:ext cx="262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14440" y="4140720"/>
            <a:ext cx="262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68080" y="4140720"/>
            <a:ext cx="262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140720"/>
            <a:ext cx="262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3D0A3-BE31-4609-AA84-0301D7979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52549-F1E5-48A0-8675-BF2C225DD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14440" y="1609200"/>
            <a:ext cx="814392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C7D9F-201B-499D-B581-13B103D0E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14440" y="1609200"/>
            <a:ext cx="81439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89D50-86C3-4C6C-BA3C-639D37385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14440" y="1609200"/>
            <a:ext cx="39740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7560" y="1609200"/>
            <a:ext cx="39740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182C5-CFC4-4C64-A0B3-E34404534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15A83-CF64-4A58-AB91-6C2544807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4440" y="1609200"/>
            <a:ext cx="81439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CBE1-F6B6-4F6A-91DC-74FAB666F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514440" y="320400"/>
            <a:ext cx="8143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C735D-9DFD-4505-800F-41C3689E7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14440" y="1609200"/>
            <a:ext cx="3974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7560" y="1609200"/>
            <a:ext cx="39740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14440" y="4140720"/>
            <a:ext cx="3974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57C6A-4149-4FDC-8227-72043C38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14440" y="1609200"/>
            <a:ext cx="39740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7560" y="1609200"/>
            <a:ext cx="3974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87560" y="4140720"/>
            <a:ext cx="3974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71101-9058-4EE7-9CFB-F70CD5FF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14440" y="1609200"/>
            <a:ext cx="3974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87560" y="1609200"/>
            <a:ext cx="3974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14440" y="4140720"/>
            <a:ext cx="81439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C1ABE-DCD0-4339-B35D-EFCB4D02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14440" y="1609200"/>
            <a:ext cx="81439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4440" y="4140720"/>
            <a:ext cx="81439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72D86-111D-4C34-B8CC-545462B8D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14440" y="1609200"/>
            <a:ext cx="3974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87560" y="1609200"/>
            <a:ext cx="3974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14440" y="4140720"/>
            <a:ext cx="3974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87560" y="4140720"/>
            <a:ext cx="3974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830A3-715F-49DC-A76B-1E648C143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14440" y="1609200"/>
            <a:ext cx="262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68080" y="1609200"/>
            <a:ext cx="262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9200"/>
            <a:ext cx="262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14440" y="4140720"/>
            <a:ext cx="262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68080" y="4140720"/>
            <a:ext cx="262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140720"/>
            <a:ext cx="262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1F337-7C7B-42FB-962F-E3CDBD795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2576A-4BBC-4796-A6AE-9EB565754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514440" y="1609200"/>
            <a:ext cx="814392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2B283-0222-4774-A765-9699A2F6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14440" y="1609200"/>
            <a:ext cx="81439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A8E4E-0FB4-4B58-80A1-61F41D7B8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14440" y="1609200"/>
            <a:ext cx="39740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609200"/>
            <a:ext cx="39740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7D2D-05E2-4E2F-AB07-423319693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14440" y="1609200"/>
            <a:ext cx="39740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7560" y="1609200"/>
            <a:ext cx="39740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C7887-BD3A-4A87-86F2-CA2A64035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B62B1-31E9-4703-9455-A509A101C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514440" y="320400"/>
            <a:ext cx="8143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B26A9-6467-446D-A777-B033774E8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14440" y="1609200"/>
            <a:ext cx="3974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7560" y="1609200"/>
            <a:ext cx="39740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14440" y="4140720"/>
            <a:ext cx="3974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2E121-7057-4E69-820A-1D7126B9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14440" y="1609200"/>
            <a:ext cx="39740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87560" y="1609200"/>
            <a:ext cx="3974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87560" y="4140720"/>
            <a:ext cx="3974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0B975-0D51-483B-B866-5FAB967B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14440" y="1609200"/>
            <a:ext cx="3974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87560" y="1609200"/>
            <a:ext cx="3974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14440" y="4140720"/>
            <a:ext cx="81439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2D62C-7CD1-48D4-83C5-C06F528D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14440" y="1609200"/>
            <a:ext cx="81439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4440" y="4140720"/>
            <a:ext cx="81439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D30AB-502B-48FD-968C-0CC58E803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14440" y="1609200"/>
            <a:ext cx="3974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87560" y="1609200"/>
            <a:ext cx="3974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14440" y="4140720"/>
            <a:ext cx="3974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87560" y="4140720"/>
            <a:ext cx="3974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D6E5D-B94E-49E9-AF24-2FDB06744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14440" y="1609200"/>
            <a:ext cx="262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68080" y="1609200"/>
            <a:ext cx="262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9200"/>
            <a:ext cx="262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14440" y="4140720"/>
            <a:ext cx="262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68080" y="4140720"/>
            <a:ext cx="262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4140720"/>
            <a:ext cx="262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E3FA0-6454-4C86-BEBF-30F407E2F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725C8-F1B9-4876-A138-FDFA94C3F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634A-6FB6-4255-A31C-3A76B7366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14440" y="1609200"/>
            <a:ext cx="814392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AC421-981E-4E25-9736-FE569384C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14440" y="1609200"/>
            <a:ext cx="81439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3775F-706F-4BED-B116-44E403A4F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14440" y="1609200"/>
            <a:ext cx="39740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87560" y="1609200"/>
            <a:ext cx="39740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C3D55-EEB8-476C-A1B0-4C1183A3F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983E9-1DC9-4A26-8613-86680B094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14440" y="320400"/>
            <a:ext cx="8143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98F1E-A57B-4F2A-8977-9A5E15FB6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14440" y="1609200"/>
            <a:ext cx="3974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7560" y="1609200"/>
            <a:ext cx="39740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14440" y="4140720"/>
            <a:ext cx="3974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D1359-7B3D-4A40-9688-4D43A1EF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14440" y="1609200"/>
            <a:ext cx="39740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87560" y="1609200"/>
            <a:ext cx="3974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87560" y="4140720"/>
            <a:ext cx="3974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795B9-8593-41ED-BFD9-96ABF0A1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14440" y="1609200"/>
            <a:ext cx="3974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87560" y="1609200"/>
            <a:ext cx="3974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14440" y="4140720"/>
            <a:ext cx="81439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83724-6A9E-4A2B-B368-0428A1CF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14440" y="1609200"/>
            <a:ext cx="81439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4440" y="4140720"/>
            <a:ext cx="81439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12B04-52C7-4160-B9B7-650720E37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14440" y="1609200"/>
            <a:ext cx="3974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87560" y="1609200"/>
            <a:ext cx="3974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14440" y="4140720"/>
            <a:ext cx="3974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87560" y="4140720"/>
            <a:ext cx="3974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418CB-40CD-4B9C-B500-49AA690A0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14440" y="320400"/>
            <a:ext cx="8143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72CF-8732-4E91-B8C6-DF87BBEF9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14440" y="1609200"/>
            <a:ext cx="262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68080" y="1609200"/>
            <a:ext cx="262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9200"/>
            <a:ext cx="262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14440" y="4140720"/>
            <a:ext cx="262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68080" y="4140720"/>
            <a:ext cx="262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140720"/>
            <a:ext cx="262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F522A-ED8B-4D81-926A-3373A5EB3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14440" y="1609200"/>
            <a:ext cx="3974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609200"/>
            <a:ext cx="39740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4440" y="4140720"/>
            <a:ext cx="3974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EFC9-A68E-4BD2-82AA-EA41C1B8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14440" y="1609200"/>
            <a:ext cx="39740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609200"/>
            <a:ext cx="3974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4140720"/>
            <a:ext cx="3974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BD07-D87D-4898-9F3C-81A4DB50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14440" y="1609200"/>
            <a:ext cx="3974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609200"/>
            <a:ext cx="3974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4440" y="4140720"/>
            <a:ext cx="81439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6E64-6B37-4B90-9A9E-5091B5F8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9167760" y="-6480"/>
            <a:ext cx="1128600" cy="6870960"/>
            <a:chOff x="9167760" y="-6480"/>
            <a:chExt cx="112860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9167760" y="-6480"/>
              <a:ext cx="112860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9172440" y="0"/>
              <a:ext cx="11145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14440" y="1609200"/>
            <a:ext cx="81439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76480" y="6558120"/>
            <a:ext cx="225252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b05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2E937-C848-4E85-9090-AFC27870AAD6}" type="datetime">
              <a:rPr b="0" lang="ru-RU" sz="1000" spc="-1" strike="noStrike">
                <a:solidFill>
                  <a:srgbClr val="00b050"/>
                </a:solidFill>
                <a:latin typeface="Trebuchet MS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514440" y="6557760"/>
            <a:ext cx="4114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032240" y="6555960"/>
            <a:ext cx="6620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b05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DBD38-F3F7-4BE9-AB7F-1F567220B241}" type="slidenum">
              <a:rPr b="0" lang="ru-RU" sz="1100" spc="-1" strike="noStrike">
                <a:solidFill>
                  <a:srgbClr val="00b050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992320" y="-6480"/>
            <a:ext cx="7304040" cy="6870960"/>
            <a:chOff x="2992320" y="-6480"/>
            <a:chExt cx="730404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992320" y="-6480"/>
              <a:ext cx="730404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3000240" y="0"/>
              <a:ext cx="72867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300024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514440" y="1609200"/>
            <a:ext cx="81439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605280" y="6558120"/>
            <a:ext cx="225252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BBFFE-3565-4FF9-9860-322C6592BB31}" type="datetime">
              <a:rPr b="0" lang="ru-RU" sz="1000" spc="-1" strike="noStrike">
                <a:solidFill>
                  <a:srgbClr val="ffffff"/>
                </a:solidFill>
                <a:latin typeface="Trebuchet MS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71960" y="6557760"/>
            <a:ext cx="3294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865720" y="6555960"/>
            <a:ext cx="6620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B8709-5ADA-46D3-8EAC-6C54469C7172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9167760" y="-6480"/>
            <a:ext cx="1128600" cy="6870960"/>
            <a:chOff x="9167760" y="-6480"/>
            <a:chExt cx="112860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9167760" y="-6480"/>
              <a:ext cx="112860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9172440" y="0"/>
              <a:ext cx="11145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514440" y="1609200"/>
            <a:ext cx="81439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314680" y="6555960"/>
            <a:ext cx="225252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b05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F76D6-0D55-4BDE-81C3-D5C1926A8BA9}" type="datetime">
              <a:rPr b="0" lang="ru-RU" sz="1000" spc="-1" strike="noStrike">
                <a:solidFill>
                  <a:srgbClr val="00b050"/>
                </a:solidFill>
                <a:latin typeface="Trebuchet MS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952280" y="6555960"/>
            <a:ext cx="3257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75120" y="6554520"/>
            <a:ext cx="6620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b05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84F11-79E5-4A52-887B-F34DAAE46AA4}" type="slidenum">
              <a:rPr b="0" lang="ru-RU" sz="1100" spc="-1" strike="noStrike">
                <a:solidFill>
                  <a:srgbClr val="00b050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672840" y="1004400"/>
            <a:ext cx="485928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671400" y="998280"/>
            <a:ext cx="485928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514440" y="1609200"/>
            <a:ext cx="81439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776480" y="6558120"/>
            <a:ext cx="225252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947B2-ABE2-4CDA-8690-D24F88F6EE33}" type="datetime">
              <a:rPr b="0" lang="ru-RU" sz="1000" spc="-1" strike="noStrike">
                <a:solidFill>
                  <a:srgbClr val="f4e7ed"/>
                </a:solidFill>
                <a:latin typeface="Trebuchet MS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514440" y="6557760"/>
            <a:ext cx="4114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7032240" y="6555960"/>
            <a:ext cx="6620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FB517-ACE5-4EBA-AD23-82627562E04E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9167760" y="-6480"/>
            <a:ext cx="1128600" cy="6870960"/>
            <a:chOff x="9167760" y="-6480"/>
            <a:chExt cx="112860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9167760" y="-6480"/>
              <a:ext cx="112860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9172440" y="0"/>
              <a:ext cx="11145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14440" y="1609200"/>
            <a:ext cx="81439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773240" y="6558120"/>
            <a:ext cx="225252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b05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AC634-1633-47E2-BA72-D52EED22A6B4}" type="datetime">
              <a:rPr b="0" lang="ru-RU" sz="1000" spc="-1" strike="noStrike">
                <a:solidFill>
                  <a:srgbClr val="00b050"/>
                </a:solidFill>
                <a:latin typeface="Trebuchet MS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514440" y="6555960"/>
            <a:ext cx="4114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7035480" y="6552720"/>
            <a:ext cx="6620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b05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68A4A-A209-4843-8A85-426852045E62}" type="slidenum">
              <a:rPr b="0" lang="ru-RU" sz="1100" spc="-1" strike="noStrike">
                <a:solidFill>
                  <a:srgbClr val="00b050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1"/>
          <p:cNvSpPr/>
          <p:nvPr/>
        </p:nvSpPr>
        <p:spPr>
          <a:xfrm>
            <a:off x="500040" y="1357200"/>
            <a:ext cx="8572680" cy="3245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996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Trebuchet MS"/>
              </a:rPr>
              <a:t>«Использование ИК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Trebuchet MS"/>
              </a:rPr>
              <a:t>в образовательном</a:t>
            </a:r>
            <a:r>
              <a:rPr b="1" lang="en-US" sz="5400" spc="-1" strike="noStrike">
                <a:solidFill>
                  <a:srgbClr val="008000"/>
                </a:solidFill>
                <a:latin typeface="Trebuchet MS"/>
              </a:rPr>
              <a:t> </a:t>
            </a:r>
            <a:r>
              <a:rPr b="1" lang="ru-RU" sz="5400" spc="-1" strike="noStrike">
                <a:solidFill>
                  <a:srgbClr val="008000"/>
                </a:solidFill>
                <a:latin typeface="Trebuchet MS"/>
              </a:rPr>
              <a:t> процессе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rebuchet MS"/>
              </a:rPr>
              <a:t>(из опыта рабо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4"/>
          <p:cNvSpPr/>
          <p:nvPr/>
        </p:nvSpPr>
        <p:spPr>
          <a:xfrm>
            <a:off x="2214720" y="5143680"/>
            <a:ext cx="681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Подготовила: </a:t>
            </a:r>
            <a:r>
              <a:rPr b="0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Воспитатель МБДОУ д/с № 26 </a:t>
            </a:r>
            <a:r>
              <a:rPr b="0" lang="ru-RU" sz="2400" spc="-1" strike="noStrike">
                <a:solidFill>
                  <a:srgbClr val="00843c"/>
                </a:solidFill>
                <a:latin typeface="Times New Roman"/>
                <a:ea typeface="Times New Roman"/>
              </a:rPr>
              <a:t>Утробина Татьяна Никола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1" descr="D:\Таня\Д.сад\26\26\2017\Методобъединение\image 4.jpg"/>
          <p:cNvPicPr/>
          <p:nvPr/>
        </p:nvPicPr>
        <p:blipFill>
          <a:blip r:embed="rId1"/>
          <a:stretch/>
        </p:blipFill>
        <p:spPr>
          <a:xfrm>
            <a:off x="285840" y="0"/>
            <a:ext cx="2700360" cy="36003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D:\Таня\Д.сад\26\фото\день здоровья\0 049.jpg"/>
          <p:cNvPicPr/>
          <p:nvPr/>
        </p:nvPicPr>
        <p:blipFill>
          <a:blip r:embed="rId2"/>
          <a:stretch/>
        </p:blipFill>
        <p:spPr>
          <a:xfrm>
            <a:off x="5715000" y="3614760"/>
            <a:ext cx="2714760" cy="3243240"/>
          </a:xfrm>
          <a:prstGeom prst="rect">
            <a:avLst/>
          </a:prstGeom>
          <a:ln w="57240">
            <a:solidFill>
              <a:srgbClr val="00843c"/>
            </a:solidFill>
            <a:miter/>
          </a:ln>
        </p:spPr>
      </p:pic>
      <p:pic>
        <p:nvPicPr>
          <p:cNvPr id="261" name="Picture 3" descr="D:\Таня\Д.сад\26\фото\Колядки\0 069.jpg"/>
          <p:cNvPicPr/>
          <p:nvPr/>
        </p:nvPicPr>
        <p:blipFill>
          <a:blip r:embed="rId3"/>
          <a:stretch/>
        </p:blipFill>
        <p:spPr>
          <a:xfrm>
            <a:off x="785880" y="3749760"/>
            <a:ext cx="4143240" cy="31082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" descr="D:\Таня\Д.сад\26\фото\лето 2017\0 216.jpg"/>
          <p:cNvPicPr/>
          <p:nvPr/>
        </p:nvPicPr>
        <p:blipFill>
          <a:blip r:embed="rId4"/>
          <a:stretch/>
        </p:blipFill>
        <p:spPr>
          <a:xfrm>
            <a:off x="4000680" y="0"/>
            <a:ext cx="4714560" cy="3537000"/>
          </a:xfrm>
          <a:prstGeom prst="rect">
            <a:avLst/>
          </a:prstGeom>
          <a:ln w="0">
            <a:noFill/>
          </a:ln>
        </p:spPr>
      </p:pic>
      <p:sp>
        <p:nvSpPr>
          <p:cNvPr id="263" name="Прямая соединительная линия 6"/>
          <p:cNvSpPr/>
          <p:nvPr/>
        </p:nvSpPr>
        <p:spPr>
          <a:xfrm flipH="1">
            <a:off x="283680" y="1440"/>
            <a:ext cx="1800" cy="357192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ая соединительная линия 12"/>
          <p:cNvSpPr/>
          <p:nvPr/>
        </p:nvSpPr>
        <p:spPr>
          <a:xfrm>
            <a:off x="285840" y="3571920"/>
            <a:ext cx="2714400" cy="144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ая соединительная линия 15"/>
          <p:cNvSpPr/>
          <p:nvPr/>
        </p:nvSpPr>
        <p:spPr>
          <a:xfrm flipV="1">
            <a:off x="3000240" y="1440"/>
            <a:ext cx="0" cy="357048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ая соединительная линия 17"/>
          <p:cNvSpPr/>
          <p:nvPr/>
        </p:nvSpPr>
        <p:spPr>
          <a:xfrm flipH="1" flipV="1">
            <a:off x="285840" y="0"/>
            <a:ext cx="2714400" cy="144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ая соединительная линия 19"/>
          <p:cNvSpPr/>
          <p:nvPr/>
        </p:nvSpPr>
        <p:spPr>
          <a:xfrm flipH="1">
            <a:off x="783720" y="3787920"/>
            <a:ext cx="1800" cy="307152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ая соединительная линия 21"/>
          <p:cNvSpPr/>
          <p:nvPr/>
        </p:nvSpPr>
        <p:spPr>
          <a:xfrm>
            <a:off x="785880" y="3714840"/>
            <a:ext cx="4143240" cy="144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ая соединительная линия 23"/>
          <p:cNvSpPr/>
          <p:nvPr/>
        </p:nvSpPr>
        <p:spPr>
          <a:xfrm flipH="1">
            <a:off x="4927680" y="3716280"/>
            <a:ext cx="1440" cy="314316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ая соединительная линия 25"/>
          <p:cNvSpPr/>
          <p:nvPr/>
        </p:nvSpPr>
        <p:spPr>
          <a:xfrm>
            <a:off x="785880" y="6858000"/>
            <a:ext cx="4143240" cy="144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ая соединительная линия 29"/>
          <p:cNvSpPr/>
          <p:nvPr/>
        </p:nvSpPr>
        <p:spPr>
          <a:xfrm flipH="1">
            <a:off x="3998520" y="1440"/>
            <a:ext cx="1800" cy="357192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ая соединительная линия 31"/>
          <p:cNvSpPr/>
          <p:nvPr/>
        </p:nvSpPr>
        <p:spPr>
          <a:xfrm>
            <a:off x="4000680" y="3571920"/>
            <a:ext cx="4714560" cy="144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ая соединительная линия 33"/>
          <p:cNvSpPr/>
          <p:nvPr/>
        </p:nvSpPr>
        <p:spPr>
          <a:xfrm flipH="1">
            <a:off x="8714880" y="1440"/>
            <a:ext cx="1800" cy="350064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ая соединительная линия 35"/>
          <p:cNvSpPr/>
          <p:nvPr/>
        </p:nvSpPr>
        <p:spPr>
          <a:xfrm>
            <a:off x="4000680" y="0"/>
            <a:ext cx="4714560" cy="144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TextBox 1" descr=""/>
          <p:cNvPicPr/>
          <p:nvPr/>
        </p:nvPicPr>
        <p:blipFill>
          <a:blip r:embed="rId1"/>
          <a:stretch/>
        </p:blipFill>
        <p:spPr>
          <a:xfrm>
            <a:off x="847800" y="2262240"/>
            <a:ext cx="7375320" cy="1004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506520" y="152280"/>
            <a:ext cx="8156520" cy="9273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0" y="107136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3. Требования к развивающей предметно-пространственной среде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ое пространство должно быть оснащено средствами обучения и воспитания (в том числе техническими)… (в соответствии со спецификой Программы).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4. Требования к кадровым условиям реализации Программы.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ификация педагогических и учебно-вспомогательных работников должна соответствовать квалификационным характеристикам, установленным в Едином квалификационном справочнике должностей руководителей, специалистов и служащих, раздел "Квалификационные характеристики должностей работников образования»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Adobe Heiti Std R"/>
              </a:rPr>
              <a:t>«Должен знать: … основы работы с текстовыми редакторами, электронными таблицами, электронной почтой и браузерами, мультимедийным оборудованием;…»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Прямоугольник 5"/>
          <p:cNvSpPr/>
          <p:nvPr/>
        </p:nvSpPr>
        <p:spPr>
          <a:xfrm>
            <a:off x="2286000" y="857160"/>
            <a:ext cx="5572080" cy="1071720"/>
          </a:xfrm>
          <a:prstGeom prst="rect">
            <a:avLst/>
          </a:prstGeom>
          <a:solidFill>
            <a:srgbClr val="92d050"/>
          </a:solidFill>
          <a:ln w="39960">
            <a:solidFill>
              <a:srgbClr val="6a98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6"/>
          <p:cNvSpPr/>
          <p:nvPr/>
        </p:nvSpPr>
        <p:spPr>
          <a:xfrm>
            <a:off x="2643120" y="857160"/>
            <a:ext cx="500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И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разовательном проце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7"/>
          <p:cNvSpPr/>
          <p:nvPr/>
        </p:nvSpPr>
        <p:spPr>
          <a:xfrm>
            <a:off x="714240" y="2857680"/>
            <a:ext cx="2714760" cy="1214280"/>
          </a:xfrm>
          <a:prstGeom prst="rect">
            <a:avLst/>
          </a:prstGeom>
          <a:solidFill>
            <a:srgbClr val="92d050"/>
          </a:solidFill>
          <a:ln w="39960">
            <a:solidFill>
              <a:srgbClr val="6a98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8"/>
          <p:cNvSpPr/>
          <p:nvPr/>
        </p:nvSpPr>
        <p:spPr>
          <a:xfrm>
            <a:off x="5286240" y="2928960"/>
            <a:ext cx="3000600" cy="1071720"/>
          </a:xfrm>
          <a:prstGeom prst="rect">
            <a:avLst/>
          </a:prstGeom>
          <a:solidFill>
            <a:srgbClr val="92d050"/>
          </a:solidFill>
          <a:ln w="39960">
            <a:solidFill>
              <a:srgbClr val="6a98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9"/>
          <p:cNvSpPr/>
          <p:nvPr/>
        </p:nvSpPr>
        <p:spPr>
          <a:xfrm>
            <a:off x="3143160" y="4786200"/>
            <a:ext cx="3500640" cy="1357560"/>
          </a:xfrm>
          <a:prstGeom prst="rect">
            <a:avLst/>
          </a:prstGeom>
          <a:solidFill>
            <a:srgbClr val="92d050"/>
          </a:solidFill>
          <a:ln w="39960">
            <a:solidFill>
              <a:srgbClr val="6a98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" name="Прямая со стрелкой 13"/>
          <p:cNvCxnSpPr>
            <a:stCxn id="224" idx="2"/>
            <a:endCxn id="227" idx="0"/>
          </p:cNvCxnSpPr>
          <p:nvPr/>
        </p:nvCxnSpPr>
        <p:spPr>
          <a:xfrm>
            <a:off x="5070960" y="1928880"/>
            <a:ext cx="1715400" cy="100080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230" name="Прямая со стрелкой 15"/>
          <p:cNvCxnSpPr/>
          <p:nvPr/>
        </p:nvCxnSpPr>
        <p:spPr>
          <a:xfrm flipH="1">
            <a:off x="4714560" y="1928520"/>
            <a:ext cx="2160" cy="285804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arrow" w="med"/>
          </a:ln>
        </p:spPr>
      </p:cxnSp>
      <p:sp>
        <p:nvSpPr>
          <p:cNvPr id="231" name="TextBox 16"/>
          <p:cNvSpPr/>
          <p:nvPr/>
        </p:nvSpPr>
        <p:spPr>
          <a:xfrm>
            <a:off x="928800" y="3071880"/>
            <a:ext cx="22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КТ в работе ДО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7"/>
          <p:cNvSpPr/>
          <p:nvPr/>
        </p:nvSpPr>
        <p:spPr>
          <a:xfrm>
            <a:off x="5500800" y="3000240"/>
            <a:ext cx="25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КТ в работе с деть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8"/>
          <p:cNvSpPr/>
          <p:nvPr/>
        </p:nvSpPr>
        <p:spPr>
          <a:xfrm>
            <a:off x="3571920" y="4929120"/>
            <a:ext cx="257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КТ в работе с родител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4" name="Прямая со стрелкой 20"/>
          <p:cNvCxnSpPr/>
          <p:nvPr/>
        </p:nvCxnSpPr>
        <p:spPr>
          <a:xfrm flipH="1">
            <a:off x="2356560" y="1928880"/>
            <a:ext cx="2001240" cy="92952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arrow" w="med"/>
          </a:ln>
        </p:spPr>
      </p:cxn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"/>
          <p:cNvPicPr/>
          <p:nvPr/>
        </p:nvPicPr>
        <p:blipFill>
          <a:blip r:embed="rId1"/>
          <a:srcRect l="0" t="5632" r="0" b="14084"/>
          <a:stretch/>
        </p:blipFill>
        <p:spPr>
          <a:xfrm>
            <a:off x="642960" y="0"/>
            <a:ext cx="5116320" cy="32860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"/>
          <p:cNvPicPr/>
          <p:nvPr/>
        </p:nvPicPr>
        <p:blipFill>
          <a:blip r:embed="rId2"/>
          <a:srcRect l="3426" t="6427" r="4073" b="1499"/>
          <a:stretch/>
        </p:blipFill>
        <p:spPr>
          <a:xfrm>
            <a:off x="4214880" y="3444840"/>
            <a:ext cx="4286160" cy="3413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C:\Documents and Settings\Таня\Рабочий стол\Методобъединение\image (1).jpg"/>
          <p:cNvPicPr/>
          <p:nvPr/>
        </p:nvPicPr>
        <p:blipFill>
          <a:blip r:embed="rId1"/>
          <a:stretch/>
        </p:blipFill>
        <p:spPr>
          <a:xfrm>
            <a:off x="0" y="0"/>
            <a:ext cx="4429080" cy="32702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"/>
          <p:cNvPicPr/>
          <p:nvPr/>
        </p:nvPicPr>
        <p:blipFill>
          <a:blip r:embed="rId2"/>
          <a:stretch/>
        </p:blipFill>
        <p:spPr>
          <a:xfrm>
            <a:off x="4857840" y="2571840"/>
            <a:ext cx="4214880" cy="337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8" descr="D:\Таня\Д.сад\26\фото\конференции\Птицы\0 173.jpg"/>
          <p:cNvPicPr/>
          <p:nvPr/>
        </p:nvPicPr>
        <p:blipFill>
          <a:blip r:embed="rId1"/>
          <a:stretch/>
        </p:blipFill>
        <p:spPr>
          <a:xfrm>
            <a:off x="428760" y="928800"/>
            <a:ext cx="3286080" cy="46209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9" descr="D:\Таня\Д.сад\26\фото\конференции\Птицы\0 183.jpg"/>
          <p:cNvPicPr/>
          <p:nvPr/>
        </p:nvPicPr>
        <p:blipFill>
          <a:blip r:embed="rId2"/>
          <a:stretch/>
        </p:blipFill>
        <p:spPr>
          <a:xfrm>
            <a:off x="5143680" y="936720"/>
            <a:ext cx="3429000" cy="4448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D:\Таня\Д.сад\26\фото\дипломы\0 009.jpg"/>
          <p:cNvPicPr/>
          <p:nvPr/>
        </p:nvPicPr>
        <p:blipFill>
          <a:blip r:embed="rId1"/>
          <a:srcRect l="12581" t="5660" r="6937" b="5660"/>
          <a:stretch/>
        </p:blipFill>
        <p:spPr>
          <a:xfrm>
            <a:off x="357120" y="214200"/>
            <a:ext cx="2286000" cy="33577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7" descr="D:\Таня\Д.сад\26\фото\лето 2017\0 003.jpg"/>
          <p:cNvPicPr/>
          <p:nvPr/>
        </p:nvPicPr>
        <p:blipFill>
          <a:blip r:embed="rId2"/>
          <a:srcRect l="0" t="0" r="7688" b="8926"/>
          <a:stretch/>
        </p:blipFill>
        <p:spPr>
          <a:xfrm>
            <a:off x="3000240" y="2857680"/>
            <a:ext cx="2571840" cy="36432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0" descr="D:\Таня\Д.сад\26\фото\лето 2017\0 017.jpg"/>
          <p:cNvPicPr/>
          <p:nvPr/>
        </p:nvPicPr>
        <p:blipFill>
          <a:blip r:embed="rId3"/>
          <a:srcRect l="0" t="7199" r="19512" b="0"/>
          <a:stretch/>
        </p:blipFill>
        <p:spPr>
          <a:xfrm>
            <a:off x="6072120" y="357120"/>
            <a:ext cx="2357640" cy="362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214880" cy="33717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D:\Таня\Д.сад\26\фото\конференции\Космос\0 257.jpg"/>
          <p:cNvPicPr/>
          <p:nvPr/>
        </p:nvPicPr>
        <p:blipFill>
          <a:blip r:embed="rId2"/>
          <a:stretch/>
        </p:blipFill>
        <p:spPr>
          <a:xfrm>
            <a:off x="4500720" y="0"/>
            <a:ext cx="4419360" cy="3314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D:\Таня\Д.сад\26\фото\конференции\Космос\0 254.jpg"/>
          <p:cNvPicPr/>
          <p:nvPr/>
        </p:nvPicPr>
        <p:blipFill>
          <a:blip r:embed="rId3"/>
          <a:srcRect l="0" t="6662" r="26667" b="0"/>
          <a:stretch/>
        </p:blipFill>
        <p:spPr>
          <a:xfrm>
            <a:off x="3000240" y="3429000"/>
            <a:ext cx="3357720" cy="3205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9" descr="C:\Documents and Settings\Таня\Рабочий стол\Методобъединение\image.jpg"/>
          <p:cNvPicPr/>
          <p:nvPr/>
        </p:nvPicPr>
        <p:blipFill>
          <a:blip r:embed="rId1"/>
          <a:srcRect l="0" t="5228" r="5552" b="0"/>
          <a:stretch/>
        </p:blipFill>
        <p:spPr>
          <a:xfrm>
            <a:off x="5143680" y="785880"/>
            <a:ext cx="3643200" cy="51800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" descr="C:\Documents and Settings\Таня\Рабочий стол\Методобъединение\image (2).jpg"/>
          <p:cNvPicPr/>
          <p:nvPr/>
        </p:nvPicPr>
        <p:blipFill>
          <a:blip r:embed="rId2"/>
          <a:stretch/>
        </p:blipFill>
        <p:spPr>
          <a:xfrm>
            <a:off x="0" y="0"/>
            <a:ext cx="4714920" cy="3257640"/>
          </a:xfrm>
          <a:prstGeom prst="rect">
            <a:avLst/>
          </a:prstGeom>
          <a:ln w="0">
            <a:noFill/>
          </a:ln>
        </p:spPr>
      </p:pic>
      <p:sp>
        <p:nvSpPr>
          <p:cNvPr id="249" name="Прямая соединительная линия 5"/>
          <p:cNvSpPr/>
          <p:nvPr/>
        </p:nvSpPr>
        <p:spPr>
          <a:xfrm>
            <a:off x="5143680" y="785880"/>
            <a:ext cx="3857400" cy="1440"/>
          </a:xfrm>
          <a:prstGeom prst="line">
            <a:avLst/>
          </a:prstGeom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ая соединительная линия 7"/>
          <p:cNvSpPr/>
          <p:nvPr/>
        </p:nvSpPr>
        <p:spPr>
          <a:xfrm>
            <a:off x="9001080" y="785880"/>
            <a:ext cx="0" cy="5073480"/>
          </a:xfrm>
          <a:prstGeom prst="line">
            <a:avLst/>
          </a:prstGeom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ая соединительная линия 9"/>
          <p:cNvSpPr/>
          <p:nvPr/>
        </p:nvSpPr>
        <p:spPr>
          <a:xfrm flipH="1" flipV="1">
            <a:off x="5143320" y="5857920"/>
            <a:ext cx="3857400" cy="1440"/>
          </a:xfrm>
          <a:prstGeom prst="line">
            <a:avLst/>
          </a:prstGeom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ая соединительная линия 11"/>
          <p:cNvSpPr/>
          <p:nvPr/>
        </p:nvSpPr>
        <p:spPr>
          <a:xfrm flipH="1">
            <a:off x="5141520" y="785880"/>
            <a:ext cx="1800" cy="5073480"/>
          </a:xfrm>
          <a:prstGeom prst="line">
            <a:avLst/>
          </a:prstGeom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ая соединительная линия 13"/>
          <p:cNvSpPr/>
          <p:nvPr/>
        </p:nvSpPr>
        <p:spPr>
          <a:xfrm flipH="1">
            <a:off x="0" y="3429000"/>
            <a:ext cx="1440" cy="3429000"/>
          </a:xfrm>
          <a:prstGeom prst="line">
            <a:avLst/>
          </a:prstGeom>
          <a:ln w="38160">
            <a:solidFill>
              <a:srgbClr val="df93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ая соединительная линия 15"/>
          <p:cNvSpPr/>
          <p:nvPr/>
        </p:nvSpPr>
        <p:spPr>
          <a:xfrm flipH="1">
            <a:off x="4714920" y="3429000"/>
            <a:ext cx="1440" cy="3429000"/>
          </a:xfrm>
          <a:prstGeom prst="line">
            <a:avLst/>
          </a:prstGeom>
          <a:ln w="76320">
            <a:solidFill>
              <a:srgbClr val="df93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1" descr=""/>
          <p:cNvPicPr/>
          <p:nvPr/>
        </p:nvPicPr>
        <p:blipFill>
          <a:blip r:embed="rId3"/>
          <a:srcRect l="0" t="0" r="0" b="-420"/>
          <a:stretch/>
        </p:blipFill>
        <p:spPr>
          <a:xfrm>
            <a:off x="0" y="3497400"/>
            <a:ext cx="4643280" cy="3360600"/>
          </a:xfrm>
          <a:prstGeom prst="rect">
            <a:avLst/>
          </a:prstGeom>
          <a:ln w="0">
            <a:noFill/>
          </a:ln>
        </p:spPr>
      </p:pic>
      <p:sp>
        <p:nvSpPr>
          <p:cNvPr id="256" name="Прямая соединительная линия 14"/>
          <p:cNvSpPr/>
          <p:nvPr/>
        </p:nvSpPr>
        <p:spPr>
          <a:xfrm>
            <a:off x="0" y="3429000"/>
            <a:ext cx="4714920" cy="1440"/>
          </a:xfrm>
          <a:prstGeom prst="line">
            <a:avLst/>
          </a:prstGeom>
          <a:ln w="76320">
            <a:solidFill>
              <a:srgbClr val="df93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 flipH="1">
            <a:off x="4714920" y="0"/>
            <a:ext cx="1440" cy="3286080"/>
          </a:xfrm>
          <a:prstGeom prst="line">
            <a:avLst/>
          </a:prstGeom>
          <a:ln w="57240">
            <a:solidFill>
              <a:srgbClr val="df93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9"/>
          <p:cNvSpPr/>
          <p:nvPr/>
        </p:nvSpPr>
        <p:spPr>
          <a:xfrm>
            <a:off x="0" y="3286080"/>
            <a:ext cx="4714920" cy="1800"/>
          </a:xfrm>
          <a:prstGeom prst="line">
            <a:avLst/>
          </a:prstGeom>
          <a:ln w="57240">
            <a:solidFill>
              <a:srgbClr val="df93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7T16:36:48Z</dcterms:created>
  <dc:creator/>
  <dc:description/>
  <dc:language>en-US</dc:language>
  <cp:lastModifiedBy/>
  <dcterms:modified xsi:type="dcterms:W3CDTF">2019-02-24T17:54:12Z</dcterms:modified>
  <cp:revision>1</cp:revision>
  <dc:subject/>
  <dc:title>Русская-изб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Русская-изба</vt:lpwstr>
  </property>
  <property fmtid="{D5CDD505-2E9C-101B-9397-08002B2CF9AE}" pid="3" name="SlideDescription">
    <vt:lpwstr/>
  </property>
  <property fmtid="{D5CDD505-2E9C-101B-9397-08002B2CF9AE}" pid="4" name="_TemplateID">
    <vt:lpwstr>TC034888359991</vt:lpwstr>
  </property>
</Properties>
</file>