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4.jpeg" ContentType="image/jpeg"/>
  <Override PartName="/ppt/media/image25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24.jpeg" ContentType="image/jpeg"/>
  <Override PartName="/ppt/media/image15.png" ContentType="image/png"/>
  <Override PartName="/ppt/media/image14.jpeg" ContentType="image/jpeg"/>
  <Override PartName="/ppt/media/image1.png" ContentType="image/png"/>
  <Override PartName="/ppt/media/image3.png" ContentType="image/png"/>
  <Override PartName="/ppt/media/image1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3450-6F3F-4367-A661-909A58F10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32040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1609200"/>
            <a:ext cx="81439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440" y="4140720"/>
            <a:ext cx="81439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845F-1192-4CB6-9FCE-1BDF45FE3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14440" y="32040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14440" y="1609200"/>
            <a:ext cx="3974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7560" y="1609200"/>
            <a:ext cx="3974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14440" y="4140720"/>
            <a:ext cx="3974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7560" y="4140720"/>
            <a:ext cx="3974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698D-6990-4C00-ABA0-4AB43BA38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14440" y="32040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14440" y="1609200"/>
            <a:ext cx="2622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8080" y="1609200"/>
            <a:ext cx="2622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9200"/>
            <a:ext cx="2622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4440" y="4140720"/>
            <a:ext cx="2622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8080" y="4140720"/>
            <a:ext cx="2622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140720"/>
            <a:ext cx="2622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8CC4-BE9B-44CD-92F9-BFFD4D523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1C57B-0D77-4F3A-89D4-721768F87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14440" y="32040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14440" y="1609200"/>
            <a:ext cx="814392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9E6CC-8662-4D02-985B-A76D241CB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14440" y="32040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14440" y="1609200"/>
            <a:ext cx="81439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8FBFC-F3E1-442C-9FC3-D6006B8F6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14440" y="32040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14440" y="1609200"/>
            <a:ext cx="39740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7560" y="1609200"/>
            <a:ext cx="39740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BB34F-DDDA-4A54-B104-FFB2AFEB0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14440" y="32040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2657D-C743-4196-BAD8-6071E3C49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14440" y="320400"/>
            <a:ext cx="8143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E4D35-9C86-4A69-8DED-CF30D861E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14440" y="32040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14440" y="1609200"/>
            <a:ext cx="3974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7560" y="1609200"/>
            <a:ext cx="39740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4440" y="4140720"/>
            <a:ext cx="3974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6CD75-38F2-49BB-93DA-068EF719A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14440" y="32040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14440" y="1609200"/>
            <a:ext cx="814392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9A2B-E452-4A70-8917-30544AEB6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14440" y="32040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14440" y="1609200"/>
            <a:ext cx="39740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7560" y="1609200"/>
            <a:ext cx="3974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87560" y="4140720"/>
            <a:ext cx="3974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AFC46-A23F-43BC-AB49-56F5CC386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14440" y="32040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14440" y="1609200"/>
            <a:ext cx="3974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7560" y="1609200"/>
            <a:ext cx="3974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14440" y="4140720"/>
            <a:ext cx="81439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89372-0ADD-4419-ACF0-5BE8787D3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14440" y="32040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14440" y="1609200"/>
            <a:ext cx="81439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4440" y="4140720"/>
            <a:ext cx="81439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60DF5-9C11-4B4A-A528-36E11C447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32040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14440" y="1609200"/>
            <a:ext cx="3974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7560" y="1609200"/>
            <a:ext cx="3974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4440" y="4140720"/>
            <a:ext cx="3974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87560" y="4140720"/>
            <a:ext cx="3974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0C34C-7084-42C6-BFD9-67CA553AA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32040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14440" y="1609200"/>
            <a:ext cx="2622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68080" y="1609200"/>
            <a:ext cx="2622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9200"/>
            <a:ext cx="2622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14440" y="4140720"/>
            <a:ext cx="2622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68080" y="4140720"/>
            <a:ext cx="2622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140720"/>
            <a:ext cx="2622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FE8ED-B0FD-4A5D-A8C9-96B76D30F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78A75-1D31-4F7B-A045-66B8433BB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14440" y="32040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514440" y="1609200"/>
            <a:ext cx="814392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FBAA3-2D7D-444C-A9FB-8561F7EAD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32040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14440" y="1609200"/>
            <a:ext cx="81439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DA64C-AA3F-4FDE-928C-93BA2B919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14440" y="32040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14440" y="1609200"/>
            <a:ext cx="39740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7560" y="1609200"/>
            <a:ext cx="39740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A8FA5-9BEF-4253-9A9F-93BAC7F24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32040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2A4E1-725F-42C9-AC8C-9318104BA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14440" y="32040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14440" y="1609200"/>
            <a:ext cx="81439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0918-96B2-4AF4-8340-906F2D061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514440" y="320400"/>
            <a:ext cx="8143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3D825-369D-497B-ADEF-A3D84DF27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14440" y="32040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14440" y="1609200"/>
            <a:ext cx="3974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7560" y="1609200"/>
            <a:ext cx="39740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14440" y="4140720"/>
            <a:ext cx="3974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A595A-9D35-4B89-8E86-2AEDBC12A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14440" y="32040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14440" y="1609200"/>
            <a:ext cx="39740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7560" y="1609200"/>
            <a:ext cx="3974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87560" y="4140720"/>
            <a:ext cx="3974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1211E-A05A-4183-8E0F-1BEFDA340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14440" y="32040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14440" y="1609200"/>
            <a:ext cx="3974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87560" y="1609200"/>
            <a:ext cx="3974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14440" y="4140720"/>
            <a:ext cx="81439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984B1-CBC7-4BCE-99D5-0BC7CA423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14440" y="32040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14440" y="1609200"/>
            <a:ext cx="81439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4440" y="4140720"/>
            <a:ext cx="81439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E2F1A-E293-4B94-AA34-BD2E8E7CB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14440" y="32040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14440" y="1609200"/>
            <a:ext cx="3974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87560" y="1609200"/>
            <a:ext cx="3974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14440" y="4140720"/>
            <a:ext cx="3974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87560" y="4140720"/>
            <a:ext cx="3974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26322-F631-4227-A068-DAB6FACFE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14440" y="32040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14440" y="1609200"/>
            <a:ext cx="2622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68080" y="1609200"/>
            <a:ext cx="2622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9200"/>
            <a:ext cx="2622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514440" y="4140720"/>
            <a:ext cx="2622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68080" y="4140720"/>
            <a:ext cx="2622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140720"/>
            <a:ext cx="2622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E4072-C0EF-4B36-A9B7-CE7B38634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713A2-9B8E-4A82-9790-632B2E64B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14440" y="32040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514440" y="1609200"/>
            <a:ext cx="814392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63AF2-3FA5-46BD-98C4-BDECFBCF4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14440" y="32040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14440" y="1609200"/>
            <a:ext cx="81439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A7E85-B6C0-4DEB-83FD-E3A93A98F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32040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14440" y="1609200"/>
            <a:ext cx="39740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7560" y="1609200"/>
            <a:ext cx="39740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8DE6-2A7D-4B73-82FA-CA9D8C313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14440" y="32040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14440" y="1609200"/>
            <a:ext cx="39740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7560" y="1609200"/>
            <a:ext cx="39740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7EB43-9D39-4682-9112-B541890CD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14440" y="32040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C2A15-34B9-4285-B53F-B7FAC83B3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514440" y="320400"/>
            <a:ext cx="8143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0099F-3D51-4694-8582-C83D23B61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14440" y="32040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14440" y="1609200"/>
            <a:ext cx="3974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87560" y="1609200"/>
            <a:ext cx="39740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14440" y="4140720"/>
            <a:ext cx="3974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8E301-2D7A-4F69-82C5-A7EF208A0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14440" y="32040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14440" y="1609200"/>
            <a:ext cx="39740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87560" y="1609200"/>
            <a:ext cx="3974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87560" y="4140720"/>
            <a:ext cx="3974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62491-EAB9-42B6-9E47-94B1D1747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14440" y="32040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14440" y="1609200"/>
            <a:ext cx="3974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87560" y="1609200"/>
            <a:ext cx="3974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14440" y="4140720"/>
            <a:ext cx="81439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6333C-0A39-4CF3-ADB7-3F5FE2894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14440" y="32040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14440" y="1609200"/>
            <a:ext cx="81439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4440" y="4140720"/>
            <a:ext cx="81439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75823-6523-4578-8504-D372E6635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14440" y="32040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14440" y="1609200"/>
            <a:ext cx="3974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87560" y="1609200"/>
            <a:ext cx="3974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14440" y="4140720"/>
            <a:ext cx="3974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87560" y="4140720"/>
            <a:ext cx="3974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E66FC-DD24-4988-936C-66E3A95EA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14440" y="32040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14440" y="1609200"/>
            <a:ext cx="2622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68080" y="1609200"/>
            <a:ext cx="2622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9200"/>
            <a:ext cx="2622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514440" y="4140720"/>
            <a:ext cx="2622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68080" y="4140720"/>
            <a:ext cx="2622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4140720"/>
            <a:ext cx="2622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363FA-C51E-4A90-944A-92B5B8CD1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01BDAB-AA62-42B8-AB92-51FEBC196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4440" y="32040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E9E8-D440-4820-93DF-5D443F755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14440" y="32040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14440" y="1609200"/>
            <a:ext cx="814392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408093-684D-4600-8079-4B34FFDAD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14440" y="32040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14440" y="1609200"/>
            <a:ext cx="81439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2F04F7-5DA4-499C-9DD2-1722EDE49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14440" y="32040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14440" y="1609200"/>
            <a:ext cx="39740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87560" y="1609200"/>
            <a:ext cx="39740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248C9-8033-42C1-9288-179808B9B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14440" y="32040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323C48-C3A3-4D21-AE1A-05434BBF7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14440" y="320400"/>
            <a:ext cx="8143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91F6A7-F40D-4342-BC70-B0435F850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14440" y="32040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14440" y="1609200"/>
            <a:ext cx="3974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87560" y="1609200"/>
            <a:ext cx="39740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14440" y="4140720"/>
            <a:ext cx="3974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A689AB-F8E2-4A5F-A337-F6147324D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14440" y="32040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14440" y="1609200"/>
            <a:ext cx="39740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87560" y="1609200"/>
            <a:ext cx="3974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87560" y="4140720"/>
            <a:ext cx="3974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B9516E-F840-45B9-9121-8C715F47F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14440" y="32040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14440" y="1609200"/>
            <a:ext cx="3974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87560" y="1609200"/>
            <a:ext cx="3974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14440" y="4140720"/>
            <a:ext cx="81439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F561CF-03C7-4646-A68C-FBD49A43F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14440" y="32040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14440" y="1609200"/>
            <a:ext cx="81439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4440" y="4140720"/>
            <a:ext cx="81439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0F656C-8410-4167-81A1-D7741B8C1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14440" y="32040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14440" y="1609200"/>
            <a:ext cx="3974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87560" y="1609200"/>
            <a:ext cx="3974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14440" y="4140720"/>
            <a:ext cx="3974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87560" y="4140720"/>
            <a:ext cx="3974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FFA366-9491-4610-A1DC-B79135B70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14440" y="320400"/>
            <a:ext cx="8143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C78F-0ACD-4F63-99AD-B44CA7D87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14440" y="32040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14440" y="1609200"/>
            <a:ext cx="2622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68080" y="1609200"/>
            <a:ext cx="2622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9200"/>
            <a:ext cx="2622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14440" y="4140720"/>
            <a:ext cx="2622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68080" y="4140720"/>
            <a:ext cx="2622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140720"/>
            <a:ext cx="2622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DF9763-B614-4A8B-A69C-E3479B347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14440" y="32040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14440" y="1609200"/>
            <a:ext cx="3974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7560" y="1609200"/>
            <a:ext cx="39740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4440" y="4140720"/>
            <a:ext cx="3974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A18A-F2EC-4738-8B58-8AD74ED88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14440" y="32040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14440" y="1609200"/>
            <a:ext cx="39740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7560" y="1609200"/>
            <a:ext cx="3974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7560" y="4140720"/>
            <a:ext cx="3974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0798-7977-45AB-B752-B122A4DF7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32040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14440" y="1609200"/>
            <a:ext cx="3974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7560" y="1609200"/>
            <a:ext cx="39740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4440" y="4140720"/>
            <a:ext cx="81439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098F-0D98-492D-BEBA-950C1C5D0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9167760" y="-6480"/>
            <a:ext cx="1128600" cy="6870960"/>
            <a:chOff x="9167760" y="-6480"/>
            <a:chExt cx="112860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9167760" y="-6480"/>
              <a:ext cx="112860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9172440" y="0"/>
              <a:ext cx="11145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14440" y="32040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514440" y="1609200"/>
            <a:ext cx="81439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b05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76480" y="6558120"/>
            <a:ext cx="225252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b05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593B7-08D5-431E-917D-AB92280ECE9B}" type="datetime">
              <a:rPr b="0" lang="ru-RU" sz="1000" spc="-1" strike="noStrike">
                <a:solidFill>
                  <a:srgbClr val="00b050"/>
                </a:solidFill>
                <a:latin typeface="Trebuchet MS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514440" y="6557760"/>
            <a:ext cx="4114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032240" y="6555960"/>
            <a:ext cx="6620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b05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C5144-A3DE-484E-A277-DE5575D9D7A1}" type="slidenum">
              <a:rPr b="0" lang="ru-RU" sz="1100" spc="-1" strike="noStrike">
                <a:solidFill>
                  <a:srgbClr val="00b050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992320" y="-6480"/>
            <a:ext cx="7304040" cy="6870960"/>
            <a:chOff x="2992320" y="-6480"/>
            <a:chExt cx="730404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992320" y="-6480"/>
              <a:ext cx="730404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3000240" y="0"/>
              <a:ext cx="72867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300024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14440" y="32040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514440" y="1609200"/>
            <a:ext cx="81439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b05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605280" y="6558120"/>
            <a:ext cx="225252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DFCDC-EBDB-409E-BE11-3D5E63F860E9}" type="datetime">
              <a:rPr b="0" lang="ru-RU" sz="1000" spc="-1" strike="noStrike">
                <a:solidFill>
                  <a:srgbClr val="ffffff"/>
                </a:solidFill>
                <a:latin typeface="Trebuchet MS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71960" y="6557760"/>
            <a:ext cx="3294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865720" y="6555960"/>
            <a:ext cx="6620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BD157-6E10-4DB0-9A2E-711F797F5643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9167760" y="-6480"/>
            <a:ext cx="1128600" cy="6870960"/>
            <a:chOff x="9167760" y="-6480"/>
            <a:chExt cx="112860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9167760" y="-6480"/>
              <a:ext cx="112860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9172440" y="0"/>
              <a:ext cx="11145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32040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514440" y="1609200"/>
            <a:ext cx="81439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b05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314680" y="6555960"/>
            <a:ext cx="225252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b05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35E2D-6774-4619-9D72-088079257DAF}" type="datetime">
              <a:rPr b="0" lang="ru-RU" sz="1000" spc="-1" strike="noStrike">
                <a:solidFill>
                  <a:srgbClr val="00b050"/>
                </a:solidFill>
                <a:latin typeface="Trebuchet MS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952280" y="6555960"/>
            <a:ext cx="32576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75120" y="6554520"/>
            <a:ext cx="6620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b05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A6982-418A-4378-8C3C-97FF090721C1}" type="slidenum">
              <a:rPr b="0" lang="ru-RU" sz="1100" spc="-1" strike="noStrike">
                <a:solidFill>
                  <a:srgbClr val="00b050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672840" y="1004400"/>
            <a:ext cx="485928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671400" y="998280"/>
            <a:ext cx="485928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14440" y="32040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514440" y="1609200"/>
            <a:ext cx="81439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776480" y="6558120"/>
            <a:ext cx="225252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692B1-2509-4DD5-818F-B5B1532DF798}" type="datetime">
              <a:rPr b="0" lang="ru-RU" sz="1000" spc="-1" strike="noStrike">
                <a:solidFill>
                  <a:srgbClr val="f4e7ed"/>
                </a:solidFill>
                <a:latin typeface="Trebuchet MS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514440" y="6557760"/>
            <a:ext cx="4114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7032240" y="6555960"/>
            <a:ext cx="6620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303E2-28A8-4C10-8927-31EDE9071BFF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9167760" y="-6480"/>
            <a:ext cx="1128600" cy="6870960"/>
            <a:chOff x="9167760" y="-6480"/>
            <a:chExt cx="112860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9167760" y="-6480"/>
              <a:ext cx="112860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9172440" y="0"/>
              <a:ext cx="11145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14440" y="32040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14440" y="1609200"/>
            <a:ext cx="81439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b05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773240" y="6558120"/>
            <a:ext cx="225252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b05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4C176-6A9F-4246-859B-A3194320B9AC}" type="datetime">
              <a:rPr b="0" lang="ru-RU" sz="1000" spc="-1" strike="noStrike">
                <a:solidFill>
                  <a:srgbClr val="00b050"/>
                </a:solidFill>
                <a:latin typeface="Trebuchet MS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514440" y="6555960"/>
            <a:ext cx="4114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7035480" y="6552720"/>
            <a:ext cx="6620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b05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497F3-C4A3-4C98-B4F7-D42D22C5D095}" type="slidenum">
              <a:rPr b="0" lang="ru-RU" sz="1100" spc="-1" strike="noStrike">
                <a:solidFill>
                  <a:srgbClr val="00b050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Скругленный прямоугольник 1"/>
          <p:cNvSpPr/>
          <p:nvPr/>
        </p:nvSpPr>
        <p:spPr>
          <a:xfrm>
            <a:off x="500040" y="1357200"/>
            <a:ext cx="8572680" cy="3245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39960">
            <a:solidFill>
              <a:srgbClr val="ac66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00"/>
                </a:solidFill>
                <a:latin typeface="Trebuchet MS"/>
              </a:rPr>
              <a:t>«Использование ИК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00"/>
                </a:solidFill>
                <a:latin typeface="Trebuchet MS"/>
              </a:rPr>
              <a:t>в образовательном</a:t>
            </a:r>
            <a:r>
              <a:rPr b="1" lang="en-US" sz="5400" spc="-1" strike="noStrike">
                <a:solidFill>
                  <a:srgbClr val="008000"/>
                </a:solidFill>
                <a:latin typeface="Trebuchet MS"/>
              </a:rPr>
              <a:t> </a:t>
            </a:r>
            <a:r>
              <a:rPr b="1" lang="ru-RU" sz="5400" spc="-1" strike="noStrike">
                <a:solidFill>
                  <a:srgbClr val="008000"/>
                </a:solidFill>
                <a:latin typeface="Trebuchet MS"/>
              </a:rPr>
              <a:t> процессе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rebuchet MS"/>
              </a:rPr>
              <a:t>(из опыта работ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4"/>
          <p:cNvSpPr/>
          <p:nvPr/>
        </p:nvSpPr>
        <p:spPr>
          <a:xfrm>
            <a:off x="2214720" y="5143680"/>
            <a:ext cx="681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Подготовила: </a:t>
            </a:r>
            <a:r>
              <a:rPr b="0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Воспитатель МБДОУ д/с № 26 </a:t>
            </a:r>
            <a:r>
              <a:rPr b="0" lang="ru-RU" sz="2400" spc="-1" strike="noStrike">
                <a:solidFill>
                  <a:srgbClr val="00843c"/>
                </a:solidFill>
                <a:latin typeface="Times New Roman"/>
                <a:ea typeface="Times New Roman"/>
              </a:rPr>
              <a:t>Утробина Татьяна Никола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1" descr="D:\Таня\Д.сад\26\26\2017\Методобъединение\image 4.jpg"/>
          <p:cNvPicPr/>
          <p:nvPr/>
        </p:nvPicPr>
        <p:blipFill>
          <a:blip r:embed="rId1"/>
          <a:stretch/>
        </p:blipFill>
        <p:spPr>
          <a:xfrm>
            <a:off x="285840" y="0"/>
            <a:ext cx="2700360" cy="36003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" descr="D:\Таня\Д.сад\26\фото\день здоровья\0 049.jpg"/>
          <p:cNvPicPr/>
          <p:nvPr/>
        </p:nvPicPr>
        <p:blipFill>
          <a:blip r:embed="rId2"/>
          <a:stretch/>
        </p:blipFill>
        <p:spPr>
          <a:xfrm>
            <a:off x="5715000" y="3614760"/>
            <a:ext cx="2714760" cy="3243240"/>
          </a:xfrm>
          <a:prstGeom prst="rect">
            <a:avLst/>
          </a:prstGeom>
          <a:ln w="57240">
            <a:solidFill>
              <a:srgbClr val="00843c"/>
            </a:solidFill>
            <a:miter/>
          </a:ln>
        </p:spPr>
      </p:pic>
      <p:pic>
        <p:nvPicPr>
          <p:cNvPr id="261" name="Picture 3" descr="D:\Таня\Д.сад\26\фото\Колядки\0 069.jpg"/>
          <p:cNvPicPr/>
          <p:nvPr/>
        </p:nvPicPr>
        <p:blipFill>
          <a:blip r:embed="rId3"/>
          <a:stretch/>
        </p:blipFill>
        <p:spPr>
          <a:xfrm>
            <a:off x="785880" y="3749760"/>
            <a:ext cx="4143240" cy="31082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" descr="D:\Таня\Д.сад\26\фото\лето 2017\0 216.jpg"/>
          <p:cNvPicPr/>
          <p:nvPr/>
        </p:nvPicPr>
        <p:blipFill>
          <a:blip r:embed="rId4"/>
          <a:stretch/>
        </p:blipFill>
        <p:spPr>
          <a:xfrm>
            <a:off x="4000680" y="0"/>
            <a:ext cx="4714560" cy="3537000"/>
          </a:xfrm>
          <a:prstGeom prst="rect">
            <a:avLst/>
          </a:prstGeom>
          <a:ln w="0">
            <a:noFill/>
          </a:ln>
        </p:spPr>
      </p:pic>
      <p:sp>
        <p:nvSpPr>
          <p:cNvPr id="263" name="Прямая соединительная линия 6"/>
          <p:cNvSpPr/>
          <p:nvPr/>
        </p:nvSpPr>
        <p:spPr>
          <a:xfrm flipH="1">
            <a:off x="283680" y="1440"/>
            <a:ext cx="1800" cy="357192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ая соединительная линия 12"/>
          <p:cNvSpPr/>
          <p:nvPr/>
        </p:nvSpPr>
        <p:spPr>
          <a:xfrm>
            <a:off x="285840" y="3571920"/>
            <a:ext cx="2714400" cy="144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ая соединительная линия 15"/>
          <p:cNvSpPr/>
          <p:nvPr/>
        </p:nvSpPr>
        <p:spPr>
          <a:xfrm flipV="1">
            <a:off x="3000240" y="1440"/>
            <a:ext cx="0" cy="357048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ая соединительная линия 17"/>
          <p:cNvSpPr/>
          <p:nvPr/>
        </p:nvSpPr>
        <p:spPr>
          <a:xfrm flipH="1" flipV="1">
            <a:off x="285840" y="0"/>
            <a:ext cx="2714400" cy="144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ая соединительная линия 19"/>
          <p:cNvSpPr/>
          <p:nvPr/>
        </p:nvSpPr>
        <p:spPr>
          <a:xfrm flipH="1">
            <a:off x="783720" y="3787920"/>
            <a:ext cx="1800" cy="307152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ая соединительная линия 21"/>
          <p:cNvSpPr/>
          <p:nvPr/>
        </p:nvSpPr>
        <p:spPr>
          <a:xfrm>
            <a:off x="785880" y="3714840"/>
            <a:ext cx="4143240" cy="144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ая соединительная линия 23"/>
          <p:cNvSpPr/>
          <p:nvPr/>
        </p:nvSpPr>
        <p:spPr>
          <a:xfrm flipH="1">
            <a:off x="4927680" y="3716280"/>
            <a:ext cx="1440" cy="314316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ая соединительная линия 25"/>
          <p:cNvSpPr/>
          <p:nvPr/>
        </p:nvSpPr>
        <p:spPr>
          <a:xfrm>
            <a:off x="785880" y="6858000"/>
            <a:ext cx="4143240" cy="144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ая соединительная линия 29"/>
          <p:cNvSpPr/>
          <p:nvPr/>
        </p:nvSpPr>
        <p:spPr>
          <a:xfrm flipH="1">
            <a:off x="3998520" y="1440"/>
            <a:ext cx="1800" cy="357192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ая соединительная линия 31"/>
          <p:cNvSpPr/>
          <p:nvPr/>
        </p:nvSpPr>
        <p:spPr>
          <a:xfrm>
            <a:off x="4000680" y="3571920"/>
            <a:ext cx="4714560" cy="144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ая соединительная линия 33"/>
          <p:cNvSpPr/>
          <p:nvPr/>
        </p:nvSpPr>
        <p:spPr>
          <a:xfrm flipH="1">
            <a:off x="8714880" y="1440"/>
            <a:ext cx="1800" cy="350064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ая соединительная линия 35"/>
          <p:cNvSpPr/>
          <p:nvPr/>
        </p:nvSpPr>
        <p:spPr>
          <a:xfrm>
            <a:off x="4000680" y="0"/>
            <a:ext cx="4714560" cy="144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TextBox 1" descr=""/>
          <p:cNvPicPr/>
          <p:nvPr/>
        </p:nvPicPr>
        <p:blipFill>
          <a:blip r:embed="rId1"/>
          <a:stretch/>
        </p:blipFill>
        <p:spPr>
          <a:xfrm>
            <a:off x="847800" y="2262240"/>
            <a:ext cx="7375320" cy="1004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506520" y="152280"/>
            <a:ext cx="8156520" cy="92736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0" y="1071360"/>
            <a:ext cx="91440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3. Требования к развивающей предметно-пространственной среде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ое пространство должно быть оснащено средствами обучения и воспитания (в том числе техническими)… (в соответствии со спецификой Программы).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4. Требования к кадровым условиям реализации Программы.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лификация педагогических и учебно-вспомогательных работников должна соответствовать квалификационным характеристикам, установленным в Едином квалификационном справочнике должностей руководителей, специалистов и служащих, раздел "Квалификационные характеристики должностей работников образования»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Adobe Heiti Std R"/>
              </a:rPr>
              <a:t>«Должен знать: … основы работы с текстовыми редакторами, электронными таблицами, электронной почтой и браузерами, мультимедийным оборудованием;…»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Прямоугольник 5"/>
          <p:cNvSpPr/>
          <p:nvPr/>
        </p:nvSpPr>
        <p:spPr>
          <a:xfrm>
            <a:off x="2286000" y="857160"/>
            <a:ext cx="5572080" cy="1071720"/>
          </a:xfrm>
          <a:prstGeom prst="rect">
            <a:avLst/>
          </a:prstGeom>
          <a:solidFill>
            <a:srgbClr val="92d050"/>
          </a:solidFill>
          <a:ln w="39960">
            <a:solidFill>
              <a:srgbClr val="6a98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6"/>
          <p:cNvSpPr/>
          <p:nvPr/>
        </p:nvSpPr>
        <p:spPr>
          <a:xfrm>
            <a:off x="2643120" y="857160"/>
            <a:ext cx="500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И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бразовательном процес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7"/>
          <p:cNvSpPr/>
          <p:nvPr/>
        </p:nvSpPr>
        <p:spPr>
          <a:xfrm>
            <a:off x="714240" y="2857680"/>
            <a:ext cx="2714760" cy="1214280"/>
          </a:xfrm>
          <a:prstGeom prst="rect">
            <a:avLst/>
          </a:prstGeom>
          <a:solidFill>
            <a:srgbClr val="92d050"/>
          </a:solidFill>
          <a:ln w="39960">
            <a:solidFill>
              <a:srgbClr val="6a98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оугольник 8"/>
          <p:cNvSpPr/>
          <p:nvPr/>
        </p:nvSpPr>
        <p:spPr>
          <a:xfrm>
            <a:off x="5286240" y="2928960"/>
            <a:ext cx="3000600" cy="1071720"/>
          </a:xfrm>
          <a:prstGeom prst="rect">
            <a:avLst/>
          </a:prstGeom>
          <a:solidFill>
            <a:srgbClr val="92d050"/>
          </a:solidFill>
          <a:ln w="39960">
            <a:solidFill>
              <a:srgbClr val="6a98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9"/>
          <p:cNvSpPr/>
          <p:nvPr/>
        </p:nvSpPr>
        <p:spPr>
          <a:xfrm>
            <a:off x="3143160" y="4786200"/>
            <a:ext cx="3500640" cy="1357560"/>
          </a:xfrm>
          <a:prstGeom prst="rect">
            <a:avLst/>
          </a:prstGeom>
          <a:solidFill>
            <a:srgbClr val="92d050"/>
          </a:solidFill>
          <a:ln w="39960">
            <a:solidFill>
              <a:srgbClr val="6a98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9" name="Прямая со стрелкой 13"/>
          <p:cNvCxnSpPr>
            <a:stCxn id="224" idx="2"/>
            <a:endCxn id="227" idx="0"/>
          </p:cNvCxnSpPr>
          <p:nvPr/>
        </p:nvCxnSpPr>
        <p:spPr>
          <a:xfrm>
            <a:off x="5070960" y="1928880"/>
            <a:ext cx="1715400" cy="1000800"/>
          </a:xfrm>
          <a:prstGeom prst="straightConnector1">
            <a:avLst/>
          </a:prstGeom>
          <a:ln w="3816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230" name="Прямая со стрелкой 15"/>
          <p:cNvCxnSpPr/>
          <p:nvPr/>
        </p:nvCxnSpPr>
        <p:spPr>
          <a:xfrm flipH="1">
            <a:off x="4714560" y="1928520"/>
            <a:ext cx="2160" cy="2858040"/>
          </a:xfrm>
          <a:prstGeom prst="straightConnector1">
            <a:avLst/>
          </a:prstGeom>
          <a:ln w="38160">
            <a:solidFill>
              <a:srgbClr val="008000"/>
            </a:solidFill>
            <a:miter/>
            <a:tailEnd len="med" type="arrow" w="med"/>
          </a:ln>
        </p:spPr>
      </p:cxnSp>
      <p:sp>
        <p:nvSpPr>
          <p:cNvPr id="231" name="TextBox 16"/>
          <p:cNvSpPr/>
          <p:nvPr/>
        </p:nvSpPr>
        <p:spPr>
          <a:xfrm>
            <a:off x="928800" y="3071880"/>
            <a:ext cx="221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КТ в работе ДО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17"/>
          <p:cNvSpPr/>
          <p:nvPr/>
        </p:nvSpPr>
        <p:spPr>
          <a:xfrm>
            <a:off x="5500800" y="3000240"/>
            <a:ext cx="25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КТ в работе с деть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18"/>
          <p:cNvSpPr/>
          <p:nvPr/>
        </p:nvSpPr>
        <p:spPr>
          <a:xfrm>
            <a:off x="3571920" y="4929120"/>
            <a:ext cx="257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КТ в работе с родител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4" name="Прямая со стрелкой 20"/>
          <p:cNvCxnSpPr/>
          <p:nvPr/>
        </p:nvCxnSpPr>
        <p:spPr>
          <a:xfrm flipH="1">
            <a:off x="2356560" y="1928880"/>
            <a:ext cx="2001240" cy="929520"/>
          </a:xfrm>
          <a:prstGeom prst="straightConnector1">
            <a:avLst/>
          </a:prstGeom>
          <a:ln w="38160">
            <a:solidFill>
              <a:srgbClr val="008000"/>
            </a:solidFill>
            <a:miter/>
            <a:tailEnd len="med" type="arrow" w="med"/>
          </a:ln>
        </p:spPr>
      </p:cxn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"/>
          <p:cNvPicPr/>
          <p:nvPr/>
        </p:nvPicPr>
        <p:blipFill>
          <a:blip r:embed="rId1"/>
          <a:srcRect l="0" t="5632" r="0" b="14084"/>
          <a:stretch/>
        </p:blipFill>
        <p:spPr>
          <a:xfrm>
            <a:off x="642960" y="0"/>
            <a:ext cx="5116320" cy="32860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" descr=""/>
          <p:cNvPicPr/>
          <p:nvPr/>
        </p:nvPicPr>
        <p:blipFill>
          <a:blip r:embed="rId2"/>
          <a:srcRect l="3426" t="6427" r="4073" b="1499"/>
          <a:stretch/>
        </p:blipFill>
        <p:spPr>
          <a:xfrm>
            <a:off x="4214880" y="3444840"/>
            <a:ext cx="4286160" cy="3413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C:\Documents and Settings\Таня\Рабочий стол\Методобъединение\image (1).jpg"/>
          <p:cNvPicPr/>
          <p:nvPr/>
        </p:nvPicPr>
        <p:blipFill>
          <a:blip r:embed="rId1"/>
          <a:stretch/>
        </p:blipFill>
        <p:spPr>
          <a:xfrm>
            <a:off x="0" y="0"/>
            <a:ext cx="4429080" cy="32702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"/>
          <p:cNvPicPr/>
          <p:nvPr/>
        </p:nvPicPr>
        <p:blipFill>
          <a:blip r:embed="rId2"/>
          <a:stretch/>
        </p:blipFill>
        <p:spPr>
          <a:xfrm>
            <a:off x="4857840" y="2571840"/>
            <a:ext cx="4214880" cy="3371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8" descr="D:\Таня\Д.сад\26\фото\конференции\Птицы\0 173.jpg"/>
          <p:cNvPicPr/>
          <p:nvPr/>
        </p:nvPicPr>
        <p:blipFill>
          <a:blip r:embed="rId1"/>
          <a:stretch/>
        </p:blipFill>
        <p:spPr>
          <a:xfrm>
            <a:off x="428760" y="928800"/>
            <a:ext cx="3286080" cy="46209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9" descr="D:\Таня\Д.сад\26\фото\конференции\Птицы\0 183.jpg"/>
          <p:cNvPicPr/>
          <p:nvPr/>
        </p:nvPicPr>
        <p:blipFill>
          <a:blip r:embed="rId2"/>
          <a:stretch/>
        </p:blipFill>
        <p:spPr>
          <a:xfrm>
            <a:off x="5143680" y="936720"/>
            <a:ext cx="3429000" cy="4448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D:\Таня\Д.сад\26\фото\дипломы\0 009.jpg"/>
          <p:cNvPicPr/>
          <p:nvPr/>
        </p:nvPicPr>
        <p:blipFill>
          <a:blip r:embed="rId1"/>
          <a:srcRect l="12581" t="5660" r="6937" b="5660"/>
          <a:stretch/>
        </p:blipFill>
        <p:spPr>
          <a:xfrm>
            <a:off x="357120" y="214200"/>
            <a:ext cx="2286000" cy="33577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7" descr="D:\Таня\Д.сад\26\фото\лето 2017\0 003.jpg"/>
          <p:cNvPicPr/>
          <p:nvPr/>
        </p:nvPicPr>
        <p:blipFill>
          <a:blip r:embed="rId2"/>
          <a:srcRect l="0" t="0" r="7688" b="8926"/>
          <a:stretch/>
        </p:blipFill>
        <p:spPr>
          <a:xfrm>
            <a:off x="3000240" y="2857680"/>
            <a:ext cx="2571840" cy="36432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0" descr="D:\Таня\Д.сад\26\фото\лето 2017\0 017.jpg"/>
          <p:cNvPicPr/>
          <p:nvPr/>
        </p:nvPicPr>
        <p:blipFill>
          <a:blip r:embed="rId3"/>
          <a:srcRect l="0" t="7199" r="19512" b="0"/>
          <a:stretch/>
        </p:blipFill>
        <p:spPr>
          <a:xfrm>
            <a:off x="6072120" y="357120"/>
            <a:ext cx="2357640" cy="362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214880" cy="33717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3" descr="D:\Таня\Д.сад\26\фото\конференции\Космос\0 257.jpg"/>
          <p:cNvPicPr/>
          <p:nvPr/>
        </p:nvPicPr>
        <p:blipFill>
          <a:blip r:embed="rId2"/>
          <a:stretch/>
        </p:blipFill>
        <p:spPr>
          <a:xfrm>
            <a:off x="4500720" y="0"/>
            <a:ext cx="4419360" cy="3314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4" descr="D:\Таня\Д.сад\26\фото\конференции\Космос\0 254.jpg"/>
          <p:cNvPicPr/>
          <p:nvPr/>
        </p:nvPicPr>
        <p:blipFill>
          <a:blip r:embed="rId3"/>
          <a:srcRect l="0" t="6662" r="26667" b="0"/>
          <a:stretch/>
        </p:blipFill>
        <p:spPr>
          <a:xfrm>
            <a:off x="3000240" y="3429000"/>
            <a:ext cx="3357720" cy="3205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9" descr="C:\Documents and Settings\Таня\Рабочий стол\Методобъединение\image.jpg"/>
          <p:cNvPicPr/>
          <p:nvPr/>
        </p:nvPicPr>
        <p:blipFill>
          <a:blip r:embed="rId1"/>
          <a:srcRect l="0" t="5228" r="5552" b="0"/>
          <a:stretch/>
        </p:blipFill>
        <p:spPr>
          <a:xfrm>
            <a:off x="5143680" y="785880"/>
            <a:ext cx="3643200" cy="51800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" descr="C:\Documents and Settings\Таня\Рабочий стол\Методобъединение\image (2).jpg"/>
          <p:cNvPicPr/>
          <p:nvPr/>
        </p:nvPicPr>
        <p:blipFill>
          <a:blip r:embed="rId2"/>
          <a:stretch/>
        </p:blipFill>
        <p:spPr>
          <a:xfrm>
            <a:off x="0" y="0"/>
            <a:ext cx="4714920" cy="3257640"/>
          </a:xfrm>
          <a:prstGeom prst="rect">
            <a:avLst/>
          </a:prstGeom>
          <a:ln w="0">
            <a:noFill/>
          </a:ln>
        </p:spPr>
      </p:pic>
      <p:sp>
        <p:nvSpPr>
          <p:cNvPr id="249" name="Прямая соединительная линия 5"/>
          <p:cNvSpPr/>
          <p:nvPr/>
        </p:nvSpPr>
        <p:spPr>
          <a:xfrm>
            <a:off x="5143680" y="785880"/>
            <a:ext cx="3857400" cy="1440"/>
          </a:xfrm>
          <a:prstGeom prst="line">
            <a:avLst/>
          </a:prstGeom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ая соединительная линия 7"/>
          <p:cNvSpPr/>
          <p:nvPr/>
        </p:nvSpPr>
        <p:spPr>
          <a:xfrm>
            <a:off x="9001080" y="785880"/>
            <a:ext cx="0" cy="5073480"/>
          </a:xfrm>
          <a:prstGeom prst="line">
            <a:avLst/>
          </a:prstGeom>
          <a:ln w="572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ая соединительная линия 9"/>
          <p:cNvSpPr/>
          <p:nvPr/>
        </p:nvSpPr>
        <p:spPr>
          <a:xfrm flipH="1" flipV="1">
            <a:off x="5143320" y="5857920"/>
            <a:ext cx="3857400" cy="1440"/>
          </a:xfrm>
          <a:prstGeom prst="line">
            <a:avLst/>
          </a:prstGeom>
          <a:ln w="572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ая соединительная линия 11"/>
          <p:cNvSpPr/>
          <p:nvPr/>
        </p:nvSpPr>
        <p:spPr>
          <a:xfrm flipH="1">
            <a:off x="5141520" y="785880"/>
            <a:ext cx="1800" cy="5073480"/>
          </a:xfrm>
          <a:prstGeom prst="line">
            <a:avLst/>
          </a:prstGeom>
          <a:ln w="572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ая соединительная линия 13"/>
          <p:cNvSpPr/>
          <p:nvPr/>
        </p:nvSpPr>
        <p:spPr>
          <a:xfrm flipH="1">
            <a:off x="0" y="3429000"/>
            <a:ext cx="1440" cy="3429000"/>
          </a:xfrm>
          <a:prstGeom prst="line">
            <a:avLst/>
          </a:prstGeom>
          <a:ln w="38160">
            <a:solidFill>
              <a:srgbClr val="df93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ая соединительная линия 15"/>
          <p:cNvSpPr/>
          <p:nvPr/>
        </p:nvSpPr>
        <p:spPr>
          <a:xfrm flipH="1">
            <a:off x="4714920" y="3429000"/>
            <a:ext cx="1440" cy="3429000"/>
          </a:xfrm>
          <a:prstGeom prst="line">
            <a:avLst/>
          </a:prstGeom>
          <a:ln w="76320">
            <a:solidFill>
              <a:srgbClr val="df93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1" descr=""/>
          <p:cNvPicPr/>
          <p:nvPr/>
        </p:nvPicPr>
        <p:blipFill>
          <a:blip r:embed="rId3"/>
          <a:srcRect l="0" t="0" r="0" b="-420"/>
          <a:stretch/>
        </p:blipFill>
        <p:spPr>
          <a:xfrm>
            <a:off x="0" y="3497400"/>
            <a:ext cx="4643280" cy="3360600"/>
          </a:xfrm>
          <a:prstGeom prst="rect">
            <a:avLst/>
          </a:prstGeom>
          <a:ln w="0">
            <a:noFill/>
          </a:ln>
        </p:spPr>
      </p:pic>
      <p:sp>
        <p:nvSpPr>
          <p:cNvPr id="256" name="Прямая соединительная линия 14"/>
          <p:cNvSpPr/>
          <p:nvPr/>
        </p:nvSpPr>
        <p:spPr>
          <a:xfrm>
            <a:off x="0" y="3429000"/>
            <a:ext cx="4714920" cy="1440"/>
          </a:xfrm>
          <a:prstGeom prst="line">
            <a:avLst/>
          </a:prstGeom>
          <a:ln w="76320">
            <a:solidFill>
              <a:srgbClr val="df93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 flipH="1">
            <a:off x="4714920" y="0"/>
            <a:ext cx="1440" cy="3286080"/>
          </a:xfrm>
          <a:prstGeom prst="line">
            <a:avLst/>
          </a:prstGeom>
          <a:ln w="57240">
            <a:solidFill>
              <a:srgbClr val="df93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9"/>
          <p:cNvSpPr/>
          <p:nvPr/>
        </p:nvSpPr>
        <p:spPr>
          <a:xfrm>
            <a:off x="0" y="3286080"/>
            <a:ext cx="4714920" cy="1800"/>
          </a:xfrm>
          <a:prstGeom prst="line">
            <a:avLst/>
          </a:prstGeom>
          <a:ln w="57240">
            <a:solidFill>
              <a:srgbClr val="df93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7T16:36:48Z</dcterms:created>
  <dc:creator/>
  <dc:description/>
  <dc:language>en-US</dc:language>
  <cp:lastModifiedBy/>
  <dcterms:modified xsi:type="dcterms:W3CDTF">2019-02-24T17:54:12Z</dcterms:modified>
  <cp:revision>1</cp:revision>
  <dc:subject/>
  <dc:title>Русская-изб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Русская-изба</vt:lpwstr>
  </property>
  <property fmtid="{D5CDD505-2E9C-101B-9397-08002B2CF9AE}" pid="3" name="SlideDescription">
    <vt:lpwstr/>
  </property>
  <property fmtid="{D5CDD505-2E9C-101B-9397-08002B2CF9AE}" pid="4" name="_TemplateID">
    <vt:lpwstr>TC034888359991</vt:lpwstr>
  </property>
</Properties>
</file>