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5EA-28D4-4256-A4B3-8B8E64BC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9D3-9793-407D-B111-4CF5FF8F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7FAFA-BF85-40DE-B3B3-5D23CA46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E4949-EFDD-4C2C-98E8-83DFCCD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50818-9725-4655-A7DA-A758EE2D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92B4A-3947-42BF-85D4-F1584084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41064-D8D9-4FC5-8FA4-F3A301E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99D1D-1CFC-4332-A232-F4A1E42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66FE5-5089-4B43-9B90-682D9986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FB6C5-E687-46D5-867A-6A805D22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0AA7E-1916-4ABD-BD06-0973C745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8C059-9E91-478E-8924-95304A11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28D-ECD9-404D-8F5A-16297A86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DE813-ACB2-42D7-9572-FCFC7114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33B49-47EB-4201-A3C8-CE0F8FA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8ABBC-2AF3-4E43-8836-6AC18974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1672D-10B9-47DC-B97A-61EA28D4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7A1CE-C870-4716-8BAB-02BF1CC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EF28D-A44E-4F5A-8AD5-70CA24A5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BF379-E1A3-46F2-9834-FBE0A59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613E9-F5B5-42D9-A20E-8D0093E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06A11-9440-4C8E-A9F7-3DD11F8B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9DC0B-D14B-414D-9733-88DB9C7E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BB9-E41A-469D-ADF8-A458912B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D5AD7-22FD-4260-BD08-063A9438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E5CBF-5122-4F33-BF33-4292C63B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B6CBD-5B5A-401E-89CB-E256F81E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2C0AB-3219-4683-A851-8DEBB547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7152B-9713-4DBC-893B-A811BF6E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EB686-4752-442B-AFE9-D1B215B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30C9B-8334-4471-AD6A-C99B6C51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D6948-A2A2-48AE-BDD1-73CFBC1A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40A88-4101-4B23-B462-1A5798F4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41BE1-B6B3-432A-A3F5-EA4ED3E9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08BB-21D1-4567-8E97-F0CFFC02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028FE-4F9E-4EA8-8346-76B8177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EFFF2-36F3-4EB6-9760-02F328F5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A8730-F55C-44C3-9547-A7BD3D1A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D0151-FC7F-493A-A685-A80F7BE7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5D76C-6318-4012-A611-0C4056CC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BC7B9-7C99-41DC-A18E-D8CAB707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BA483-3339-4DB9-BF2D-DFA246E5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D8EC1-9A80-4CE9-83D0-B0452370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62CA3-15C3-4EDE-8A02-2BE9B640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FDC40-9457-4CC0-B196-7C00209C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5430-0518-4D50-B7FD-448A6D4D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58B06-6398-4069-A3A5-2E5B807B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06AC9-1992-4903-8F2F-5DAF888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7F28F-FB44-4E89-8343-04D96526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1B595-313B-4789-BCB6-232999B3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EE1CB-AFAE-40BC-B906-8B79C2A0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F1D6-A10D-49E2-BC9C-83C17174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65CE-05D2-4162-9CA1-456008A7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27AD-65A4-4774-9B8B-DBF2CC11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DFB6-2FEF-46BC-B20B-3BC4EFD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982F-03A3-4EF2-B5B9-201392FE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3CF-E0D8-4924-83C5-52853BA0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3109-4A23-49DD-A036-7E42C1EF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EA50-2879-4E76-945A-064711F0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5826-9DA3-413E-BA79-2DC57DF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4054-3488-4CA1-99A6-CA1B7C1A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AB7C-8E5A-4411-ADD1-4BC3B88F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4422-622D-483C-8722-9DDC96F6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EC69-B59C-4BAC-8702-BFC053C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89FC-9039-4949-A108-753A6030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58FF-A763-442E-82B9-8E17EB47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DCB4-4C12-4387-A1E5-78F6189C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BDA-217A-4BF4-8FCE-746D2C9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8BDB-51E5-4849-93E6-F949105F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04FCA-F48F-4345-8A02-586F516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017B-2725-452D-964B-B54B0016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0E55-E601-4012-90FC-C0514766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67E7-5A42-4C6D-8F28-07097ADB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2F21-3B80-47B1-A500-5AF3B9E4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F061-7541-456C-B4D7-7D265CBA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4F37-F1F0-4830-99DB-FB3857B5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5454F-CFE4-47D9-A233-9909E39F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ECC2C-C553-4206-BD7E-9CD74767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706-D06C-4DF4-AA8A-593EC295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440D4-CEEC-4521-B03F-38AE7F6A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99B2-8DE5-4B97-B86D-A1F26372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E119-7CF3-40A4-84AC-AB03BF5D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C365-2A2A-4C28-9D4A-2ABD1763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BD8B-8191-494E-8EE9-8846476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57F9-E906-4630-B95B-9ED654F7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6F1AA-5347-488B-9A4A-628CD244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B705-E44D-4886-B6FC-27AA2896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2441-6457-421C-86F9-63F42D3A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4FF76-89E3-4903-BBA8-ACD22449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4FB-F80B-40A7-828D-95CD435C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541C-86B9-46D1-865B-5128BBD7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2AA3A-C804-4FC1-BF17-A606BB9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2623C-2E07-459D-85F2-8A61E64D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5E16-35B9-440F-A978-AEABDA98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4D496-E56F-4329-B946-FFB2B19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3411B-03F1-4B0F-A99F-C2B0A71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0EF02-F0D8-4580-B528-5E933BBC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CDBBC-58A7-4D3E-880F-A54EED29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1A2E-CEEA-4E2B-AFB1-0683C2D6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BE0C5-F43B-46CB-BE92-E9765720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E4C-CA83-4523-A7ED-4A704EBF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6FA0A-6129-4CB1-9777-1AB61FF7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B01E2-7526-4C7B-80D4-0AAF560C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6B12-9809-45D1-8271-F22EA050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758D1-E97F-4A36-A130-7A660858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5B93-E43B-4F99-8AD6-8C26263A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D3EF3-40BA-42EE-8264-C44B1CB9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ABEC-6645-402F-AE9B-8D55C3DD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27E7D-0B13-4E68-BE63-8FFFE0E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DE80-0FE6-4842-843D-E71BF34C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8D683-1257-4F84-B5A6-61AF93D3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EC2-F596-4C54-B439-27659BF0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25B38-B97F-4135-A056-7533041D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37F1-69FC-4667-92E7-0652E3F4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E676-67EA-46FA-968B-FF37A6E0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5F82-5D1B-45AB-8CE3-E011447D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CB8C3-DF9C-4626-B25F-E143159C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53659-41C9-4B11-AD12-299AA280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942A7-1509-4986-822C-5AD3C611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15D6F-B7A9-461F-9993-235A2506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EFBF-FBF3-404F-AE6F-F204FEB7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49721-F611-446C-9095-67614A3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F40-8F17-42EC-9965-D92B0BD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8CA9E-3CDA-4FD3-B375-730B7A0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AB2E9-6F30-4A1D-AB53-98B2847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91535-6759-47A1-BD2F-92F235F5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D9310-4CC4-431D-B622-B832A115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12074-0828-4C86-840F-BE738DA1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97218-EADC-4965-BF94-9C08D5BB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D0E5A-B5EE-4D9D-992E-62441178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38CEA-C2C2-4111-9F04-93E7D02B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EF65A-06D7-418B-8AF9-4E4B9BFB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B8CF8-73F5-4BBA-A6AF-71C6DEDC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8A9-01C3-4575-AFC1-96F6BBEC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E224-35A5-4A8F-A5D3-EA1FF7CC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1D1AB-F5F7-4EF0-B50C-1A7EE549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DF2DE-39F6-44AD-89F3-EA6B564A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2E449-BCCB-4B93-9485-ACBBD971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78DD4-911C-4CB5-AD16-C05FDD16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0E603-21AC-4540-B4F4-AA81FC7E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2F31F-12BD-4535-AB41-B8F98B30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5BC94-47D5-4693-8637-A6B216F6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87670-D07F-4962-956D-BBE9AE48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E8077-EDE6-4382-B533-D060CDB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705-EB75-4771-B4E3-0DA25C64DD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5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5EB4-1BD0-453D-94C4-B537EED71DF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99DF-B9B7-428E-BFF6-0099314773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-20160" y="0"/>
            <a:ext cx="9049320" cy="6858000"/>
            <a:chOff x="-20160" y="0"/>
            <a:chExt cx="9049320" cy="6858000"/>
          </a:xfrm>
        </p:grpSpPr>
        <p:grpSp>
          <p:nvGrpSpPr>
            <p:cNvPr id="543" name="Group 3"/>
            <p:cNvGrpSpPr/>
            <p:nvPr/>
          </p:nvGrpSpPr>
          <p:grpSpPr>
            <a:xfrm>
              <a:off x="5409720" y="62640"/>
              <a:ext cx="3619440" cy="6130440"/>
              <a:chOff x="5409720" y="62640"/>
              <a:chExt cx="3619440" cy="6130440"/>
            </a:xfrm>
          </p:grpSpPr>
          <p:sp>
            <p:nvSpPr>
              <p:cNvPr id="544" name="Freeform 4"/>
              <p:cNvSpPr/>
              <p:nvPr/>
            </p:nvSpPr>
            <p:spPr>
              <a:xfrm flipV="1" rot="11970000">
                <a:off x="6578280" y="348480"/>
                <a:ext cx="2119320" cy="235008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360 h 2350080"/>
                  <a:gd name="textAreaBottom" fmla="*/ 2350800 h 23500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5" name="Freeform 5"/>
              <p:cNvSpPr/>
              <p:nvPr/>
            </p:nvSpPr>
            <p:spPr>
              <a:xfrm flipV="1" rot="11970000">
                <a:off x="7418880" y="1955160"/>
                <a:ext cx="907560" cy="83988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-360 h 839880"/>
                  <a:gd name="textAreaBottom" fmla="*/ 839880 h 8398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Freeform 6"/>
              <p:cNvSpPr/>
              <p:nvPr/>
            </p:nvSpPr>
            <p:spPr>
              <a:xfrm flipV="1" rot="11970000">
                <a:off x="6823800" y="2586240"/>
                <a:ext cx="439920" cy="39384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3840"/>
                  <a:gd name="textAreaBottom" fmla="*/ 394560 h 3938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7" name="Freeform 7"/>
              <p:cNvSpPr/>
              <p:nvPr/>
            </p:nvSpPr>
            <p:spPr>
              <a:xfrm flipV="1" rot="11970000">
                <a:off x="7251120" y="674280"/>
                <a:ext cx="389520" cy="548640"/>
              </a:xfrm>
              <a:custGeom>
                <a:avLst/>
                <a:gdLst>
                  <a:gd name="textAreaLeft" fmla="*/ 0 w 389520"/>
                  <a:gd name="textAreaRight" fmla="*/ 389880 w 389520"/>
                  <a:gd name="textAreaTop" fmla="*/ 360 h 548640"/>
                  <a:gd name="textAreaBottom" fmla="*/ 549360 h 5486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8" name="Freeform 8"/>
              <p:cNvSpPr/>
              <p:nvPr/>
            </p:nvSpPr>
            <p:spPr>
              <a:xfrm flipV="1" rot="11970000">
                <a:off x="7146720" y="2646000"/>
                <a:ext cx="163440" cy="3304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 flipV="1" rot="11970000">
                <a:off x="7136640" y="1242000"/>
                <a:ext cx="190440" cy="1422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0" name="Freeform 10"/>
              <p:cNvSpPr/>
              <p:nvPr/>
            </p:nvSpPr>
            <p:spPr>
              <a:xfrm flipV="1" rot="11970000">
                <a:off x="5938200" y="2940480"/>
                <a:ext cx="524520" cy="3258360"/>
              </a:xfrm>
              <a:custGeom>
                <a:avLst/>
                <a:gdLst>
                  <a:gd name="textAreaLeft" fmla="*/ 0 w 524520"/>
                  <a:gd name="textAreaRight" fmla="*/ 524880 w 524520"/>
                  <a:gd name="textAreaTop" fmla="*/ -360 h 3258360"/>
                  <a:gd name="textAreaBottom" fmla="*/ 3258360 h 32583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5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55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562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5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566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7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7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7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58BC-935F-4C1C-89E0-63239E26C80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DB8D-CD28-4EB9-B152-8F9A3DA2FE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1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363D-7A50-4E99-9C64-31A87F822E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951D-1824-4022-AF7E-ECC24F5A9FB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EC8B-F4B1-44DD-98F2-256A7ADA8A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2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3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5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23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41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242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3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45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246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5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5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6C7E-F696-4F33-B9CD-E572C50CC2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13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2544-EC0D-46FD-BCC5-C1845BBD98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5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0DC5-786F-499A-94E1-11F708F4BC0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BE3D-5980-410A-8E3D-6BF06EFAB4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Iwanow Iwan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Russ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6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Jahre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0.Kla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4" descr="C:\Documents and Settings\Наташа\Рабочий стол\13.jpg"/>
          <p:cNvPicPr/>
          <p:nvPr/>
        </p:nvPicPr>
        <p:blipFill>
          <a:blip r:embed="rId1"/>
          <a:stretch/>
        </p:blipFill>
        <p:spPr>
          <a:xfrm>
            <a:off x="0" y="0"/>
            <a:ext cx="34290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Kochsalz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8" name="Picture 4" descr="C:\Documents and Settings\Наташа\Рабочий стол\НРВ 2018\соль Иван Иванов\фото\povarennaya-sol.jpg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51920" y="61718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J</a:t>
            </a:r>
            <a:r>
              <a:rPr b="1" lang="de-DE" sz="3200" spc="-1" strike="noStrike">
                <a:solidFill>
                  <a:srgbClr val="ff0000"/>
                </a:solidFill>
                <a:latin typeface="Georgia"/>
              </a:rPr>
              <a:t>odiertes Salz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0" name="Picture 4" descr="C:\Documents and Settings\Наташа\Рабочий стол\НРВ 2018\соль Иван Иванов\фото\11b25bfabbba95838eddcb476c9e8d93.jpg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2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28600" y="6095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Georgia"/>
              </a:rPr>
              <a:t>Salzberg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4" descr="C:\Documents and Settings\Наташа\Рабочий стол\НРВ 2018\соль Иван Иванов\фото\1461825632_01.jpg"/>
          <p:cNvPicPr/>
          <p:nvPr/>
        </p:nvPicPr>
        <p:blipFill>
          <a:blip r:embed="rId1"/>
          <a:stretch/>
        </p:blipFill>
        <p:spPr>
          <a:xfrm>
            <a:off x="0" y="0"/>
            <a:ext cx="891540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-360" y="5867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Georgia"/>
              </a:rPr>
              <a:t>Selbstfahrende Bohrgerä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C:\Documents and Settings\Наташа\Рабочий стол\НРВ 2018\соль Иван Иванов\фото\sicily_salt_02.jp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56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Echtes weisses “Gold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 rot="10800000">
            <a:off x="457200" y="201960"/>
            <a:ext cx="822960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37" name="Picture 5" descr="C:\Documents and Settings\Наташа\Рабочий стол\НРВ 2018\соль Иван Иванов\фото\1-101.jpg"/>
          <p:cNvPicPr/>
          <p:nvPr/>
        </p:nvPicPr>
        <p:blipFill>
          <a:blip r:embed="rId1"/>
          <a:stretch/>
        </p:blipFill>
        <p:spPr>
          <a:xfrm>
            <a:off x="2514600" y="0"/>
            <a:ext cx="4267080" cy="58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9-01-30T09:35:5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