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5B4-2943-40D4-9AA6-9F7A9A86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F7D-9BAA-4372-ABD6-C0F39DDF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0CAEB-ED11-4796-84E6-698F49D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703EE-3063-443D-A8D6-A0A64387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44FC5-3FE9-43A6-B6CF-7C71B5C6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A1BDF-9137-4542-AB12-47D909C3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E7B0E-418F-4C71-9D1B-10F1362D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6B0E6-781B-428E-AEE7-B8E4B1FB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F3951-DCAC-4BFE-9AE4-BFE1E594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D6461-A3AE-4E10-A09B-8FAC88CB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0E6ED-CD2A-4298-AB38-D60725C1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46B75-AB76-453B-B130-4EFF133E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794-AC6F-49D5-B2F5-643047F3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5050F-08C3-4795-BCD1-D18FE49C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FD77A-A628-45F4-9D27-9FECC88B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E8179-D980-4DF5-8F6E-A52809FC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390CB-CE8A-439E-861D-50C7152C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8B09D-DC7A-4FF2-A23C-547E1232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BD74F-B808-46CC-A24B-44E5EB4B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CCA0D-6A5A-446B-A354-3B5A3D87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96E85-62D8-4751-BCD1-41FDB23F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28592-CDCD-409D-B7E6-2F12977D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A71E4-C270-49BF-9844-54154961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D96-4F2A-457E-B81F-F68755F5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8AE97-FAFA-41B0-9E51-CCB554D1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35565-D41E-434D-9B39-991D4DE0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98D4D-47EA-4B17-B3BC-749E3B0F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3B9CA-B118-4E96-A557-6A1997C1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EC101-0653-4EF7-8604-D53D0931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9DB1D-B6A6-4398-BD8B-5B5C3EC8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8E0C8-3F78-47CC-9061-236AFF83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3BA9D-62DF-42F5-9FEF-CAFDAC17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B09E2-BAA5-41F2-AD0E-BC27CBE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934A0-9CF9-419E-836C-04348B8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8225-E05D-488C-B741-95771AAC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203C2-8311-4F2B-83BB-86CD45D3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A4D7E-2944-44D0-BD6C-6BEB1866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AAFD7-5616-4641-9C53-2E911170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67EC2-A2E8-48A0-A68D-206D1A5E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63710-3680-4879-BBAC-AF9DCBEC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90243-0C27-47B7-BCB4-2D9EFE5A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9551C-7678-4011-87DD-F321DEDC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EC7F8-3F57-496E-8397-8EAFBBD4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980CE-856E-4D85-8D6B-7CDAF668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5ACE2-20E1-46D9-AC16-C4D8A4D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E09E-94F3-4C50-BC2C-3959F706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02F50-5B2F-47E3-9608-73F7A730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82921-9736-494F-A835-47531691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29567-D2CD-4A51-8BEC-BC836F49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17254-9CCF-4098-A3BE-50F547A9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98E27-70A1-48C1-951A-5B5C809F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34BD-FB4E-474E-9517-8230D351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16F0-5335-405E-AD18-5649CE8A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C8D4-77BA-4E9E-910A-42A92D0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66A3-27AA-4245-9BA2-C2B30031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7604-2006-4922-93FE-B4C3552E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FB5-51E9-406E-9D23-43E0F0E1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214C-3E00-49FD-B609-8F7D4FCA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9507-88C0-4F00-9023-6E1EE5C8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F904-44CD-4D43-8E7B-9C4A6148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93F7-9FB5-41D9-B6E6-D1C6D623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8678-07D0-42E9-B4A7-1A6F7ED7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2D59-C0AC-4B6A-A07C-5C1F392C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040D-9662-4B00-94F3-328081FE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7F41-4F7D-4089-A8F1-44549C2C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6F1C-0F4C-4B95-87DC-616AAE52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128D6-6E5A-43DE-BAC6-34E33C6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2AD-E6AC-4BFD-B67D-2AD3600A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3996-6817-48A2-A4CC-82F2642F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41125-81D5-4391-8EF8-6B48E74B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B9E3A-DB2C-4AB7-9CEA-00123FEE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A780-8FB7-4A15-A67E-E4544310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D180-99DF-4223-BD00-6676098C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E828-ABAB-47BA-8558-85152B71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71D9-ED67-432F-8705-DFD6429A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D4EC4-6EE1-41E1-B6F9-8C480FD3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5BFCA-AABD-4E3A-A4AC-1EFCA0C9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86983-2F25-4549-B4A0-950838D0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A35-6A8F-4494-900A-B8D6EBD9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AD048-0F8D-4B53-B116-3A75A046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8AA86-3806-4CCE-A6F8-781DF18D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666E-B5CA-406A-9725-614DCF13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250F-1410-40CA-935D-58BA2620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AAF59-5684-4CDA-859C-95E7370A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6AB9C-DC40-4694-9F65-CE880160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CB90E-8F44-4862-98B1-C3D49554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97476-5C7D-42F5-8498-09074B52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9348B-8BF1-4BC0-8610-F9C63FA1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EE16E-F463-4A66-A644-C0E58742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77A-7200-4FDA-8267-B94D4538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9B722-2FFB-4559-9C45-84B5DE63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89564-C1D1-4198-9612-05229D55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2E98C-BBDE-4A40-8540-174F3B13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7EFD2-E2A8-40AF-8D0F-C1C2DD01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47266-4AD4-4C4E-B140-26F16D58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FFDA0-ECB1-4777-9FA4-37AFB855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8AE42-B09D-4D45-BDC1-322253C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62465-27C0-46D6-A48F-9C65EAD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4568-9A7F-48B8-ADB8-4BC49C33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D46CA-486C-4196-85B6-54DB3726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0B9-B191-4076-BC20-AAEF207E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2F647-4AAF-4678-96B7-7A22CFEC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6441-4343-4FD9-B6A7-0AF48EF9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93605-3304-4BD3-AD13-1051CE02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3AFFB-D3A6-4257-9E4A-55BA7ED6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3DC27-6372-42C9-BB01-C9F1F534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1E569-0500-4F71-88CB-0E47EFEE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C1930-13EA-465E-A76E-90F9D6CC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7E398-3716-41FA-A9A7-45237274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6B12E-C2AD-488F-A797-57AA30B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B213C-502F-4EF3-9C36-F695A479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951-7F00-406A-83B2-58F6B9FA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C7B97-6E2F-48A5-9D36-32B3972A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C6DF7-3636-4C03-8A74-D7EDE6AF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AFC63-9744-43C1-95D7-34AAA8DD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887D9-7146-4B9A-B34D-C82D83C4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3B4B3-C4BA-4904-BA32-E0E78394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9F073-FD30-43E0-92F0-30565695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C072F-5CA8-480B-9634-52C525E8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B8854-55BB-48E6-9636-E1EE4D37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2D922-38CA-438D-80A2-7D3D637B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1C455-2A54-419C-B292-678A2027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074-AD95-4E7F-BBDC-FAA02621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8A2EA-E063-487E-A75D-ABBA12A0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110A2-3A5B-41EF-84FC-E5EA946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D934A-829C-447C-851B-3D3AE967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0C4E5-EFF9-4430-8BE2-4C3E86AB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6CF69-6508-4C5C-82E2-501EC5EB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2BDB2-8B6B-47B0-B215-9EE45AAE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8D44C-B2F2-457B-8930-22E5C461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6CB0B-50AE-4C84-980B-2E260959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2BD23-E34B-4B9C-8F3E-FAB172F5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BCFDB-D570-4CC4-983D-E3EA5939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E1C-FE1B-4F72-955A-7570B28B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62B3F-EA68-4B33-84FA-F264BE41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6CFE6-103F-4DB2-B63B-04B1EB49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D2D34-FFEC-48CE-B793-0D4DF23D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C566C-D01F-4395-8A9A-3F8CE8ED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37D94-DDC8-45EF-A434-8696B856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1F2EE-9BD3-4830-A613-486CA077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9A0E-B395-4040-A22B-629CC74B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1F965-D4A5-4CC4-9598-933469D9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94446-85DD-4F49-8E4C-67554D0A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024CB-F0B9-4376-956E-4305A5B8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6CF0-DCA6-4BA4-91A1-9546F96701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5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A4A9-8B7C-4BC1-ADA0-B43A2FF66EE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521C-D4AB-4A90-B25D-E8091BE01C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-20160" y="0"/>
            <a:ext cx="9049320" cy="6858000"/>
            <a:chOff x="-20160" y="0"/>
            <a:chExt cx="9049320" cy="6858000"/>
          </a:xfrm>
        </p:grpSpPr>
        <p:grpSp>
          <p:nvGrpSpPr>
            <p:cNvPr id="543" name="Group 3"/>
            <p:cNvGrpSpPr/>
            <p:nvPr/>
          </p:nvGrpSpPr>
          <p:grpSpPr>
            <a:xfrm>
              <a:off x="5409720" y="62640"/>
              <a:ext cx="3619440" cy="6130440"/>
              <a:chOff x="5409720" y="62640"/>
              <a:chExt cx="3619440" cy="6130440"/>
            </a:xfrm>
          </p:grpSpPr>
          <p:sp>
            <p:nvSpPr>
              <p:cNvPr id="544" name="Freeform 4"/>
              <p:cNvSpPr/>
              <p:nvPr/>
            </p:nvSpPr>
            <p:spPr>
              <a:xfrm flipV="1" rot="11970000">
                <a:off x="6578280" y="348480"/>
                <a:ext cx="2119320" cy="235008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360 h 2350080"/>
                  <a:gd name="textAreaBottom" fmla="*/ 2350800 h 23500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5" name="Freeform 5"/>
              <p:cNvSpPr/>
              <p:nvPr/>
            </p:nvSpPr>
            <p:spPr>
              <a:xfrm flipV="1" rot="11970000">
                <a:off x="7418880" y="1955160"/>
                <a:ext cx="907560" cy="83988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-360 h 839880"/>
                  <a:gd name="textAreaBottom" fmla="*/ 839880 h 8398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Freeform 6"/>
              <p:cNvSpPr/>
              <p:nvPr/>
            </p:nvSpPr>
            <p:spPr>
              <a:xfrm flipV="1" rot="11970000">
                <a:off x="6823800" y="2586240"/>
                <a:ext cx="439920" cy="39384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360 h 393840"/>
                  <a:gd name="textAreaBottom" fmla="*/ 394560 h 3938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7" name="Freeform 7"/>
              <p:cNvSpPr/>
              <p:nvPr/>
            </p:nvSpPr>
            <p:spPr>
              <a:xfrm flipV="1" rot="11970000">
                <a:off x="7251120" y="674280"/>
                <a:ext cx="389520" cy="548640"/>
              </a:xfrm>
              <a:custGeom>
                <a:avLst/>
                <a:gdLst>
                  <a:gd name="textAreaLeft" fmla="*/ 0 w 389520"/>
                  <a:gd name="textAreaRight" fmla="*/ 389880 w 389520"/>
                  <a:gd name="textAreaTop" fmla="*/ 360 h 548640"/>
                  <a:gd name="textAreaBottom" fmla="*/ 549360 h 5486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8" name="Freeform 8"/>
              <p:cNvSpPr/>
              <p:nvPr/>
            </p:nvSpPr>
            <p:spPr>
              <a:xfrm flipV="1" rot="11970000">
                <a:off x="7146720" y="2646000"/>
                <a:ext cx="163440" cy="3304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 flipV="1" rot="11970000">
                <a:off x="7136640" y="1242000"/>
                <a:ext cx="190440" cy="1422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0" name="Freeform 10"/>
              <p:cNvSpPr/>
              <p:nvPr/>
            </p:nvSpPr>
            <p:spPr>
              <a:xfrm flipV="1" rot="11970000">
                <a:off x="5938200" y="2940480"/>
                <a:ext cx="524520" cy="3258360"/>
              </a:xfrm>
              <a:custGeom>
                <a:avLst/>
                <a:gdLst>
                  <a:gd name="textAreaLeft" fmla="*/ 0 w 524520"/>
                  <a:gd name="textAreaRight" fmla="*/ 524880 w 524520"/>
                  <a:gd name="textAreaTop" fmla="*/ -360 h 3258360"/>
                  <a:gd name="textAreaBottom" fmla="*/ 3258360 h 325836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5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5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55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562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3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5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566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57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57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7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A0B4-7868-447C-8161-9F43BB211C5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C038-67A7-4796-A57C-8AD4804876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51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2970-5E50-46BF-8B41-A8A37C238E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103F-51D1-4543-A49A-7191A57B845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A427-AA07-4EE1-B41B-05502E0B84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2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3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5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23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41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242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3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4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45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246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5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5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A2A0-4543-4CAB-A354-EBAAE2D657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313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2ABD-1A27-454F-AD9F-3DB8F90627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5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772E-08CE-45FD-BA94-F926AB78C6F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C0AA-1E89-4557-BBB5-B1F15C379B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Iwanow Iwan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Russ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6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Jahre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0.Kla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4" descr="C:\Documents and Settings\Наташа\Рабочий стол\13.jpg"/>
          <p:cNvPicPr/>
          <p:nvPr/>
        </p:nvPicPr>
        <p:blipFill>
          <a:blip r:embed="rId1"/>
          <a:stretch/>
        </p:blipFill>
        <p:spPr>
          <a:xfrm>
            <a:off x="0" y="0"/>
            <a:ext cx="342900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Kochsalz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8" name="Picture 4" descr="C:\Documents and Settings\Наташа\Рабочий стол\НРВ 2018\соль Иван Иванов\фото\povarennaya-sol.jpg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51920" y="61718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J</a:t>
            </a:r>
            <a:r>
              <a:rPr b="1" lang="de-DE" sz="3200" spc="-1" strike="noStrike">
                <a:solidFill>
                  <a:srgbClr val="ff0000"/>
                </a:solidFill>
                <a:latin typeface="Georgia"/>
              </a:rPr>
              <a:t>odiertes Salz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30" name="Picture 4" descr="C:\Documents and Settings\Наташа\Рабочий стол\НРВ 2018\соль Иван Иванов\фото\11b25bfabbba95838eddcb476c9e8d93.jpg"/>
          <p:cNvPicPr/>
          <p:nvPr/>
        </p:nvPicPr>
        <p:blipFill>
          <a:blip r:embed="rId1"/>
          <a:stretch/>
        </p:blipFill>
        <p:spPr>
          <a:xfrm>
            <a:off x="380880" y="0"/>
            <a:ext cx="8305920" cy="62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28600" y="6095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Georgia"/>
              </a:rPr>
              <a:t>Salzberg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4" descr="C:\Documents and Settings\Наташа\Рабочий стол\НРВ 2018\соль Иван Иванов\фото\1461825632_01.jpg"/>
          <p:cNvPicPr/>
          <p:nvPr/>
        </p:nvPicPr>
        <p:blipFill>
          <a:blip r:embed="rId1"/>
          <a:stretch/>
        </p:blipFill>
        <p:spPr>
          <a:xfrm>
            <a:off x="0" y="0"/>
            <a:ext cx="891540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-360" y="5867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Georgia"/>
              </a:rPr>
              <a:t>Selbstfahrende Bohrgerä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" descr="C:\Documents and Settings\Наташа\Рабочий стол\НРВ 2018\соль Иван Иванов\фото\sicily_salt_02.jpg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56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Echtes weisses “Gold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 rot="10800000">
            <a:off x="457200" y="201960"/>
            <a:ext cx="822960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37" name="Picture 5" descr="C:\Documents and Settings\Наташа\Рабочий стол\НРВ 2018\соль Иван Иванов\фото\1-101.jpg"/>
          <p:cNvPicPr/>
          <p:nvPr/>
        </p:nvPicPr>
        <p:blipFill>
          <a:blip r:embed="rId1"/>
          <a:stretch/>
        </p:blipFill>
        <p:spPr>
          <a:xfrm>
            <a:off x="2514600" y="0"/>
            <a:ext cx="4267080" cy="58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9-01-30T09:35:56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