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4F7-C858-4C5D-827B-DAF6DD4A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19C-A05D-4C1B-BD86-217DF19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7C4-D196-48F0-8EB1-634A2E1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35A-C31B-4FA3-9A26-DACE64D9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099-1507-41A9-BAA2-80131DDE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89BE-7923-480D-A738-D12E126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8C2F-9F76-4CAD-89ED-8F6E0BF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7281-9FC1-46B5-95DE-F0B9C0F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BC1C-446E-46A3-8028-E28272D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C726-0FBA-4E8A-AEC1-5859FF0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E730-20C7-4E0B-84DA-1202880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9E7-A75C-449D-AE44-7A0746A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302C-C552-47A1-98A6-8511B22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24DA-5497-4DDF-A113-8EB411E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B10-EF47-4290-A475-8AC39E0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04FC-DD5D-48A6-8196-7D40E250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0B4-C1CD-453E-95CE-89DA7B8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28C-C17E-4AF0-9F90-6288DF5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43C-5461-454F-B2F4-D20272E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F26-B2CB-4930-B16A-194260C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E07-4A49-496C-8F22-08C4AE7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C30-2D95-4A36-97E7-E853EC2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022-1E85-460D-8B4D-0D76A56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7E6-69B9-4DE0-B096-FD1E406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8081-178F-42B7-A132-EB4D28D8D4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51A-6D8A-4732-B5E7-89DD96A281F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</a:rPr>
              <a:t>Назначение синагоги и ее устройство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гаджанова М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нтре синагоги находится возвышение, называемое "бима". С этого возвышения читается Тора, на нем установлен стол для свитка. Бима напоминает помост, с которого в Храме читали То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ашкеназских синагогах (синагогах выходцев из Германии) между бимой и арон кодеш ставят специальный пюпитр - амуд, около которого ведет молитву хаз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bima v big"/>
          <p:cNvPicPr/>
          <p:nvPr/>
        </p:nvPicPr>
        <p:blipFill>
          <a:blip r:embed="rId1"/>
          <a:stretch/>
        </p:blipFill>
        <p:spPr>
          <a:xfrm>
            <a:off x="0" y="907920"/>
            <a:ext cx="2843280" cy="244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inag-3"/>
          <p:cNvPicPr/>
          <p:nvPr/>
        </p:nvPicPr>
        <p:blipFill>
          <a:blip r:embed="rId2"/>
          <a:stretch/>
        </p:blipFill>
        <p:spPr>
          <a:xfrm>
            <a:off x="0" y="3429000"/>
            <a:ext cx="3854520" cy="318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Amud"/>
          <p:cNvPicPr/>
          <p:nvPr/>
        </p:nvPicPr>
        <p:blipFill>
          <a:blip r:embed="rId3"/>
          <a:stretch/>
        </p:blipFill>
        <p:spPr>
          <a:xfrm>
            <a:off x="2987640" y="1557360"/>
            <a:ext cx="1714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дом с арон акодеш находится место раввина. По другую сторону арон акодеш отводится место для хазана или приглашенного орато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_rav"/>
          <p:cNvPicPr/>
          <p:nvPr/>
        </p:nvPicPr>
        <p:blipFill>
          <a:blip r:embed="rId1"/>
          <a:stretch/>
        </p:blipFill>
        <p:spPr>
          <a:xfrm>
            <a:off x="5508720" y="1773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esto rav mal"/>
          <p:cNvPicPr/>
          <p:nvPr/>
        </p:nvPicPr>
        <p:blipFill>
          <a:blip r:embed="rId2"/>
          <a:stretch/>
        </p:blipFill>
        <p:spPr>
          <a:xfrm>
            <a:off x="3564000" y="4221000"/>
            <a:ext cx="180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Синагогальные должности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вин, или рав, - это духовный руководитель общины. Чтобы получить звание раввина, надо иметь глубокие познания в Письменной и Устной Торе и сдать сложные экзамены. Обычно раввин является руководителем общины, что накладывает на него ряд чисто административных обязанностей. Но, конечно же, главная задача раввина, как и в прежние века, - служить духовным наставником и разрешать вопросы, касающиеся еврейского закон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i"/>
          <p:cNvPicPr/>
          <p:nvPr/>
        </p:nvPicPr>
        <p:blipFill>
          <a:blip r:embed="rId1"/>
          <a:stretch/>
        </p:blipFill>
        <p:spPr>
          <a:xfrm>
            <a:off x="6665760" y="1989000"/>
            <a:ext cx="221004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РАВВИН"/>
          <p:cNvPicPr/>
          <p:nvPr/>
        </p:nvPicPr>
        <p:blipFill>
          <a:blip r:embed="rId2"/>
          <a:stretch/>
        </p:blipFill>
        <p:spPr>
          <a:xfrm>
            <a:off x="4427640" y="3933720"/>
            <a:ext cx="2449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Синагогальные должности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зан ведет общественную молитву и представляет всю общину в ее обращении ко Всевышнему. Поэтому другое название человека, выполняющего эту функцию, - "шлиах цибур", что дословно означает "посланник общины". Большие богатые общины содержат постоянного хазана. Как правило, хазан ведет молитву только в субботу и праздники. По праздникам пение хазана может сопровождаться мужским хо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Какие бывают синагоги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столетия рассеяния привели к небольшим расхождениям в порядке молитв, а также к некоторым различиям в обычаях разных общин. Однако в целом порядок службы, основанный на Устном Учении, один и тот же. Тот факт, что религиозные обряды евреев практически одинаковы в весьма отдаленных друг от друга странах, изумляет всех, кто с ним сталкивается. В частности, различия в порядке молитв весьма незначительны и заметны лишь тем, кто хорошо знает службу. Эти различия придают своеобразный колорит еврейским общинам разных стран. Обычно в соответствии с принадлежностью к той или иной трад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шкеназско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фардской, хасидской или не хасидс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личаются между собой синаг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Закрепление материала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понимаете назначение синаго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синагога в религиозной и светской жизни иудее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вам особенно запомнилось в устройстве синаго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правила посещения синагоги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Вводная беседа с учащимися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ете ли вы, что такое синагог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ходилось ли вам посещать синагог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синагога отличается от храм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вам запомнилось в синагог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О названии "синагога"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828440"/>
            <a:ext cx="47163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глубокой древности и по сей день синагогу называют на иврите "бейт-кнесет", что буквально означает "дом собрания". Слово "синагога" происходит от греческого слова synagoge ("собрание") которое обозначает то же, что и слово "кнесет" на иврите: "собрание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 всем Талмуде синагога лишь однажды названа "бейт тфила" - "дом молитвы". Само название "бейт кнесет" подчеркивает, что синагога - это нечто большее, чем просто помещение для общественной молит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синагогу называют на идиш словом "шул" (от немецкого "Schule" – "школа"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sinagoga"/>
          <p:cNvPicPr/>
          <p:nvPr/>
        </p:nvPicPr>
        <p:blipFill>
          <a:blip r:embed="rId1"/>
          <a:stretch/>
        </p:blipFill>
        <p:spPr>
          <a:xfrm>
            <a:off x="179280" y="184464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Функции синагоги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изгнания из Израиля для рассеянных по всему миру еврейских общин синагоги стали центром общественной, политической и культурной жизни еврейского на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агога – это, прежде всего, место для молитвы. В иудаизме придается огромное значение общественной молитве. Синагога и есть такое место, где община собирается для молит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йчас, как и в далеком прошлом, при синагогах часто имеются школы, в которых дети и подростки изучают Тор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радиции, в синагоге должны быть книги еврейского учения. Считается весьма благочестивым делом купить для такой библиотеки книги. Практически в любой синагоге можно найти Пятикнижие с комментариями, Мишну, Талмуд, труды Рамбама, полный "Шулхан арух", а также сотни или даже тысячи других кни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агога, в соответствии со своим названием, является местом проведения встреч, собраний, различных торжеств как всей общины, так и отдельных ее член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огда синагога является местом заседания бейт-дина - раввинского су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ление синагоги, как правило, располагает фондами для помощи нуждающимся, предоставляет ссуды. Таким образом, синагога часто становится и центром благотвори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ьше в большинстве синагог были комнаты для гостей, где останавливались путешествовавшие евреи, имелись также конюшни для нескольких лоша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синагоги не предписано никаких определенных архитектурных фор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 требует, чтобы помещение синагоги имело окна. Талмуд предостерегает от молитвы в комнате без окон: люди должны видеть неб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ходе в здание должен быть вестибюль, проходя который, человек оставляет помыслы и заботы материального мира, настраивается на молитв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sinagoga_spb"/>
          <p:cNvPicPr/>
          <p:nvPr/>
        </p:nvPicPr>
        <p:blipFill>
          <a:blip r:embed="rId1"/>
          <a:stretch/>
        </p:blipFill>
        <p:spPr>
          <a:xfrm>
            <a:off x="4572000" y="1844640"/>
            <a:ext cx="442764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all"/>
          <p:cNvPicPr/>
          <p:nvPr/>
        </p:nvPicPr>
        <p:blipFill>
          <a:blip r:embed="rId2"/>
          <a:stretch/>
        </p:blipFill>
        <p:spPr>
          <a:xfrm>
            <a:off x="5076720" y="4724280"/>
            <a:ext cx="2735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Архитектура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387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ание ориентируют на Иерусалим (синагоги, находящиеся в самом Иерусалиме, ориентированы на Храмовую гору). Талмуд требует, чтобы молящиеся обращались лицом к Иерусалиму при чтении одной из самых главных молитв – Ами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Талмуду, синагога должна стоять на самом высоком месте в город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ая синагога, маленькая или большая, скромная или роскошно украшенная, должна быть соответствующим образом оснащен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615-2_420x373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95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идраше рассказывается, что, когда евреи собрались у горы Синай, чтобы получить Десять Заповедей, мужчины и женщины стояли отдельно. Отдельное помещение для женщин было и в Иерусалимском храме. В синагоге для женщин тоже отводится особое место – "эзрат нашим" (женская половина). Эзрат нашим может располагаться на галерее, на балконе (в Храме отделение для женщин располагалось наверху) или в молитвенном зале за особой шторой, которая называется "мехица" - перегород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Gallery_mal"/>
          <p:cNvPicPr/>
          <p:nvPr/>
        </p:nvPicPr>
        <p:blipFill>
          <a:blip r:embed="rId1"/>
          <a:stretch/>
        </p:blipFill>
        <p:spPr>
          <a:xfrm>
            <a:off x="4500720" y="1916280"/>
            <a:ext cx="4464000" cy="266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Gallery_big"/>
          <p:cNvPicPr/>
          <p:nvPr/>
        </p:nvPicPr>
        <p:blipFill>
          <a:blip r:embed="rId2"/>
          <a:stretch/>
        </p:blipFill>
        <p:spPr>
          <a:xfrm>
            <a:off x="5076720" y="472428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42447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тены напротив входа, куда обращены лицом все молящиеся, располагается Арон а-Кодеш - шкаф или ниша, где хранятся свитки Торы; он прикрыт занавесом, называемым "парохет". Арон Акодеш – это символическое подобие хранилища скрижалей с Десятью Заповедями в Святая Святых Иерусалимского хра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Aron_kodesh"/>
          <p:cNvPicPr/>
          <p:nvPr/>
        </p:nvPicPr>
        <p:blipFill>
          <a:blip r:embed="rId1"/>
          <a:stretch/>
        </p:blipFill>
        <p:spPr>
          <a:xfrm>
            <a:off x="179280" y="2205000"/>
            <a:ext cx="4762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4316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 Арон Акодеш располагается Нер Тамид – “неугасимый светильник”. Раньше это была масляная свеча. Сейчас это, как правило, лампа, похожая на свечу. Нер Тамид горит всегда, символизируя менору, масляный светильник Храма. В меноре было семь фитилей, один из которых горел постоя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synagoga3"/>
          <p:cNvPicPr/>
          <p:nvPr/>
        </p:nvPicPr>
        <p:blipFill>
          <a:blip r:embed="rId1"/>
          <a:stretch/>
        </p:blipFill>
        <p:spPr>
          <a:xfrm>
            <a:off x="5508720" y="981000"/>
            <a:ext cx="3484440" cy="430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Ner_mal"/>
          <p:cNvPicPr/>
          <p:nvPr/>
        </p:nvPicPr>
        <p:blipFill>
          <a:blip r:embed="rId2"/>
          <a:stretch/>
        </p:blipFill>
        <p:spPr>
          <a:xfrm>
            <a:off x="4356000" y="429264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4:53:39Z</dcterms:created>
  <dc:creator>Station</dc:creator>
  <dc:description/>
  <dc:language>en-US</dc:language>
  <cp:lastModifiedBy>Usser</cp:lastModifiedBy>
  <dcterms:modified xsi:type="dcterms:W3CDTF">2019-02-24T12:30:59Z</dcterms:modified>
  <cp:revision>8</cp:revision>
  <dc:subject/>
  <dc:title>Назначение синагоги и ее устройство</dc:title>
</cp:coreProperties>
</file>