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342-EC59-43BA-8E90-ECDF1836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173-5E02-49B0-99A6-18B06949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0C1-5A61-4981-BED7-BE801E46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DCD-AF88-45F0-9048-5A40684C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BE8B-52E1-470B-B088-4C53B3AA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4743-0A50-4A6A-A543-09E9AE40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A3D5-6707-47EB-A166-CAEC34C5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9B66-AFFC-4C5C-84EB-7B7195D0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1A95-D8E9-4EE2-9509-F2719AFC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8420-7FA0-46A5-B772-77ED3DC2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92B4-AF8A-4B8F-8F24-5E666464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3E8-A902-4C85-A448-010A404B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23CC-32B0-483A-A2CA-757C6FF5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4D32-92AD-4310-8ED3-86365F34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1E90-C47D-4CE1-9765-0AD8D65E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1119-EE4E-4CAA-8B20-28885F93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FF4A-64AF-4866-94A1-87A68F12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72C-3D95-49FF-851A-785BFD36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A6C-95E5-465A-8B12-4DD894D8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0A3-F039-4362-B49E-913F299B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F53-DE64-4E66-91E5-90DD4A6E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EDE-628F-4662-8111-89F4F60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D24-5685-4621-8B9A-8FE3813C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0A5-5013-4D0E-97C0-6A7A387A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96C9-B66E-47DF-B896-3F2FB20AF5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FE3E-2227-4F99-A3D3-D0C561FCCD5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</a:rPr>
              <a:t>Назначение синагоги и ее устройство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гаджанова М.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нтре синагоги находится возвышение, называемое "бима". С этого возвышения читается Тора, на нем установлен стол для свитка. Бима напоминает помост, с которого в Храме читали То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ашкеназских синагогах (синагогах выходцев из Германии) между бимой и арон кодеш ставят специальный пюпитр - амуд, около которого ведет молитву хаза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bima v big"/>
          <p:cNvPicPr/>
          <p:nvPr/>
        </p:nvPicPr>
        <p:blipFill>
          <a:blip r:embed="rId1"/>
          <a:stretch/>
        </p:blipFill>
        <p:spPr>
          <a:xfrm>
            <a:off x="0" y="907920"/>
            <a:ext cx="2843280" cy="2449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sinag-3"/>
          <p:cNvPicPr/>
          <p:nvPr/>
        </p:nvPicPr>
        <p:blipFill>
          <a:blip r:embed="rId2"/>
          <a:stretch/>
        </p:blipFill>
        <p:spPr>
          <a:xfrm>
            <a:off x="0" y="3429000"/>
            <a:ext cx="3854520" cy="318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Amud"/>
          <p:cNvPicPr/>
          <p:nvPr/>
        </p:nvPicPr>
        <p:blipFill>
          <a:blip r:embed="rId3"/>
          <a:stretch/>
        </p:blipFill>
        <p:spPr>
          <a:xfrm>
            <a:off x="2987640" y="1557360"/>
            <a:ext cx="1714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дом с арон акодеш находится место раввина. По другую сторону арон акодеш отводится место для хазана или приглашенного орато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_rav"/>
          <p:cNvPicPr/>
          <p:nvPr/>
        </p:nvPicPr>
        <p:blipFill>
          <a:blip r:embed="rId1"/>
          <a:stretch/>
        </p:blipFill>
        <p:spPr>
          <a:xfrm>
            <a:off x="5508720" y="177336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esto rav mal"/>
          <p:cNvPicPr/>
          <p:nvPr/>
        </p:nvPicPr>
        <p:blipFill>
          <a:blip r:embed="rId2"/>
          <a:stretch/>
        </p:blipFill>
        <p:spPr>
          <a:xfrm>
            <a:off x="3564000" y="4221000"/>
            <a:ext cx="1800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Синагогальные должности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ввин, или рав, - это духовный руководитель общины. Чтобы получить звание раввина, надо иметь глубокие познания в Письменной и Устной Торе и сдать сложные экзамены. Обычно раввин является руководителем общины, что накладывает на него ряд чисто административных обязанностей. Но, конечно же, главная задача раввина, как и в прежние века, - служить духовным наставником и разрешать вопросы, касающиеся еврейского закон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i"/>
          <p:cNvPicPr/>
          <p:nvPr/>
        </p:nvPicPr>
        <p:blipFill>
          <a:blip r:embed="rId1"/>
          <a:stretch/>
        </p:blipFill>
        <p:spPr>
          <a:xfrm>
            <a:off x="6665760" y="1989000"/>
            <a:ext cx="2210040" cy="273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РАВВИН"/>
          <p:cNvPicPr/>
          <p:nvPr/>
        </p:nvPicPr>
        <p:blipFill>
          <a:blip r:embed="rId2"/>
          <a:stretch/>
        </p:blipFill>
        <p:spPr>
          <a:xfrm>
            <a:off x="4427640" y="3933720"/>
            <a:ext cx="2449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Синагогальные должности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зан ведет общественную молитву и представляет всю общину в ее обращении ко Всевышнему. Поэтому другое название человека, выполняющего эту функцию, - "шлиах цибур", что дословно означает "посланник общины". Большие богатые общины содержат постоянного хазана. Как правило, хазан ведет молитву только в субботу и праздники. По праздникам пение хазана может сопровождаться мужским хор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Какие бывают синагоги.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7854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столетия рассеяния привели к небольшим расхождениям в порядке молитв, а также к некоторым различиям в обычаях разных общин. Однако в целом порядок службы, основанный на Устном Учении, один и тот же. Тот факт, что религиозные обряды евреев практически одинаковы в весьма отдаленных друг от друга странах, изумляет всех, кто с ним сталкивается. В частности, различия в порядке молитв весьма незначительны и заметны лишь тем, кто хорошо знает службу. Эти различия придают своеобразный колорит еврейским общинам разных стран. Обычно в соответствии с принадлежностью к той или иной тради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шкеназской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фардской, хасидской или не хасидск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различаются между собой синаг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Закрепление материала.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понимаете назначение синагог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синагога в религиозной и светской жизни иудее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вам особенно запомнилось в устройстве синагог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правила посещения синагоги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Вводная беседа с учащимися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наете ли вы, что такое синагог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ходилось ли вам посещать синагогу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м синагога отличается от храм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вам запомнилось в синагог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О названии "синагога"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7280" y="1828440"/>
            <a:ext cx="47163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глубокой древности и по сей день синагогу называют на иврите "бейт-кнесет", что буквально означает "дом собрания". Слово "синагога" происходит от греческого слова synagoge ("собрание") которое обозначает то же, что и слово "кнесет" на иврите: "собрание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 всем Талмуде синагога лишь однажды названа "бейт тфила" - "дом молитвы". Само название "бейт кнесет" подчеркивает, что синагога - это нечто большее, чем просто помещение для общественной молит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е синагогу называют на идиш словом "шул" (от немецкого "Schule" – "школа"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sinagoga"/>
          <p:cNvPicPr/>
          <p:nvPr/>
        </p:nvPicPr>
        <p:blipFill>
          <a:blip r:embed="rId1"/>
          <a:stretch/>
        </p:blipFill>
        <p:spPr>
          <a:xfrm>
            <a:off x="179280" y="184464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Функции синагоги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78544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изгнания из Израиля для рассеянных по всему миру еврейских общин синагоги стали центром общественной, политической и культурной жизни еврейского на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нагога – это, прежде всего, место для молитвы. В иудаизме придается огромное значение общественной молитве. Синагога и есть такое место, где община собирается для молитв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йчас, как и в далеком прошлом, при синагогах часто имеются школы, в которых дети и подростки изучают Тор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радиции, в синагоге должны быть книги еврейского учения. Считается весьма благочестивым делом купить для такой библиотеки книги. Практически в любой синагоге можно найти Пятикнижие с комментариями, Мишну, Талмуд, труды Рамбама, полный "Шулхан арух", а также сотни или даже тысячи других кни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нагога, в соответствии со своим названием, является местом проведения встреч, собраний, различных торжеств как всей общины, так и отдельных ее член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огда синагога является местом заседания бейт-дина - раввинского су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ление синагоги, как правило, располагает фондами для помощи нуждающимся, предоставляет ссуды. Таким образом, синагога часто становится и центром благотвори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ньше в большинстве синагог были комнаты для гостей, где останавливались путешествовавшие евреи, имелись также конюшни для нескольких лошад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синагоги не предписано никаких определенных архитектурных фор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кон требует, чтобы помещение синагоги имело окна. Талмуд предостерегает от молитвы в комнате без окон: люди должны видеть небо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входе в здание должен быть вестибюль, проходя который, человек оставляет помыслы и заботы материального мира, настраивается на молитв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sinagoga_spb"/>
          <p:cNvPicPr/>
          <p:nvPr/>
        </p:nvPicPr>
        <p:blipFill>
          <a:blip r:embed="rId1"/>
          <a:stretch/>
        </p:blipFill>
        <p:spPr>
          <a:xfrm>
            <a:off x="4572000" y="1844640"/>
            <a:ext cx="4427640" cy="28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all"/>
          <p:cNvPicPr/>
          <p:nvPr/>
        </p:nvPicPr>
        <p:blipFill>
          <a:blip r:embed="rId2"/>
          <a:stretch/>
        </p:blipFill>
        <p:spPr>
          <a:xfrm>
            <a:off x="5076720" y="4724280"/>
            <a:ext cx="27352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Архитектура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387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ание ориентируют на Иерусалим (синагоги, находящиеся в самом Иерусалиме, ориентированы на Храмовую гору). Талмуд требует, чтобы молящиеся обращались лицом к Иерусалиму при чтении одной из самых главных молитв – Ами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но Талмуду, синагога должна стоять на самом высоком месте в город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ая синагога, маленькая или большая, скромная или роскошно украшенная, должна быть соответствующим образом оснащен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615-2_420x373"/>
          <p:cNvPicPr/>
          <p:nvPr/>
        </p:nvPicPr>
        <p:blipFill>
          <a:blip r:embed="rId1"/>
          <a:stretch/>
        </p:blipFill>
        <p:spPr>
          <a:xfrm>
            <a:off x="179280" y="184464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95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идраше рассказывается, что, когда евреи собрались у горы Синай, чтобы получить Десять Заповедей, мужчины и женщины стояли отдельно. Отдельное помещение для женщин было и в Иерусалимском храме. В синагоге для женщин тоже отводится особое место – "эзрат нашим" (женская половина). Эзрат нашим может располагаться на галерее, на балконе (в Храме отделение для женщин располагалось наверху) или в молитвенном зале за особой шторой, которая называется "мехица" - перегород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Gallery_mal"/>
          <p:cNvPicPr/>
          <p:nvPr/>
        </p:nvPicPr>
        <p:blipFill>
          <a:blip r:embed="rId1"/>
          <a:stretch/>
        </p:blipFill>
        <p:spPr>
          <a:xfrm>
            <a:off x="4500720" y="1916280"/>
            <a:ext cx="4464000" cy="266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Gallery_big"/>
          <p:cNvPicPr/>
          <p:nvPr/>
        </p:nvPicPr>
        <p:blipFill>
          <a:blip r:embed="rId2"/>
          <a:stretch/>
        </p:blipFill>
        <p:spPr>
          <a:xfrm>
            <a:off x="5076720" y="4724280"/>
            <a:ext cx="3456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42447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стены напротив входа, куда обращены лицом все молящиеся, располагается Арон а-Кодеш - шкаф или ниша, где хранятся свитки Торы; он прикрыт занавесом, называемым "парохет". Арон Акодеш – это символическое подобие хранилища скрижалей с Десятью Заповедями в Святая Святых Иерусалимского хра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Aron_kodesh"/>
          <p:cNvPicPr/>
          <p:nvPr/>
        </p:nvPicPr>
        <p:blipFill>
          <a:blip r:embed="rId1"/>
          <a:stretch/>
        </p:blipFill>
        <p:spPr>
          <a:xfrm>
            <a:off x="179280" y="2205000"/>
            <a:ext cx="4762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стройство синагоги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рьер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828440"/>
            <a:ext cx="4316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 Арон Акодеш располагается Нер Тамид – “неугасимый светильник”. Раньше это была масляная свеча. Сейчас это, как правило, лампа, похожая на свечу. Нер Тамид горит всегда, символизируя менору, масляный светильник Храма. В меноре было семь фитилей, один из которых горел постоя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synagoga3"/>
          <p:cNvPicPr/>
          <p:nvPr/>
        </p:nvPicPr>
        <p:blipFill>
          <a:blip r:embed="rId1"/>
          <a:stretch/>
        </p:blipFill>
        <p:spPr>
          <a:xfrm>
            <a:off x="5508720" y="981000"/>
            <a:ext cx="3484440" cy="430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Ner_mal"/>
          <p:cNvPicPr/>
          <p:nvPr/>
        </p:nvPicPr>
        <p:blipFill>
          <a:blip r:embed="rId2"/>
          <a:stretch/>
        </p:blipFill>
        <p:spPr>
          <a:xfrm>
            <a:off x="4356000" y="429264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4:53:39Z</dcterms:created>
  <dc:creator>Station</dc:creator>
  <dc:description/>
  <dc:language>en-US</dc:language>
  <cp:lastModifiedBy>Usser</cp:lastModifiedBy>
  <dcterms:modified xsi:type="dcterms:W3CDTF">2019-02-24T12:30:59Z</dcterms:modified>
  <cp:revision>8</cp:revision>
  <dc:subject/>
  <dc:title>Назначение синагоги и ее устройство</dc:title>
</cp:coreProperties>
</file>