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0.gif" ContentType="image/gif"/>
  <Override PartName="/ppt/media/image9.jpeg" ContentType="image/jpeg"/>
  <Override PartName="/ppt/media/image16.png" ContentType="image/png"/>
  <Override PartName="/ppt/media/image13.gif" ContentType="image/gif"/>
  <Override PartName="/ppt/media/image28.png" ContentType="image/png"/>
  <Override PartName="/ppt/media/image3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gif" ContentType="image/gif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2F4-5007-4F26-907B-FFC7B907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DC2-BCE9-4727-B0BD-05412F7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A392B-CC61-49EA-BFF2-FF95395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381D-3EA0-4B21-8CFE-A3A8B4C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D75BA-229A-4DE8-9B17-315037F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F4BD-6B4C-4C70-BF93-8442468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824A-BBBE-41E5-B054-BF4027F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7878-E4D6-4E89-8D24-F2B268C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EA85-0772-47E6-B161-F8896C58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A6697-6D2C-48B1-BB35-EFC06B71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68B5A-777C-4180-AF58-4BF949B9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6D430-0ABE-438F-9416-8E61FBBF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727-95DA-4442-B71C-3AC91646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D0ACC-E343-4A92-A14C-6D87FFF3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1A30E-57A3-46C0-94D9-F86F6AF4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C4FE3-39EE-439D-B1A6-B5757B74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0D770-7630-4E9E-9C0A-9814F81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3A77-4593-4A73-85DE-688DF67C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C0680-A6B9-46EE-B56F-DCA8E9D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38D9C-ADE3-4267-AF62-CBAE8DE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67418-6C14-4A9F-ADCE-978AECB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FFB89-3A99-4B40-A635-E02C380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6DA2C-40E5-48AE-901C-00638C2A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C87-4953-4120-BDA6-6273A5AD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30C4D-C2F3-4D07-99AB-40B854D0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93A2-0716-41C1-A478-3DBF76A0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A7E93-9F6F-4DD3-B6A6-BE88B59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8BF58-3EF9-4C99-BB81-D66540A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F4A9E-958D-4D0E-B82C-22D1A36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36A7-25DB-48F2-95F8-4D5A0734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1460-789B-4ECE-AE03-BF083161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B3EE9-2F29-4E5E-9FAB-CB1DD0DD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F9E0B-D20B-47D6-8DEB-50A29DD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8CACA-597B-4FE5-98CD-EBAFE3B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6660-75FB-4C59-B9FC-E193F62F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7366B-4E2E-4254-8CE3-F3008F53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7078-DB3C-48C1-9192-DD932D27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ADB1-EE9F-42F2-90BA-8949B5AB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3FFFE-1089-4B40-AA6E-C2F2E164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0B0F6-9FEB-4DFE-AB69-6B663F1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AC700-03F7-4A30-A0EF-814F2B1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BFB20-C8B4-41C2-B181-E92729E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60DF9-F292-40EF-9C28-F985FAC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ECB22-763D-491F-87EA-FF9A0147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FCD94-853D-41EE-9BB8-DF07BDF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B8B0-3E37-4EEE-B225-BD28CC4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F29D9-9590-4096-AB4C-D64DF02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32E9D-DDFC-4D0A-B72F-FEBCC40D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4DFD4-888A-45F9-B7AB-16C4B556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EA31-3A1D-419F-A9AA-335418D0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1D932-C574-4E21-87AE-27D1C64B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C91F-BB00-4F59-BFD1-364FF3B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21F0-FF8E-4BA6-AFEE-BA74BE5B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CEA4-B0FF-42DE-9B46-238C6CAA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5214-9DE4-4C41-A312-B0E36E9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EDF3-8085-48A1-BA90-56F0041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3A2-49DA-4A2F-89F4-56320B4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89B-08E3-4417-AC0F-AB077D8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D26-F714-47CF-8044-5C509BC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FF1-5AC4-4C26-BEAE-2567CCB7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259F-7809-4712-91F5-C4B7A21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57B5-2704-4319-8721-965C5B2B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EE5C-C716-4A86-BDEE-8796651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FC43A-FBE1-4713-9B4D-B533C0C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B889-0163-4A2A-948B-36DF76B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C12F-9D0B-430D-978E-9A0C260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DEDF-5EC7-4583-8584-80570DA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150-05EA-4977-8F2A-F885D2C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8D62-54D6-4A63-B958-55119F60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8005-FC33-4F58-BDEF-77478CA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A60E-774A-45FD-B615-DC67543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9BBB-8A11-491E-9F9D-2BB215B5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99A1-B030-4E6C-BD91-95CCA77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A308-0D5F-4E53-89CD-A80A070E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25D6-E84E-4CDD-BC9D-6D1BB80D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DD57-4B26-4CC6-906C-64C93675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8FEF-DD80-4511-B92B-D7ED1ED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5896-154F-4754-ABFD-C138F47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363-68DB-4741-881B-0188BCD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ED10-99C0-4548-899E-F5280457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02E64-F5D0-43B2-BB15-35B6E2C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0A1C-AF92-44ED-AEDC-A107EFB0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CD28-3FB4-4AE7-8123-D7C42FE2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7053-C87D-4E00-B51E-AB62ED0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D758-6AEC-44C2-AC19-0668FF2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C9B1-F24A-42A5-8ABF-964CE5A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FBB9-3F10-4A77-93A4-4C937C3C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825E-E87E-41F8-801C-E416BF0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7A56-E6CD-44F9-8C0A-AC0C4006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30E-91F7-493A-AE05-ECC4A76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EC291-88BA-40C4-B14E-BF83EA10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4145-CAB5-4621-A048-82123825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6B4A-45BA-46B4-B419-71496EE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2725-5DC6-4013-9894-0FFECE3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FCE8-6BB3-46CD-AE8F-5D143AE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02BC-5C48-46F5-94AD-D878B1D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310C-7412-4222-995E-50067319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2D16-6B36-442E-81E3-F96C07B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9D65-4703-4257-8A51-69FCF33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5E5DB-13C7-4B61-BA82-7AA82324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BE3-885E-4A21-BCDE-490D0588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46F6-9C1C-4281-89B1-FC7DA102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701B-7769-4F79-B480-42D9487C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4A08D-E4B0-4635-BF40-42361D1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75B01-C8C0-43D3-845A-36B8881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1680-59AF-404C-A338-D055B0B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55B6-267E-4E83-918A-08CB36E7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DF6F-A2A1-473C-B237-47F99974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427F-15C3-4CB0-AB2A-CE59D45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2F69C-C79F-4E56-9307-E146FBA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E12C-FEE5-451D-9CE3-AE39379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4E5-6214-47D0-AD06-C779925A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91AC-6292-4D1D-AEE4-C91B56F8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3C9D-6224-4218-A3AF-09784460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0110-26EB-468B-8560-3FD335FD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CFEC-AF7C-41C5-947D-A86C6D4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D83C1-A5DE-4BA2-A857-09F2651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10D1-4757-4BC2-8AE4-FF47F37C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DF72-EDC8-448D-BAF9-68E01A0C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508C-3116-4747-BC14-2C16A4A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8886-D095-47D9-A685-7530078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F90E3-2BFB-4FA0-B8D2-135A21A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276-C674-4D16-A541-645004F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E6BCF-98A1-4926-9061-C04D21B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CA22B-13AD-40DC-B44E-44B2817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D4BF-A974-4B8C-A845-EEFE0296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3C250-2A99-46FA-812F-F60B860C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C07F-A5BE-498E-B85C-5B7A43B0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9775B-E3AB-4F38-817A-44911578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0A08B-CCD2-43E0-A5A4-F345B3E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BBDB-677B-4B8B-84DD-86898029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A403E-5F05-46CD-A1DF-6C3D162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9F00-7B3A-43CC-8871-3535D8C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7E0-59C9-4806-9F20-0F81540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78F9-D9F0-46AD-9C64-060666E8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E653-9698-4026-9368-D7D7C20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AD3F-54D4-4283-953F-D065A875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B4533-3FC8-42BD-9BB3-B4E696D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66A43-45FA-40C4-B195-5D95AFE1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E1172-6061-4961-A816-07713FFD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18E4-5EE6-45B2-889B-1F767E80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60EA0-97AF-4488-BA7F-1BEEC430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CE2BA-2B3E-4F80-9C1E-3E3309FC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F728-FC67-4E22-A435-D5E23C7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E698-857A-44DF-9F3F-D16B86C5F1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201-CF59-4E89-81D2-3B9C285E92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B78-F55A-46DB-8D14-ABE45964E3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830-5C58-430A-A28A-9E7213DB8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67D-60D8-430E-A8B4-5E38D7690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B26-2942-4E28-839F-DF6689485E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A920-E567-4502-B618-1DBB97D193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7CC-2507-48FC-9750-51F01E61C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621-F040-4B6A-ABCD-E7DA3C0073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161-A055-462D-8A9D-D7ABF4E733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270-AAC2-484D-BB71-AAD0D6304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EBF1-75B8-4682-8D98-CB6F0991EE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В гости к Биму и Бом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5" descr="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G:\ДОМИКИ\7.jpg"/>
          <p:cNvPicPr/>
          <p:nvPr/>
        </p:nvPicPr>
        <p:blipFill>
          <a:blip r:embed="rId3"/>
          <a:stretch/>
        </p:blipFill>
        <p:spPr>
          <a:xfrm>
            <a:off x="0" y="1440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C:\Users\User\Documents\избр.картинки\анимашки\анимашки избр\apogoda-9.gif"/>
          <p:cNvPicPr/>
          <p:nvPr/>
        </p:nvPicPr>
        <p:blipFill>
          <a:blip r:embed="rId4"/>
          <a:stretch/>
        </p:blipFill>
        <p:spPr>
          <a:xfrm rot="21088800">
            <a:off x="263160" y="32868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14"/>
          <p:cNvSpPr/>
          <p:nvPr/>
        </p:nvSpPr>
        <p:spPr>
          <a:xfrm>
            <a:off x="446040" y="2362320"/>
            <a:ext cx="854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сной детский са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7" descr="http://shostka-dnz9.info/wp-content/uploads/2014/02/0_6ffe2_9a012094_XL.png"/>
          <p:cNvPicPr/>
          <p:nvPr/>
        </p:nvPicPr>
        <p:blipFill>
          <a:blip r:embed="rId5"/>
          <a:stretch/>
        </p:blipFill>
        <p:spPr>
          <a:xfrm>
            <a:off x="2743200" y="3429000"/>
            <a:ext cx="35812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ttp://school20serov.ucoz.ru/foto2016/19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152280" y="3048120"/>
          <a:ext cx="8763120" cy="205740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  <a:gridCol w="17524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pic>
        <p:nvPicPr>
          <p:cNvPr id="535" name="Picture 2" descr="http://www2.flashgamehq.com/images/games_10/blue-circle/blue-circle.jpg"/>
          <p:cNvPicPr/>
          <p:nvPr/>
        </p:nvPicPr>
        <p:blipFill>
          <a:blip r:embed="rId1"/>
          <a:stretch/>
        </p:blipFill>
        <p:spPr>
          <a:xfrm>
            <a:off x="152280" y="32004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2.flashgamehq.com/images/games_10/blue-circle/blue-circle.jpg"/>
          <p:cNvPicPr/>
          <p:nvPr/>
        </p:nvPicPr>
        <p:blipFill>
          <a:blip r:embed="rId2"/>
          <a:stretch/>
        </p:blipFill>
        <p:spPr>
          <a:xfrm>
            <a:off x="1981080" y="323388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2.flashgamehq.com/images/games_10/blue-circle/blue-circle.jpg"/>
          <p:cNvPicPr/>
          <p:nvPr/>
        </p:nvPicPr>
        <p:blipFill>
          <a:blip r:embed="rId3"/>
          <a:stretch/>
        </p:blipFill>
        <p:spPr>
          <a:xfrm>
            <a:off x="3691080" y="32338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2.flashgamehq.com/images/games_10/blue-circle/blue-circle.jpg"/>
          <p:cNvPicPr/>
          <p:nvPr/>
        </p:nvPicPr>
        <p:blipFill>
          <a:blip r:embed="rId4"/>
          <a:stretch/>
        </p:blipFill>
        <p:spPr>
          <a:xfrm>
            <a:off x="5464080" y="327672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http://top-bal.ru/pars_docs/refs/40/39427/39427_html_5a7433f3.gif"/>
          <p:cNvPicPr/>
          <p:nvPr/>
        </p:nvPicPr>
        <p:blipFill>
          <a:blip r:embed="rId5"/>
          <a:stretch/>
        </p:blipFill>
        <p:spPr>
          <a:xfrm>
            <a:off x="7238880" y="3276720"/>
            <a:ext cx="1654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152280" y="3048120"/>
          <a:ext cx="8763120" cy="205740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  <a:gridCol w="17524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2" descr="http://www.sharlottastock.ru/pages/wp-content/uploads/2011/10/image0201.jpg"/>
          <p:cNvPicPr/>
          <p:nvPr/>
        </p:nvPicPr>
        <p:blipFill>
          <a:blip r:embed="rId1"/>
          <a:stretch/>
        </p:blipFill>
        <p:spPr>
          <a:xfrm>
            <a:off x="228600" y="320976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sharlottastock.ru/pages/wp-content/uploads/2011/10/image0201.jpg"/>
          <p:cNvPicPr/>
          <p:nvPr/>
        </p:nvPicPr>
        <p:blipFill>
          <a:blip r:embed="rId2"/>
          <a:stretch/>
        </p:blipFill>
        <p:spPr>
          <a:xfrm>
            <a:off x="1908000" y="3209760"/>
            <a:ext cx="1679760" cy="1733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sharlottastock.ru/pages/wp-content/uploads/2011/10/image0201.jpg"/>
          <p:cNvPicPr/>
          <p:nvPr/>
        </p:nvPicPr>
        <p:blipFill>
          <a:blip r:embed="rId3"/>
          <a:stretch/>
        </p:blipFill>
        <p:spPr>
          <a:xfrm>
            <a:off x="5389560" y="325908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sharlottastock.ru/pages/wp-content/uploads/2011/10/image0201.jpg"/>
          <p:cNvPicPr/>
          <p:nvPr/>
        </p:nvPicPr>
        <p:blipFill>
          <a:blip r:embed="rId4"/>
          <a:stretch/>
        </p:blipFill>
        <p:spPr>
          <a:xfrm>
            <a:off x="7236000" y="3259080"/>
            <a:ext cx="1679400" cy="1733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http://img4.nevesta.info/content/user/331700/331643_1411126156.jpg"/>
          <p:cNvPicPr/>
          <p:nvPr/>
        </p:nvPicPr>
        <p:blipFill>
          <a:blip r:embed="rId5"/>
          <a:stretch/>
        </p:blipFill>
        <p:spPr>
          <a:xfrm>
            <a:off x="3630600" y="328788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ttps://dl27.photosklad.net/20121023/aff7161064ac7b36c51212ac2a4883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0" y="609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раво, влево- поверн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тском саду очу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Голос 007.m4a" descr=""/>
          <p:cNvPicPr/>
          <p:nvPr/>
        </p:nvPicPr>
        <p:blipFill>
          <a:blip r:embed="rId1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Голос 008.m4a" descr=""/>
          <p:cNvPicPr/>
          <p:nvPr/>
        </p:nvPicPr>
        <p:blipFill>
          <a:blip r:embed="rId2"/>
          <a:stretch/>
        </p:blipFill>
        <p:spPr>
          <a:xfrm>
            <a:off x="2128680" y="6031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" descr="http://img-fotki.yandex.ru/get/6513/47407354.74f/0_f1326_3255f778_orig.png"/>
          <p:cNvPicPr/>
          <p:nvPr/>
        </p:nvPicPr>
        <p:blipFill>
          <a:blip r:embed="rId3"/>
          <a:stretch/>
        </p:blipFill>
        <p:spPr>
          <a:xfrm>
            <a:off x="3808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http://online100.ru/img/580d94741e45a.jpg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Users\User\Documents\избр.картинки\анимашки\анимашки избр\apogoda-9.gif"/>
          <p:cNvPicPr/>
          <p:nvPr/>
        </p:nvPicPr>
        <p:blipFill>
          <a:blip r:embed="rId2"/>
          <a:stretch/>
        </p:blipFill>
        <p:spPr>
          <a:xfrm rot="21088800">
            <a:off x="5149440" y="-180720"/>
            <a:ext cx="1676520" cy="175284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6"/>
          <p:cNvSpPr/>
          <p:nvPr/>
        </p:nvSpPr>
        <p:spPr>
          <a:xfrm>
            <a:off x="0" y="3092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ляне теремок, тере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 низок, не высок - не вы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ок ведь не простой, это детский сад для лесных - зве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http://www.keblog.ru/uploads/938_big.jpg"/>
          <p:cNvPicPr/>
          <p:nvPr/>
        </p:nvPicPr>
        <p:blipFill>
          <a:blip r:embed="rId1"/>
          <a:stretch/>
        </p:blipFill>
        <p:spPr>
          <a:xfrm>
            <a:off x="457200" y="941400"/>
            <a:ext cx="4952880" cy="5041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http://animated-images.su/_ph/21/2/258508478.gif"/>
          <p:cNvPicPr/>
          <p:nvPr/>
        </p:nvPicPr>
        <p:blipFill>
          <a:blip r:embed="rId2"/>
          <a:stretch/>
        </p:blipFill>
        <p:spPr>
          <a:xfrm>
            <a:off x="6248520" y="3462480"/>
            <a:ext cx="1981080" cy="26175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"/>
          <p:cNvSpPr/>
          <p:nvPr/>
        </p:nvSpPr>
        <p:spPr>
          <a:xfrm>
            <a:off x="5638680" y="1523880"/>
            <a:ext cx="373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двери весит 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его открыть бы см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крут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сту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замочек потянули и откры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allday1.com/imagedb/01/6/c384a433ae2c0447f296e0c1883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762120" y="144792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м утром лесною тро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шили звери в сад гурь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лисицей крался… лис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ежихой катился… еж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медведицей шёл... медвежо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амой – зайчихой косые… зайч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чица вела за собою… вол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мы и дети спешат в детский 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http://www.artscroll.ru/Images/2008/z/Zhdanova%20Lyubov/000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http://s10.rimg.info/cf72d4b0bc57170c5aecb04076e6f88e.gif"/>
          <p:cNvPicPr/>
          <p:nvPr/>
        </p:nvPicPr>
        <p:blipFill>
          <a:blip r:embed="rId2"/>
          <a:stretch/>
        </p:blipFill>
        <p:spPr>
          <a:xfrm>
            <a:off x="-395280" y="3657600"/>
            <a:ext cx="2608200" cy="2933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http://s10.rimg.info/cf72d4b0bc57170c5aecb04076e6f88e.gif"/>
          <p:cNvPicPr/>
          <p:nvPr/>
        </p:nvPicPr>
        <p:blipFill>
          <a:blip r:embed="rId3"/>
          <a:stretch/>
        </p:blipFill>
        <p:spPr>
          <a:xfrm>
            <a:off x="2795760" y="3124080"/>
            <a:ext cx="3997080" cy="4496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http://pandia.ru/text/78/117/images/image002_136.gif"/>
          <p:cNvPicPr/>
          <p:nvPr/>
        </p:nvPicPr>
        <p:blipFill>
          <a:blip r:embed="rId4"/>
          <a:stretch/>
        </p:blipFill>
        <p:spPr>
          <a:xfrm>
            <a:off x="76320" y="762120"/>
            <a:ext cx="1666800" cy="24382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https://fs00.infourok.ru/images/doc/298/298072/hello_html_m29d7a78f.png"/>
          <p:cNvPicPr/>
          <p:nvPr/>
        </p:nvPicPr>
        <p:blipFill>
          <a:blip r:embed="rId5"/>
          <a:stretch/>
        </p:blipFill>
        <p:spPr>
          <a:xfrm>
            <a:off x="7543800" y="4606920"/>
            <a:ext cx="1355760" cy="2251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http://samlib.ru/img/d/dworkowich_a/14_skazka1/ezhik2.png"/>
          <p:cNvPicPr/>
          <p:nvPr/>
        </p:nvPicPr>
        <p:blipFill>
          <a:blip r:embed="rId6"/>
          <a:stretch/>
        </p:blipFill>
        <p:spPr>
          <a:xfrm>
            <a:off x="3352680" y="3429000"/>
            <a:ext cx="11401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http://img0.liveinternet.ru/images/attach/c/0/120/524/120524364_5201818_71973736_multik51.png"/>
          <p:cNvPicPr/>
          <p:nvPr/>
        </p:nvPicPr>
        <p:blipFill>
          <a:blip r:embed="rId1"/>
          <a:stretch/>
        </p:blipFill>
        <p:spPr>
          <a:xfrm>
            <a:off x="5987880" y="3962520"/>
            <a:ext cx="1513080" cy="2270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372960" y="2793960"/>
            <a:ext cx="2446560" cy="3409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4" descr="fent_l_1_1"/>
          <p:cNvPicPr/>
          <p:nvPr/>
        </p:nvPicPr>
        <p:blipFill>
          <a:blip r:embed="rId3"/>
          <a:stretch/>
        </p:blipFill>
        <p:spPr>
          <a:xfrm>
            <a:off x="3886200" y="1371600"/>
            <a:ext cx="1658880" cy="2684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4"/>
          <a:stretch/>
        </p:blipFill>
        <p:spPr>
          <a:xfrm>
            <a:off x="6629400" y="843120"/>
            <a:ext cx="1743120" cy="2555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5"/>
          <a:stretch/>
        </p:blipFill>
        <p:spPr>
          <a:xfrm>
            <a:off x="1755720" y="831960"/>
            <a:ext cx="1144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0" y="4541760"/>
            <a:ext cx="1146240" cy="1341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1447920" y="3759120"/>
            <a:ext cx="1407960" cy="2109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2855880" y="3216240"/>
            <a:ext cx="1639800" cy="2652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4344840" y="2563920"/>
            <a:ext cx="2335320" cy="3425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6578640" y="1828800"/>
            <a:ext cx="2511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2" descr="10102004190732_M4341"/>
          <p:cNvPicPr/>
          <p:nvPr/>
        </p:nvPicPr>
        <p:blipFill>
          <a:blip r:embed="rId1"/>
          <a:stretch/>
        </p:blipFill>
        <p:spPr>
          <a:xfrm>
            <a:off x="0" y="228600"/>
            <a:ext cx="2714760" cy="4103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1" descr="10102004190732_M4341"/>
          <p:cNvPicPr/>
          <p:nvPr/>
        </p:nvPicPr>
        <p:blipFill>
          <a:blip r:embed="rId2"/>
          <a:stretch/>
        </p:blipFill>
        <p:spPr>
          <a:xfrm>
            <a:off x="2411280" y="1413000"/>
            <a:ext cx="2143080" cy="3238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0" descr="10102004190732_M4341"/>
          <p:cNvPicPr/>
          <p:nvPr/>
        </p:nvPicPr>
        <p:blipFill>
          <a:blip r:embed="rId3"/>
          <a:stretch/>
        </p:blipFill>
        <p:spPr>
          <a:xfrm>
            <a:off x="4140360" y="2781360"/>
            <a:ext cx="176184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10102004190732_M4341"/>
          <p:cNvPicPr/>
          <p:nvPr/>
        </p:nvPicPr>
        <p:blipFill>
          <a:blip r:embed="rId4"/>
          <a:stretch/>
        </p:blipFill>
        <p:spPr>
          <a:xfrm>
            <a:off x="5724360" y="3860640"/>
            <a:ext cx="1381320" cy="2086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8" descr="10102004190732_M4341"/>
          <p:cNvPicPr/>
          <p:nvPr/>
        </p:nvPicPr>
        <p:blipFill>
          <a:blip r:embed="rId5"/>
          <a:stretch/>
        </p:blipFill>
        <p:spPr>
          <a:xfrm>
            <a:off x="7020000" y="4581360"/>
            <a:ext cx="1047600" cy="1584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10102004190732_M4341"/>
          <p:cNvPicPr/>
          <p:nvPr/>
        </p:nvPicPr>
        <p:blipFill>
          <a:blip r:embed="rId6"/>
          <a:stretch/>
        </p:blipFill>
        <p:spPr>
          <a:xfrm>
            <a:off x="8101080" y="5300640"/>
            <a:ext cx="76176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89 -0.00509 L 0.54062 -0.00509 L 0.54062 0.37014 L 0.13889 0.37014 L 0.13889 -0.00509 Z">
                                      <p:cBhvr>
                                        <p:cTn id="50" dur="3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1944 -0.13102 E">
                                      <p:cBhvr>
                                        <p:cTn id="86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55556E-006 L -0.40156 -0.29399 E">
                                      <p:cBhvr>
                                        <p:cTn id="131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4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1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75 0.07893 L -0.54809 -0.40394 E">
                                      <p:cBhvr>
                                        <p:cTn id="17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7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000"/>
                            </p:stCondLst>
                            <p:childTnLst>
                              <p:par>
                                <p:cTn id="18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6000"/>
                            </p:stCondLst>
                            <p:childTnLst>
                              <p:par>
                                <p:cTn id="21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-0.06296 L -0.67153 -0.50416 E">
                                      <p:cBhvr>
                                        <p:cTn id="220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3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7000"/>
                            </p:stCondLst>
                            <p:childTnLst>
                              <p:par>
                                <p:cTn id="2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9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1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3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77951 -0.57755 E">
                                      <p:cBhvr>
                                        <p:cTn id="264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60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8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0"/>
                            </p:stCondLst>
                            <p:childTnLst>
                              <p:par>
                                <p:cTn id="27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2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9:48Z</dcterms:created>
  <dc:creator>Кирилл</dc:creator>
  <dc:description/>
  <dc:language>en-US</dc:language>
  <cp:lastModifiedBy>1</cp:lastModifiedBy>
  <dcterms:modified xsi:type="dcterms:W3CDTF">2019-02-22T10:42:02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