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18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0.gif" ContentType="image/gif"/>
  <Override PartName="/ppt/media/image9.jpeg" ContentType="image/jpeg"/>
  <Override PartName="/ppt/media/image16.png" ContentType="image/png"/>
  <Override PartName="/ppt/media/image13.gif" ContentType="image/gif"/>
  <Override PartName="/ppt/media/image28.png" ContentType="image/png"/>
  <Override PartName="/ppt/media/image38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gif" ContentType="image/gif"/>
  <Override PartName="/ppt/media/image1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2D66-1A72-4374-BC9F-D5F96F31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5D7-7B47-4108-9802-B32E0408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613AB-5E11-49C7-8CD9-94CBFD53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CBA01-070A-4C6F-8346-691D3FE3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17298-7C03-4CC5-A7AF-C4421175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9D9F2-2121-4647-BDE5-AAF4A619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38D2F-A615-4FBB-9405-0B92CC2E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9627C-8102-4F72-87F0-ABB218D8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25FC8-F39E-4D87-9837-2B16FAF0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795CE-6466-4A27-BDD0-14BA6676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6954D-259A-42EA-93CC-046D573C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174B7-DE48-4CF3-BC8E-E1873162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752-358C-43DA-A0F4-0706CD42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852E4-C615-4372-A0C7-C2B0B2D5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DF4E2-3A90-4D2F-94AA-D6BF503E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2F406-59D0-45CA-8081-F09F9D0D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2BE0C-3100-4818-887B-8480BEA8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E2E13-2E04-423F-9BB3-D6BC0B2F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B7E70-E7AD-4222-A369-12B7956F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C9266-E190-44C5-8D38-034FA00B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FCD94-A074-41DA-843A-10B97906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3FC3B-94F8-4E15-87E6-E9A2D846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0830C-D739-49BB-B7DA-05C05F58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611-523F-4F01-9F85-7D1337AE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1A329-3140-4F1B-BC3F-31C4E454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03EDA-9333-41F1-9F4C-2E7491A7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E3E87-1A1C-4B3C-8C69-37986048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AEF06-8013-4460-B1C4-C33FCACD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322D5-B846-4712-88F6-0FA0F215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CB01F-A011-4C61-90D2-44369BD9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8DB31-348E-48CA-860D-8C9A0F68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35BC0-AB77-4138-BACA-D25DD4EC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C7AF7-D4FC-4CC4-A551-9FFE2878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3D22E-95B7-4F62-99E0-A069F326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CA47-C0DA-4C58-8E1F-A26BAC7D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F2D04-7BF6-405D-857B-5BCC5EBF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E818F-B09E-4C5E-AED7-CA1A984F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E8892-03D9-4E95-919D-571D0708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D6F57-610C-4009-A14F-AE55B029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13ED7-DD70-4993-8FBF-0A959896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59082-317F-46B6-AD83-BE0F0E5D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8CCF2-F5A5-43D1-B8F7-B3DC4B15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5A0D2-8611-466F-971F-239122C0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34A7D-E51B-46D9-BE9F-F39289CF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0EAFB-C716-4F55-B325-8001AB31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0625-DE8E-49FC-BB45-DD47B7E9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2516D-FFC7-40A0-971B-CFBA180E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AB817-4350-472F-B757-134C3C89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0B0A7-9D13-4980-82F3-EC6FC938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B1B6D-8CB4-4CC9-A63B-CF900CBE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8D99E-7881-4553-BB94-9D15CAC9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D434-0F76-49EA-A6F6-BF653389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4B35-4386-4317-9458-85333053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90D9-D33F-415B-9DBA-512D51E7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64DE-034C-4017-830F-2377A660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D5EF-BC67-4982-B022-17C987CA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94AC-B45B-4BC6-A594-96D5CAD9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2ACA-4E30-4389-A27C-7ADEBE02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BC91-0ADD-48F1-9BDE-807CB7BF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FA79-2A20-4CDC-A9B8-FAB8FAC3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06A8-2924-420D-BF42-3FCC7FBC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4DC5-8FAF-4C44-9496-C0E8DE1B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D09F7-A406-482F-8C2D-B9365F3C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FC601-543B-49DC-A553-70EF586B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ED238-70C9-44E8-B2ED-17F9194C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A1D23-40EF-4B12-BDEF-8A0D2DC6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6EC19-68A1-44F9-8C2D-A9A29EAC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454-7D1F-4FF3-914E-FACA0A68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DA1FF-4061-41B7-9D09-864FA781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652D4-854D-4178-AC55-77DF32F8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19303-34B7-4F38-A848-C4CBBEEA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D9DEB-D150-4069-9E41-A68D9354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97B8B-1F17-42B1-9466-261D56DD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FE506-C3A0-4377-AEFE-CE588A94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06FD1-4D1F-4538-AC16-9C44351F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4D787-9613-47F9-BB23-C57AC8DD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1D19C-4E10-42E5-B8F6-D8AC495D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EEAD9-E03B-4B8D-850F-8888D2F5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DA0-11FC-4CAA-A5CF-427DACBD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6B44A-A616-4201-88D2-0DEBA7A7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1FDFF-F7BC-49EE-A814-3C53E931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9097A-813B-41B2-8575-2648C977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3795E-CE40-4AFC-98CA-5E5B6503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14210-ED42-441E-B8C7-7B63870B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AAD7E-1FAF-4F89-BAA4-2B5D7E11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7264A-32DD-4FF3-B656-B6BB0872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E325C-C654-4127-B304-5733F79C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09A69-6F14-4317-B0FD-5051286C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AED98-D4E8-4F85-A7AA-5D649F4A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A3B6-562F-4DB4-8C9E-748D7082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42287-6758-496A-9D6C-5F0AFCBC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31E60-09C3-4207-95EF-4212ADF4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97317-DD1C-4B93-9B7F-DA5C3841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6413E-2F3F-464E-B965-E4B48089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261CB-0E3F-4EF2-BB24-E55BB018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FCFB6-A0EB-4E1F-BF37-CD6B243D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AA3DE-3437-44C6-B669-12D91283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06E2E-7192-49B5-BE91-D70134E2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A8C40-C37F-401F-8155-686681CB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FCE76-4C7C-4F0B-A48E-B8D9380D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7CA3-4FA7-436D-A28C-0DBDC4F3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87F5B-B1DF-4BC3-B90E-C969863F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3B0CC-3F72-4BF7-9D2A-C0B3D48B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C7092-E778-4143-8104-E59BF2F8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72362-A493-4D65-B5A2-2342B976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16B2D-5C1E-46F5-B0D2-633E50ED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84D20-1C30-43AA-9A3B-21E48DB6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4464B-E157-4EB3-ADDA-F49DB161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361FE-BE3F-4552-8CA6-FD04162A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52BE7-4852-41F8-A3A4-8F1892B1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0B2A2-BBAD-420B-98AA-F4A52899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E478-3816-4AC2-89ED-AF61D9CD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A90FA-7701-4FDC-94F2-AE554C9B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4B8A8-90F6-479E-8615-3DD876A2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B8B87-AD7F-4AF5-A91A-5C74442E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862D5-6BBE-4587-A919-CBE6CC01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A4044-444A-4C0C-88E6-622DF5D2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93EE3-9F2B-4E10-98D1-5D6E6B71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2CFED-9BC1-4F7B-8BB4-2D763DA6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7F0CB-5D20-49F8-A8E2-1C47A266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39CBC-E47C-425C-B3E4-19DDE752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3FF2D-4CC9-4694-91E7-B5C23529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1807-6A69-48B4-9A70-3FE44A81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192F0-C0C2-440E-BB41-81BC8CD1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58330-1F2C-45CD-8689-5DE2950D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FDB32-900F-4D8D-B1E1-6C538E97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E02D5-4ECB-459F-B1F0-51A9DB25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A89C8-3970-4CB5-9C1E-A40BAA71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075A2-1B88-4EF5-8FBD-23C44350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04FD6-A699-452A-B47A-0A2B6B83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64C6E-3972-43C9-A57D-FCF691D3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98139-BA84-4032-BA61-0ACA5C00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E82A0-396C-4BB3-B865-A5C939B0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656-7F49-4112-A929-5205021D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CEBCE-D822-4F1D-804F-BA494997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ADB5B-7BB1-4C01-90BB-453A412D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857C3-267C-40C1-BC44-8AF12FD1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1B6DB-E954-48A3-A821-14D5BE04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7CAD1-DB47-4F7A-882E-9F033D76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E1376-D978-452C-B98E-0B2AD117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DD67A-D823-487E-AF17-AA199496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06159-0B19-404A-B5E5-521F52C7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13E2B-C95B-4E6A-AC14-67B3DD88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C6875-79C8-4EA7-83F7-83718C5C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6B7D-D5D7-40DA-821B-9A50B850B2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0C71-66DF-4C18-A498-79DB201B5A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AB73-814C-423F-BEC5-8A576A8669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A1A7-5B03-4874-A6A9-5C5DE1ADC9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24C9-B529-44E7-8794-A6709D692A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A20B-DB72-44E6-823C-C497B68EFE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BC32-1F58-4528-BB0A-3A145E2BB8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85CB-9DA6-4C09-BF9C-8BCD35808D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2861-8E8A-4A07-A8CD-08687FFC2E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2494-D7CC-4F79-8D2A-E30E3DCA8E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F09A-3625-4748-A6A5-28E87705CB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5234-2A65-45D3-ADFD-4DC6C185FA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1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В гости к Биму и Бому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5" descr="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G:\ДОМИКИ\7.jpg"/>
          <p:cNvPicPr/>
          <p:nvPr/>
        </p:nvPicPr>
        <p:blipFill>
          <a:blip r:embed="rId3"/>
          <a:stretch/>
        </p:blipFill>
        <p:spPr>
          <a:xfrm>
            <a:off x="0" y="1440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C:\Users\User\Documents\избр.картинки\анимашки\анимашки избр\apogoda-9.gif"/>
          <p:cNvPicPr/>
          <p:nvPr/>
        </p:nvPicPr>
        <p:blipFill>
          <a:blip r:embed="rId4"/>
          <a:stretch/>
        </p:blipFill>
        <p:spPr>
          <a:xfrm rot="21088800">
            <a:off x="263160" y="328680"/>
            <a:ext cx="1676520" cy="1752480"/>
          </a:xfrm>
          <a:prstGeom prst="rect">
            <a:avLst/>
          </a:prstGeom>
          <a:ln w="0">
            <a:noFill/>
          </a:ln>
        </p:spPr>
      </p:pic>
      <p:sp>
        <p:nvSpPr>
          <p:cNvPr id="497" name="Прямоугольник 14"/>
          <p:cNvSpPr/>
          <p:nvPr/>
        </p:nvSpPr>
        <p:spPr>
          <a:xfrm>
            <a:off x="446040" y="2362320"/>
            <a:ext cx="854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есной детский сад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17" descr="http://shostka-dnz9.info/wp-content/uploads/2014/02/0_6ffe2_9a012094_XL.png"/>
          <p:cNvPicPr/>
          <p:nvPr/>
        </p:nvPicPr>
        <p:blipFill>
          <a:blip r:embed="rId5"/>
          <a:stretch/>
        </p:blipFill>
        <p:spPr>
          <a:xfrm>
            <a:off x="2743200" y="3429000"/>
            <a:ext cx="3581280" cy="33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http://school20serov.ucoz.ru/foto2016/190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"/>
          <p:cNvGraphicFramePr/>
          <p:nvPr/>
        </p:nvGraphicFramePr>
        <p:xfrm>
          <a:off x="152280" y="3048120"/>
          <a:ext cx="8763120" cy="2057400"/>
        </p:xfrm>
        <a:graphic>
          <a:graphicData uri="http://schemas.openxmlformats.org/drawingml/2006/table">
            <a:tbl>
              <a:tblPr/>
              <a:tblGrid>
                <a:gridCol w="1752840"/>
                <a:gridCol w="1752480"/>
                <a:gridCol w="1752480"/>
                <a:gridCol w="1752840"/>
                <a:gridCol w="175248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pic>
        <p:nvPicPr>
          <p:cNvPr id="535" name="Picture 2" descr="http://www2.flashgamehq.com/images/games_10/blue-circle/blue-circle.jpg"/>
          <p:cNvPicPr/>
          <p:nvPr/>
        </p:nvPicPr>
        <p:blipFill>
          <a:blip r:embed="rId1"/>
          <a:stretch/>
        </p:blipFill>
        <p:spPr>
          <a:xfrm>
            <a:off x="152280" y="3200400"/>
            <a:ext cx="1676520" cy="1600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" descr="http://www2.flashgamehq.com/images/games_10/blue-circle/blue-circle.jpg"/>
          <p:cNvPicPr/>
          <p:nvPr/>
        </p:nvPicPr>
        <p:blipFill>
          <a:blip r:embed="rId2"/>
          <a:stretch/>
        </p:blipFill>
        <p:spPr>
          <a:xfrm>
            <a:off x="1981080" y="3233880"/>
            <a:ext cx="1676520" cy="16002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http://www2.flashgamehq.com/images/games_10/blue-circle/blue-circle.jpg"/>
          <p:cNvPicPr/>
          <p:nvPr/>
        </p:nvPicPr>
        <p:blipFill>
          <a:blip r:embed="rId3"/>
          <a:stretch/>
        </p:blipFill>
        <p:spPr>
          <a:xfrm>
            <a:off x="3691080" y="3233880"/>
            <a:ext cx="1676160" cy="16002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http://www2.flashgamehq.com/images/games_10/blue-circle/blue-circle.jpg"/>
          <p:cNvPicPr/>
          <p:nvPr/>
        </p:nvPicPr>
        <p:blipFill>
          <a:blip r:embed="rId4"/>
          <a:stretch/>
        </p:blipFill>
        <p:spPr>
          <a:xfrm>
            <a:off x="5464080" y="3276720"/>
            <a:ext cx="1676520" cy="16002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http://top-bal.ru/pars_docs/refs/40/39427/39427_html_5a7433f3.gif"/>
          <p:cNvPicPr/>
          <p:nvPr/>
        </p:nvPicPr>
        <p:blipFill>
          <a:blip r:embed="rId5"/>
          <a:stretch/>
        </p:blipFill>
        <p:spPr>
          <a:xfrm>
            <a:off x="7238880" y="3276720"/>
            <a:ext cx="16542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"/>
          <p:cNvGraphicFramePr/>
          <p:nvPr/>
        </p:nvGraphicFramePr>
        <p:xfrm>
          <a:off x="152280" y="3048120"/>
          <a:ext cx="8763120" cy="2057400"/>
        </p:xfrm>
        <a:graphic>
          <a:graphicData uri="http://schemas.openxmlformats.org/drawingml/2006/table">
            <a:tbl>
              <a:tblPr/>
              <a:tblGrid>
                <a:gridCol w="1752840"/>
                <a:gridCol w="1752480"/>
                <a:gridCol w="1752480"/>
                <a:gridCol w="1752840"/>
                <a:gridCol w="175248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pic>
        <p:nvPicPr>
          <p:cNvPr id="541" name="Picture 2" descr="http://www.sharlottastock.ru/pages/wp-content/uploads/2011/10/image0201.jpg"/>
          <p:cNvPicPr/>
          <p:nvPr/>
        </p:nvPicPr>
        <p:blipFill>
          <a:blip r:embed="rId1"/>
          <a:stretch/>
        </p:blipFill>
        <p:spPr>
          <a:xfrm>
            <a:off x="228600" y="3209760"/>
            <a:ext cx="1679400" cy="17337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http://www.sharlottastock.ru/pages/wp-content/uploads/2011/10/image0201.jpg"/>
          <p:cNvPicPr/>
          <p:nvPr/>
        </p:nvPicPr>
        <p:blipFill>
          <a:blip r:embed="rId2"/>
          <a:stretch/>
        </p:blipFill>
        <p:spPr>
          <a:xfrm>
            <a:off x="1908000" y="3209760"/>
            <a:ext cx="1679760" cy="17337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http://www.sharlottastock.ru/pages/wp-content/uploads/2011/10/image0201.jpg"/>
          <p:cNvPicPr/>
          <p:nvPr/>
        </p:nvPicPr>
        <p:blipFill>
          <a:blip r:embed="rId3"/>
          <a:stretch/>
        </p:blipFill>
        <p:spPr>
          <a:xfrm>
            <a:off x="5389560" y="3259080"/>
            <a:ext cx="1679400" cy="17337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http://www.sharlottastock.ru/pages/wp-content/uploads/2011/10/image0201.jpg"/>
          <p:cNvPicPr/>
          <p:nvPr/>
        </p:nvPicPr>
        <p:blipFill>
          <a:blip r:embed="rId4"/>
          <a:stretch/>
        </p:blipFill>
        <p:spPr>
          <a:xfrm>
            <a:off x="7236000" y="3259080"/>
            <a:ext cx="1679400" cy="17337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http://img4.nevesta.info/content/user/331700/331643_1411126156.jpg"/>
          <p:cNvPicPr/>
          <p:nvPr/>
        </p:nvPicPr>
        <p:blipFill>
          <a:blip r:embed="rId5"/>
          <a:stretch/>
        </p:blipFill>
        <p:spPr>
          <a:xfrm>
            <a:off x="3630600" y="328788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6" descr="https://dl27.photosklad.net/20121023/aff7161064ac7b36c51212ac2a4883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547" name="TextBox 1"/>
          <p:cNvSpPr/>
          <p:nvPr/>
        </p:nvSpPr>
        <p:spPr>
          <a:xfrm>
            <a:off x="0" y="6094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раво, влево- поверн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етском саду очут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Голос 007.m4a" descr=""/>
          <p:cNvPicPr/>
          <p:nvPr/>
        </p:nvPicPr>
        <p:blipFill>
          <a:blip r:embed="rId1"/>
          <a:stretch/>
        </p:blipFill>
        <p:spPr>
          <a:xfrm>
            <a:off x="7621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0" name="Голос 008.m4a" descr=""/>
          <p:cNvPicPr/>
          <p:nvPr/>
        </p:nvPicPr>
        <p:blipFill>
          <a:blip r:embed="rId2"/>
          <a:stretch/>
        </p:blipFill>
        <p:spPr>
          <a:xfrm>
            <a:off x="2128680" y="6031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1" descr="http://img-fotki.yandex.ru/get/6513/47407354.74f/0_f1326_3255f778_orig.png"/>
          <p:cNvPicPr/>
          <p:nvPr/>
        </p:nvPicPr>
        <p:blipFill>
          <a:blip r:embed="rId3"/>
          <a:stretch/>
        </p:blipFill>
        <p:spPr>
          <a:xfrm>
            <a:off x="38088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2" descr="http://online100.ru/img/580d94741e45a.jpg"/>
          <p:cNvPicPr/>
          <p:nvPr/>
        </p:nvPicPr>
        <p:blipFill>
          <a:blip r:embed="rId1"/>
          <a:stretch/>
        </p:blipFill>
        <p:spPr>
          <a:xfrm>
            <a:off x="27000" y="0"/>
            <a:ext cx="9117000" cy="68580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C:\Users\User\Documents\избр.картинки\анимашки\анимашки избр\apogoda-9.gif"/>
          <p:cNvPicPr/>
          <p:nvPr/>
        </p:nvPicPr>
        <p:blipFill>
          <a:blip r:embed="rId2"/>
          <a:stretch/>
        </p:blipFill>
        <p:spPr>
          <a:xfrm rot="21088800">
            <a:off x="5149440" y="-180720"/>
            <a:ext cx="1676520" cy="175284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6"/>
          <p:cNvSpPr/>
          <p:nvPr/>
        </p:nvSpPr>
        <p:spPr>
          <a:xfrm>
            <a:off x="0" y="30924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оляне теремок, терем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не низок, не высок - не выс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емок ведь не простой, это детский сад для лесных - звер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5" descr="http://www.keblog.ru/uploads/938_big.jpg"/>
          <p:cNvPicPr/>
          <p:nvPr/>
        </p:nvPicPr>
        <p:blipFill>
          <a:blip r:embed="rId1"/>
          <a:stretch/>
        </p:blipFill>
        <p:spPr>
          <a:xfrm>
            <a:off x="457200" y="941400"/>
            <a:ext cx="4952880" cy="50418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5" descr="http://animated-images.su/_ph/21/2/258508478.gif"/>
          <p:cNvPicPr/>
          <p:nvPr/>
        </p:nvPicPr>
        <p:blipFill>
          <a:blip r:embed="rId2"/>
          <a:stretch/>
        </p:blipFill>
        <p:spPr>
          <a:xfrm>
            <a:off x="6248520" y="3462480"/>
            <a:ext cx="1981080" cy="2617560"/>
          </a:xfrm>
          <a:prstGeom prst="rect">
            <a:avLst/>
          </a:prstGeom>
          <a:ln w="0">
            <a:noFill/>
          </a:ln>
        </p:spPr>
      </p:pic>
      <p:sp>
        <p:nvSpPr>
          <p:cNvPr id="508" name="TextBox 1"/>
          <p:cNvSpPr/>
          <p:nvPr/>
        </p:nvSpPr>
        <p:spPr>
          <a:xfrm>
            <a:off x="5638680" y="1523880"/>
            <a:ext cx="3733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двери весит зам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то его открыть бы смог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замочек покрути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замочек постуча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замочек потянули и откры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http://allday1.com/imagedb/01/6/c384a433ae2c0447f296e0c1883a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Прямоугольник 2"/>
          <p:cNvSpPr/>
          <p:nvPr/>
        </p:nvSpPr>
        <p:spPr>
          <a:xfrm>
            <a:off x="762120" y="1447920"/>
            <a:ext cx="739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ним утром лесною троп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шили звери в сад гурь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мамой – лисицей крался… лисен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мамой – ежихой катился… ежон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мамой – медведицей шёл... медвежон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мамой – зайчихой косые… зайч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лчица вела за собою… волч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мамы и дети спешат в детский с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http://www.artscroll.ru/Images/2008/z/Zhdanova%20Lyubov/0000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http://s10.rimg.info/cf72d4b0bc57170c5aecb04076e6f88e.gif"/>
          <p:cNvPicPr/>
          <p:nvPr/>
        </p:nvPicPr>
        <p:blipFill>
          <a:blip r:embed="rId2"/>
          <a:stretch/>
        </p:blipFill>
        <p:spPr>
          <a:xfrm>
            <a:off x="-395280" y="3657600"/>
            <a:ext cx="2608200" cy="2933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2" descr="http://s10.rimg.info/cf72d4b0bc57170c5aecb04076e6f88e.gif"/>
          <p:cNvPicPr/>
          <p:nvPr/>
        </p:nvPicPr>
        <p:blipFill>
          <a:blip r:embed="rId3"/>
          <a:stretch/>
        </p:blipFill>
        <p:spPr>
          <a:xfrm>
            <a:off x="2795760" y="3124080"/>
            <a:ext cx="3997080" cy="44960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4" descr="http://pandia.ru/text/78/117/images/image002_136.gif"/>
          <p:cNvPicPr/>
          <p:nvPr/>
        </p:nvPicPr>
        <p:blipFill>
          <a:blip r:embed="rId4"/>
          <a:stretch/>
        </p:blipFill>
        <p:spPr>
          <a:xfrm>
            <a:off x="76320" y="762120"/>
            <a:ext cx="1666800" cy="24382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6" descr="https://fs00.infourok.ru/images/doc/298/298072/hello_html_m29d7a78f.png"/>
          <p:cNvPicPr/>
          <p:nvPr/>
        </p:nvPicPr>
        <p:blipFill>
          <a:blip r:embed="rId5"/>
          <a:stretch/>
        </p:blipFill>
        <p:spPr>
          <a:xfrm>
            <a:off x="7543800" y="4606920"/>
            <a:ext cx="1355760" cy="22510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http://samlib.ru/img/d/dworkowich_a/14_skazka1/ezhik2.png"/>
          <p:cNvPicPr/>
          <p:nvPr/>
        </p:nvPicPr>
        <p:blipFill>
          <a:blip r:embed="rId6"/>
          <a:stretch/>
        </p:blipFill>
        <p:spPr>
          <a:xfrm>
            <a:off x="3352680" y="3429000"/>
            <a:ext cx="114012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http://img0.liveinternet.ru/images/attach/c/0/120/524/120524364_5201818_71973736_multik51.png"/>
          <p:cNvPicPr/>
          <p:nvPr/>
        </p:nvPicPr>
        <p:blipFill>
          <a:blip r:embed="rId1"/>
          <a:stretch/>
        </p:blipFill>
        <p:spPr>
          <a:xfrm>
            <a:off x="5987880" y="3962520"/>
            <a:ext cx="1513080" cy="22701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"/>
          <p:cNvPicPr/>
          <p:nvPr/>
        </p:nvPicPr>
        <p:blipFill>
          <a:blip r:embed="rId2"/>
          <a:stretch/>
        </p:blipFill>
        <p:spPr>
          <a:xfrm>
            <a:off x="372960" y="2793960"/>
            <a:ext cx="2446560" cy="34099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34" descr="fent_l_1_1"/>
          <p:cNvPicPr/>
          <p:nvPr/>
        </p:nvPicPr>
        <p:blipFill>
          <a:blip r:embed="rId3"/>
          <a:stretch/>
        </p:blipFill>
        <p:spPr>
          <a:xfrm>
            <a:off x="3886200" y="1371600"/>
            <a:ext cx="1658880" cy="26845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"/>
          <p:cNvPicPr/>
          <p:nvPr/>
        </p:nvPicPr>
        <p:blipFill>
          <a:blip r:embed="rId4"/>
          <a:stretch/>
        </p:blipFill>
        <p:spPr>
          <a:xfrm>
            <a:off x="6629400" y="843120"/>
            <a:ext cx="1743120" cy="25556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"/>
          <p:cNvPicPr/>
          <p:nvPr/>
        </p:nvPicPr>
        <p:blipFill>
          <a:blip r:embed="rId5"/>
          <a:stretch/>
        </p:blipFill>
        <p:spPr>
          <a:xfrm>
            <a:off x="1755720" y="831960"/>
            <a:ext cx="11448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0" y="4541760"/>
            <a:ext cx="1146240" cy="13413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"/>
          <p:cNvPicPr/>
          <p:nvPr/>
        </p:nvPicPr>
        <p:blipFill>
          <a:blip r:embed="rId2"/>
          <a:stretch/>
        </p:blipFill>
        <p:spPr>
          <a:xfrm>
            <a:off x="1447920" y="3759120"/>
            <a:ext cx="1407960" cy="21099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"/>
          <p:cNvPicPr/>
          <p:nvPr/>
        </p:nvPicPr>
        <p:blipFill>
          <a:blip r:embed="rId3"/>
          <a:stretch/>
        </p:blipFill>
        <p:spPr>
          <a:xfrm>
            <a:off x="2855880" y="3216240"/>
            <a:ext cx="1639800" cy="26528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"/>
          <p:cNvPicPr/>
          <p:nvPr/>
        </p:nvPicPr>
        <p:blipFill>
          <a:blip r:embed="rId4"/>
          <a:stretch/>
        </p:blipFill>
        <p:spPr>
          <a:xfrm>
            <a:off x="4344840" y="2563920"/>
            <a:ext cx="2335320" cy="34257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"/>
          <p:cNvPicPr/>
          <p:nvPr/>
        </p:nvPicPr>
        <p:blipFill>
          <a:blip r:embed="rId5"/>
          <a:stretch/>
        </p:blipFill>
        <p:spPr>
          <a:xfrm>
            <a:off x="6578640" y="1828800"/>
            <a:ext cx="2511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2" descr="10102004190732_M4341"/>
          <p:cNvPicPr/>
          <p:nvPr/>
        </p:nvPicPr>
        <p:blipFill>
          <a:blip r:embed="rId1"/>
          <a:stretch/>
        </p:blipFill>
        <p:spPr>
          <a:xfrm>
            <a:off x="0" y="228600"/>
            <a:ext cx="2714760" cy="41036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1" descr="10102004190732_M4341"/>
          <p:cNvPicPr/>
          <p:nvPr/>
        </p:nvPicPr>
        <p:blipFill>
          <a:blip r:embed="rId2"/>
          <a:stretch/>
        </p:blipFill>
        <p:spPr>
          <a:xfrm>
            <a:off x="2411280" y="1413000"/>
            <a:ext cx="2143080" cy="32382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0" descr="10102004190732_M4341"/>
          <p:cNvPicPr/>
          <p:nvPr/>
        </p:nvPicPr>
        <p:blipFill>
          <a:blip r:embed="rId3"/>
          <a:stretch/>
        </p:blipFill>
        <p:spPr>
          <a:xfrm>
            <a:off x="4140360" y="2781360"/>
            <a:ext cx="1761840" cy="2663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9" descr="10102004190732_M4341"/>
          <p:cNvPicPr/>
          <p:nvPr/>
        </p:nvPicPr>
        <p:blipFill>
          <a:blip r:embed="rId4"/>
          <a:stretch/>
        </p:blipFill>
        <p:spPr>
          <a:xfrm>
            <a:off x="5724360" y="3860640"/>
            <a:ext cx="1381320" cy="20862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8" descr="10102004190732_M4341"/>
          <p:cNvPicPr/>
          <p:nvPr/>
        </p:nvPicPr>
        <p:blipFill>
          <a:blip r:embed="rId5"/>
          <a:stretch/>
        </p:blipFill>
        <p:spPr>
          <a:xfrm>
            <a:off x="7020000" y="4581360"/>
            <a:ext cx="1047600" cy="15843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7" descr="10102004190732_M4341"/>
          <p:cNvPicPr/>
          <p:nvPr/>
        </p:nvPicPr>
        <p:blipFill>
          <a:blip r:embed="rId6"/>
          <a:stretch/>
        </p:blipFill>
        <p:spPr>
          <a:xfrm>
            <a:off x="8101080" y="5300640"/>
            <a:ext cx="76176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889 -0.00509 L 0.54062 -0.00509 L 0.54062 0.37014 L 0.13889 0.37014 L 0.13889 -0.00509 Z">
                                      <p:cBhvr>
                                        <p:cTn id="50" dur="3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3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0"/>
                            </p:stCondLst>
                            <p:childTnLst>
                              <p:par>
                                <p:cTn id="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7000"/>
                            </p:stCondLst>
                            <p:childTnLst>
                              <p:par>
                                <p:cTn id="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7 L -0.21944 -0.13102 E">
                                      <p:cBhvr>
                                        <p:cTn id="86" dur="2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90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0"/>
                            </p:stCondLst>
                            <p:childTnLst>
                              <p:par>
                                <p:cTn id="9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2000"/>
                            </p:stCondLst>
                            <p:childTnLst>
                              <p:par>
                                <p:cTn id="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0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2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8000"/>
                            </p:stCondLst>
                            <p:childTnLst>
                              <p:par>
                                <p:cTn id="12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55556E-006 L -0.40156 -0.29399 E">
                                      <p:cBhvr>
                                        <p:cTn id="131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40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5000"/>
                            </p:stCondLst>
                            <p:childTnLst>
                              <p:par>
                                <p:cTn id="1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9000"/>
                            </p:stCondLst>
                            <p:childTnLst>
                              <p:par>
                                <p:cTn id="145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2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10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3000"/>
                            </p:stCondLst>
                            <p:childTnLst>
                              <p:par>
                                <p:cTn id="1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5000"/>
                            </p:stCondLst>
                            <p:childTnLst>
                              <p:par>
                                <p:cTn id="1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75 0.07893 L -0.54809 -0.40394 E">
                                      <p:cBhvr>
                                        <p:cTn id="175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70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8000"/>
                            </p:stCondLst>
                            <p:childTnLst>
                              <p:par>
                                <p:cTn id="1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2000"/>
                            </p:stCondLst>
                            <p:childTnLst>
                              <p:par>
                                <p:cTn id="189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20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4000"/>
                            </p:stCondLst>
                            <p:childTnLst>
                              <p:par>
                                <p:cTn id="1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6000"/>
                            </p:stCondLst>
                            <p:childTnLst>
                              <p:par>
                                <p:cTn id="215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0"/>
                            </p:stCondLst>
                            <p:childTnLst>
                              <p:par>
                                <p:cTn id="2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812 -0.06296 L -0.67153 -0.50416 E">
                                      <p:cBhvr>
                                        <p:cTn id="220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2000"/>
                            </p:stCondLst>
                            <p:childTnLst>
                              <p:par>
                                <p:cTn id="2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300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5000"/>
                            </p:stCondLst>
                            <p:childTnLst>
                              <p:par>
                                <p:cTn id="23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7000"/>
                            </p:stCondLst>
                            <p:childTnLst>
                              <p:par>
                                <p:cTn id="23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2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9000"/>
                            </p:stCondLst>
                            <p:childTnLst>
                              <p:par>
                                <p:cTn id="2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1000"/>
                            </p:stCondLst>
                            <p:childTnLst>
                              <p:par>
                                <p:cTn id="2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3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6 L -0.77951 -0.57755 E">
                                      <p:cBhvr>
                                        <p:cTn id="264" dur="2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5000"/>
                            </p:stCondLst>
                            <p:childTnLst>
                              <p:par>
                                <p:cTn id="2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6000"/>
                            </p:stCondLst>
                            <p:childTnLst>
                              <p:par>
                                <p:cTn id="2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8000"/>
                            </p:stCondLst>
                            <p:childTnLst>
                              <p:par>
                                <p:cTn id="2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90000"/>
                            </p:stCondLst>
                            <p:childTnLst>
                              <p:par>
                                <p:cTn id="27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20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39:48Z</dcterms:created>
  <dc:creator>Кирилл</dc:creator>
  <dc:description/>
  <dc:language>en-US</dc:language>
  <cp:lastModifiedBy>1</cp:lastModifiedBy>
  <dcterms:modified xsi:type="dcterms:W3CDTF">2019-02-22T10:42:02Z</dcterms:modified>
  <cp:revision>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