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8.wmf" ContentType="image/x-wmf"/>
  <Override PartName="/ppt/media/image27.wmf" ContentType="image/x-wmf"/>
  <Override PartName="/ppt/media/image16.jpeg" ContentType="image/jpe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A229-C9E7-4C4D-AFE4-CF6B4889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38A5-F058-48B8-84D8-E0890A17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FDC2-EBA8-4E4B-96E6-06A4C8E9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307B-223D-4D73-AE3A-7C24DF12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14C6-485D-456A-9281-F431B46C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0456-353C-42C9-BEAA-B6DEDA37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DAB4-236B-4AFA-B631-FADF6078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5311-F161-41B5-B147-149D725E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9E50-CF21-4252-A11B-38B32B21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DCAA-DEB6-4801-9333-D589CF44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8E75-F09F-4B25-9C39-8606319A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277C-A223-4865-8DD8-D421E17E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8D77-9EA9-4BD1-91DC-E8B9F9F8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E620-254E-44D8-BADF-D1634BC3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84DA-E193-4B8D-B416-5B1C0B32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6E86-022B-43C1-AE17-8C71B72D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E1C8-94F9-4B68-8876-5EA981B2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EF6AC-2AF7-4469-A635-43FC5893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DC13A-1DB7-4B42-B172-7D2810C3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CA70B-26FA-4F85-8F11-D7646BB5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994CA-4A44-4BC9-B670-2212E260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F1F84-39CE-41F9-AF94-AD9661CA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C309-2859-468D-B898-9239FC7B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AE1A8-C3D6-450D-9E08-50691401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E0E6C-5B48-4AD8-B166-82D09870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174C3-6A99-4728-8013-055DCFF0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A3D6D-8E22-4C2C-8F88-D75A4DDE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3B2AC-26A6-4D44-A988-199581E0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580A0-856E-4099-B8E5-EFE87693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BEAAB-4890-4728-92E6-B17FD209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A32AC-FB56-45DA-BF2A-EB1B93C0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619FD-1F35-4320-86AA-C821C977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D5150-3E1B-4944-9AA3-85CBDFE8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D468-EEB3-4227-92CC-E318D41D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7F9D7-E999-442A-A6D8-8E6259B2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BED4B-77D9-47F9-BAFB-1E7FDC20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6233F-0C6C-419C-8E76-C8C8F66E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0394F-6CAD-4043-9446-E007B569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BE331-0E82-47F2-AD47-CDA9776C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7CE22-4F38-4CA4-BED5-93C827DC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98076-DE9D-4B39-9BA1-AF29CFDF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3CC3D-5110-4539-BDC5-4C8B7C74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6D374-A32C-4932-93A0-A5FD8E9A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DE980-9B89-497E-9C41-AA834870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40EA-D2B4-46D3-9363-FE16F980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2D973-078D-414D-BC22-C6343593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E99CD-9B9B-4106-87D0-7025CE33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B2F96-57DD-4C3D-9E13-22A34AB0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A6029-D136-45A4-98D2-41DEC67C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5E5CF-2385-40E4-83F1-0536C3AE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278A3-4FE8-4A07-890D-52AE0B4F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9DA52-FA85-4091-B106-98278AC9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B7EC0-396C-43BB-B440-8012A659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EBDA2-9A69-4AA0-BC0A-102F1D00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B6302-86D8-4B60-AD4C-674DF931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51A0-0336-400D-B0C7-F64C108F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01421-0730-4A3C-92D7-5BB96A70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D7EA2-F3D8-476D-9CB8-8369471C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B30E5-3248-40C2-AF45-2DEA7498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A89E9-B723-40A0-98C9-DC5FC01E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C551D-6AEE-4D70-B407-F1E41203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35226-007A-48F2-AAF4-413458A9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6EEAB-A467-4067-84F6-4F37F1C3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38918-768D-44A2-A67E-51893DB1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5A7A6-1D12-4014-8603-1D075CD7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1F170-F045-4142-A4BB-8FB00780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F79B-7844-41D1-941B-E03D5CD7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B38ED-739C-4CA6-B5EB-AD35AD1B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176C7-CF52-46AE-B489-E423B8B3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8AB98-80A2-4DAD-9C8D-5F87A44A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49984-B236-4721-B3F4-37B8EC4E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DD089-6462-4655-A069-7429FE73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7F8F1-9FA6-4421-A542-CBB6FDC1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791D0-5C36-4F55-BAC9-F1D65A17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66060-878A-411A-A945-3D497A94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B56FC-5452-46A0-BD70-FB98E6DC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7689C-3240-4180-B304-A7B185A3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C75-FB37-4F66-A708-B8A6B110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B9352-E690-41D4-98AE-68DC2E3C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71414-68EC-4E59-9197-05076A3C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02108-D348-406A-AF06-07CB1B7F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1652A-F73B-4670-A62D-CB1547E2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3097D-2CDC-4476-864C-5C622890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0CE6-EB1E-4F80-AF17-8875C12D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572D-D5A7-4892-9D42-E4339CE2FC6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5138-171C-4558-B93B-CCC2FFA01EF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6BC0-006D-4620-8D8E-4A632C55486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C46F-275B-4894-A5B3-AB7EFE91597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C973-DD72-4800-B3B1-D6D365E827B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933D-53EB-4290-B89E-2C790B0B195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DE4F-322D-4CD8-9418-386866D56A9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2646360" y="1755720"/>
            <a:ext cx="6332400" cy="39067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МУНИЦИПАЛЬНОЕ БЮДЖЕТНОЕ ОБРАЗОВАТЕЛЬНОЕ УЧРЕЖДЕНИЕ СРЕДНЯЯ ОБЩЕОБРАЗОВАТЕЛЬНАЯ ШКОЛА №30 Г. ХИМКИ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ДО «Бибигон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2 этапа обучения составления синквейна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2" name="Рисунок 2" descr="C:\Users\User\AppData\Local\Temp\Rar$DI19.028\Слайд10.JPG"/>
          <p:cNvPicPr/>
          <p:nvPr/>
        </p:nvPicPr>
        <p:blipFill>
          <a:blip r:embed="rId1"/>
          <a:stretch/>
        </p:blipFill>
        <p:spPr>
          <a:xfrm>
            <a:off x="6951600" y="1549440"/>
            <a:ext cx="1727280" cy="217944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3" descr=""/>
          <p:cNvPicPr/>
          <p:nvPr/>
        </p:nvPicPr>
        <p:blipFill>
          <a:blip r:embed="rId2"/>
          <a:stretch/>
        </p:blipFill>
        <p:spPr>
          <a:xfrm>
            <a:off x="6732720" y="3860640"/>
            <a:ext cx="1952640" cy="260532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4" descr=""/>
          <p:cNvPicPr/>
          <p:nvPr/>
        </p:nvPicPr>
        <p:blipFill>
          <a:blip r:embed="rId3"/>
          <a:stretch/>
        </p:blipFill>
        <p:spPr>
          <a:xfrm>
            <a:off x="1328760" y="1425600"/>
            <a:ext cx="1728720" cy="230328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5" descr=""/>
          <p:cNvPicPr/>
          <p:nvPr/>
        </p:nvPicPr>
        <p:blipFill>
          <a:blip r:embed="rId4"/>
          <a:stretch/>
        </p:blipFill>
        <p:spPr>
          <a:xfrm>
            <a:off x="3267000" y="3952800"/>
            <a:ext cx="1814760" cy="242100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6" descr=""/>
          <p:cNvPicPr/>
          <p:nvPr/>
        </p:nvPicPr>
        <p:blipFill>
          <a:blip r:embed="rId5"/>
          <a:stretch/>
        </p:blipFill>
        <p:spPr>
          <a:xfrm>
            <a:off x="3236760" y="1440000"/>
            <a:ext cx="1814760" cy="242064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7" descr=""/>
          <p:cNvPicPr/>
          <p:nvPr/>
        </p:nvPicPr>
        <p:blipFill>
          <a:blip r:embed="rId6"/>
          <a:stretch/>
        </p:blipFill>
        <p:spPr>
          <a:xfrm>
            <a:off x="5051520" y="1268280"/>
            <a:ext cx="1727280" cy="230508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8" descr=""/>
          <p:cNvPicPr/>
          <p:nvPr/>
        </p:nvPicPr>
        <p:blipFill>
          <a:blip r:embed="rId7"/>
          <a:stretch/>
        </p:blipFill>
        <p:spPr>
          <a:xfrm>
            <a:off x="5081760" y="3624120"/>
            <a:ext cx="1869840" cy="249264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9" descr=""/>
          <p:cNvPicPr/>
          <p:nvPr/>
        </p:nvPicPr>
        <p:blipFill>
          <a:blip r:embed="rId8"/>
          <a:stretch/>
        </p:blipFill>
        <p:spPr>
          <a:xfrm>
            <a:off x="1384200" y="3935520"/>
            <a:ext cx="16351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1" name="Рисунок 4" descr=""/>
          <p:cNvPicPr/>
          <p:nvPr/>
        </p:nvPicPr>
        <p:blipFill>
          <a:blip r:embed="rId1"/>
          <a:stretch/>
        </p:blipFill>
        <p:spPr>
          <a:xfrm>
            <a:off x="1469880" y="318924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11" descr=""/>
          <p:cNvPicPr/>
          <p:nvPr/>
        </p:nvPicPr>
        <p:blipFill>
          <a:blip r:embed="rId2"/>
          <a:stretch/>
        </p:blipFill>
        <p:spPr>
          <a:xfrm>
            <a:off x="5148360" y="3429000"/>
            <a:ext cx="3103560" cy="232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Объект 5"/>
          <p:cNvGraphicFramePr/>
          <p:nvPr/>
        </p:nvGraphicFramePr>
        <p:xfrm>
          <a:off x="1736640" y="206280"/>
          <a:ext cx="6629400" cy="308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6640" y="206280"/>
                    <a:ext cx="6629400" cy="30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Материально-техническая  база ДОУ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Наше ДО «Бибигон»  открылось в июне 2016г. </a:t>
            </a:r>
            <a:br>
              <a:rPr sz="2400"/>
            </a:br>
            <a:r>
              <a:rPr b="0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 У нас  есть  территория , которую мы засадили разнообразными деревьями, кустарниками и цветами, растениями; </a:t>
            </a:r>
            <a:br>
              <a:rPr sz="2400"/>
            </a:br>
            <a:r>
              <a:rPr b="0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 создавали мини-лаборатории в группе ;</a:t>
            </a:r>
            <a:br>
              <a:rPr sz="2400"/>
            </a:br>
            <a:r>
              <a:rPr b="0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 обогатили лексический материал, собрали картотеку;</a:t>
            </a:r>
            <a:br>
              <a:rPr sz="2400"/>
            </a:br>
            <a:r>
              <a:rPr b="0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 обогатили предметно-развивающую среду в группе:  разнообразные альбомы, гербарии, фотоальбомы, энциклопедии, календари, картотеки  развивающих дидактических  игр и многое другое.</a:t>
            </a:r>
            <a:br>
              <a:rPr sz="2400"/>
            </a:br>
            <a:r>
              <a:rPr b="0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 систематизировали  накопленный опыт для внедрения в практическую деятельность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1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678672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76360" y="907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800" spc="-1" strike="noStrike">
                <a:solidFill>
                  <a:srgbClr val="996633"/>
                </a:solidFill>
                <a:latin typeface="Times New Roman"/>
                <a:ea typeface="Calibri"/>
              </a:rPr>
              <a:t>Таким образом, инновационная деятельность в ДОУ принесла свои плоды и результаты. Значительно увеличился уровень познавательной активности детей. Воспитанники принимают активное участие в региональных, городских конкурсах, смотрах, соревнованиях, награждены дипломами.</a:t>
            </a:r>
            <a:br>
              <a:rPr sz="1800"/>
            </a:br>
            <a:br>
              <a:rPr sz="3200"/>
            </a:br>
            <a:br>
              <a:rPr sz="3200"/>
            </a:br>
            <a:br>
              <a:rPr sz="1600"/>
            </a:br>
            <a:br>
              <a:rPr sz="16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Прямоугольник 3"/>
          <p:cNvSpPr/>
          <p:nvPr/>
        </p:nvSpPr>
        <p:spPr>
          <a:xfrm>
            <a:off x="2987640" y="328464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484360" y="1125000"/>
            <a:ext cx="6516720" cy="36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   </a:t>
            </a:r>
            <a:br>
              <a:rPr sz="1400"/>
            </a:br>
            <a:r>
              <a:rPr b="1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    </a:t>
            </a:r>
            <a:r>
              <a:rPr b="1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ИННОВАЦИОННАЯ ДЕЯТЕЛЬНОСТЬ – ПРОЦЕСС, КОТОРЫЙ РАЗВИВАЕТСЯ ПО ОПРЕДЕЛЕННЫМ ЭТАПАМ И ПОЗВОЛЯЕТ УЧРЕЖДЕНИЮ ПЕРЕЙТИ НА БОЛЕЕ КАЧЕСТВЕННУЮ СТУПЕНЬ РАЗВИТИЯ ПРИ СОЗДАНИИ, РАЗРАБОТКЕ, ОСВОЕНИИ, ИСПОЛЬЗОВАНИИ И РАСПРОСТРАНЕНИИ НОВШЕСТВ (НОВЫХ МЕТОДОВ, МЕТОДИК, ТЕХНОЛОГИЙ, ПРОГРАММ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    ПРИОРИТЕТНЫМ НАПРАВЛЕНИЕМ В РАБОТЕ ДЕТСКОГО САДА ЯВЛЯЕТСЯ ПОЗНАВАТЕЛЬНО–РЕЧЕВОЕ РАЗВИТИЕ ДЕТЕЙ ДОШКОЛЬНОГО ВОЗРАСТА В ЭКОЛОГИЧЕСКОЙ ДЕЯТЕЛЬНОСТИ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   НА БАЗЕ ПРОЕКТА: «ЭКОЛОГИЧЕСКОЕ И РЕЧЕВОЕ РАЗВИТИЕ ДОШКОЛЬНИКОВ 5-7 ЛЕТ С НАРУШЕНИЯМИ РЕЧИ В КОРРЕКЦИОННО-ОБРАЗОВАТЕЛЬНОЙ ДЕЯТЕЛЬНОСТИ ДОУ», МЫ НАЧАЛИ ИННОВАЦИОННУЮ РАБОТУ С ГЛУБОКОГО ВСЕСТОРОННЕГО АНАЛИЗА ВОСПИТАТЕЛЬНО-ОБРАЗОВАТЕЛЬНОГО ПРОЦЕССА, ПРОФЕССИОНАЛЬНЫХ И ТВОРЧЕСКИХ ВОЗМОЖНОСТЕЙ ПЕДАГОГОВ. В РЕЗУЛЬТАТЕ ЧЕГО БЫЛИ РАЗРАБОТАНЫ И ВНЕДРЕНЫ В ДЕЯТЕЛЬНОСТЬ ДОУ ЕЩЕ ДВА ПРОЕКТА: </a:t>
            </a:r>
            <a:br>
              <a:rPr sz="1400"/>
            </a:br>
            <a:r>
              <a:rPr b="1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1. «ТЕРРИТОРИЯ ДЕТСКОГО САДА – МЕСТО ДЛЯ ИГРЫ, ОТДЫХА, СПОРТА И ПОЗНАВАТЕЛЬНОГО РАЗВИТИЯ.»</a:t>
            </a:r>
            <a:br>
              <a:rPr sz="1400"/>
            </a:br>
            <a:r>
              <a:rPr b="1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2. «ЭКОЛОГИЧЕСКАЯ ТРОПА В ДЕТСКОМ САДУ С ИСПОЛЬЗОВАНИЕМ МНЕМО-ТАБЛИЦ»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56000" y="404640"/>
            <a:ext cx="626400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НАПРАВЛЕНИЕ ИННОВАЦИОННОГО ПРОЕКТ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АКТУАЛЬНОСТЬ: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Ведущей тенденцией современного этапа образования  является интеграция детей с отклонениями в развитии в систему массовой школы и сокращение количества специальных образовательных учреждений, в частности школ V  вида. В условиях, когда дети с общим недоразвитием речи превалируют в потоке всех детей поступающих в старшие группы дошкольных учреждений, ранняя комплексная коррекция открывает возможности включения значительной части дошкольников с речевыми нарушениями в поток общеобразовательной школы.</a:t>
            </a:r>
            <a:br>
              <a:rPr sz="1400"/>
            </a:br>
            <a:r>
              <a:rPr b="0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   Общее недоразвитие речи (ОНР) у детей с нормальным слухом и сохранным интеллектом представляет собой нарушение, охватывающее как фонетико-фонематическую, так и лексико-грамматическую системы языка.</a:t>
            </a:r>
            <a:br>
              <a:rPr sz="1400"/>
            </a:br>
            <a:r>
              <a:rPr b="0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Концептуальный подход к проблеме преодоления общего недоразвития речи предполагает комплексное планирование и реализацию логопедической работы с этими детьми. Компенсация речевого недоразвития ребенка, его социальная адаптация и подготовка к дальнейшему обучению в школе диктуют необходимость овладения теми же видами деятельности, которые предусмотрены программой массового детского сада.</a:t>
            </a:r>
            <a:br>
              <a:rPr sz="1400"/>
            </a:br>
            <a:r>
              <a:rPr b="0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  Поэтому особое внимание должно уделяться развитию познавательных интересов детей. При этом необходимо учитывать индивидуальное отставание в формировании познавательной активности, которое складывается у детей под влиянием речевого нарушения, сужения коммуникативных контактов с окружающими, неправильных приемов семейного воспитания и других причин.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3500"/>
            </a:br>
            <a:br>
              <a:rPr sz="3500"/>
            </a:b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1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Проект «Речь и природа. Мы вместе или врозь?» разработан </a:t>
            </a: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для детей старшего дошкольного возраста и имеет </a:t>
            </a:r>
            <a:r>
              <a:rPr b="1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ПРАКТИЧЕСКУЮ НАПРАВЛЕННОСТЬ НА ЭКОЛОГИЧЕСКОЕ И РЕЧЕВОЕ РАЗВИТИЕ</a:t>
            </a: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, обогащает предметно развивающую среду. </a:t>
            </a:r>
            <a:br>
              <a:rPr sz="1600"/>
            </a:b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Мы организовали пространственную среду в группах  таким образом, чтобы дети могли самостоятельно исследовать окружающие предметы. Мы использовали преобладающий мотив в старшем дошкольном возрасте - стремление к исследованию, наблюдения за причинно-следственными связями между природными явлениями, расширили  и уточнили представления о животном и растительном мире, что  явилось хорошей базой для развития речи и мышления. И наиболее  эффективным методом стал синквейн.</a:t>
            </a:r>
            <a:br>
              <a:rPr sz="1600"/>
            </a:b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«СИНКВЕЙН» - от французского слова «пять». Это специфическое стихотворение без рифмы, состоящее из пяти строк, в которых обобщена информация по изученной теме. Синквейн используется на занятиях по развитию речи с детьми старшего дошкольного возраста с речевыми нарушениями, а также с детьми с нормой речевого развития. Составление синквейна проводится в рамках прохождения определённой лексической темы (обычно в конце). Синквейн можно составлять на индивидуальных, групповых занятиях по развитию связной речи, как учителем-логопедом, так и воспитателям, а также заботливым родителям в кругу семьи.</a:t>
            </a:r>
            <a:br>
              <a:rPr sz="1600"/>
            </a:br>
            <a:r>
              <a:rPr b="1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НОВИЗНА: </a:t>
            </a:r>
            <a:br>
              <a:rPr sz="1600"/>
            </a:b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Синквейн – это инновационное  новшество, обладающее высокой эффективностью улучшения речевых, интеллектуальных способностей дошкольника с нарушениями речи и нормой речевого развития.</a:t>
            </a:r>
            <a:br>
              <a:rPr sz="1600"/>
            </a:br>
            <a:r>
              <a:rPr b="1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УЧАСТНИКИ ПРОЕКТА: </a:t>
            </a: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УЧИТЕЛЬ-ЛОГОПЕД, ДЕТИ, ВОСПИТАТЕЛИ, РОДИТЕЛИ.</a:t>
            </a:r>
            <a:br>
              <a:rPr sz="1600"/>
            </a:br>
            <a:br>
              <a:rPr sz="1600"/>
            </a:br>
            <a:br>
              <a:rPr sz="1300"/>
            </a:br>
            <a:r>
              <a:rPr b="0" lang="ru-RU" sz="13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</a:t>
            </a:r>
            <a:br>
              <a:rPr sz="1300"/>
            </a:br>
            <a:br>
              <a:rPr sz="1300"/>
            </a:br>
            <a:endParaRPr b="0" lang="en-US" sz="1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1" lang="ru-RU" sz="2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Обогащение эколого-речевой предметно-развивающей среды, повышение потенциальных возможностей полноценного речевого развития дошкольников.</a:t>
            </a:r>
            <a:br>
              <a:rPr sz="2000"/>
            </a:br>
            <a:br>
              <a:rPr sz="1300"/>
            </a:br>
            <a:br>
              <a:rPr sz="1300"/>
            </a:br>
            <a:r>
              <a:rPr b="1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:</a:t>
            </a:r>
            <a:br>
              <a:rPr sz="1800"/>
            </a:br>
            <a:r>
              <a:rPr b="0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1. Уточнение, расширение, активизация словаря;</a:t>
            </a:r>
            <a:br>
              <a:rPr sz="1800"/>
            </a:br>
            <a:r>
              <a:rPr b="0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2.Знакомство  с понятиями: «слово, обозначающее предмет», «слово, обозначающее признак предмета», «слово, обозначающее действие предмета»;</a:t>
            </a:r>
            <a:br>
              <a:rPr sz="1800"/>
            </a:br>
            <a:r>
              <a:rPr b="0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3.Учить подбирать к существительному прилагательные, подбирать к существительному глаголы;</a:t>
            </a:r>
            <a:br>
              <a:rPr sz="1800"/>
            </a:br>
            <a:r>
              <a:rPr b="0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4.Знакомство с понятием «предложение»; умение составлять предложения по предметной, сюжетной картине, используя схемы предложений;</a:t>
            </a:r>
            <a:br>
              <a:rPr sz="1800"/>
            </a:br>
            <a:r>
              <a:rPr b="0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5. Учить выражать своё личное отношение к теме одной фразой; а так же использовать знания пословиц, поговорок, загадок по заданной теме.</a:t>
            </a:r>
            <a:br>
              <a:rPr sz="1800"/>
            </a:br>
            <a:r>
              <a:rPr b="0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6.Систематизировать знания о смене времен года, сезонных изменениях в природе; о жизнедеятельности растений и животных. </a:t>
            </a:r>
            <a:br>
              <a:rPr sz="1800"/>
            </a:br>
            <a:r>
              <a:rPr b="0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7.Воспитывать любовь и бережное отношение ко всему живому. </a:t>
            </a:r>
            <a:br>
              <a:rPr sz="1800"/>
            </a:br>
            <a:r>
              <a:rPr b="0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8.Познакомить с растениями и животными, занесенными в Красную книгу. </a:t>
            </a:r>
            <a:br>
              <a:rPr sz="1800"/>
            </a:br>
            <a:r>
              <a:rPr b="0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9.Закладывать основы экологических знаний, экологической культуры, экологического поведения.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ОЖИДАЕМЫЙ РЕЗУЛЬТАТ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26" name="Объект 4"/>
          <p:cNvGraphicFramePr/>
          <p:nvPr/>
        </p:nvGraphicFramePr>
        <p:xfrm>
          <a:off x="1979640" y="1289160"/>
          <a:ext cx="6629400" cy="55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289160"/>
                    <a:ext cx="6629400" cy="55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59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Организация предметно-пространственной развивающей среды в групповом помещении для детей с нарушениями речи и нормальным речевым развитием</a:t>
            </a:r>
            <a:r>
              <a:rPr b="0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.</a:t>
            </a:r>
            <a:br>
              <a:rPr sz="1400"/>
            </a:br>
            <a:r>
              <a:rPr b="0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Педагоги должны руководствоваться возрастными и психологическими особенностями старших дошкольников. Прежде всего следует учесть, что старший дошкольный возраст является сенситивным периодом развития речи. </a:t>
            </a:r>
            <a:r>
              <a:rPr b="1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Л.С. Выготский отмечал, что в этом возрасте происходит соединение речи с мышлением. Речь постепенно превращается в важнейший инструмент мышления,</a:t>
            </a:r>
            <a:r>
              <a:rPr b="0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поэтому, уже со  старшей группы нужно сделать акцент на развитие словаря, на усвоение понятий.</a:t>
            </a:r>
            <a:br>
              <a:rPr sz="1400"/>
            </a:br>
            <a:r>
              <a:rPr b="0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                           </a:t>
            </a:r>
            <a:br>
              <a:rPr sz="1400"/>
            </a:br>
            <a:r>
              <a:rPr b="0" lang="ru-RU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Карточки Синквейн разделены на три блока лексических тем.  </a:t>
            </a:r>
            <a:br>
              <a:rPr sz="14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Рисунок 3" descr=""/>
          <p:cNvPicPr/>
          <p:nvPr/>
        </p:nvPicPr>
        <p:blipFill>
          <a:blip r:embed="rId1"/>
          <a:stretch/>
        </p:blipFill>
        <p:spPr>
          <a:xfrm>
            <a:off x="1547640" y="2924280"/>
            <a:ext cx="2246400" cy="299700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4" descr="C:\Users\User\AppData\Local\Temp\Rar$DI00.006\Зимний блок лексических тем.jpg"/>
          <p:cNvPicPr/>
          <p:nvPr/>
        </p:nvPicPr>
        <p:blipFill>
          <a:blip r:embed="rId2"/>
          <a:stretch/>
        </p:blipFill>
        <p:spPr>
          <a:xfrm>
            <a:off x="4140360" y="2909880"/>
            <a:ext cx="2089080" cy="299736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5" descr="C:\Users\User\AppData\Local\Temp\Rar$DI00.095\Весенний блок лексических тем.JPG"/>
          <p:cNvPicPr/>
          <p:nvPr/>
        </p:nvPicPr>
        <p:blipFill>
          <a:blip r:embed="rId3"/>
          <a:stretch/>
        </p:blipFill>
        <p:spPr>
          <a:xfrm>
            <a:off x="6573960" y="2909880"/>
            <a:ext cx="21668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056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Алгоритм составления синквейна:</a:t>
            </a:r>
            <a:br>
              <a:rPr sz="3200"/>
            </a:br>
            <a:br>
              <a:rPr sz="3200"/>
            </a:br>
            <a:r>
              <a:rPr b="1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Синквейн  состоит из пяти строк, его форма напоминает ёлочку:</a:t>
            </a:r>
            <a:br>
              <a:rPr sz="1600"/>
            </a:b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1 строка – предмет (одно слово, обычно существительное, отражающее главную идею);</a:t>
            </a:r>
            <a:br>
              <a:rPr sz="1600"/>
            </a:b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2 строка – признак (два-три слова, прилагательные, описывающее основную мысль);</a:t>
            </a:r>
            <a:br>
              <a:rPr sz="1600"/>
            </a:b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3 строка – действие (три слова, глаголы, описывающие действия в рамка темы);</a:t>
            </a:r>
            <a:br>
              <a:rPr sz="1600"/>
            </a:b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4 строка – фраза из нескольких слов, показывающая отношение к теме, выражающая личное отношение автора синквейна к описываемому предмету или объекту;</a:t>
            </a:r>
            <a:br>
              <a:rPr sz="1600"/>
            </a:b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5 строка – синоним названия темы (одно слово, характеризующее суть предмета или объекта (обобщающее слово).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Рисунок 4" descr="C:\Users\User\AppData\Local\Temp\Rar$DI07.038\Алгоритм синквейна.JPG"/>
          <p:cNvPicPr/>
          <p:nvPr/>
        </p:nvPicPr>
        <p:blipFill>
          <a:blip r:embed="rId1"/>
          <a:stretch/>
        </p:blipFill>
        <p:spPr>
          <a:xfrm>
            <a:off x="6804000" y="3905280"/>
            <a:ext cx="1944720" cy="280836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5" descr="C:\Users\User\AppData\Local\Temp\Rar$DI02.990\Предмет.JPG"/>
          <p:cNvPicPr/>
          <p:nvPr/>
        </p:nvPicPr>
        <p:blipFill>
          <a:blip r:embed="rId2"/>
          <a:stretch/>
        </p:blipFill>
        <p:spPr>
          <a:xfrm>
            <a:off x="1511280" y="4289400"/>
            <a:ext cx="1460520" cy="203832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6" descr=""/>
          <p:cNvPicPr/>
          <p:nvPr/>
        </p:nvPicPr>
        <p:blipFill>
          <a:blip r:embed="rId3"/>
          <a:stretch/>
        </p:blipFill>
        <p:spPr>
          <a:xfrm>
            <a:off x="4964040" y="4267080"/>
            <a:ext cx="1490760" cy="206064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7" descr=""/>
          <p:cNvPicPr/>
          <p:nvPr/>
        </p:nvPicPr>
        <p:blipFill>
          <a:blip r:embed="rId4"/>
          <a:stretch/>
        </p:blipFill>
        <p:spPr>
          <a:xfrm>
            <a:off x="3206880" y="4267080"/>
            <a:ext cx="14922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ВАРИАНТЫ РАБОТЫ ДЛЯ СОСТАВЛЕНИЯ СИНКВЕЙНА:</a:t>
            </a:r>
            <a:br>
              <a:rPr sz="1800"/>
            </a:br>
            <a:br>
              <a:rPr sz="1600"/>
            </a:b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 составление синквейна по предметной картинке (сюжетным) картинкам;</a:t>
            </a:r>
            <a:br>
              <a:rPr sz="1600"/>
            </a:b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 составление краткого рассказа по готовому синквейну (с использованием слов и фраз, входящих в состав синквейна);</a:t>
            </a:r>
            <a:br>
              <a:rPr sz="1600"/>
            </a:b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 по прослушанному рассказу или сказке;</a:t>
            </a:r>
            <a:br>
              <a:rPr sz="1600"/>
            </a:br>
            <a:r>
              <a:rPr b="0" lang="ru-RU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 синквейн – загадка (например, дан синквейн без указания темы – без первой строки, необходимо на основе существующих строк, ее определить):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8" name="Рисунок 3" descr="C:\Users\User\AppData\Local\Temp\Rar$DI18.007\Слайд15.JPG"/>
          <p:cNvPicPr/>
          <p:nvPr/>
        </p:nvPicPr>
        <p:blipFill>
          <a:blip r:embed="rId1"/>
          <a:stretch/>
        </p:blipFill>
        <p:spPr>
          <a:xfrm>
            <a:off x="1187280" y="2349360"/>
            <a:ext cx="2664000" cy="345600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4" descr="C:\Users\User\AppData\Local\Temp\Rar$DI03.343\Слайд27.JPG"/>
          <p:cNvPicPr/>
          <p:nvPr/>
        </p:nvPicPr>
        <p:blipFill>
          <a:blip r:embed="rId2"/>
          <a:stretch/>
        </p:blipFill>
        <p:spPr>
          <a:xfrm>
            <a:off x="4057560" y="2708280"/>
            <a:ext cx="2530440" cy="324180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5" descr="C:\Users\User\AppData\Local\Temp\Rar$DI43.595\Слайд16.JPG"/>
          <p:cNvPicPr/>
          <p:nvPr/>
        </p:nvPicPr>
        <p:blipFill>
          <a:blip r:embed="rId3"/>
          <a:stretch/>
        </p:blipFill>
        <p:spPr>
          <a:xfrm>
            <a:off x="6719760" y="2349360"/>
            <a:ext cx="21733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0:24:42Z</dcterms:created>
  <dc:creator>User</dc:creator>
  <dc:description/>
  <dc:language>en-US</dc:language>
  <cp:lastModifiedBy>Bibigon</cp:lastModifiedBy>
  <dcterms:modified xsi:type="dcterms:W3CDTF">2019-02-24T19:04:17Z</dcterms:modified>
  <cp:revision>121</cp:revision>
  <dc:subject/>
  <dc:title>Презентация PowerPoint</dc:title>
</cp:coreProperties>
</file>