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2.jpeg" ContentType="image/jpeg"/>
  <Override PartName="/ppt/media/image36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5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8.wmf" ContentType="image/x-wmf"/>
  <Override PartName="/ppt/media/image74.jpeg" ContentType="image/jpeg"/>
  <Override PartName="/ppt/media/image47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38.jpeg" ContentType="image/jpeg"/>
  <Override PartName="/ppt/media/image63.jpeg" ContentType="image/jpeg"/>
  <Override PartName="/ppt/media/image18.jpeg" ContentType="image/jpeg"/>
  <Override PartName="/ppt/media/image62.jpeg" ContentType="image/jpeg"/>
  <Override PartName="/ppt/media/image24.jpeg" ContentType="image/jpeg"/>
  <Override PartName="/ppt/media/image25.png" ContentType="image/png"/>
  <Override PartName="/ppt/media/image19.jpeg" ContentType="image/jpeg"/>
  <Override PartName="/ppt/media/image50.jpeg" ContentType="image/jpeg"/>
  <Override PartName="/ppt/media/image20.jpeg" ContentType="image/jpeg"/>
  <Override PartName="/ppt/media/image7.wmf" ContentType="image/x-wmf"/>
  <Override PartName="/ppt/media/image6.wmf" ContentType="image/x-wmf"/>
  <Override PartName="/ppt/media/image3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.wmf" ContentType="image/x-wmf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2B2D-70F7-45A0-8572-D50F0B0552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7A75-69D1-4B41-B5E4-E6608ECBBB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DFD7-EB09-4FF7-A501-C9F67DB06C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C7A4-CACD-450E-A090-0E6C2FB939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FF35-E3C4-49D1-9270-B88E294736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6F8D-4B06-41BA-998A-1F43028EFE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77A8-6410-4928-8E7A-92ABDBB514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6DCC-50C6-453E-BA4A-405F56966A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BE27-D0E9-4C5C-A244-6FB87BDA7F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D618-62B6-404D-A8A8-92F30BAC53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7E33-F66C-432D-94A7-2794CDF84B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B659-8A49-4528-A310-534ACDECCC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655A-F16C-4F3C-ACC8-DA55618DE9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30A4-0148-4BDE-BCF7-D5119CD034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AF21-6F2E-4184-B938-5905947D11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8BE5-033E-4A96-97B0-0001A73CC9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B6BA-A5DB-45DB-AC60-2BC539D77B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01D0-23B2-4F10-A80D-ADF90C0B2B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0456-7639-4EFB-A2E9-AFE67EF515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1CBB-41D0-4B3E-87FB-8C34657ED1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FC04-2A29-423A-B67A-0FF9271448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AE67-77D8-4A18-B233-BF8FDD4AC6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EED7-C733-4EE5-98B7-D33FF83470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D9F-8C02-4796-AEFD-843D882E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31A-C358-4876-B3D3-7477AECC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77D-65B2-431D-B884-13AE4370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F4F-8234-4EB1-8669-C9732443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6E8-F5A0-4801-8744-D8C89F43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127-66B8-4036-9B4A-C007A2DE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69A-80EC-432B-8750-7BB701DF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342-C6D4-481C-A177-6DACD491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228-6FAF-4CA3-8172-50037C08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265-24B9-4438-950C-288FC4AA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714-35AC-4E85-AC34-653999CA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E09-753C-4957-A285-16A4B2D0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9B21-BF2F-4ACE-847B-65ABCBC43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совет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рганизация деятельности педагогического коллектива МБОУ «Школа №72» по профилактике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нарушений среди несовершеннолетних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MG_0910"/>
          <p:cNvPicPr/>
          <p:nvPr/>
        </p:nvPicPr>
        <p:blipFill>
          <a:blip r:embed="rId1"/>
          <a:stretch/>
        </p:blipFill>
        <p:spPr>
          <a:xfrm>
            <a:off x="2286000" y="2500200"/>
            <a:ext cx="4478400" cy="3359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507440" y="635796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03.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43640" y="587700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Заместитель дирек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корокова Елена Семен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циального стат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"/>
          <p:cNvGraphicFramePr/>
          <p:nvPr/>
        </p:nvGraphicFramePr>
        <p:xfrm>
          <a:off x="324000" y="1414440"/>
          <a:ext cx="864072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14440"/>
                    <a:ext cx="864072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"/>
          <p:cNvGraphicFramePr/>
          <p:nvPr/>
        </p:nvGraphicFramePr>
        <p:xfrm>
          <a:off x="-357120" y="928800"/>
          <a:ext cx="9244080" cy="57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57120" y="928800"/>
                    <a:ext cx="924408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Прямоугольник 4"/>
          <p:cNvSpPr/>
          <p:nvPr/>
        </p:nvSpPr>
        <p:spPr>
          <a:xfrm>
            <a:off x="755640" y="333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циального стат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деятельн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642960"/>
          <a:ext cx="9144000" cy="6410160"/>
        </p:xfrm>
        <a:graphic>
          <a:graphicData uri="http://schemas.openxmlformats.org/drawingml/2006/table">
            <a:tbl>
              <a:tblPr/>
              <a:tblGrid>
                <a:gridCol w="1643040"/>
                <a:gridCol w="1565280"/>
                <a:gridCol w="1434960"/>
                <a:gridCol w="1533600"/>
                <a:gridCol w="1482840"/>
                <a:gridCol w="1484280"/>
              </a:tblGrid>
              <a:tr h="64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админист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едагогического коллект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едагогов   с деть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ь с социальными институ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паганда здорового образа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  для безопасных условий   деятельности всех участников  УВП, отслеживание активных   форм работы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совместной   деятельности классных руководителей и  учителей-предметников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к   участию в массовых  и спортивных мероприят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вещение родителей   о возрастных особенностях развития   детей и профилактике вредных   привычек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специалистов различных   социальных институтов в   работе с педагогами,   детьми и род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922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Досуг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деятельности кружков   и секций в   системе дополнительного образования МБОУ  и за ее   предел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  укреплению взаимосвязей разновозрастных коллективов   и взаимоотношений в   клас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  для выявления и   развития способностей детей.  Включение в коллективные и  малые формы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родителей   к организации и   проведению совместных  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свободного   времени учащихся. Участие   в мероприятиях разного   уро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щение   и разви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леживание личностного   развития детей и   профессионального роста педагогов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   психологом, коллегами, администрацией по   решению возникших проблем.   Проведение педагогических консилиум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задач  по развитию каждого  учащегося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консультаций специалистов по  желанию родителей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   районными и городскими   службами и учреждениями культуры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5"/>
          <p:cNvSpPr/>
          <p:nvPr/>
        </p:nvSpPr>
        <p:spPr>
          <a:xfrm>
            <a:off x="4464000" y="1054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42920" y="928800"/>
          <a:ext cx="8858160" cy="3943080"/>
        </p:xfrm>
        <a:graphic>
          <a:graphicData uri="http://schemas.openxmlformats.org/drawingml/2006/table">
            <a:tbl>
              <a:tblPr/>
              <a:tblGrid>
                <a:gridCol w="1592280"/>
                <a:gridCol w="1515960"/>
                <a:gridCol w="1436760"/>
                <a:gridCol w="1438200"/>
                <a:gridCol w="1438200"/>
                <a:gridCol w="1436760"/>
              </a:tblGrid>
              <a:tr h="1332720"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Профилакт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анализа   по выявлению причин  «попадания» детей в     группу ри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истемы  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разъяснительной работы   о правовых обязанностях и   ответственности несовершеннолет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лектория   и индивидуальных  консульт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совместных   рейдов и отдельных   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8000"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аучно-метод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работы   по повышению научно-практической подготовки педагог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с нормативно-правовыми документами   и методиками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влияния   воспитательных усилий на   развитие личности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и   монитор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   семинаров   и конферен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332360"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четно-регистрацион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картотеки   учащихся группы риска,     и неблагополучных семей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е выявление   детей группы риска и   неблагополучных сем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е дневников  наблюдений и проведение   мероприятий по защите   прав ребенка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детей  на дому, выявление   семей, находящихся в социально опасном поло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ие, учет  и регистрация     учащихся   и семей различных   социальных катег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" name="Прямоугольник 4"/>
          <p:cNvSpPr/>
          <p:nvPr/>
        </p:nvSpPr>
        <p:spPr>
          <a:xfrm>
            <a:off x="3000240" y="35712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Сергей\Desktop\Елены Семеновны\Новая папка\DSC02625.JPG"/>
          <p:cNvPicPr/>
          <p:nvPr/>
        </p:nvPicPr>
        <p:blipFill>
          <a:blip r:embed="rId1"/>
          <a:stretch/>
        </p:blipFill>
        <p:spPr>
          <a:xfrm>
            <a:off x="285840" y="5143680"/>
            <a:ext cx="2587680" cy="145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Сергей\Desktop\Елены Семеновны\Новая папка\DSC02294.JPG"/>
          <p:cNvPicPr/>
          <p:nvPr/>
        </p:nvPicPr>
        <p:blipFill>
          <a:blip r:embed="rId2"/>
          <a:stretch/>
        </p:blipFill>
        <p:spPr>
          <a:xfrm>
            <a:off x="6643800" y="5072040"/>
            <a:ext cx="2127240" cy="159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Сергей\Desktop\Елены Семеновны\Новая папка\DSC02310.JPG"/>
          <p:cNvPicPr/>
          <p:nvPr/>
        </p:nvPicPr>
        <p:blipFill>
          <a:blip r:embed="rId3"/>
          <a:stretch/>
        </p:blipFill>
        <p:spPr>
          <a:xfrm>
            <a:off x="3714840" y="5072040"/>
            <a:ext cx="2033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142920" y="14292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кола является инновационной площадкой ГБОУ ДПО НИР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IMG_20170314_090438.jpg"/>
          <p:cNvPicPr/>
          <p:nvPr/>
        </p:nvPicPr>
        <p:blipFill>
          <a:blip r:embed="rId1"/>
          <a:stretch/>
        </p:blipFill>
        <p:spPr>
          <a:xfrm>
            <a:off x="3643200" y="1268280"/>
            <a:ext cx="2309760" cy="1731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IMG_20170314_090002.jpg"/>
          <p:cNvPicPr/>
          <p:nvPr/>
        </p:nvPicPr>
        <p:blipFill>
          <a:blip r:embed="rId2"/>
          <a:stretch/>
        </p:blipFill>
        <p:spPr>
          <a:xfrm>
            <a:off x="4284720" y="3284640"/>
            <a:ext cx="4286160" cy="32144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IMG_20170314_090048.jpg"/>
          <p:cNvPicPr/>
          <p:nvPr/>
        </p:nvPicPr>
        <p:blipFill>
          <a:blip r:embed="rId3"/>
          <a:stretch/>
        </p:blipFill>
        <p:spPr>
          <a:xfrm>
            <a:off x="6143760" y="128592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9"/>
          <p:cNvSpPr/>
          <p:nvPr/>
        </p:nvSpPr>
        <p:spPr>
          <a:xfrm>
            <a:off x="714240" y="1285920"/>
            <a:ext cx="278604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инновационной деятель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пробация учебно-методического сопровождения курса внеуроч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ктор» в рамках реализации программы воспитания и социализации ФГОС ОО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Сергей\Desktop\1611061.jpg"/>
          <p:cNvPicPr/>
          <p:nvPr/>
        </p:nvPicPr>
        <p:blipFill>
          <a:blip r:embed="rId1"/>
          <a:stretch/>
        </p:blipFill>
        <p:spPr>
          <a:xfrm>
            <a:off x="3848040" y="3571920"/>
            <a:ext cx="5295960" cy="30574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1611201.jpg"/>
          <p:cNvPicPr/>
          <p:nvPr/>
        </p:nvPicPr>
        <p:blipFill>
          <a:blip r:embed="rId2"/>
          <a:stretch/>
        </p:blipFill>
        <p:spPr>
          <a:xfrm>
            <a:off x="357120" y="28584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5000760" y="857160"/>
            <a:ext cx="32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О «РИТМ»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ое объединение «Радуг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Users\Владелец\Desktop\Экологический календарь\79lUu3bWXXI.jpg"/>
          <p:cNvPicPr/>
          <p:nvPr/>
        </p:nvPicPr>
        <p:blipFill>
          <a:blip r:embed="rId3"/>
          <a:stretch/>
        </p:blipFill>
        <p:spPr>
          <a:xfrm>
            <a:off x="357120" y="371484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Сергей\Desktop\161114.jpg"/>
          <p:cNvPicPr/>
          <p:nvPr/>
        </p:nvPicPr>
        <p:blipFill>
          <a:blip r:embed="rId1"/>
          <a:stretch/>
        </p:blipFill>
        <p:spPr>
          <a:xfrm>
            <a:off x="5072040" y="2571840"/>
            <a:ext cx="3848040" cy="3848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Сергей\Desktop\1611231.jpg"/>
          <p:cNvPicPr/>
          <p:nvPr/>
        </p:nvPicPr>
        <p:blipFill>
          <a:blip r:embed="rId2"/>
          <a:stretch/>
        </p:blipFill>
        <p:spPr>
          <a:xfrm>
            <a:off x="357120" y="214200"/>
            <a:ext cx="4576680" cy="27860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357120" y="36432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обучающихся ММ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0" y="312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ы работы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539640" y="1197000"/>
            <a:ext cx="23036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на до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лашение в школ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профилакти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консультации педагога-психолога, социального педаго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3132000" y="1197000"/>
            <a:ext cx="21067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й лекто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консуль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е детские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вече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й патру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5"/>
          <p:cNvSpPr/>
          <p:nvPr/>
        </p:nvSpPr>
        <p:spPr>
          <a:xfrm>
            <a:off x="6084720" y="1197000"/>
            <a:ext cx="2664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е родительские собр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школьные родительские собр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всеобу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и учебны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 отч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C:\Это Елены\2016 год\фото\2016.05.15 семья года\DSC00846.JPG"/>
          <p:cNvPicPr/>
          <p:nvPr/>
        </p:nvPicPr>
        <p:blipFill>
          <a:blip r:embed="rId1"/>
          <a:stretch/>
        </p:blipFill>
        <p:spPr>
          <a:xfrm>
            <a:off x="142920" y="4000680"/>
            <a:ext cx="29289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Елена\Desktop\сегодня\DSC05695.JPG"/>
          <p:cNvPicPr/>
          <p:nvPr/>
        </p:nvPicPr>
        <p:blipFill>
          <a:blip r:embed="rId1"/>
          <a:stretch/>
        </p:blipFill>
        <p:spPr>
          <a:xfrm>
            <a:off x="4859280" y="3573360"/>
            <a:ext cx="4029120" cy="226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J:\просьба сбросить\100MSDCF\DSC05484.JPG"/>
          <p:cNvPicPr/>
          <p:nvPr/>
        </p:nvPicPr>
        <p:blipFill>
          <a:blip r:embed="rId2"/>
          <a:stretch/>
        </p:blipFill>
        <p:spPr>
          <a:xfrm>
            <a:off x="4286160" y="357120"/>
            <a:ext cx="4361040" cy="2452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E:\DCIM\100MSDCF\DSC06902.JPG"/>
          <p:cNvPicPr/>
          <p:nvPr/>
        </p:nvPicPr>
        <p:blipFill>
          <a:blip r:embed="rId3"/>
          <a:stretch/>
        </p:blipFill>
        <p:spPr>
          <a:xfrm>
            <a:off x="179280" y="3500280"/>
            <a:ext cx="4119840" cy="2318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:\Users\Сергей\Desktop\Новая папка (2)\IMG_20170314_181427.jpg"/>
          <p:cNvPicPr/>
          <p:nvPr/>
        </p:nvPicPr>
        <p:blipFill>
          <a:blip r:embed="rId4"/>
          <a:stretch/>
        </p:blipFill>
        <p:spPr>
          <a:xfrm>
            <a:off x="500040" y="2858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Diagram 1"/>
          <p:cNvGrpSpPr/>
          <p:nvPr/>
        </p:nvGrpSpPr>
        <p:grpSpPr>
          <a:xfrm>
            <a:off x="642960" y="214200"/>
            <a:ext cx="7715160" cy="6286320"/>
            <a:chOff x="642960" y="214200"/>
            <a:chExt cx="7715160" cy="6286320"/>
          </a:xfrm>
        </p:grpSpPr>
        <p:sp>
          <p:nvSpPr>
            <p:cNvPr id="126" name="_s63521"/>
            <p:cNvSpPr/>
            <p:nvPr/>
          </p:nvSpPr>
          <p:spPr>
            <a:xfrm flipH="1" flipV="1">
              <a:off x="3306600" y="1196280"/>
              <a:ext cx="1001880" cy="183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63520"/>
            <p:cNvSpPr/>
            <p:nvPr/>
          </p:nvSpPr>
          <p:spPr>
            <a:xfrm>
              <a:off x="2643840" y="45324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Кинотеатры,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теат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63519"/>
            <p:cNvSpPr/>
            <p:nvPr/>
          </p:nvSpPr>
          <p:spPr>
            <a:xfrm flipH="1" flipV="1">
              <a:off x="2321640" y="1783800"/>
              <a:ext cx="1828440" cy="134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63518"/>
            <p:cNvSpPr/>
            <p:nvPr/>
          </p:nvSpPr>
          <p:spPr>
            <a:xfrm>
              <a:off x="1498320" y="113508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Родит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л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63517"/>
            <p:cNvSpPr/>
            <p:nvPr/>
          </p:nvSpPr>
          <p:spPr>
            <a:xfrm flipH="1" flipV="1">
              <a:off x="1712880" y="2648160"/>
              <a:ext cx="2339280" cy="61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63516"/>
            <p:cNvSpPr/>
            <p:nvPr/>
          </p:nvSpPr>
          <p:spPr>
            <a:xfrm>
              <a:off x="790560" y="213948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ЦД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63515"/>
            <p:cNvSpPr/>
            <p:nvPr/>
          </p:nvSpPr>
          <p:spPr>
            <a:xfrm flipH="1">
              <a:off x="1586520" y="3427920"/>
              <a:ext cx="2445120" cy="21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63514"/>
            <p:cNvSpPr/>
            <p:nvPr/>
          </p:nvSpPr>
          <p:spPr>
            <a:xfrm>
              <a:off x="642960" y="329256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Школ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искусств №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63513"/>
            <p:cNvSpPr/>
            <p:nvPr/>
          </p:nvSpPr>
          <p:spPr>
            <a:xfrm flipH="1">
              <a:off x="1963440" y="3581280"/>
              <a:ext cx="212832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63511"/>
            <p:cNvSpPr/>
            <p:nvPr/>
          </p:nvSpPr>
          <p:spPr>
            <a:xfrm>
              <a:off x="1080720" y="439524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дминис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ция район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63510"/>
            <p:cNvSpPr/>
            <p:nvPr/>
          </p:nvSpPr>
          <p:spPr>
            <a:xfrm flipH="1">
              <a:off x="2779200" y="3700440"/>
              <a:ext cx="1443960" cy="163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63509"/>
            <p:cNvSpPr/>
            <p:nvPr/>
          </p:nvSpPr>
          <p:spPr>
            <a:xfrm>
              <a:off x="2027880" y="525636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ФОКИ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Бассейн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«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Теплообменник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63508"/>
            <p:cNvSpPr/>
            <p:nvPr/>
          </p:nvSpPr>
          <p:spPr>
            <a:xfrm flipH="1">
              <a:off x="3893400" y="3765240"/>
              <a:ext cx="509760" cy="19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63507"/>
            <p:cNvSpPr/>
            <p:nvPr/>
          </p:nvSpPr>
          <p:spPr>
            <a:xfrm>
              <a:off x="3321000" y="572724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ДДО №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63506"/>
            <p:cNvSpPr/>
            <p:nvPr/>
          </p:nvSpPr>
          <p:spPr>
            <a:xfrm>
              <a:off x="4599000" y="3765240"/>
              <a:ext cx="512640" cy="19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63505"/>
            <p:cNvSpPr/>
            <p:nvPr/>
          </p:nvSpPr>
          <p:spPr>
            <a:xfrm>
              <a:off x="4735440" y="572724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Отдел опеки и попеч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тельств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63504"/>
            <p:cNvSpPr/>
            <p:nvPr/>
          </p:nvSpPr>
          <p:spPr>
            <a:xfrm>
              <a:off x="4778280" y="3699360"/>
              <a:ext cx="1446480" cy="162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63503"/>
            <p:cNvSpPr/>
            <p:nvPr/>
          </p:nvSpPr>
          <p:spPr>
            <a:xfrm>
              <a:off x="6028560" y="525636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Центр занятос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т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63502"/>
            <p:cNvSpPr/>
            <p:nvPr/>
          </p:nvSpPr>
          <p:spPr>
            <a:xfrm>
              <a:off x="4908960" y="3580560"/>
              <a:ext cx="2130480" cy="100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63501"/>
            <p:cNvSpPr/>
            <p:nvPr/>
          </p:nvSpPr>
          <p:spPr>
            <a:xfrm>
              <a:off x="6976080" y="439524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«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Филармония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63500"/>
            <p:cNvSpPr/>
            <p:nvPr/>
          </p:nvSpPr>
          <p:spPr>
            <a:xfrm>
              <a:off x="4969440" y="3427920"/>
              <a:ext cx="2446200" cy="20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63499"/>
            <p:cNvSpPr/>
            <p:nvPr/>
          </p:nvSpPr>
          <p:spPr>
            <a:xfrm>
              <a:off x="7413840" y="329256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Полик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линика №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63498"/>
            <p:cNvSpPr/>
            <p:nvPr/>
          </p:nvSpPr>
          <p:spPr>
            <a:xfrm flipV="1">
              <a:off x="4948560" y="2645280"/>
              <a:ext cx="2339280" cy="62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63497"/>
            <p:cNvSpPr/>
            <p:nvPr/>
          </p:nvSpPr>
          <p:spPr>
            <a:xfrm>
              <a:off x="7265160" y="213948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ДЮЦ 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«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Юб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ле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ный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63496"/>
            <p:cNvSpPr/>
            <p:nvPr/>
          </p:nvSpPr>
          <p:spPr>
            <a:xfrm flipV="1">
              <a:off x="4850640" y="1780920"/>
              <a:ext cx="1827360" cy="134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63495"/>
            <p:cNvSpPr/>
            <p:nvPr/>
          </p:nvSpPr>
          <p:spPr>
            <a:xfrm>
              <a:off x="6557400" y="113580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Клуб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«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Фан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зия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63494"/>
            <p:cNvSpPr/>
            <p:nvPr/>
          </p:nvSpPr>
          <p:spPr>
            <a:xfrm flipV="1">
              <a:off x="4691880" y="1195200"/>
              <a:ext cx="999720" cy="184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63493"/>
            <p:cNvSpPr/>
            <p:nvPr/>
          </p:nvSpPr>
          <p:spPr>
            <a:xfrm>
              <a:off x="5411880" y="45504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Библи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теки район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63492"/>
            <p:cNvSpPr/>
            <p:nvPr/>
          </p:nvSpPr>
          <p:spPr>
            <a:xfrm flipV="1">
              <a:off x="4500000" y="987480"/>
              <a:ext cx="0" cy="201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63491"/>
            <p:cNvSpPr/>
            <p:nvPr/>
          </p:nvSpPr>
          <p:spPr>
            <a:xfrm>
              <a:off x="4027680" y="21420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ЦРК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«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ИС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ТОК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3490"/>
            <p:cNvSpPr/>
            <p:nvPr/>
          </p:nvSpPr>
          <p:spPr>
            <a:xfrm>
              <a:off x="4027680" y="300240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МБОУ «Школа №72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ОДН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КД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Прямоугольник 39" descr=""/>
          <p:cNvPicPr/>
          <p:nvPr/>
        </p:nvPicPr>
        <p:blipFill>
          <a:blip r:embed="rId1"/>
          <a:stretch/>
        </p:blipFill>
        <p:spPr>
          <a:xfrm>
            <a:off x="-6480" y="152280"/>
            <a:ext cx="32259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Скругленная прямоугольная выноска 3"/>
          <p:cNvSpPr/>
          <p:nvPr/>
        </p:nvSpPr>
        <p:spPr>
          <a:xfrm>
            <a:off x="6084720" y="404640"/>
            <a:ext cx="2374920" cy="1440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та обучающихся «ММТИ», детского объединения «Рит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ая прямоугольная выноска 5"/>
          <p:cNvSpPr/>
          <p:nvPr/>
        </p:nvSpPr>
        <p:spPr>
          <a:xfrm>
            <a:off x="6659640" y="2492280"/>
            <a:ext cx="1944720" cy="1584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ие школьников в конкурсах, соревнованиях, НОУ, олимпи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ая прямоугольная выноска 6"/>
          <p:cNvSpPr/>
          <p:nvPr/>
        </p:nvSpPr>
        <p:spPr>
          <a:xfrm>
            <a:off x="3564000" y="404640"/>
            <a:ext cx="2016000" cy="1584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дополн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ая прямоугольная выноска 7"/>
          <p:cNvSpPr/>
          <p:nvPr/>
        </p:nvSpPr>
        <p:spPr>
          <a:xfrm>
            <a:off x="6572160" y="4500720"/>
            <a:ext cx="2232000" cy="1584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одей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е с социу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ая прямоугольная выноска 8"/>
          <p:cNvSpPr/>
          <p:nvPr/>
        </p:nvSpPr>
        <p:spPr>
          <a:xfrm>
            <a:off x="214200" y="4500720"/>
            <a:ext cx="2143080" cy="12254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ая прямоугольная выноска 9"/>
          <p:cNvSpPr/>
          <p:nvPr/>
        </p:nvSpPr>
        <p:spPr>
          <a:xfrm>
            <a:off x="395280" y="476280"/>
            <a:ext cx="2448000" cy="1584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оциального педагога, педагога-психо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0"/>
          <p:cNvSpPr/>
          <p:nvPr/>
        </p:nvSpPr>
        <p:spPr>
          <a:xfrm>
            <a:off x="2786040" y="2286000"/>
            <a:ext cx="3456000" cy="180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илактическая работа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ая прямоугольная выноска 11"/>
          <p:cNvSpPr/>
          <p:nvPr/>
        </p:nvSpPr>
        <p:spPr>
          <a:xfrm>
            <a:off x="324000" y="2565360"/>
            <a:ext cx="2160360" cy="1584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а «Профилактика безнадзорности и асоциального поведения в среде несовершеннолетних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3"/>
          <p:cNvCxnSpPr>
            <a:stCxn id="58" idx="1"/>
          </p:cNvCxnSpPr>
          <p:nvPr/>
        </p:nvCxnSpPr>
        <p:spPr>
          <a:xfrm flipH="1" flipV="1">
            <a:off x="2641320" y="1996200"/>
            <a:ext cx="651600" cy="553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5"/>
          <p:cNvCxnSpPr>
            <a:stCxn id="58" idx="0"/>
            <a:endCxn id="54" idx="0"/>
          </p:cNvCxnSpPr>
          <p:nvPr/>
        </p:nvCxnSpPr>
        <p:spPr>
          <a:xfrm flipV="1">
            <a:off x="4512240" y="1988280"/>
            <a:ext cx="59400" cy="2977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17"/>
          <p:cNvCxnSpPr>
            <a:stCxn id="58" idx="7"/>
          </p:cNvCxnSpPr>
          <p:nvPr/>
        </p:nvCxnSpPr>
        <p:spPr>
          <a:xfrm flipV="1">
            <a:off x="5735520" y="1852200"/>
            <a:ext cx="796320" cy="6976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9"/>
          <p:cNvCxnSpPr>
            <a:stCxn id="58" idx="6"/>
          </p:cNvCxnSpPr>
          <p:nvPr/>
        </p:nvCxnSpPr>
        <p:spPr>
          <a:xfrm flipV="1">
            <a:off x="6241680" y="3077640"/>
            <a:ext cx="432360" cy="1087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1"/>
          <p:cNvCxnSpPr>
            <a:stCxn id="58" idx="2"/>
          </p:cNvCxnSpPr>
          <p:nvPr/>
        </p:nvCxnSpPr>
        <p:spPr>
          <a:xfrm flipH="1" flipV="1">
            <a:off x="2498400" y="3004920"/>
            <a:ext cx="288000" cy="181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3"/>
          <p:cNvCxnSpPr>
            <a:stCxn id="58" idx="5"/>
          </p:cNvCxnSpPr>
          <p:nvPr/>
        </p:nvCxnSpPr>
        <p:spPr>
          <a:xfrm>
            <a:off x="5735160" y="3822840"/>
            <a:ext cx="723240" cy="6228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25"/>
          <p:cNvCxnSpPr/>
          <p:nvPr/>
        </p:nvCxnSpPr>
        <p:spPr>
          <a:xfrm flipH="1">
            <a:off x="2214000" y="3714840"/>
            <a:ext cx="865800" cy="7149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Скругленная прямоугольная выноска 42"/>
          <p:cNvSpPr/>
          <p:nvPr/>
        </p:nvSpPr>
        <p:spPr>
          <a:xfrm>
            <a:off x="4500720" y="4643280"/>
            <a:ext cx="1944360" cy="1368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администрации школы,  педсост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44"/>
          <p:cNvCxnSpPr>
            <a:stCxn id="58" idx="4"/>
          </p:cNvCxnSpPr>
          <p:nvPr/>
        </p:nvCxnSpPr>
        <p:spPr>
          <a:xfrm>
            <a:off x="4514760" y="4086000"/>
            <a:ext cx="216720" cy="432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Скругленная прямоугольная выноска 18"/>
          <p:cNvSpPr/>
          <p:nvPr/>
        </p:nvSpPr>
        <p:spPr>
          <a:xfrm>
            <a:off x="2500200" y="4500720"/>
            <a:ext cx="1857600" cy="13572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новацион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24"/>
          <p:cNvCxnSpPr/>
          <p:nvPr/>
        </p:nvCxnSpPr>
        <p:spPr>
          <a:xfrm flipH="1">
            <a:off x="3428640" y="4000320"/>
            <a:ext cx="286560" cy="500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Это Елены\2016 год\фото\2016.11.28 предпраздничный блокнот\DSC01994.JPG"/>
          <p:cNvPicPr/>
          <p:nvPr/>
        </p:nvPicPr>
        <p:blipFill>
          <a:blip r:embed="rId1"/>
          <a:stretch/>
        </p:blipFill>
        <p:spPr>
          <a:xfrm>
            <a:off x="3500280" y="3500280"/>
            <a:ext cx="5016600" cy="2821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Это Елены\2016 год\фото\2016.11.28 предпраздничный блокнот\DSC01993.JPG"/>
          <p:cNvPicPr/>
          <p:nvPr/>
        </p:nvPicPr>
        <p:blipFill>
          <a:blip r:embed="rId2"/>
          <a:stretch/>
        </p:blipFill>
        <p:spPr>
          <a:xfrm>
            <a:off x="571680" y="285840"/>
            <a:ext cx="501624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E:\DCIM\100MSDCF\DSC06889.JPG"/>
          <p:cNvPicPr/>
          <p:nvPr/>
        </p:nvPicPr>
        <p:blipFill>
          <a:blip r:embed="rId1"/>
          <a:stretch/>
        </p:blipFill>
        <p:spPr>
          <a:xfrm>
            <a:off x="179280" y="260280"/>
            <a:ext cx="4119840" cy="2317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E:\DCIM\100MSDCF\DSC06896.JPG"/>
          <p:cNvPicPr/>
          <p:nvPr/>
        </p:nvPicPr>
        <p:blipFill>
          <a:blip r:embed="rId2"/>
          <a:stretch/>
        </p:blipFill>
        <p:spPr>
          <a:xfrm>
            <a:off x="4716360" y="260280"/>
            <a:ext cx="4043520" cy="2274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Сергей\Desktop\Новая папка (2)\IMG_20170314_180904.jpg"/>
          <p:cNvPicPr/>
          <p:nvPr/>
        </p:nvPicPr>
        <p:blipFill>
          <a:blip r:embed="rId3"/>
          <a:stretch/>
        </p:blipFill>
        <p:spPr>
          <a:xfrm>
            <a:off x="214200" y="3214800"/>
            <a:ext cx="4119840" cy="3089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C:\Users\Сергей\Desktop\Новая папка (2)\IMG_20170314_183200.jpg"/>
          <p:cNvPicPr/>
          <p:nvPr/>
        </p:nvPicPr>
        <p:blipFill>
          <a:blip r:embed="rId4"/>
          <a:stretch/>
        </p:blipFill>
        <p:spPr>
          <a:xfrm>
            <a:off x="4834080" y="32148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е традиционные д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7" descr="D:\DSC01802.JPG"/>
          <p:cNvPicPr/>
          <p:nvPr/>
        </p:nvPicPr>
        <p:blipFill>
          <a:blip r:embed="rId1"/>
          <a:stretch/>
        </p:blipFill>
        <p:spPr>
          <a:xfrm>
            <a:off x="4429080" y="4000680"/>
            <a:ext cx="4381560" cy="246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C:\Это Елены\2016 год\фото\2016.08.31\DSC01579.JPG"/>
          <p:cNvPicPr/>
          <p:nvPr/>
        </p:nvPicPr>
        <p:blipFill>
          <a:blip r:embed="rId2"/>
          <a:stretch/>
        </p:blipFill>
        <p:spPr>
          <a:xfrm>
            <a:off x="428760" y="4143240"/>
            <a:ext cx="3643200" cy="2119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C:\Это Елены\2016 год\фото\2016.08.31\DSC01573.JPG"/>
          <p:cNvPicPr/>
          <p:nvPr/>
        </p:nvPicPr>
        <p:blipFill>
          <a:blip r:embed="rId3"/>
          <a:stretch/>
        </p:blipFill>
        <p:spPr>
          <a:xfrm>
            <a:off x="428760" y="1357200"/>
            <a:ext cx="3571920" cy="2363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D:\DSC01747.JPG"/>
          <p:cNvPicPr/>
          <p:nvPr/>
        </p:nvPicPr>
        <p:blipFill>
          <a:blip r:embed="rId4"/>
          <a:stretch/>
        </p:blipFill>
        <p:spPr>
          <a:xfrm>
            <a:off x="4429080" y="1357200"/>
            <a:ext cx="44290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http://school72nn.ucoz.ru/bolperemena/bp/pubdoc/2016-2017/1609141.jpg"/>
          <p:cNvPicPr/>
          <p:nvPr/>
        </p:nvPicPr>
        <p:blipFill>
          <a:blip r:embed="rId1"/>
          <a:stretch/>
        </p:blipFill>
        <p:spPr>
          <a:xfrm>
            <a:off x="428760" y="714240"/>
            <a:ext cx="8258040" cy="160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Это Елены\2016 год\фото\2016.10.04 с Днем учителя\DSC01658.JPG"/>
          <p:cNvPicPr/>
          <p:nvPr/>
        </p:nvPicPr>
        <p:blipFill>
          <a:blip r:embed="rId2"/>
          <a:stretch/>
        </p:blipFill>
        <p:spPr>
          <a:xfrm>
            <a:off x="357120" y="2714760"/>
            <a:ext cx="5016600" cy="2820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C:\Это Елены\2016 год\фото\2016.10.04 с Днем учителя\DSC01707.JPG"/>
          <p:cNvPicPr/>
          <p:nvPr/>
        </p:nvPicPr>
        <p:blipFill>
          <a:blip r:embed="rId3"/>
          <a:stretch/>
        </p:blipFill>
        <p:spPr>
          <a:xfrm>
            <a:off x="5572080" y="2714760"/>
            <a:ext cx="3111480" cy="1749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C:\Это Елены\2016 год\фото\2016.10.04 с Днем учителя\DSC01693.JPG"/>
          <p:cNvPicPr/>
          <p:nvPr/>
        </p:nvPicPr>
        <p:blipFill>
          <a:blip r:embed="rId4"/>
          <a:stretch/>
        </p:blipFill>
        <p:spPr>
          <a:xfrm>
            <a:off x="5572080" y="4643280"/>
            <a:ext cx="32385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6" descr="C:\Это Елены\2016 год\фото\2016.10.27 осенняя фантазия\DSC01825.JPG"/>
          <p:cNvPicPr/>
          <p:nvPr/>
        </p:nvPicPr>
        <p:blipFill>
          <a:blip r:embed="rId1"/>
          <a:stretch/>
        </p:blipFill>
        <p:spPr>
          <a:xfrm>
            <a:off x="285840" y="214200"/>
            <a:ext cx="5016240" cy="2820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Это Елены\2016 год\фото\2016.10.27 осенняя фантазия\DSC01822.JPG"/>
          <p:cNvPicPr/>
          <p:nvPr/>
        </p:nvPicPr>
        <p:blipFill>
          <a:blip r:embed="rId2"/>
          <a:stretch/>
        </p:blipFill>
        <p:spPr>
          <a:xfrm>
            <a:off x="3643200" y="3500280"/>
            <a:ext cx="5016600" cy="28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Это Елены\2016 год\фото\2016.12.02 СПИД\DSC02052.JPG"/>
          <p:cNvPicPr/>
          <p:nvPr/>
        </p:nvPicPr>
        <p:blipFill>
          <a:blip r:embed="rId1"/>
          <a:stretch/>
        </p:blipFill>
        <p:spPr>
          <a:xfrm>
            <a:off x="3643200" y="3714840"/>
            <a:ext cx="5016600" cy="2820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Это Елены\2016 год\фото\2016.12.02 СПИД\DSC02039.JPG"/>
          <p:cNvPicPr/>
          <p:nvPr/>
        </p:nvPicPr>
        <p:blipFill>
          <a:blip r:embed="rId2"/>
          <a:stretch/>
        </p:blipFill>
        <p:spPr>
          <a:xfrm>
            <a:off x="3929040" y="357120"/>
            <a:ext cx="5016600" cy="28209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161130.jpg"/>
          <p:cNvPicPr/>
          <p:nvPr/>
        </p:nvPicPr>
        <p:blipFill>
          <a:blip r:embed="rId3"/>
          <a:stretch/>
        </p:blipFill>
        <p:spPr>
          <a:xfrm>
            <a:off x="285840" y="3857760"/>
            <a:ext cx="3214440" cy="2411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Это Елены\2016 год\фото\2016.12.02 СПИД\DSC02019.JPG"/>
          <p:cNvPicPr/>
          <p:nvPr/>
        </p:nvPicPr>
        <p:blipFill>
          <a:blip r:embed="rId4"/>
          <a:stretch/>
        </p:blipFill>
        <p:spPr>
          <a:xfrm>
            <a:off x="214200" y="785880"/>
            <a:ext cx="36194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1701089.jpg"/>
          <p:cNvPicPr/>
          <p:nvPr/>
        </p:nvPicPr>
        <p:blipFill>
          <a:blip r:embed="rId1"/>
          <a:stretch/>
        </p:blipFill>
        <p:spPr>
          <a:xfrm>
            <a:off x="1428840" y="714240"/>
            <a:ext cx="6324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2" descr="1701251.jpg"/>
          <p:cNvPicPr/>
          <p:nvPr/>
        </p:nvPicPr>
        <p:blipFill>
          <a:blip r:embed="rId1"/>
          <a:stretch/>
        </p:blipFill>
        <p:spPr>
          <a:xfrm>
            <a:off x="1224000" y="0"/>
            <a:ext cx="66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4" descr="C:\Users\Сергей\Desktop\170221.jpg"/>
          <p:cNvPicPr/>
          <p:nvPr/>
        </p:nvPicPr>
        <p:blipFill>
          <a:blip r:embed="rId1"/>
          <a:stretch/>
        </p:blipFill>
        <p:spPr>
          <a:xfrm>
            <a:off x="357120" y="571680"/>
            <a:ext cx="8406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1" descr="http://school72nn.ucoz.ru/bolperemena/bp/pubdoc/2016-2017/170216.jpg"/>
          <p:cNvPicPr/>
          <p:nvPr/>
        </p:nvPicPr>
        <p:blipFill>
          <a:blip r:embed="rId1"/>
          <a:stretch/>
        </p:blipFill>
        <p:spPr>
          <a:xfrm>
            <a:off x="1857240" y="214200"/>
            <a:ext cx="5059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50920" y="1275840"/>
            <a:ext cx="8642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жизни и здоровья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безнадзорности несовершеннолетн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ганда и привитие навыков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ганда культурно-семейных цен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учащимся превентивной помощи в решении проблем и трудностей социального, психологического, личностного харак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Это Елены\2016 год\фото\2016.05.22\DSC00973.JPG"/>
          <p:cNvPicPr/>
          <p:nvPr/>
        </p:nvPicPr>
        <p:blipFill>
          <a:blip r:embed="rId1"/>
          <a:stretch/>
        </p:blipFill>
        <p:spPr>
          <a:xfrm>
            <a:off x="785880" y="5072040"/>
            <a:ext cx="23493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3" descr="170307.jpg"/>
          <p:cNvPicPr/>
          <p:nvPr/>
        </p:nvPicPr>
        <p:blipFill>
          <a:blip r:embed="rId1"/>
          <a:stretch/>
        </p:blipFill>
        <p:spPr>
          <a:xfrm>
            <a:off x="1452600" y="500040"/>
            <a:ext cx="65642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C:\Это Елены\2016 год\фото\2016.05.05\DSC00608.JPG"/>
          <p:cNvPicPr/>
          <p:nvPr/>
        </p:nvPicPr>
        <p:blipFill>
          <a:blip r:embed="rId1"/>
          <a:stretch/>
        </p:blipFill>
        <p:spPr>
          <a:xfrm>
            <a:off x="5786280" y="642960"/>
            <a:ext cx="2821320" cy="5016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Это Елены\2016 год\фото\2016.05.05\DSC00626.JPG"/>
          <p:cNvPicPr/>
          <p:nvPr/>
        </p:nvPicPr>
        <p:blipFill>
          <a:blip r:embed="rId2"/>
          <a:stretch/>
        </p:blipFill>
        <p:spPr>
          <a:xfrm>
            <a:off x="285840" y="3429000"/>
            <a:ext cx="5016240" cy="2820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Это Елены\2016 год\фото\2016.05.08\DSC00738.JPG"/>
          <p:cNvPicPr/>
          <p:nvPr/>
        </p:nvPicPr>
        <p:blipFill>
          <a:blip r:embed="rId3"/>
          <a:stretch/>
        </p:blipFill>
        <p:spPr>
          <a:xfrm>
            <a:off x="285840" y="357120"/>
            <a:ext cx="501624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Это Елены\2016 год\фото\2016.05.24 ПЗ\DSC01094.JPG"/>
          <p:cNvPicPr/>
          <p:nvPr/>
        </p:nvPicPr>
        <p:blipFill>
          <a:blip r:embed="rId1"/>
          <a:stretch/>
        </p:blipFill>
        <p:spPr>
          <a:xfrm>
            <a:off x="214200" y="571680"/>
            <a:ext cx="4254480" cy="2392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Это Елены\2016 год\фото\2016.05.24 ПЗ\DSC01068.JPG"/>
          <p:cNvPicPr/>
          <p:nvPr/>
        </p:nvPicPr>
        <p:blipFill>
          <a:blip r:embed="rId2"/>
          <a:stretch/>
        </p:blipFill>
        <p:spPr>
          <a:xfrm>
            <a:off x="214200" y="3643200"/>
            <a:ext cx="4254480" cy="2392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Это Елены\2016 год\фото\2016.06 выпуск\DSC01481.JPG"/>
          <p:cNvPicPr/>
          <p:nvPr/>
        </p:nvPicPr>
        <p:blipFill>
          <a:blip r:embed="rId3"/>
          <a:stretch/>
        </p:blipFill>
        <p:spPr>
          <a:xfrm>
            <a:off x="4714920" y="3643200"/>
            <a:ext cx="4254480" cy="2392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Это Елены\2016 год\фото\2016.06 выпуск\DSC01435.JPG"/>
          <p:cNvPicPr/>
          <p:nvPr/>
        </p:nvPicPr>
        <p:blipFill>
          <a:blip r:embed="rId4"/>
          <a:stretch/>
        </p:blipFill>
        <p:spPr>
          <a:xfrm>
            <a:off x="4714920" y="571680"/>
            <a:ext cx="4222800" cy="23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C:\Это Елены\2016 год\фото\2016.06 летний лагерь\DSC01149.JPG"/>
          <p:cNvPicPr/>
          <p:nvPr/>
        </p:nvPicPr>
        <p:blipFill>
          <a:blip r:embed="rId1"/>
          <a:stretch/>
        </p:blipFill>
        <p:spPr>
          <a:xfrm>
            <a:off x="428760" y="642960"/>
            <a:ext cx="3873240" cy="217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C:\Это Елены\2016 год\фото\2016.06 летний лагерь\DSC01156.JPG"/>
          <p:cNvPicPr/>
          <p:nvPr/>
        </p:nvPicPr>
        <p:blipFill>
          <a:blip r:embed="rId2"/>
          <a:stretch/>
        </p:blipFill>
        <p:spPr>
          <a:xfrm>
            <a:off x="4714920" y="3643200"/>
            <a:ext cx="4151160" cy="2335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C:\Это Елены\2016 год\фото\2016.06 летний лагерь\DSC01338.JPG"/>
          <p:cNvPicPr/>
          <p:nvPr/>
        </p:nvPicPr>
        <p:blipFill>
          <a:blip r:embed="rId3"/>
          <a:stretch/>
        </p:blipFill>
        <p:spPr>
          <a:xfrm>
            <a:off x="214200" y="3630600"/>
            <a:ext cx="4214880" cy="2370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C:\Это Елены\2016 год\фото\2016.06 летний лагерь\DSC01109.JPG"/>
          <p:cNvPicPr/>
          <p:nvPr/>
        </p:nvPicPr>
        <p:blipFill>
          <a:blip r:embed="rId4"/>
          <a:stretch/>
        </p:blipFill>
        <p:spPr>
          <a:xfrm>
            <a:off x="4786200" y="642960"/>
            <a:ext cx="3841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C:\Это Елены\2016 год\фото\2016.06 летний лагерь\DSC01189.JPG"/>
          <p:cNvPicPr/>
          <p:nvPr/>
        </p:nvPicPr>
        <p:blipFill>
          <a:blip r:embed="rId1"/>
          <a:stretch/>
        </p:blipFill>
        <p:spPr>
          <a:xfrm>
            <a:off x="4603680" y="857160"/>
            <a:ext cx="4127400" cy="2320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C:\Это Елены\2016 год\фото\2016.06 летний лагерь\DSC01272.JPG"/>
          <p:cNvPicPr/>
          <p:nvPr/>
        </p:nvPicPr>
        <p:blipFill>
          <a:blip r:embed="rId2"/>
          <a:stretch/>
        </p:blipFill>
        <p:spPr>
          <a:xfrm>
            <a:off x="4643280" y="4071960"/>
            <a:ext cx="4254480" cy="2392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C:\Это Елены\2016 год\фото\2016.06 летний лагерь\DSC01295.JPG"/>
          <p:cNvPicPr/>
          <p:nvPr/>
        </p:nvPicPr>
        <p:blipFill>
          <a:blip r:embed="rId3"/>
          <a:stretch/>
        </p:blipFill>
        <p:spPr>
          <a:xfrm>
            <a:off x="0" y="4000680"/>
            <a:ext cx="4317840" cy="2428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C:\Это Елены\2016 год\фото\2016.06 летний лагерь\DSC01325.JPG"/>
          <p:cNvPicPr/>
          <p:nvPr/>
        </p:nvPicPr>
        <p:blipFill>
          <a:blip r:embed="rId4"/>
          <a:stretch/>
        </p:blipFill>
        <p:spPr>
          <a:xfrm>
            <a:off x="214200" y="857160"/>
            <a:ext cx="41277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ы, НОУ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357120" y="928800"/>
            <a:ext cx="8496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ной конкурс « Правовая культура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е условие развития демократического государст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ый  этап 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ой акции «Спорт – альтернатива пагубным привычкам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ная портфолио-конференция «Во имя справедливости и пра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ая конференция НОУ по ОБЖ (3 место) – 2013-2014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ая конференция НОУ по социологии (2 место) – 2013-2014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ая конференция НОУ по ОБЖ (1 место) – 2014-2015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Проблема пивного алкоголизма среди подростков (на примере статистики Нижегородской об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ая конференция НОУ по ОБЖ 2 место -2015-2016 уч.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Проблема детской токсикомании в России (на примере Нижегородской об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ая конференция НОУ по ОБЖ 1 место – 2016-2017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Вич-инфекция в глазах подростка на территории Российской Федерации (на примере Нижегородской област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ая акция 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пВИЧСПИ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смотр-конкурс по профилактике асоциального поведения обучающихся в образовательных учреждениях – 3 место (2015 уч.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2"/>
          <p:cNvSpPr/>
          <p:nvPr/>
        </p:nvSpPr>
        <p:spPr>
          <a:xfrm>
            <a:off x="1357200" y="642960"/>
            <a:ext cx="657252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С каким настроением ты чаще всего идёшь в школ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с радостью - 54 чел. - 28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с равнодушием - 100 чел. – 5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с предчувствием  неприятностей -  41 чел. - % 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0" y="1429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«Классный руководитель глазами учащего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нимали участие 195 человек  (5а,5б,6а,6б,7а,7б,8а,8б.9а.9б,10а класс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Users\Владелец\Desktop\созвездие 17\DSC02277.JPG"/>
          <p:cNvPicPr/>
          <p:nvPr/>
        </p:nvPicPr>
        <p:blipFill>
          <a:blip r:embed="rId1"/>
          <a:stretch/>
        </p:blipFill>
        <p:spPr>
          <a:xfrm>
            <a:off x="571680" y="3429000"/>
            <a:ext cx="2604960" cy="280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:\Users\Сергей\Desktop\Елены Семеновны\Новая папка\DSC02671.JPG"/>
          <p:cNvPicPr/>
          <p:nvPr/>
        </p:nvPicPr>
        <p:blipFill>
          <a:blip r:embed="rId2"/>
          <a:stretch/>
        </p:blipFill>
        <p:spPr>
          <a:xfrm>
            <a:off x="3643200" y="3438360"/>
            <a:ext cx="487368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2"/>
          <p:cNvSpPr/>
          <p:nvPr/>
        </p:nvSpPr>
        <p:spPr>
          <a:xfrm>
            <a:off x="1000080" y="1214280"/>
            <a:ext cx="6286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Как часто у тебя в школе бывают неприят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Часто – 34 чел. - 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Редко – 135 чел. - 6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Никогда – 26 чел. - 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0" y="21420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«Классный руководитель глазами учащего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ли участие 195 человек  (5а,5б,6а,6б,7а,7б,8а,8б.9а.9б,10а класс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C:\Users\Владелец\Desktop\созвездие 17\DSC02500.JPG"/>
          <p:cNvPicPr/>
          <p:nvPr/>
        </p:nvPicPr>
        <p:blipFill>
          <a:blip r:embed="rId1"/>
          <a:stretch/>
        </p:blipFill>
        <p:spPr>
          <a:xfrm>
            <a:off x="285840" y="3357720"/>
            <a:ext cx="3462120" cy="2595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:\Это Елены\2016 год\фото\2016.10.04 с Днем учителя\DSC01654.JPG"/>
          <p:cNvPicPr/>
          <p:nvPr/>
        </p:nvPicPr>
        <p:blipFill>
          <a:blip r:embed="rId2"/>
          <a:stretch/>
        </p:blipFill>
        <p:spPr>
          <a:xfrm>
            <a:off x="4071960" y="3357720"/>
            <a:ext cx="471492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2"/>
          <p:cNvSpPr/>
          <p:nvPr/>
        </p:nvSpPr>
        <p:spPr>
          <a:xfrm>
            <a:off x="142920" y="1143000"/>
            <a:ext cx="88581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Если неприятности всё же бывают, то от кого они чаще всего исходя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От учителей предметников - 81 чел. - 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 )От классного руководителя – 33 чел. - 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От учеников твоего или другого класса – 78 чел. -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) Нет – 33 чел. -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0" y="1429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«Классный руководитель глазами учащего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нимали участие 195 человек  (5а,5б,6а,6б,7а,7б,8а,8б.9а.9б,10а класс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D:\DSC02572-1024x768.jpg"/>
          <p:cNvPicPr/>
          <p:nvPr/>
        </p:nvPicPr>
        <p:blipFill>
          <a:blip r:embed="rId1"/>
          <a:stretch/>
        </p:blipFill>
        <p:spPr>
          <a:xfrm>
            <a:off x="4429080" y="3143160"/>
            <a:ext cx="4210200" cy="3157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C:\Это Елены\2016 год\фото\2016.10.04 с Днем учителя\DSC01649.JPG"/>
          <p:cNvPicPr/>
          <p:nvPr/>
        </p:nvPicPr>
        <p:blipFill>
          <a:blip r:embed="rId2"/>
          <a:stretch/>
        </p:blipFill>
        <p:spPr>
          <a:xfrm>
            <a:off x="500040" y="34290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2"/>
          <p:cNvSpPr/>
          <p:nvPr/>
        </p:nvSpPr>
        <p:spPr>
          <a:xfrm>
            <a:off x="0" y="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«Классный руководитель глазами учащего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нимали участие 195 человек  (5а,5б,6а,6б,7а,7б,8а,8б.9а.9б,10а класс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142920" y="857160"/>
            <a:ext cx="8786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Как часто у тебя бывают конфликты с классным руководител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Часто – 21 чел. - 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Редко – 64 чел. - 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Никогда -110чел. - 5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C:\Users\Владелец\Desktop\созвездие 17\DSC02405.JPG"/>
          <p:cNvPicPr/>
          <p:nvPr/>
        </p:nvPicPr>
        <p:blipFill>
          <a:blip r:embed="rId1"/>
          <a:stretch/>
        </p:blipFill>
        <p:spPr>
          <a:xfrm>
            <a:off x="3357720" y="2928960"/>
            <a:ext cx="501624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0" y="836640"/>
            <a:ext cx="889308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учащихся, склонных к совершению правонарушений  и безнадзорных детей, оказавшихся в трудной жизненной ситу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определение причин, способствующих антиобщественным и противоправным действиям подрос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нтересов и способностей учащихся и организация их досуга через вовлечение в различные кружки и спортивные сек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неблагополучных семей и семей, находящихся в трудной жизненной ситуации и оказание им социально-психологической помощ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 учащихся в общественную жизнь школы и клас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направлений и методов социально-психологической работы с несовершеннолетними, находящимися в трудной жизненной ситуации и подростками, имеющими девиантное пове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 взаимодействие педагогического коллектива с различными социальными службами в профилактике правонарушений несовершеннолетн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родительского всеобуч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равовой и психолого-педагогической компетенции преподавательского соста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законных интересов и защиты прав несовершеннолетнего учащего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 образовательном учреждении благоприятного климата для учащих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 результативности профилактическ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2"/>
          <p:cNvSpPr/>
          <p:nvPr/>
        </p:nvSpPr>
        <p:spPr>
          <a:xfrm>
            <a:off x="142920" y="0"/>
            <a:ext cx="8858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«Классный руководитель глазами учащего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нимали участие 195 человек  (5а,5б,6а,6б,7а,7б,8а,8б.9а.9б,10а класс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3"/>
          <p:cNvSpPr/>
          <p:nvPr/>
        </p:nvSpPr>
        <p:spPr>
          <a:xfrm>
            <a:off x="285840" y="857160"/>
            <a:ext cx="84294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Какую роль в твоём классе исполняет твой классный руководител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)Контролёр за успеваемостью и дисциплиной – 129 чел. - 6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«Вторая мама» - 43 чел.- 2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Организатор досуга – 21 чел. – 1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) Помощник в трудных обстоятельствах, старший товарищ – 60 чел. - 3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ую – 8 чел. – 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C:\Users\Владелец\Desktop\спид\aMg3oFo2gXE.jpg"/>
          <p:cNvPicPr/>
          <p:nvPr/>
        </p:nvPicPr>
        <p:blipFill>
          <a:blip r:embed="rId1"/>
          <a:stretch/>
        </p:blipFill>
        <p:spPr>
          <a:xfrm>
            <a:off x="3786120" y="2786040"/>
            <a:ext cx="4476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2"/>
          <p:cNvSpPr/>
          <p:nvPr/>
        </p:nvSpPr>
        <p:spPr>
          <a:xfrm>
            <a:off x="142920" y="0"/>
            <a:ext cx="8858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«Классный руководитель глазами учащего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нимали участие 195 человек  (5а,5б,6а,6б,7а,7б,8а,8б.9а.9б,10а класс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428760" y="857160"/>
            <a:ext cx="71434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Ты считаешь, что твой 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Сплочён и дружен – 57 чел. -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Разбит на группы – 108 чел.  – 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Каждый живёт сам по себе – 30 чел. – 1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C:\Это Елены\2016 год\фото\2016.12.23 новый год спектакль\IMG_5373.jpg"/>
          <p:cNvPicPr/>
          <p:nvPr/>
        </p:nvPicPr>
        <p:blipFill>
          <a:blip r:embed="rId1"/>
          <a:stretch/>
        </p:blipFill>
        <p:spPr>
          <a:xfrm>
            <a:off x="3500280" y="3166920"/>
            <a:ext cx="4535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5"/>
          <p:cNvSpPr/>
          <p:nvPr/>
        </p:nvSpPr>
        <p:spPr>
          <a:xfrm>
            <a:off x="142920" y="0"/>
            <a:ext cx="878688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профилактики безнадзорности и правонарушений несовершеннолетних используются разнообразные формы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семей, находящихся в социально-опасном положе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ды по неблагополучным семь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Совета профилактики шк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одительского лектор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беседы с  учащимися, родител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докум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и групповые консульт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в участии в системе внеучебной деятельности шк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профориентации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семинары-совещания по проблемам профилактики социального сиротства и семейного неблагополучия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родительские собрания («О повышении ответственности родителей за воспитание детей»), общешкольные собрания с участием членов ОДН, сотрудников других органов и учреждений системы профилактики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осуществление патронажного наблюдения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оказание различных видов материальной помощи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организация отдыха и оздоровления детей из малообеспеченных семей и семей, находящихся в социально-опасном положении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оказание несовершеннолетним психолого-педагогической помощи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организация занятости и временной трудовой деятельности несовершеннолетних и детей из семей, находящихся в социально опасном полож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Users\Сергей\Desktop\Елены Семеновны\Новая папка\DSC02625.JPG"/>
          <p:cNvPicPr/>
          <p:nvPr/>
        </p:nvPicPr>
        <p:blipFill>
          <a:blip r:embed="rId1"/>
          <a:stretch/>
        </p:blipFill>
        <p:spPr>
          <a:xfrm>
            <a:off x="5715000" y="1357200"/>
            <a:ext cx="289080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285840" y="285840"/>
            <a:ext cx="8715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опрос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беседа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рефлексия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убеждение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социальное проектирование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анализ документов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социометрия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метод «педагогического взрыва»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метод поощрения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метод убеждения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методика организации коллективной творческой деятельности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индивидуальная консультация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создание ситуации успеха в социально-значимой деятельности и др.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тренинги социальных навыков и модификации поведения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индивидуальная педагогическая поддер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Сергей\Desktop\Новая папка (2)\IMG_20170323_091059.jpg"/>
          <p:cNvPicPr/>
          <p:nvPr/>
        </p:nvPicPr>
        <p:blipFill>
          <a:blip r:embed="rId1"/>
          <a:stretch/>
        </p:blipFill>
        <p:spPr>
          <a:xfrm>
            <a:off x="5572080" y="135720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контингента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Диаграмма 6"/>
          <p:cNvGraphicFramePr/>
          <p:nvPr/>
        </p:nvGraphicFramePr>
        <p:xfrm>
          <a:off x="1473120" y="1351080"/>
          <a:ext cx="6442200" cy="38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351080"/>
                    <a:ext cx="644220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11280" y="1773360"/>
          <a:ext cx="8064360" cy="4038480"/>
        </p:xfrm>
        <a:graphic>
          <a:graphicData uri="http://schemas.openxmlformats.org/drawingml/2006/table">
            <a:tbl>
              <a:tblPr/>
              <a:tblGrid>
                <a:gridCol w="1346040"/>
                <a:gridCol w="1343160"/>
                <a:gridCol w="1344600"/>
                <a:gridCol w="1342800"/>
                <a:gridCol w="1344960"/>
                <a:gridCol w="134280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Кол-во направлен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Кол-во круж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Количество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Охват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(кол -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Охват обучающих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ДО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12-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13-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14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15-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4"/>
          <p:cNvSpPr/>
          <p:nvPr/>
        </p:nvSpPr>
        <p:spPr>
          <a:xfrm>
            <a:off x="250920" y="1015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Сравнительный анализ за пять лет охвата детей дополнительным образование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250920" y="3985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Занятость учащихся в системе дополнительного образования в МБОУ «Школа № 7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777960" y="1724040"/>
          <a:ext cx="744516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724040"/>
                    <a:ext cx="744516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16:45:15Z</dcterms:created>
  <dc:creator>Пользователь Windows</dc:creator>
  <dc:description/>
  <dc:language>en-US</dc:language>
  <cp:lastModifiedBy>Сергей</cp:lastModifiedBy>
  <dcterms:modified xsi:type="dcterms:W3CDTF">2019-02-24T12:09:12Z</dcterms:modified>
  <cp:revision>104</cp:revision>
  <dc:subject/>
  <dc:title>ИСТОРИЯ МБОУ СОШ №72</dc:title>
</cp:coreProperties>
</file>