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80B-D8E2-472E-BE14-9E813B2C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89B-AA59-40DB-B560-ADB69E6C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7BD-2793-4B10-87F0-5504A5D6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334-C974-4133-BEBD-7E11F45B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D6B-F59B-4164-95D3-1C71281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E2D-CA0C-49E6-A542-2A7D280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2DD-B237-467C-9C26-3BDA07A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1E0-0DC3-4B48-B4C2-4C50BC8D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B27-FD16-46D7-9B8E-54CE2B7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C9A-9030-40CC-BDE5-F9B0365F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8C9-A3A0-4731-AF91-E2658A2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321-2446-4B3A-B5FD-CF8009D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89E-3C1C-464A-B5FF-066FBD3A8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8856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автоном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асская средняя общеобразовательная школа № 16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78184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русских народных сказок в интерпретации детьми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i="1" lang="ru-RU" sz="1900" spc="-1" strike="noStrike">
                <a:solidFill>
                  <a:srgbClr val="898989"/>
                </a:solidFill>
                <a:latin typeface="Calibri"/>
              </a:rPr>
              <a:t>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457200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ченица  5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а 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Александра Геннад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сказок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 тематическому принцип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6000" y="1844280"/>
            <a:ext cx="433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 живот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волшеб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быт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60280"/>
            <a:ext cx="8569440" cy="3384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т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казка должна быть о животных и растениях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В центре сказки - многократно повторяющийся эпизо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Ориентация на детское восприятие, на малый бытовой опыт слушателей – упрощенный конфликт, доказательство простых истин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Важную роль играет многократный повтор диалогов и пес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азка «Реп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412640"/>
            <a:ext cx="5975280" cy="511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f204ba4d4a233c71f3b462886bda02c"/>
          <p:cNvPicPr/>
          <p:nvPr/>
        </p:nvPicPr>
        <p:blipFill>
          <a:blip r:embed="rId2"/>
          <a:stretch/>
        </p:blipFill>
        <p:spPr>
          <a:xfrm>
            <a:off x="1692360" y="1341360"/>
            <a:ext cx="60069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нкета для опроса по сказке «Репк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125360"/>
            <a:ext cx="8229600" cy="4708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репка, какая она обычно? А какая выросла в сказ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дедушка стал тянуть репку од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о он позвал себе на помощь, когда не смог вытащить реп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о позвала бабка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внучка позвала Жуч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Жучка позвала ко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кошка позвала мы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думаете, о чем сказка «Репк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ма прочитала сказку детям и опросила и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41840" cy="1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71640" y="2174760"/>
            <a:ext cx="3525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olga 053"/>
          <p:cNvPicPr/>
          <p:nvPr/>
        </p:nvPicPr>
        <p:blipFill>
          <a:blip r:embed="rId1"/>
          <a:stretch/>
        </p:blipFill>
        <p:spPr>
          <a:xfrm>
            <a:off x="4788000" y="1773360"/>
            <a:ext cx="350820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olga 051"/>
          <p:cNvPicPr/>
          <p:nvPr/>
        </p:nvPicPr>
        <p:blipFill>
          <a:blip r:embed="rId2"/>
          <a:stretch/>
        </p:blipFill>
        <p:spPr>
          <a:xfrm>
            <a:off x="1047600" y="1844640"/>
            <a:ext cx="33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своими ру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AM01667"/>
          <p:cNvPicPr/>
          <p:nvPr/>
        </p:nvPicPr>
        <p:blipFill>
          <a:blip r:embed="rId1"/>
          <a:stretch/>
        </p:blipFill>
        <p:spPr>
          <a:xfrm>
            <a:off x="4932360" y="1557360"/>
            <a:ext cx="3214800" cy="4568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olga 076"/>
          <p:cNvPicPr/>
          <p:nvPr/>
        </p:nvPicPr>
        <p:blipFill>
          <a:blip r:embed="rId2"/>
          <a:stretch/>
        </p:blipFill>
        <p:spPr>
          <a:xfrm>
            <a:off x="611280" y="1557360"/>
            <a:ext cx="3960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актовка образов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640" y="1599840"/>
            <a:ext cx="7704000" cy="3916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 Дед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мудрость (самый старший, он посадил и вырастил репку, т.е. достояние Рода, и посадил не для себя, а для своего Рода)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Баб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традиции, хозяйственность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. Внуч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потомство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. Жуч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достаток в Роду (собаку заводили, чтобы охраняла достаток)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. Кош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благостная обстановк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6. Мыш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благосостояние (т.е. в доме есть пищ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азка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6920" y="1600200"/>
            <a:ext cx="626436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06816661_kolobokjpgss"/>
          <p:cNvPicPr/>
          <p:nvPr/>
        </p:nvPicPr>
        <p:blipFill>
          <a:blip r:embed="rId2"/>
          <a:stretch/>
        </p:blipFill>
        <p:spPr>
          <a:xfrm>
            <a:off x="1187280" y="162864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олобок» – это наблюдение за фазами лу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1699"/>
          <p:cNvPicPr/>
          <p:nvPr/>
        </p:nvPicPr>
        <p:blipFill>
          <a:blip r:embed="rId1"/>
          <a:stretch/>
        </p:blipFill>
        <p:spPr>
          <a:xfrm>
            <a:off x="1908000" y="1803240"/>
            <a:ext cx="568836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кета для опроса по сказке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1640" y="1600200"/>
            <a:ext cx="7200720" cy="4525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го бабушка испекла колоб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колобок убеж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заяц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олк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медведь не смог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у лисы получилось его съ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ы думаете, какой колобок? Какими словами его можно опис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колобок мог спасти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 что рассказывает сказка «Колобок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я мама рассказала историю, котора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тавила меня задум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olga 036"/>
          <p:cNvPicPr/>
          <p:nvPr/>
        </p:nvPicPr>
        <p:blipFill>
          <a:blip r:embed="rId1"/>
          <a:stretch/>
        </p:blipFill>
        <p:spPr>
          <a:xfrm>
            <a:off x="1403280" y="1557360"/>
            <a:ext cx="6402600" cy="5068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ос детей показал, что не все сказки дети понимают так, как этого бы хотелось взросл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тоды работы с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редварительные бесед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исторические спра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изготовление нагляд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двинутая нами гипотеза о том, что современные дети нуждаются в дополнительных пояснениях, чтобы понять народные сказки, подтверди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сские народные сказки сохранили для нас заветы наших предков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421000"/>
            <a:ext cx="7129440" cy="3456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но жить, соблюдать правила достойного поведения по отношению к людям, ценить свою семью, уметь сохранять добрососедские отношения, совместно противостоять трудност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IMG_1762"/>
          <p:cNvPicPr/>
          <p:nvPr/>
        </p:nvPicPr>
        <p:blipFill>
          <a:blip r:embed="rId1"/>
          <a:stretch/>
        </p:blipFill>
        <p:spPr>
          <a:xfrm>
            <a:off x="4662360" y="476280"/>
            <a:ext cx="3834000" cy="5113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611280" y="1413000"/>
            <a:ext cx="6121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8856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автоном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асская средняя общеобразовательная школа № 16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78184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русских народных сказок в интерпретации детьми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i="1" lang="ru-RU" sz="1900" spc="-1" strike="noStrike">
                <a:solidFill>
                  <a:srgbClr val="898989"/>
                </a:solidFill>
                <a:latin typeface="Calibri"/>
              </a:rPr>
              <a:t>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457200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ченица  5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а 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Александра Геннад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нимают современные дети старинные русские сказ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43840" cy="49244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404280"/>
            <a:ext cx="8497800" cy="35290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понимают современные дети старинные русские сказки? Могут ли они самостоятельно найти скрытый, сакральный смысл, заложенный в сказку нашими предкам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 литературу о сакральных смыслах русских народных сказок («Репка» и «Колобок») и сравнить трактовку ученых с трактовкой группы современных детей в возрасте 4-5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мы попытаемся проанализировать сакральный смысл русских народных сказок, то многие сказки, дошедшие до нас из глубины веков, непонятные современным детям, возможно, станут им понят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ки наполнены метафорами, значение которых давно утеряно, и современные дети, в связи с существенными изменениями в образе жизни, нуждаются в дополнительных исторических пояснени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знать о том, как раскрывают смысл этих сказок учен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 помощью мамы провести опрос дете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равнить полученные данн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ри необходимости помочь детям понять тот смысл, который изначально вкладывался нашими предками в эти сказк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редставления группы современных детей в возрасте 4-5 лет о русских народных сказках «Репка» и «Колобок»</a:t>
            </a:r>
            <a:br>
              <a:rPr sz="3200"/>
            </a:b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6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различными источниками информации по 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 и синтез получен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ая дея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ктическая знач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ается в опытно – экспериментальной части нашего исследования: изучение представлений группы детей о сакральных смыслах сказок «Репка» и «Колобок». Создание театра из соленого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 русских народных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88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549360"/>
            <a:ext cx="8229600" cy="324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ародная сказ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пическое, устное, художественное произведение преимущество прозаического, волшебного, авантюрного или бытового характера с установкой на вымысел» (Э.В.Померанце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кральный смысл сказок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в широком смысле всё отличающееся от обыденных вещей, понятий, явлений; это скрытый смысл, который нужно поня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08:58Z</dcterms:created>
  <dc:creator>Admin</dc:creator>
  <dc:description/>
  <dc:language>en-US</dc:language>
  <cp:lastModifiedBy>HP</cp:lastModifiedBy>
  <dcterms:modified xsi:type="dcterms:W3CDTF">2019-02-24T18:29:53Z</dcterms:modified>
  <cp:revision>20</cp:revision>
  <dc:subject/>
  <dc:title>Слайд 1</dc:title>
</cp:coreProperties>
</file>