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46D-DB0D-4885-96DC-618222E3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36A-05BD-4B9A-BBA1-A9997C1C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02D-16B1-485E-9B3B-1DE81133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8B4-1A4C-4FDA-B031-448AC6D4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9FF-D942-4473-95F9-23742E1B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664-D5E6-474C-8D80-BD469543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6FE-9D6A-4B75-BA3B-B243CDF0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398-C5FE-469A-AEF2-AEFB587C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AE7-0FEF-4E3D-90D4-40E9589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782-65ED-4DCB-8661-2E76334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9DE-CC40-4309-8B99-EDD8C9D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9C0-A6DD-4295-8E9A-49BB61EA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116-32A2-4F61-9C75-7BF67BA6C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88567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автономное 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асская средняя общеобразовательная школа № 16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915920"/>
            <a:ext cx="878184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акральный смысл русских народных сказок в интерпретации детьми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1" i="1" lang="ru-RU" sz="1900" spc="-1" strike="noStrike">
                <a:solidFill>
                  <a:srgbClr val="898989"/>
                </a:solidFill>
                <a:latin typeface="Calibri"/>
              </a:rPr>
              <a:t>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4572000" y="3933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ченица  5 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ова 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ина Александра Геннад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сказок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 тематическому принцип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6000" y="1844280"/>
            <a:ext cx="4330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о живот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волшеб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быто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260280"/>
            <a:ext cx="8569440" cy="3384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итерии от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казка должна быть о животных и растениях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- В центре сказки - многократно повторяющийся эпизо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Ориентация на детское восприятие, на малый бытовой опыт слушателей – упрощенный конфликт, доказательство простых истин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Важную роль играет многократный повтор диалогов и пес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казка «Реп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1412640"/>
            <a:ext cx="5975280" cy="511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0f204ba4d4a233c71f3b462886bda02c"/>
          <p:cNvPicPr/>
          <p:nvPr/>
        </p:nvPicPr>
        <p:blipFill>
          <a:blip r:embed="rId2"/>
          <a:stretch/>
        </p:blipFill>
        <p:spPr>
          <a:xfrm>
            <a:off x="1692360" y="1341360"/>
            <a:ext cx="60069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нкета для опроса по сказке «Репк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125360"/>
            <a:ext cx="8229600" cy="4708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репка, какая она обычно? А какая выросла в сказ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дедушка стал тянуть репку од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о он позвал себе на помощь, когда не смог вытащить реп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о позвала бабка?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внучка позвала Жуч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Жучка позвала кош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кошка позвала мыш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думаете, о чем сказка «Репк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ма прочитала сказку детям и опросила и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41840" cy="1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71640" y="2174760"/>
            <a:ext cx="3525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olga 053"/>
          <p:cNvPicPr/>
          <p:nvPr/>
        </p:nvPicPr>
        <p:blipFill>
          <a:blip r:embed="rId1"/>
          <a:stretch/>
        </p:blipFill>
        <p:spPr>
          <a:xfrm>
            <a:off x="4788000" y="1773360"/>
            <a:ext cx="350820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olga 051"/>
          <p:cNvPicPr/>
          <p:nvPr/>
        </p:nvPicPr>
        <p:blipFill>
          <a:blip r:embed="rId2"/>
          <a:stretch/>
        </p:blipFill>
        <p:spPr>
          <a:xfrm>
            <a:off x="1047600" y="1844640"/>
            <a:ext cx="3327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атр своими ру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CAM01667"/>
          <p:cNvPicPr/>
          <p:nvPr/>
        </p:nvPicPr>
        <p:blipFill>
          <a:blip r:embed="rId1"/>
          <a:stretch/>
        </p:blipFill>
        <p:spPr>
          <a:xfrm>
            <a:off x="4932360" y="1557360"/>
            <a:ext cx="3214800" cy="4568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olga 076"/>
          <p:cNvPicPr/>
          <p:nvPr/>
        </p:nvPicPr>
        <p:blipFill>
          <a:blip r:embed="rId2"/>
          <a:stretch/>
        </p:blipFill>
        <p:spPr>
          <a:xfrm>
            <a:off x="611280" y="1557360"/>
            <a:ext cx="39607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рактовка образов 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55640" y="1599840"/>
            <a:ext cx="7704000" cy="3916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 Дед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мудрость (самый старший, он посадил и вырастил репку, т.е. достояние Рода, и посадил не для себя, а для своего Рода)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Баб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традиции, хозяйственность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. Внуч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потомство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. Жуч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достаток в Роду (собаку заводили, чтобы охраняла достаток)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. Кош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благостная обстановка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6. Мыш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благосостояние (т.е. в доме есть пищ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казка «Колоб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6920" y="1600200"/>
            <a:ext cx="626436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106816661_kolobokjpgss"/>
          <p:cNvPicPr/>
          <p:nvPr/>
        </p:nvPicPr>
        <p:blipFill>
          <a:blip r:embed="rId2"/>
          <a:stretch/>
        </p:blipFill>
        <p:spPr>
          <a:xfrm>
            <a:off x="1187280" y="1628640"/>
            <a:ext cx="6264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олобок» – это наблюдение за фазами лу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1699"/>
          <p:cNvPicPr/>
          <p:nvPr/>
        </p:nvPicPr>
        <p:blipFill>
          <a:blip r:embed="rId1"/>
          <a:stretch/>
        </p:blipFill>
        <p:spPr>
          <a:xfrm>
            <a:off x="1908000" y="1803240"/>
            <a:ext cx="568836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кета для опроса по сказке «Колоб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1640" y="1600200"/>
            <a:ext cx="7200720" cy="4525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чего бабушка испекла колобо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колобок убежа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заяц не смог его съ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волк не смог его съ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медведь не смог его съ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у лисы получилось его съ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ы думаете, какой колобок? Какими словами его можно опис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колобок мог спасти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 что рассказывает сказка «Колобок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я мама рассказала историю, котора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ставила меня задум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olga 036"/>
          <p:cNvPicPr/>
          <p:nvPr/>
        </p:nvPicPr>
        <p:blipFill>
          <a:blip r:embed="rId1"/>
          <a:stretch/>
        </p:blipFill>
        <p:spPr>
          <a:xfrm>
            <a:off x="1403280" y="1557360"/>
            <a:ext cx="6402600" cy="50688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ы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ос детей показал, что не все сказки дети понимают так, как этого бы хотелось взрослы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тоды работы с дет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предварительные бесед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исторические справ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изготовление наглядн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двинутая нами гипотеза о том, что современные дети нуждаются в дополнительных пояснениях, чтобы понять народные сказки, подтвердила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усские народные сказки сохранили для нас заветы наших предков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2421000"/>
            <a:ext cx="7129440" cy="3456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но жить, соблюдать правила достойного поведения по отношению к людям, ценить свою семью, уметь сохранять добрососедские отношения, совместно противостоять трудност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IMG_1762"/>
          <p:cNvPicPr/>
          <p:nvPr/>
        </p:nvPicPr>
        <p:blipFill>
          <a:blip r:embed="rId1"/>
          <a:stretch/>
        </p:blipFill>
        <p:spPr>
          <a:xfrm>
            <a:off x="4662360" y="476280"/>
            <a:ext cx="3834000" cy="5113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611280" y="1413000"/>
            <a:ext cx="6121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88567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автономное 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асская средняя общеобразовательная школа № 16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1915920"/>
            <a:ext cx="878184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акральный смысл русских народных сказок в интерпретации детьми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1" i="1" lang="ru-RU" sz="1900" spc="-1" strike="noStrike">
                <a:solidFill>
                  <a:srgbClr val="898989"/>
                </a:solidFill>
                <a:latin typeface="Calibri"/>
              </a:rPr>
              <a:t>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4572000" y="3933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ченица  5 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ова 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ина Александра Геннад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нимают современные дети старинные русские сказк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243840" cy="49244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4920" y="404280"/>
            <a:ext cx="8497800" cy="35290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7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понимают современные дети старинные русские сказки? Могут ли они самостоятельно найти скрытый, сакральный смысл, заложенный в сказку нашими предками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ить литературу о сакральных смыслах русских народных сказок («Репка» и «Колобок») и сравнить трактовку ученых с трактовкой группы современных детей в возрасте 4-5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ипот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мы попытаемся проанализировать сакральный смысл русских народных сказок, то многие сказки, дошедшие до нас из глубины веков, непонятные современным детям, возможно, станут им понят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ки наполнены метафорами, значение которых давно утеряно, и современные дети, в связи с существенными изменениями в образе жизни, нуждаются в дополнительных исторических пояснения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дач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узнать о том, как раскрывают смысл этих сказок ученые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 помощью мамы провести опрос детей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равнить полученные данные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при необходимости помочь детям понять тот смысл, который изначально вкладывался нашими предками в эти сказк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ъект исследова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представления группы современных детей в возрасте 4-5 лет о русских народных сказках «Репка» и «Колобок»</a:t>
            </a:r>
            <a:br>
              <a:rPr sz="3200"/>
            </a:b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26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с различными источниками информации по данной те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лиз и синтез полученной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ая деятель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ктическая значи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лючается в опытно – экспериментальной части нашего исследования: изучение представлений группы детей о сакральных смыслах сказок «Репка» и «Колобок». Создание театра из соленого те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 русских народных сказ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88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549360"/>
            <a:ext cx="8229600" cy="3240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7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ародная сказк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эпическое, устное, художественное произведение преимущество прозаического, волшебного, авантюрного или бытового характера с установкой на вымысел» (Э.В.Померанцев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кральный смысл сказок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в широком смысле всё отличающееся от обыденных вещей, понятий, явлений; это скрытый смысл, который нужно поня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6:08:58Z</dcterms:created>
  <dc:creator>Admin</dc:creator>
  <dc:description/>
  <dc:language>en-US</dc:language>
  <cp:lastModifiedBy>HP</cp:lastModifiedBy>
  <dcterms:modified xsi:type="dcterms:W3CDTF">2019-02-24T18:29:53Z</dcterms:modified>
  <cp:revision>20</cp:revision>
  <dc:subject/>
  <dc:title>Слайд 1</dc:title>
</cp:coreProperties>
</file>