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78B-E057-47F3-87E3-F67E2682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EDB-5F3B-4502-BF6C-9E96AAD1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BF6-E13D-482B-BF8E-90F87344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35C-8C0F-4ECA-9D4E-B2733845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29EE-87AB-4AE8-8C23-DEE243CA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3190-DDBF-429E-982F-63F255A1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4F14-E045-42C4-8021-F499E05F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ADF6-CB4B-495C-918D-715D1EF0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CD57-AD3A-4F0F-B694-7BA6A144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7743-30F8-4C95-89F1-25A9556E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1843-903C-4122-8EC1-D0D9767C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E22-7681-41FD-B9C9-CF906633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5B28-E7B6-4951-AA07-D13DD72D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0A1A-6218-4EEC-9154-5FFD55ED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7C8D-2A17-4E31-A615-2352F0A0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BD01-C26B-47BD-8E00-C0E43E17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AAEE-6DB0-45E6-B4AE-A5483494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E66C-9772-4313-A41A-63CA8C22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53F3-CCDF-4F95-88ED-193B8587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F43B-6DB4-4A13-975C-284E83D3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5EA6-5479-4EB5-9A1F-88142C9E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4815-5B8F-46BC-8B63-13898268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EA8-7B43-48F4-B409-DC14AA6B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143C-3FE4-441E-9392-73BB04EF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0188A-5ED5-4F92-BBBD-B39B3A5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CE2A-DE62-4A8C-A6AE-D21B4CE7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8D97-740D-449D-968C-A6A60234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DEAA5-03EF-4B30-9788-04605147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BA2C-F625-40B0-8560-E491F148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DD22-360D-4AFE-B495-3ADDB3EC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53A53-9357-49C0-B41D-B3A60BD3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B760D-973D-43CB-85E1-79784C82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5101-6EE1-4ADE-A16A-7EABFB38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1C4-71D0-4A2E-9C00-18EA50DE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F7E8E-455D-4407-97B7-E75D8172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74445-C5CF-4004-A367-749B1F5D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2328C-7A14-4D3A-853F-D9903FF5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EDB0A-3959-4C47-82BE-D255675E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7CC54-1F8A-425E-8C6C-9DE32E36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332A-50B7-4098-9A4E-87ACC79B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E5D33-1C8E-403D-938E-9ACDF9E1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F3115-117A-45E3-A5C9-D1247AD8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6379-84A2-4D41-9BB0-F5224E9E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450-B07C-4C90-803E-9492605A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059-40D5-44A6-B08F-D3C17E42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5FA-65B2-42FC-878B-0AA707B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8B5-A9C5-4148-8346-0A722B9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378-7E21-4496-A3E3-CC4F0C6B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C861-6DC0-49E3-8D15-CAF54AD20410}" type="slidenum">
              <a:rPr b="0" lang="ru-RU" sz="900" spc="-1" strike="noStrike">
                <a:solidFill>
                  <a:srgbClr val="90c226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DD9E-AA1F-4B84-A361-A6F1FD5DE20F}" type="slidenum">
              <a:rPr b="0" lang="ru-RU" sz="900" spc="-1" strike="noStrike">
                <a:solidFill>
                  <a:srgbClr val="90c226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8527-0655-4A32-972C-065AC83E9424}" type="slidenum">
              <a:rPr b="0" lang="ru-RU" sz="900" spc="-1" strike="noStrike">
                <a:solidFill>
                  <a:srgbClr val="90c226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5B87-5C9B-4E05-8F27-BCAA4214A8B0}" type="slidenum">
              <a:rPr b="0" lang="ru-RU" sz="900" spc="-1" strike="noStrike">
                <a:solidFill>
                  <a:srgbClr val="90c226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695160"/>
            <a:ext cx="76867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3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14880" y="1071360"/>
            <a:ext cx="49291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100" spc="-1" strike="noStrike">
                <a:solidFill>
                  <a:srgbClr val="2a5010"/>
                </a:solidFill>
                <a:latin typeface="Trebuchet MS"/>
              </a:rPr>
              <a:t>Кого в Древней Греции называли 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100" spc="-1" strike="noStrike">
                <a:solidFill>
                  <a:srgbClr val="2a5010"/>
                </a:solidFill>
                <a:latin typeface="Trebuchet MS"/>
              </a:rPr>
              <a:t>«Отцом истории»? 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9" name="Picture 2" descr="C:\Documents and Settings\Admin\Рабочий стол\Греция\35155288_Kopiya_gomer.jpg"/>
          <p:cNvPicPr/>
          <p:nvPr/>
        </p:nvPicPr>
        <p:blipFill>
          <a:blip r:embed="rId2"/>
          <a:stretch/>
        </p:blipFill>
        <p:spPr>
          <a:xfrm>
            <a:off x="428760" y="1071720"/>
            <a:ext cx="37954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Documents and Settings\Admin\Рабочий стол\Греция\94d085289499.jpg"/>
          <p:cNvPicPr/>
          <p:nvPr/>
        </p:nvPicPr>
        <p:blipFill>
          <a:blip r:embed="rId1"/>
          <a:stretch/>
        </p:blipFill>
        <p:spPr>
          <a:xfrm>
            <a:off x="285840" y="212760"/>
            <a:ext cx="8643960" cy="64864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14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13840" y="713880"/>
            <a:ext cx="89298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rebuchet MS"/>
              </a:rPr>
              <a:t>Расположите события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rebuchet MS"/>
              </a:rPr>
              <a:t>в хронологической последовательности.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А) Марафонская битв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Б) Завоевание Греции Македонией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В) Первые Олимпийские игр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AutoShape 4">
            <a:hlinkClick r:id="rId2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6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6160" y="785880"/>
            <a:ext cx="4857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Trebuchet MS"/>
              </a:rPr>
              <a:t>Обычно богиню победы Нику изображали крылатой девушкой. Однако, афиняне изменили статую. Что сделали афиняне?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Trebuchet MS"/>
              </a:rPr>
              <a:t>Почему?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7" name="Picture 3" descr="C:\Documents and Settings\Admin\Рабочий стол\Греция\nika.jpg"/>
          <p:cNvPicPr/>
          <p:nvPr/>
        </p:nvPicPr>
        <p:blipFill>
          <a:blip r:embed="rId2"/>
          <a:stretch/>
        </p:blipFill>
        <p:spPr>
          <a:xfrm>
            <a:off x="0" y="0"/>
            <a:ext cx="42958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7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56760" y="1214280"/>
            <a:ext cx="85726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rebuchet MS"/>
              </a:rPr>
              <a:t>Историческая загадка.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500" spc="-1" strike="noStrike">
                <a:solidFill>
                  <a:srgbClr val="2a5010"/>
                </a:solidFill>
                <a:latin typeface="Trebuchet MS"/>
              </a:rPr>
              <a:t>От времен спартанцев речь такую называют краткою и меткою …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8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500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2a5010"/>
                </a:solidFill>
                <a:latin typeface="Trebuchet MS"/>
              </a:rPr>
              <a:t>Назовите главные виды представлений в греческом театре.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4" name="Picture 2" descr="C:\Documents and Settings\Admin\Рабочий стол\Греция\1257764868_teatr-drevnej-grecii.jpg"/>
          <p:cNvPicPr/>
          <p:nvPr/>
        </p:nvPicPr>
        <p:blipFill>
          <a:blip r:embed="rId2"/>
          <a:stretch/>
        </p:blipFill>
        <p:spPr>
          <a:xfrm>
            <a:off x="2500200" y="3257640"/>
            <a:ext cx="4581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9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13840" y="4071960"/>
            <a:ext cx="8929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Что означает крылатое выражение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«Со щитом или на щите»?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8" name="Picture 2" descr="C:\Documents and Settings\Admin\Рабочий стол\Греция\2009November21214638800px-Hoplite_fight_from_Athens_Museum.jpg"/>
          <p:cNvPicPr/>
          <p:nvPr/>
        </p:nvPicPr>
        <p:blipFill>
          <a:blip r:embed="rId1"/>
          <a:stretch/>
        </p:blipFill>
        <p:spPr>
          <a:xfrm>
            <a:off x="1643040" y="21420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Documents and Settings\Admin\Рабочий стол\Греция\box-drgr-400x466.jpg"/>
          <p:cNvPicPr/>
          <p:nvPr/>
        </p:nvPicPr>
        <p:blipFill>
          <a:blip r:embed="rId1"/>
          <a:stretch/>
        </p:blipFill>
        <p:spPr>
          <a:xfrm>
            <a:off x="5000760" y="3071880"/>
            <a:ext cx="3135240" cy="3652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1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Почему эти слова названы вместе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краснофигурный сосуд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чернофигурный сосуд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Керамик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фин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Admin\Рабочий стол\Греция\theseus_ariadne.jpg"/>
          <p:cNvPicPr/>
          <p:nvPr/>
        </p:nvPicPr>
        <p:blipFill>
          <a:blip r:embed="rId1"/>
          <a:stretch/>
        </p:blipFill>
        <p:spPr>
          <a:xfrm>
            <a:off x="0" y="142920"/>
            <a:ext cx="9248760" cy="64641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2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000160" y="71424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rebuchet MS"/>
              </a:rPr>
              <a:t>Что означает выражение «Нить Ариадны»?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C:\Documents and Settings\Admin\Рабочий стол\Греция\img060201-11.jpg"/>
          <p:cNvPicPr/>
          <p:nvPr/>
        </p:nvPicPr>
        <p:blipFill>
          <a:blip r:embed="rId1"/>
          <a:stretch/>
        </p:blipFill>
        <p:spPr>
          <a:xfrm>
            <a:off x="214200" y="309600"/>
            <a:ext cx="8748720" cy="6262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3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56760" y="1143000"/>
            <a:ext cx="8372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ambria Math"/>
                <a:ea typeface="Cambria Math"/>
              </a:rPr>
              <a:t>Историческая ошибка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700" spc="-1" strike="noStrike">
                <a:solidFill>
                  <a:srgbClr val="404040"/>
                </a:solidFill>
                <a:latin typeface="Georgia"/>
              </a:rPr>
              <a:t>«Расцвет греческих городов был недолог. Еще при Перикле начались междоусобные войны. Они улучшили развитие хозяйства страны. Между тем, усиливался северный сосед Греции – Египетское царство»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Documents and Settings\Admin\Рабочий стол\Греция\1263850400_2esparta-01.jpeg"/>
          <p:cNvPicPr/>
          <p:nvPr/>
        </p:nvPicPr>
        <p:blipFill>
          <a:blip r:embed="rId1"/>
          <a:stretch/>
        </p:blipFill>
        <p:spPr>
          <a:xfrm>
            <a:off x="1627200" y="785880"/>
            <a:ext cx="6445080" cy="57862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4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28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000" spc="-1" strike="noStrike">
                <a:solidFill>
                  <a:srgbClr val="cc3300"/>
                </a:solidFill>
                <a:latin typeface="Trebuchet MS"/>
              </a:rPr>
              <a:t>Однажды спартанцам запретили принимать участие в Олимпийских играх. 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000" spc="-1" strike="noStrike">
                <a:solidFill>
                  <a:srgbClr val="cc3300"/>
                </a:solidFill>
                <a:latin typeface="Trebuchet MS"/>
              </a:rPr>
              <a:t>Назовите причину запрета.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85840" y="1071720"/>
            <a:ext cx="851544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900" spc="-1" strike="noStrike">
                <a:solidFill>
                  <a:srgbClr val="ff0000"/>
                </a:solidFill>
                <a:latin typeface="Trebuchet MS"/>
              </a:rPr>
              <a:t>В какое время года проводились Олимпийские игры?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900" spc="-1" strike="noStrike">
                <a:solidFill>
                  <a:srgbClr val="ff0000"/>
                </a:solidFill>
                <a:latin typeface="Trebuchet MS"/>
              </a:rPr>
              <a:t>Как долго они длились?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642960" y="3071880"/>
            <a:ext cx="77756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5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486160" y="857160"/>
            <a:ext cx="66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500" spc="-1" strike="noStrike">
                <a:solidFill>
                  <a:srgbClr val="2a5010"/>
                </a:solidFill>
                <a:latin typeface="Trebuchet MS"/>
              </a:rPr>
              <a:t>Кому из богов Древней Греции это могло принадлежать?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88" name="Picture 2" descr="C:\Documents and Settings\Admin\Рабочий стол\Греция\7792210.jpg"/>
          <p:cNvPicPr/>
          <p:nvPr/>
        </p:nvPicPr>
        <p:blipFill>
          <a:blip r:embed="rId1"/>
          <a:stretch/>
        </p:blipFill>
        <p:spPr>
          <a:xfrm>
            <a:off x="214200" y="928800"/>
            <a:ext cx="3035520" cy="4728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Documents and Settings\Admin\Рабочий стол\Греция\1187463091_f.jpg"/>
          <p:cNvPicPr/>
          <p:nvPr/>
        </p:nvPicPr>
        <p:blipFill>
          <a:blip r:embed="rId2"/>
          <a:stretch/>
        </p:blipFill>
        <p:spPr>
          <a:xfrm>
            <a:off x="4286160" y="4286160"/>
            <a:ext cx="30006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C:\Documents and Settings\Admin\Рабочий стол\Греция\221001377.jpg"/>
          <p:cNvPicPr/>
          <p:nvPr/>
        </p:nvPicPr>
        <p:blipFill>
          <a:blip r:embed="rId1"/>
          <a:stretch/>
        </p:blipFill>
        <p:spPr>
          <a:xfrm>
            <a:off x="1071720" y="0"/>
            <a:ext cx="6913440" cy="52862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6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4117680"/>
            <a:ext cx="914400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100" spc="-1" strike="noStrike">
                <a:solidFill>
                  <a:srgbClr val="ff0000"/>
                </a:solidFill>
                <a:latin typeface="Trebuchet MS"/>
              </a:rPr>
              <a:t>Какой город изображен на плане? С чьим именем связано его основание?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7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57400" y="1357200"/>
            <a:ext cx="48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2a5010"/>
                </a:solidFill>
                <a:latin typeface="Trebuchet MS"/>
              </a:rPr>
              <a:t>Команда - команде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97" name="Picture 2" descr="C:\Documents and Settings\Admin\Рабочий стол\Греция\p1225900.jpg"/>
          <p:cNvPicPr/>
          <p:nvPr/>
        </p:nvPicPr>
        <p:blipFill>
          <a:blip r:embed="rId1"/>
          <a:stretch/>
        </p:blipFill>
        <p:spPr>
          <a:xfrm>
            <a:off x="485640" y="1285920"/>
            <a:ext cx="36896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8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357440" y="856800"/>
            <a:ext cx="4786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rebuchet MS"/>
              </a:rPr>
              <a:t>Что означает крылатое выражение «Ахиллесова пята»?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1" name="Picture 2" descr="C:\Documents and Settings\Admin\Рабочий стол\Греция\2140.jpg"/>
          <p:cNvPicPr/>
          <p:nvPr/>
        </p:nvPicPr>
        <p:blipFill>
          <a:blip r:embed="rId1"/>
          <a:stretch/>
        </p:blipFill>
        <p:spPr>
          <a:xfrm>
            <a:off x="0" y="1857240"/>
            <a:ext cx="50403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8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600" spc="-1" strike="noStrike">
                <a:solidFill>
                  <a:srgbClr val="2a5010"/>
                </a:solidFill>
                <a:latin typeface="Trebuchet MS"/>
              </a:rPr>
              <a:t>Как в Греции называли человека, сопровождавшего ребенка в школу? Кто становился таким человеком?</a:t>
            </a:r>
            <a:endParaRPr b="0" lang="en-US" sz="5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30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00720" y="1071360"/>
            <a:ext cx="43574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300" spc="-1" strike="noStrike">
                <a:solidFill>
                  <a:srgbClr val="cc3300"/>
                </a:solidFill>
                <a:latin typeface="Trebuchet MS"/>
              </a:rPr>
              <a:t>Что изображено на картине? Какое современное слово произошло от этого названия?</a:t>
            </a:r>
            <a:endParaRPr b="0" lang="en-US" sz="4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8" name="Picture 2" descr="C:\Documents and Settings\Admin\Рабочий стол\Греция\70493bc34779.jpg"/>
          <p:cNvPicPr/>
          <p:nvPr/>
        </p:nvPicPr>
        <p:blipFill>
          <a:blip r:embed="rId1"/>
          <a:stretch/>
        </p:blipFill>
        <p:spPr>
          <a:xfrm>
            <a:off x="0" y="703440"/>
            <a:ext cx="465768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C:\Documents and Settings\Admin\Рабочий стол\Греция\imgB.asp.jpg"/>
          <p:cNvPicPr/>
          <p:nvPr/>
        </p:nvPicPr>
        <p:blipFill>
          <a:blip r:embed="rId1"/>
          <a:stretch/>
        </p:blipFill>
        <p:spPr>
          <a:xfrm>
            <a:off x="1714680" y="1143000"/>
            <a:ext cx="5715000" cy="42577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31</a:t>
            </a:r>
            <a:br>
              <a:rPr sz="3200"/>
            </a:b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КТО БОЛЬШЕ?!!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0040" y="3928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100" spc="-1" strike="noStrike">
                <a:solidFill>
                  <a:srgbClr val="ff0000"/>
                </a:solidFill>
                <a:latin typeface="Trebuchet MS"/>
              </a:rPr>
              <a:t>Какими достижениями древних греков мы пользуемся и сегодня?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6836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500" spc="-1" strike="noStrike">
                <a:solidFill>
                  <a:srgbClr val="cc3300"/>
                </a:solidFill>
                <a:latin typeface="Trebuchet MS"/>
              </a:rPr>
              <a:t>История – это фонарь из прошлого, который светит нам в будущее.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500" spc="-1" strike="noStrike">
                <a:solidFill>
                  <a:srgbClr val="cc3300"/>
                </a:solidFill>
                <a:latin typeface="Trebuchet MS"/>
              </a:rPr>
              <a:t>В. О. Ключевский.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Admin\Рабочий стол\Греция\7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33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2139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500" spc="-1" strike="noStrike">
                <a:solidFill>
                  <a:srgbClr val="ffff00"/>
                </a:solidFill>
                <a:latin typeface="Trebuchet MS"/>
              </a:rPr>
              <a:t>Охарактеризуйте местоположение и природные особенности 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500" spc="-1" strike="noStrike">
                <a:solidFill>
                  <a:srgbClr val="ffff00"/>
                </a:solidFill>
                <a:latin typeface="Trebuchet MS"/>
              </a:rPr>
              <a:t>Древней Греции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AutoShape 5">
            <a:hlinkClick r:id="rId2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C:\Documents and Settings\Admin\Рабочий стол\Греция\pericles2.jpg"/>
          <p:cNvPicPr/>
          <p:nvPr/>
        </p:nvPicPr>
        <p:blipFill>
          <a:blip r:embed="rId1"/>
          <a:stretch/>
        </p:blipFill>
        <p:spPr>
          <a:xfrm>
            <a:off x="500040" y="285840"/>
            <a:ext cx="8072640" cy="6424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3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8400" y="1071360"/>
            <a:ext cx="8429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Trebuchet MS"/>
              </a:rPr>
              <a:t>Как называли власть такую,</a:t>
            </a: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Trebuchet MS"/>
              </a:rPr>
              <a:t>Когда народ </a:t>
            </a: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Trebuchet MS"/>
              </a:rPr>
              <a:t>на должность избирал? </a:t>
            </a: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Trebuchet MS"/>
              </a:rPr>
              <a:t>А тот, кого он выбирал, </a:t>
            </a: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Trebuchet MS"/>
              </a:rPr>
              <a:t>Перед людьми ответ держал… </a:t>
            </a: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AutoShape 5">
            <a:hlinkClick r:id="rId2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Trebuchet MS"/>
              </a:rPr>
              <a:t>6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0" spc="-1" strike="noStrike">
                <a:solidFill>
                  <a:srgbClr val="3b3b3b"/>
                </a:solidFill>
                <a:latin typeface="Trebuchet MS"/>
              </a:rPr>
              <a:t>Какое наказание придумал персидский царь Ксеркс морю за то, что бушующие волны и штормовые ветры снесли мост?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117360" y="428760"/>
            <a:ext cx="8847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C:\Documents and Settings\Алена\Рабочий стол\triera.jpg"/>
          <p:cNvPicPr/>
          <p:nvPr/>
        </p:nvPicPr>
        <p:blipFill>
          <a:blip r:embed="rId1"/>
          <a:stretch/>
        </p:blipFill>
        <p:spPr>
          <a:xfrm>
            <a:off x="714240" y="1285920"/>
            <a:ext cx="7858440" cy="52387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7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8786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rebuchet MS"/>
              </a:rPr>
              <a:t>Как называется эта лодка?</a:t>
            </a:r>
            <a:r>
              <a:rPr b="1" i="1" lang="en-US" sz="4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rebuchet MS"/>
              </a:rPr>
              <a:t>Почему?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AutoShape 4">
            <a:hlinkClick r:id="rId2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8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5716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3f7819"/>
                </a:solidFill>
                <a:latin typeface="Trebuchet MS"/>
              </a:rPr>
              <a:t>Какой подвиг совершил Леонид и его отряд – 300 спартанцев?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714680" y="2428920"/>
            <a:ext cx="57150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1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8760" y="10713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Разгадайте древнюю загадку: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rebuchet MS"/>
              </a:rPr>
              <a:t>Я помогаю красавцу в любви, я утеха богиням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rebuchet MS"/>
              </a:rPr>
              <a:t>Из-за меня меж троих великая вспыхнула ссора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rebuchet MS"/>
              </a:rPr>
              <a:t>Жаркая встала война, высокая рухнула Троя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8580240" cy="5715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5929200" y="3500280"/>
            <a:ext cx="2714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Назовит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возникше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крылато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выражени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2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500" spc="-1" strike="noStrike">
                <a:solidFill>
                  <a:srgbClr val="3f7819"/>
                </a:solidFill>
                <a:latin typeface="Trebuchet MS"/>
              </a:rPr>
              <a:t>Целиком сооруженный из мрамора, он был самым прекрасным творением греческих строителей.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84294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29:19Z</dcterms:created>
  <dc:creator>marina</dc:creator>
  <dc:description/>
  <dc:language>en-US</dc:language>
  <cp:lastModifiedBy>HUT</cp:lastModifiedBy>
  <dcterms:modified xsi:type="dcterms:W3CDTF">2019-02-24T18:54:18Z</dcterms:modified>
  <cp:revision>147</cp:revision>
  <dc:subject/>
  <dc:title>Слайд 1</dc:title>
</cp:coreProperties>
</file>