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C97-E7C9-4FB2-B95D-E9F3A0A3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04A-980B-497E-89DC-7575B84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6DF-C527-4934-8F4D-ACD5A428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D1F-6E45-489A-A012-E54CEBFD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2604-278B-4FC9-BE96-EB2D51C6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E7F4-79C1-4B4D-991C-77198CE1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A391-9883-43EA-9747-D8E32EC4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AD20-8E00-4B93-870D-3589AB17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2B0E-BAAC-420C-971A-CEDA98B1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8B34-CA14-4083-BB9F-406A468D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6954-D4E6-4E09-83A1-E425D4D1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CDB-E903-4563-A35D-A76FB817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8E86-DCAE-4728-A8FD-64DE4B52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3099-0397-47C3-8D96-917A603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8AF-AEC2-44C7-B982-613D4024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BF43-AC40-4E87-99C0-924E119A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DB7B-66C2-4A15-99FC-9F35BB9A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8147-9CC1-48F7-83F6-0AF78791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5417-A74B-4B79-8D20-BBCD591C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95AE-5E4C-457F-8858-E484C4F1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A7D5-9E23-41E6-9F75-28EE5DC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D8B5-8B27-421F-85E6-0962B1EF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F0D-E3B9-4857-87FC-9FBACC0A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1AD2-A96A-4227-9930-5A63579C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BABD-324F-4209-925F-5ECD3D03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292E-8E1F-49DF-A1D9-E66C1FF7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C884-9406-4A9E-B84A-861F576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6C72-8DBB-4B4B-AA3D-0F12CA5B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BD87-A149-4FAD-AB17-8565FFE2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EB73-A095-4B5F-82E9-6A883878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20D3-0E87-4527-8741-565C69C9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E42C-C4F5-4C9F-9A18-FCDE1095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0BF0-ABB4-4396-8EC1-76647904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E5C-FC7C-49DE-9206-5A71976A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7E769-595F-4F85-A052-536B6842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8255-F564-4300-9A5A-637C28C9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B39E-2AC0-4616-8514-386F8EBF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5E54-9E08-48DD-8ECA-2B9BF7D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7152-9951-47B1-A2A8-ED45AACE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A7A8A-AFCA-48BB-8A8C-57C2548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68265-BC2E-43F2-98BE-DCA525D1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7C1A-11D9-4307-9945-4DF40CCE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57BA2-C3E0-42B6-9E51-B89FF0A4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125-57F5-4E06-9C0D-23FCDA80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649-4D67-4BEE-A34A-805A0AA3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AFE-368B-4827-B8C5-D56BE485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621-9166-4FD7-B951-BFEFD3F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FA1-F08C-459C-B03A-0C6E5BCA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CEE8-88F9-4743-9080-A4E01F23935B}" type="slidenum">
              <a:rPr b="0" lang="ru-RU" sz="900" spc="-1" strike="noStrike">
                <a:solidFill>
                  <a:srgbClr val="90c226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759F-9438-4AD8-AD09-BC8221EB706C}" type="slidenum">
              <a:rPr b="0" lang="ru-RU" sz="900" spc="-1" strike="noStrike">
                <a:solidFill>
                  <a:srgbClr val="90c226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023F-BB42-42F6-BE7F-E1CF97A50F78}" type="slidenum">
              <a:rPr b="0" lang="ru-RU" sz="900" spc="-1" strike="noStrike">
                <a:solidFill>
                  <a:srgbClr val="90c226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41F0-DD02-49E3-A7DA-462DC9ACF120}" type="slidenum">
              <a:rPr b="0" lang="ru-RU" sz="900" spc="-1" strike="noStrike">
                <a:solidFill>
                  <a:srgbClr val="90c226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695160"/>
            <a:ext cx="76867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3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14880" y="1071360"/>
            <a:ext cx="49291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100" spc="-1" strike="noStrike">
                <a:solidFill>
                  <a:srgbClr val="2a5010"/>
                </a:solidFill>
                <a:latin typeface="Trebuchet MS"/>
              </a:rPr>
              <a:t>Кого в Древней Греции называли 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100" spc="-1" strike="noStrike">
                <a:solidFill>
                  <a:srgbClr val="2a5010"/>
                </a:solidFill>
                <a:latin typeface="Trebuchet MS"/>
              </a:rPr>
              <a:t>«Отцом истории»? 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9" name="Picture 2" descr="C:\Documents and Settings\Admin\Рабочий стол\Греция\35155288_Kopiya_gomer.jpg"/>
          <p:cNvPicPr/>
          <p:nvPr/>
        </p:nvPicPr>
        <p:blipFill>
          <a:blip r:embed="rId2"/>
          <a:stretch/>
        </p:blipFill>
        <p:spPr>
          <a:xfrm>
            <a:off x="428760" y="1071720"/>
            <a:ext cx="37954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Documents and Settings\Admin\Рабочий стол\Греция\94d085289499.jpg"/>
          <p:cNvPicPr/>
          <p:nvPr/>
        </p:nvPicPr>
        <p:blipFill>
          <a:blip r:embed="rId1"/>
          <a:stretch/>
        </p:blipFill>
        <p:spPr>
          <a:xfrm>
            <a:off x="285840" y="212760"/>
            <a:ext cx="8643960" cy="64864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14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13840" y="713880"/>
            <a:ext cx="89298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rebuchet MS"/>
              </a:rPr>
              <a:t>Расположите события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rebuchet MS"/>
              </a:rPr>
              <a:t>в хронологической последовательности.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А) Марафонская битв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Б) Завоевание Греции Македонией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В) Первые Олимпийские игр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AutoShape 4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6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6160" y="785880"/>
            <a:ext cx="4857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rebuchet MS"/>
              </a:rPr>
              <a:t>Обычно богиню победы Нику изображали крылатой девушкой. Однако, афиняне изменили статую. Что сделали афиняне?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rebuchet MS"/>
              </a:rPr>
              <a:t>Почему?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7" name="Picture 3" descr="C:\Documents and Settings\Admin\Рабочий стол\Греция\nika.jpg"/>
          <p:cNvPicPr/>
          <p:nvPr/>
        </p:nvPicPr>
        <p:blipFill>
          <a:blip r:embed="rId2"/>
          <a:stretch/>
        </p:blipFill>
        <p:spPr>
          <a:xfrm>
            <a:off x="0" y="0"/>
            <a:ext cx="42958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7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56760" y="1214280"/>
            <a:ext cx="85726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rebuchet MS"/>
              </a:rPr>
              <a:t>Историческая загадка.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500" spc="-1" strike="noStrike">
                <a:solidFill>
                  <a:srgbClr val="2a5010"/>
                </a:solidFill>
                <a:latin typeface="Trebuchet MS"/>
              </a:rPr>
              <a:t>От времен спартанцев речь такую называют краткою и меткою …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8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500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2a5010"/>
                </a:solidFill>
                <a:latin typeface="Trebuchet MS"/>
              </a:rPr>
              <a:t>Назовите главные виды представлений в греческом театре.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4" name="Picture 2" descr="C:\Documents and Settings\Admin\Рабочий стол\Греция\1257764868_teatr-drevnej-grecii.jpg"/>
          <p:cNvPicPr/>
          <p:nvPr/>
        </p:nvPicPr>
        <p:blipFill>
          <a:blip r:embed="rId2"/>
          <a:stretch/>
        </p:blipFill>
        <p:spPr>
          <a:xfrm>
            <a:off x="2500200" y="3257640"/>
            <a:ext cx="4581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9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13840" y="4071960"/>
            <a:ext cx="8929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Что означает крылатое выражение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«Со щитом или на щите»?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8" name="Picture 2" descr="C:\Documents and Settings\Admin\Рабочий стол\Греция\2009November21214638800px-Hoplite_fight_from_Athens_Museum.jpg"/>
          <p:cNvPicPr/>
          <p:nvPr/>
        </p:nvPicPr>
        <p:blipFill>
          <a:blip r:embed="rId1"/>
          <a:stretch/>
        </p:blipFill>
        <p:spPr>
          <a:xfrm>
            <a:off x="1643040" y="21420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Documents and Settings\Admin\Рабочий стол\Греция\box-drgr-400x466.jpg"/>
          <p:cNvPicPr/>
          <p:nvPr/>
        </p:nvPicPr>
        <p:blipFill>
          <a:blip r:embed="rId1"/>
          <a:stretch/>
        </p:blipFill>
        <p:spPr>
          <a:xfrm>
            <a:off x="5000760" y="3071880"/>
            <a:ext cx="3135240" cy="3652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1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Почему эти слова названы вместе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краснофигурный сосуд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чернофигурный сосуд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Керамик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фин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Admin\Рабочий стол\Греция\theseus_ariadne.jpg"/>
          <p:cNvPicPr/>
          <p:nvPr/>
        </p:nvPicPr>
        <p:blipFill>
          <a:blip r:embed="rId1"/>
          <a:stretch/>
        </p:blipFill>
        <p:spPr>
          <a:xfrm>
            <a:off x="0" y="142920"/>
            <a:ext cx="9248760" cy="64641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2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000160" y="71424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rebuchet MS"/>
              </a:rPr>
              <a:t>Что означает выражение «Нить Ариадны»?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C:\Documents and Settings\Admin\Рабочий стол\Греция\img060201-11.jpg"/>
          <p:cNvPicPr/>
          <p:nvPr/>
        </p:nvPicPr>
        <p:blipFill>
          <a:blip r:embed="rId1"/>
          <a:stretch/>
        </p:blipFill>
        <p:spPr>
          <a:xfrm>
            <a:off x="214200" y="309600"/>
            <a:ext cx="8748720" cy="6262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3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56760" y="1143000"/>
            <a:ext cx="8372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ambria Math"/>
                <a:ea typeface="Cambria Math"/>
              </a:rPr>
              <a:t>Историческая ошибка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700" spc="-1" strike="noStrike">
                <a:solidFill>
                  <a:srgbClr val="404040"/>
                </a:solidFill>
                <a:latin typeface="Georgia"/>
              </a:rPr>
              <a:t>«Расцвет греческих городов был недолог. Еще при Перикле начались междоусобные войны. Они улучшили развитие хозяйства страны. Между тем, усиливался северный сосед Греции – Египетское царство»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Documents and Settings\Admin\Рабочий стол\Греция\1263850400_2esparta-01.jpeg"/>
          <p:cNvPicPr/>
          <p:nvPr/>
        </p:nvPicPr>
        <p:blipFill>
          <a:blip r:embed="rId1"/>
          <a:stretch/>
        </p:blipFill>
        <p:spPr>
          <a:xfrm>
            <a:off x="1627200" y="785880"/>
            <a:ext cx="6445080" cy="57862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4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000" spc="-1" strike="noStrike">
                <a:solidFill>
                  <a:srgbClr val="cc3300"/>
                </a:solidFill>
                <a:latin typeface="Trebuchet MS"/>
              </a:rPr>
              <a:t>Однажды спартанцам запретили принимать участие в Олимпийских играх. 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000" spc="-1" strike="noStrike">
                <a:solidFill>
                  <a:srgbClr val="cc3300"/>
                </a:solidFill>
                <a:latin typeface="Trebuchet MS"/>
              </a:rPr>
              <a:t>Назовите причину запрета.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85840" y="1071720"/>
            <a:ext cx="851544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900" spc="-1" strike="noStrike">
                <a:solidFill>
                  <a:srgbClr val="ff0000"/>
                </a:solidFill>
                <a:latin typeface="Trebuchet MS"/>
              </a:rPr>
              <a:t>В какое время года проводились Олимпийские игры?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900" spc="-1" strike="noStrike">
                <a:solidFill>
                  <a:srgbClr val="ff0000"/>
                </a:solidFill>
                <a:latin typeface="Trebuchet MS"/>
              </a:rPr>
              <a:t>Как долго они длились?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642960" y="3071880"/>
            <a:ext cx="7775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5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486160" y="857160"/>
            <a:ext cx="66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500" spc="-1" strike="noStrike">
                <a:solidFill>
                  <a:srgbClr val="2a5010"/>
                </a:solidFill>
                <a:latin typeface="Trebuchet MS"/>
              </a:rPr>
              <a:t>Кому из богов Древней Греции это могло принадлежать?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88" name="Picture 2" descr="C:\Documents and Settings\Admin\Рабочий стол\Греция\7792210.jpg"/>
          <p:cNvPicPr/>
          <p:nvPr/>
        </p:nvPicPr>
        <p:blipFill>
          <a:blip r:embed="rId1"/>
          <a:stretch/>
        </p:blipFill>
        <p:spPr>
          <a:xfrm>
            <a:off x="214200" y="928800"/>
            <a:ext cx="3035520" cy="47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Documents and Settings\Admin\Рабочий стол\Греция\1187463091_f.jpg"/>
          <p:cNvPicPr/>
          <p:nvPr/>
        </p:nvPicPr>
        <p:blipFill>
          <a:blip r:embed="rId2"/>
          <a:stretch/>
        </p:blipFill>
        <p:spPr>
          <a:xfrm>
            <a:off x="4286160" y="428616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C:\Documents and Settings\Admin\Рабочий стол\Греция\221001377.jpg"/>
          <p:cNvPicPr/>
          <p:nvPr/>
        </p:nvPicPr>
        <p:blipFill>
          <a:blip r:embed="rId1"/>
          <a:stretch/>
        </p:blipFill>
        <p:spPr>
          <a:xfrm>
            <a:off x="1071720" y="0"/>
            <a:ext cx="6913440" cy="52862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6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4117680"/>
            <a:ext cx="914400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100" spc="-1" strike="noStrike">
                <a:solidFill>
                  <a:srgbClr val="ff0000"/>
                </a:solidFill>
                <a:latin typeface="Trebuchet MS"/>
              </a:rPr>
              <a:t>Какой город изображен на плане? С чьим именем связано его основание?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7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57400" y="1357200"/>
            <a:ext cx="48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2a5010"/>
                </a:solidFill>
                <a:latin typeface="Trebuchet MS"/>
              </a:rPr>
              <a:t>Команда - команде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97" name="Picture 2" descr="C:\Documents and Settings\Admin\Рабочий стол\Греция\p1225900.jpg"/>
          <p:cNvPicPr/>
          <p:nvPr/>
        </p:nvPicPr>
        <p:blipFill>
          <a:blip r:embed="rId1"/>
          <a:stretch/>
        </p:blipFill>
        <p:spPr>
          <a:xfrm>
            <a:off x="485640" y="1285920"/>
            <a:ext cx="36896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8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357440" y="856800"/>
            <a:ext cx="4786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rebuchet MS"/>
              </a:rPr>
              <a:t>Что означает крылатое выражение «Ахиллесова пята»?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1" name="Picture 2" descr="C:\Documents and Settings\Admin\Рабочий стол\Греция\2140.jpg"/>
          <p:cNvPicPr/>
          <p:nvPr/>
        </p:nvPicPr>
        <p:blipFill>
          <a:blip r:embed="rId1"/>
          <a:stretch/>
        </p:blipFill>
        <p:spPr>
          <a:xfrm>
            <a:off x="0" y="1857240"/>
            <a:ext cx="5040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8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600" spc="-1" strike="noStrike">
                <a:solidFill>
                  <a:srgbClr val="2a5010"/>
                </a:solidFill>
                <a:latin typeface="Trebuchet MS"/>
              </a:rPr>
              <a:t>Как в Греции называли человека, сопровождавшего ребенка в школу? Кто становился таким человеком?</a:t>
            </a:r>
            <a:endParaRPr b="0" lang="en-US" sz="5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30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00720" y="1071360"/>
            <a:ext cx="4357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300" spc="-1" strike="noStrike">
                <a:solidFill>
                  <a:srgbClr val="cc3300"/>
                </a:solidFill>
                <a:latin typeface="Trebuchet MS"/>
              </a:rPr>
              <a:t>Что изображено на картине? Какое современное слово произошло от этого названия?</a:t>
            </a:r>
            <a:endParaRPr b="0" lang="en-US" sz="4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8" name="Picture 2" descr="C:\Documents and Settings\Admin\Рабочий стол\Греция\70493bc34779.jpg"/>
          <p:cNvPicPr/>
          <p:nvPr/>
        </p:nvPicPr>
        <p:blipFill>
          <a:blip r:embed="rId1"/>
          <a:stretch/>
        </p:blipFill>
        <p:spPr>
          <a:xfrm>
            <a:off x="0" y="703440"/>
            <a:ext cx="46576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C:\Documents and Settings\Admin\Рабочий стол\Греция\imgB.asp.jpg"/>
          <p:cNvPicPr/>
          <p:nvPr/>
        </p:nvPicPr>
        <p:blipFill>
          <a:blip r:embed="rId1"/>
          <a:stretch/>
        </p:blipFill>
        <p:spPr>
          <a:xfrm>
            <a:off x="1714680" y="1143000"/>
            <a:ext cx="5715000" cy="4257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31</a:t>
            </a: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КТО БОЛЬШЕ?!!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0040" y="3928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100" spc="-1" strike="noStrike">
                <a:solidFill>
                  <a:srgbClr val="ff0000"/>
                </a:solidFill>
                <a:latin typeface="Trebuchet MS"/>
              </a:rPr>
              <a:t>Какими достижениями древних греков мы пользуемся и сегодня?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6836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500" spc="-1" strike="noStrike">
                <a:solidFill>
                  <a:srgbClr val="cc3300"/>
                </a:solidFill>
                <a:latin typeface="Trebuchet MS"/>
              </a:rPr>
              <a:t>История – это фонарь из прошлого, который светит нам в будущее.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500" spc="-1" strike="noStrike">
                <a:solidFill>
                  <a:srgbClr val="cc3300"/>
                </a:solidFill>
                <a:latin typeface="Trebuchet MS"/>
              </a:rPr>
              <a:t>В. О. Ключевский.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Admin\Рабочий стол\Греция\7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33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2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2139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500" spc="-1" strike="noStrike">
                <a:solidFill>
                  <a:srgbClr val="ffff00"/>
                </a:solidFill>
                <a:latin typeface="Trebuchet MS"/>
              </a:rPr>
              <a:t>Охарактеризуйте местоположение и природные особенности 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500" spc="-1" strike="noStrike">
                <a:solidFill>
                  <a:srgbClr val="ffff00"/>
                </a:solidFill>
                <a:latin typeface="Trebuchet MS"/>
              </a:rPr>
              <a:t>Древней Греции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AutoShape 5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C:\Documents and Settings\Admin\Рабочий стол\Греция\pericles2.jpg"/>
          <p:cNvPicPr/>
          <p:nvPr/>
        </p:nvPicPr>
        <p:blipFill>
          <a:blip r:embed="rId1"/>
          <a:stretch/>
        </p:blipFill>
        <p:spPr>
          <a:xfrm>
            <a:off x="500040" y="285840"/>
            <a:ext cx="8072640" cy="6424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3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400" y="1071360"/>
            <a:ext cx="8429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Как называли власть такую,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Когда народ 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на должность избирал? 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А тот, кого он выбирал, 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Trebuchet MS"/>
              </a:rPr>
              <a:t>Перед людьми ответ держал… </a:t>
            </a: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AutoShape 5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6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0" spc="-1" strike="noStrike">
                <a:solidFill>
                  <a:srgbClr val="3b3b3b"/>
                </a:solidFill>
                <a:latin typeface="Trebuchet MS"/>
              </a:rPr>
              <a:t>Какое наказание придумал персидский царь Ксеркс морю за то, что бушующие волны и штормовые ветры снесли мост?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117360" y="428760"/>
            <a:ext cx="8847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:\Documents and Settings\Алена\Рабочий стол\triera.jpg"/>
          <p:cNvPicPr/>
          <p:nvPr/>
        </p:nvPicPr>
        <p:blipFill>
          <a:blip r:embed="rId1"/>
          <a:stretch/>
        </p:blipFill>
        <p:spPr>
          <a:xfrm>
            <a:off x="714240" y="1285920"/>
            <a:ext cx="7858440" cy="5238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7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8786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rebuchet MS"/>
              </a:rPr>
              <a:t>Как называется эта лодка?</a:t>
            </a:r>
            <a:r>
              <a:rPr b="1" i="1" lang="en-US" sz="4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rebuchet MS"/>
              </a:rPr>
              <a:t>Почему?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AutoShape 4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8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571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3f7819"/>
                </a:solidFill>
                <a:latin typeface="Trebuchet MS"/>
              </a:rPr>
              <a:t>Какой подвиг совершил Леонид и его отряд – 300 спартанцев?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714680" y="2428920"/>
            <a:ext cx="57150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1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1071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Разгадайте древнюю загадку: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rebuchet MS"/>
              </a:rPr>
              <a:t>Я помогаю красавцу в любви, я утеха богиням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rebuchet MS"/>
              </a:rPr>
              <a:t>Из-за меня меж троих великая вспыхнула ссора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rebuchet MS"/>
              </a:rPr>
              <a:t>Жаркая встала война, высокая рухнула Троя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580240" cy="5715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5929200" y="3500280"/>
            <a:ext cx="2714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Назовит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возникше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крылато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выражени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8432a"/>
                </a:solidFill>
                <a:latin typeface="Trebuchet MS"/>
              </a:rPr>
              <a:t>12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500" spc="-1" strike="noStrike">
                <a:solidFill>
                  <a:srgbClr val="3f7819"/>
                </a:solidFill>
                <a:latin typeface="Trebuchet MS"/>
              </a:rPr>
              <a:t>Целиком сооруженный из мрамора, он был самым прекрасным творением греческих строителей.</a:t>
            </a:r>
            <a:endParaRPr b="0" lang="en-US" sz="5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4" y="17989"/>
                </a:lnTo>
                <a:lnTo>
                  <a:pt x="6364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4" y="10800"/>
                </a:lnTo>
                <a:lnTo>
                  <a:pt x="6364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8429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29:19Z</dcterms:created>
  <dc:creator>marina</dc:creator>
  <dc:description/>
  <dc:language>en-US</dc:language>
  <cp:lastModifiedBy>HUT</cp:lastModifiedBy>
  <dcterms:modified xsi:type="dcterms:W3CDTF">2019-02-24T18:54:18Z</dcterms:modified>
  <cp:revision>147</cp:revision>
  <dc:subject/>
  <dc:title>Слайд 1</dc:title>
</cp:coreProperties>
</file>