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887-A370-4444-8032-BCB9E3AC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4A5-4EAB-43E7-A70D-A9EC479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AC3-5E93-466B-A881-F04DCC29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863-13A5-4858-B652-F1DB8DE8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224-ED69-46DC-8D61-005B494F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906-B5D1-43CD-9DC6-5BAD96F5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045-7015-4CD3-AB9C-BC6AC5A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A86-826C-4F55-8C93-5648BFBA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624-C88A-4580-9764-B249384F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9C0-72E4-4B88-B21D-9F5B236D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E44-3876-470C-A39B-052B18C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7FE-F8B7-42DD-B8D5-368B86F3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BBB8-D5D5-489B-A9AB-7BCC8A4B6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9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25 компенсирующего ви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640" y="14126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ховно-нравственное воспитание дошкольников через проектную дея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есёлая Матрёш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Едемская Лариса Владимиров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акова Галина Василье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дефектолог: Бурякова Ольга Фёдо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логопед: Максименко Ольга Леонид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г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ончегорс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7888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духовно – нравственной основы личности, через приобщение детей и их родителей к социокультурным ценностям России на примере русской национальной матрёш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3780000" y="204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79280" y="2590920"/>
            <a:ext cx="878544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дить интерес к народной игрушке, народно-прикладному искусству, промысл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круг представлений о разнообразии и назначении традиционной народной игрушк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ь некоторые доступные для ребёнка исторические сведения о народной игрушк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держивать естественный интерес и любознательность детей к изучению традиционной народной куль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я о своей стране, Родине и её символе – матрё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и активизировать словарь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зрительное восприятие, память, творческое мышление, мелкую моторику рук; Развивать эмоциональную сфе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умения сотрудничать, уважать свой и чужой тру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интерес к народной культуре и бережное отношение к   культуре своего нар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радостную и доброжелательную творческую атмосфе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7961400" cy="976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13840" y="1071720"/>
            <a:ext cx="864396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дет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родить интерес к народной игрушке, народно-прикладному искусству, промысла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круг представлений о разнообразии и назначении традиционной народной игруш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ь некоторые доступные для ребёнка исторические сведения о народной игруш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держивать естественный интерес и любознательность детей к изучению традиционной народной куль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я о своей стране, Родине и её символе – матрёш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и активизировать словарь дет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зрительное восприятие, память, творческое мышление, мелкую моторику рук; Развивать эмоциональную сфер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умения сотрудничать, уважать свой и чужой труд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интерес к народной культуре и бережное отношение к   культуре своего народ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радостную и доброжелательную творческую атмосфер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C:\Users\Лариса\Downloads\игры с мартешкой.jpg"/>
          <p:cNvPicPr/>
          <p:nvPr/>
        </p:nvPicPr>
        <p:blipFill>
          <a:blip r:embed="rId2"/>
          <a:stretch/>
        </p:blipFill>
        <p:spPr>
          <a:xfrm>
            <a:off x="6607080" y="1647720"/>
            <a:ext cx="1022400" cy="1516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F:\DCIM\Camera\IMG_20161124_145642.jpg"/>
          <p:cNvPicPr/>
          <p:nvPr/>
        </p:nvPicPr>
        <p:blipFill>
          <a:blip r:embed="rId3"/>
          <a:stretch/>
        </p:blipFill>
        <p:spPr>
          <a:xfrm>
            <a:off x="1116000" y="1806480"/>
            <a:ext cx="1614600" cy="1506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4"/>
          <a:stretch/>
        </p:blipFill>
        <p:spPr>
          <a:xfrm>
            <a:off x="3591000" y="1579680"/>
            <a:ext cx="2155680" cy="1733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476360" y="32446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 flipV="1" rot="10800000">
            <a:off x="974520" y="4218120"/>
            <a:ext cx="691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местная деятельность взрослого 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611280" y="170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​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285920" y="4287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C:\Users\Лариса\Downloads\IMG_4762.jpg"/>
          <p:cNvPicPr/>
          <p:nvPr/>
        </p:nvPicPr>
        <p:blipFill>
          <a:blip r:embed="rId2"/>
          <a:stretch/>
        </p:blipFill>
        <p:spPr>
          <a:xfrm>
            <a:off x="2001960" y="1501920"/>
            <a:ext cx="1806480" cy="1695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C:\Users\Лариса\Downloads\IMG_4757.jpg"/>
          <p:cNvPicPr/>
          <p:nvPr/>
        </p:nvPicPr>
        <p:blipFill>
          <a:blip r:embed="rId3"/>
          <a:stretch/>
        </p:blipFill>
        <p:spPr>
          <a:xfrm>
            <a:off x="4502160" y="1477800"/>
            <a:ext cx="1806480" cy="1695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295200" y="3105000"/>
            <a:ext cx="845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О – 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F:\DCIM\Camera\IMG_20161109_161037.jpg"/>
          <p:cNvPicPr/>
          <p:nvPr/>
        </p:nvPicPr>
        <p:blipFill>
          <a:blip r:embed="rId4"/>
          <a:stretch/>
        </p:blipFill>
        <p:spPr>
          <a:xfrm>
            <a:off x="2043000" y="4383000"/>
            <a:ext cx="1765440" cy="145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 flipV="1" rot="10800000">
            <a:off x="2320560" y="3474000"/>
            <a:ext cx="46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гости к малыш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7" descr="C:\Users\Лариса\AppData\Local\Microsoft\Windows\INetCache\IE\4DTMQ819\DSCN9198[1].JPG"/>
          <p:cNvPicPr/>
          <p:nvPr/>
        </p:nvPicPr>
        <p:blipFill>
          <a:blip r:embed="rId5"/>
          <a:stretch/>
        </p:blipFill>
        <p:spPr>
          <a:xfrm>
            <a:off x="4376880" y="4340160"/>
            <a:ext cx="19447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-182520" y="1073160"/>
            <a:ext cx="4394160" cy="5605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F:\DCIM\Camera\IMG_20161108_090357.jpg"/>
          <p:cNvPicPr/>
          <p:nvPr/>
        </p:nvPicPr>
        <p:blipFill>
          <a:blip r:embed="rId3"/>
          <a:stretch/>
        </p:blipFill>
        <p:spPr>
          <a:xfrm>
            <a:off x="878040" y="1600200"/>
            <a:ext cx="204120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1835280" y="1454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4788000" y="11397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ПБУК «РУССКАЯ МАТРЁ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F:\DCIM\Camera\IMG_20161124_100821.jpg"/>
          <p:cNvPicPr/>
          <p:nvPr/>
        </p:nvPicPr>
        <p:blipFill>
          <a:blip r:embed="rId4"/>
          <a:stretch/>
        </p:blipFill>
        <p:spPr>
          <a:xfrm>
            <a:off x="5419800" y="1474920"/>
            <a:ext cx="169380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 flipV="1" rot="10800000">
            <a:off x="2484360" y="343800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F:\DCIM\Camera\IMG_20161109_160335.jpg"/>
          <p:cNvPicPr/>
          <p:nvPr/>
        </p:nvPicPr>
        <p:blipFill>
          <a:blip r:embed="rId5"/>
          <a:stretch/>
        </p:blipFill>
        <p:spPr>
          <a:xfrm>
            <a:off x="2090880" y="3865680"/>
            <a:ext cx="2097000" cy="1852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0" descr="C:\Users\4460~1\AppData\Local\Temp\Rar$DIa0.957\матрешкин год.jpg"/>
          <p:cNvPicPr/>
          <p:nvPr/>
        </p:nvPicPr>
        <p:blipFill>
          <a:blip r:embed="rId6"/>
          <a:stretch/>
        </p:blipFill>
        <p:spPr>
          <a:xfrm>
            <a:off x="4962600" y="3865680"/>
            <a:ext cx="2041560" cy="1852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 flipV="1" rot="10800000">
            <a:off x="323640" y="41882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рёшкины загад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7223040" y="4537080"/>
            <a:ext cx="17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рёшкины наря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Заголовок 1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8570880" cy="1347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G:\DCIM\Camera\IMG_20161121_163434.jpg"/>
          <p:cNvPicPr/>
          <p:nvPr/>
        </p:nvPicPr>
        <p:blipFill>
          <a:blip r:embed="rId3"/>
          <a:stretch/>
        </p:blipFill>
        <p:spPr>
          <a:xfrm>
            <a:off x="1192320" y="1546200"/>
            <a:ext cx="1652400" cy="17575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C:\Users\4460~1\AppData\Local\Temp\Rar$DIa0.255\IMG_4722.jpg"/>
          <p:cNvPicPr/>
          <p:nvPr/>
        </p:nvPicPr>
        <p:blipFill>
          <a:blip r:embed="rId4"/>
          <a:stretch/>
        </p:blipFill>
        <p:spPr>
          <a:xfrm>
            <a:off x="5510160" y="1562040"/>
            <a:ext cx="1900440" cy="18954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903240" y="114300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сивая матрё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5214960" y="1143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рёшка – иголь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 flipV="1" rot="10800000">
            <a:off x="2484000" y="366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ГАТЕЛЬ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8" descr="C:\Users\4460~1\AppData\Local\Temp\Rar$DIa0.917\DSCN5968.JPG"/>
          <p:cNvPicPr/>
          <p:nvPr/>
        </p:nvPicPr>
        <p:blipFill>
          <a:blip r:embed="rId5"/>
          <a:stretch/>
        </p:blipFill>
        <p:spPr>
          <a:xfrm>
            <a:off x="1455840" y="4206960"/>
            <a:ext cx="2057400" cy="16160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C:\Users\Лариса\Downloads\DSCN6066.JPG"/>
          <p:cNvPicPr/>
          <p:nvPr/>
        </p:nvPicPr>
        <p:blipFill>
          <a:blip r:embed="rId6"/>
          <a:stretch/>
        </p:blipFill>
        <p:spPr>
          <a:xfrm>
            <a:off x="5151600" y="4206960"/>
            <a:ext cx="19000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uroki-shkola.ru/wp-content/uploads/2012/10/fon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F:\DCIM\Camera\IMG_20161123_184030.jpg"/>
          <p:cNvPicPr/>
          <p:nvPr/>
        </p:nvPicPr>
        <p:blipFill>
          <a:blip r:embed="rId3"/>
          <a:stretch/>
        </p:blipFill>
        <p:spPr>
          <a:xfrm>
            <a:off x="974880" y="1639800"/>
            <a:ext cx="2268360" cy="1852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F:\DCIM\Camera\IMG_20161123_190527.jpg"/>
          <p:cNvPicPr/>
          <p:nvPr/>
        </p:nvPicPr>
        <p:blipFill>
          <a:blip r:embed="rId4"/>
          <a:stretch/>
        </p:blipFill>
        <p:spPr>
          <a:xfrm>
            <a:off x="5187960" y="1603440"/>
            <a:ext cx="2266920" cy="1852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714760" y="1071720"/>
            <a:ext cx="36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рёшка – русский сувен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547640" y="3683160"/>
            <a:ext cx="61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 – МУЗЕЙ  «ВЕСЁЛАЯ МАТРЁ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4" descr="F:\DCIM\Camera\IMG_20161124_135058.jpg"/>
          <p:cNvPicPr/>
          <p:nvPr/>
        </p:nvPicPr>
        <p:blipFill>
          <a:blip r:embed="rId5"/>
          <a:stretch/>
        </p:blipFill>
        <p:spPr>
          <a:xfrm>
            <a:off x="3184560" y="4100400"/>
            <a:ext cx="24350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10:54:27Z</dcterms:created>
  <dc:creator>Лариса</dc:creator>
  <dc:description/>
  <dc:language>en-US</dc:language>
  <cp:lastModifiedBy>евросеть</cp:lastModifiedBy>
  <dcterms:modified xsi:type="dcterms:W3CDTF">2019-02-24T16:41:40Z</dcterms:modified>
  <cp:revision>129</cp:revision>
  <dc:subject/>
  <dc:title>Муниципальное бюджетное дошкольное образовательное учреждение  «Детский сад № 25 компенсирующего вида»</dc:title>
</cp:coreProperties>
</file>