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FDA-E8DF-499A-A169-8A0E2085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734-0793-4A2D-A538-806C76A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B6B-6402-41AA-9E28-89F6D9D0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24B-BF11-446B-8B5C-729F5B65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BA4-F998-4CC6-B763-E26B81B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D5E-3E3E-43AD-94DA-024DA70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84D-9BDE-4652-BD75-B6E0864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802-1A7F-4875-AE52-36DD9691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78B-9F6E-438A-84C4-74D73655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915-EB84-4295-AA46-0186EBB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8F4-A51F-4536-A826-B73E34F5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39F-2785-4FF9-9A1D-733A2F9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3DD9-DCA9-4488-B254-64821C6BA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9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25 компенсирующего ви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ховно-нравственное воспитание дошкольников через проектную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ёлая Матрёш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Едемская Лариса Владимиров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акова Галина Василье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дефектолог: Бурякова Ольга Фёдо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Максименко Ольга Леонид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нчегорс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788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уховно – нравственной основы личности, через приобщение детей и их родителей к социокультурным ценностям России на примере русской национальной матрёш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3780000" y="204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9280" y="2590920"/>
            <a:ext cx="87854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ить интерес к народной игрушке, народно-прикладному искусству, промысл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круг представлений о разнообразии и назначении традиционной народной игруш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некоторые доступные для ребёнка исторические сведения о народной игруш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ивать естественный интерес и любознательность детей к изучению традиционной народной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о своей стране, Родине и её символе – матрё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и активизировать словарь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зрительное восприятие, память, творческое мышление, мелкую моторику рук; Развивать эмоциональную сфе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я сотрудничать, уважать свой и чужой тр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 к народной культуре и бережное отношение к   культуре своего нар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радостную и доброжелательную творческую атмосф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7961400" cy="976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13840" y="1071720"/>
            <a:ext cx="864396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дет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родить интерес к народной игрушке, народно-прикладному искусству, промысл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круг представлений о разнообразии и назначении традиционной народной игруш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некоторые доступные для ребёнка исторические сведения о народной игруш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ивать естественный интерес и любознательность детей к изучению традиционной народной куль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о своей стране, Родине и её символе – матрёш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и активизировать словарь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зрительное восприятие, память, творческое мышление, мелкую моторику рук; Развивать эмоциональную сфер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я сотрудничать, уважать свой и чужой труд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 к народной культуре и бережное отношение к   культуре своего наро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радостную и доброжелательную творческую атмосфе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C:\Users\Лариса\Downloads\игры с мартешкой.jpg"/>
          <p:cNvPicPr/>
          <p:nvPr/>
        </p:nvPicPr>
        <p:blipFill>
          <a:blip r:embed="rId2"/>
          <a:stretch/>
        </p:blipFill>
        <p:spPr>
          <a:xfrm>
            <a:off x="6607080" y="1647720"/>
            <a:ext cx="1022400" cy="1516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F:\DCIM\Camera\IMG_20161124_145642.jpg"/>
          <p:cNvPicPr/>
          <p:nvPr/>
        </p:nvPicPr>
        <p:blipFill>
          <a:blip r:embed="rId3"/>
          <a:stretch/>
        </p:blipFill>
        <p:spPr>
          <a:xfrm>
            <a:off x="1116000" y="1806480"/>
            <a:ext cx="161460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3591000" y="1579680"/>
            <a:ext cx="2155680" cy="1733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76360" y="32446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 flipV="1" rot="10800000">
            <a:off x="974520" y="4218120"/>
            <a:ext cx="691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взрослого 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611280" y="170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28592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C:\Users\Лариса\Downloads\IMG_4762.jpg"/>
          <p:cNvPicPr/>
          <p:nvPr/>
        </p:nvPicPr>
        <p:blipFill>
          <a:blip r:embed="rId2"/>
          <a:stretch/>
        </p:blipFill>
        <p:spPr>
          <a:xfrm>
            <a:off x="2001960" y="1501920"/>
            <a:ext cx="1806480" cy="1695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C:\Users\Лариса\Downloads\IMG_4757.jpg"/>
          <p:cNvPicPr/>
          <p:nvPr/>
        </p:nvPicPr>
        <p:blipFill>
          <a:blip r:embed="rId3"/>
          <a:stretch/>
        </p:blipFill>
        <p:spPr>
          <a:xfrm>
            <a:off x="4502160" y="1477800"/>
            <a:ext cx="1806480" cy="1695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295200" y="3105000"/>
            <a:ext cx="845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F:\DCIM\Camera\IMG_20161109_161037.jpg"/>
          <p:cNvPicPr/>
          <p:nvPr/>
        </p:nvPicPr>
        <p:blipFill>
          <a:blip r:embed="rId4"/>
          <a:stretch/>
        </p:blipFill>
        <p:spPr>
          <a:xfrm>
            <a:off x="2043000" y="4383000"/>
            <a:ext cx="1765440" cy="145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 flipV="1" rot="10800000">
            <a:off x="2320560" y="3474000"/>
            <a:ext cx="46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гости к малыш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7" descr="C:\Users\Лариса\AppData\Local\Microsoft\Windows\INetCache\IE\4DTMQ819\DSCN9198[1].JPG"/>
          <p:cNvPicPr/>
          <p:nvPr/>
        </p:nvPicPr>
        <p:blipFill>
          <a:blip r:embed="rId5"/>
          <a:stretch/>
        </p:blipFill>
        <p:spPr>
          <a:xfrm>
            <a:off x="4376880" y="4340160"/>
            <a:ext cx="1944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-182520" y="1073160"/>
            <a:ext cx="4394160" cy="560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F:\DCIM\Camera\IMG_20161108_090357.jpg"/>
          <p:cNvPicPr/>
          <p:nvPr/>
        </p:nvPicPr>
        <p:blipFill>
          <a:blip r:embed="rId3"/>
          <a:stretch/>
        </p:blipFill>
        <p:spPr>
          <a:xfrm>
            <a:off x="878040" y="1600200"/>
            <a:ext cx="204120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835280" y="1454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4788000" y="11397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ПБУК «РУССК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F:\DCIM\Camera\IMG_20161124_100821.jpg"/>
          <p:cNvPicPr/>
          <p:nvPr/>
        </p:nvPicPr>
        <p:blipFill>
          <a:blip r:embed="rId4"/>
          <a:stretch/>
        </p:blipFill>
        <p:spPr>
          <a:xfrm>
            <a:off x="5419800" y="1474920"/>
            <a:ext cx="169380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 flipV="1" rot="10800000">
            <a:off x="2484360" y="343800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F:\DCIM\Camera\IMG_20161109_160335.jpg"/>
          <p:cNvPicPr/>
          <p:nvPr/>
        </p:nvPicPr>
        <p:blipFill>
          <a:blip r:embed="rId5"/>
          <a:stretch/>
        </p:blipFill>
        <p:spPr>
          <a:xfrm>
            <a:off x="2090880" y="3865680"/>
            <a:ext cx="2097000" cy="1852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C:\Users\4460~1\AppData\Local\Temp\Rar$DIa0.957\матрешкин год.jpg"/>
          <p:cNvPicPr/>
          <p:nvPr/>
        </p:nvPicPr>
        <p:blipFill>
          <a:blip r:embed="rId6"/>
          <a:stretch/>
        </p:blipFill>
        <p:spPr>
          <a:xfrm>
            <a:off x="4962600" y="3865680"/>
            <a:ext cx="2041560" cy="1852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 flipV="1" rot="10800000">
            <a:off x="323640" y="41882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ины загад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223040" y="4537080"/>
            <a:ext cx="17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ины наря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5708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G:\DCIM\Camera\IMG_20161121_163434.jpg"/>
          <p:cNvPicPr/>
          <p:nvPr/>
        </p:nvPicPr>
        <p:blipFill>
          <a:blip r:embed="rId3"/>
          <a:stretch/>
        </p:blipFill>
        <p:spPr>
          <a:xfrm>
            <a:off x="1192320" y="1546200"/>
            <a:ext cx="165240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C:\Users\4460~1\AppData\Local\Temp\Rar$DIa0.255\IMG_4722.jpg"/>
          <p:cNvPicPr/>
          <p:nvPr/>
        </p:nvPicPr>
        <p:blipFill>
          <a:blip r:embed="rId4"/>
          <a:stretch/>
        </p:blipFill>
        <p:spPr>
          <a:xfrm>
            <a:off x="5510160" y="1562040"/>
            <a:ext cx="1900440" cy="18954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903240" y="114300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ив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521496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а – иго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 flipV="1" rot="10800000">
            <a:off x="2484000" y="366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Г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C:\Users\4460~1\AppData\Local\Temp\Rar$DIa0.917\DSCN5968.JPG"/>
          <p:cNvPicPr/>
          <p:nvPr/>
        </p:nvPicPr>
        <p:blipFill>
          <a:blip r:embed="rId5"/>
          <a:stretch/>
        </p:blipFill>
        <p:spPr>
          <a:xfrm>
            <a:off x="1455840" y="4206960"/>
            <a:ext cx="2057400" cy="1616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:\Users\Лариса\Downloads\DSCN6066.JPG"/>
          <p:cNvPicPr/>
          <p:nvPr/>
        </p:nvPicPr>
        <p:blipFill>
          <a:blip r:embed="rId6"/>
          <a:stretch/>
        </p:blipFill>
        <p:spPr>
          <a:xfrm>
            <a:off x="5151600" y="4206960"/>
            <a:ext cx="1900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F:\DCIM\Camera\IMG_20161123_184030.jpg"/>
          <p:cNvPicPr/>
          <p:nvPr/>
        </p:nvPicPr>
        <p:blipFill>
          <a:blip r:embed="rId3"/>
          <a:stretch/>
        </p:blipFill>
        <p:spPr>
          <a:xfrm>
            <a:off x="974880" y="1639800"/>
            <a:ext cx="2268360" cy="1852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F:\DCIM\Camera\IMG_20161123_190527.jpg"/>
          <p:cNvPicPr/>
          <p:nvPr/>
        </p:nvPicPr>
        <p:blipFill>
          <a:blip r:embed="rId4"/>
          <a:stretch/>
        </p:blipFill>
        <p:spPr>
          <a:xfrm>
            <a:off x="5187960" y="1603440"/>
            <a:ext cx="2266920" cy="1852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714760" y="1071720"/>
            <a:ext cx="36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а – русский сувен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547640" y="3683160"/>
            <a:ext cx="61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 – МУЗЕЙ  «ВЕСЁЛ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F:\DCIM\Camera\IMG_20161124_135058.jpg"/>
          <p:cNvPicPr/>
          <p:nvPr/>
        </p:nvPicPr>
        <p:blipFill>
          <a:blip r:embed="rId5"/>
          <a:stretch/>
        </p:blipFill>
        <p:spPr>
          <a:xfrm>
            <a:off x="3184560" y="4100400"/>
            <a:ext cx="2435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0:54:27Z</dcterms:created>
  <dc:creator>Лариса</dc:creator>
  <dc:description/>
  <dc:language>en-US</dc:language>
  <cp:lastModifiedBy>евросеть</cp:lastModifiedBy>
  <dcterms:modified xsi:type="dcterms:W3CDTF">2019-02-24T16:41:40Z</dcterms:modified>
  <cp:revision>129</cp:revision>
  <dc:subject/>
  <dc:title>Муниципальное бюджетное дошкольное образовательное учреждение  «Детский сад № 25 компенсирующего вида»</dc:title>
</cp:coreProperties>
</file>