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63D-4A9E-4FE6-8322-5CA93673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252-883F-4F5A-92FE-E7C9D91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047-0DDF-4077-A500-7D10763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9C6-77A7-481C-B8E9-D6A0EEA4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AEA-9E30-4698-9AE7-8EC749C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AB1-0F09-442A-AE5A-05DF829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13D-ABD5-4F82-AB01-5D885C9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241-58D5-4C25-9277-30DAE74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700-69F7-4D02-95C9-1DDA7B7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9EB-7A6C-49F8-9F62-A5A06BD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73D-4265-4B13-8E60-C7C5A39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F85-BFCA-4057-9FDD-7CD0AF0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3A0C-A0DE-4421-BFC3-3DBDA77EB7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2060"/>
                </a:solidFill>
                <a:uFillTx/>
                <a:latin typeface="Georgia"/>
              </a:rPr>
              <a:t>Администрация Городского округа Подольск Комитет по образованию Муниципальное дошкольное образовательное учреждение детский сад №33 «Аленушка»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 психологической компетенции педагога в современ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«Быть компетентным — значит 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гда и как действовать» (П. Вейл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пражнение  “Рит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полнять его необходимо в паре с другим учителем или дома, с одним из близких вам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ва человека встают лицом друг к другу и договариваются о своих ролях: один - ведущий, второй - “зеркало”. Руки участников подняты на уровень груди и повернуты ладонями навстречу друг другу. Ведущий произвольно двигает руками, а играющий роль “зеркала” пытается отразить их в том же ритме. Роли несколько раз 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сихологический смысл упражнения состоит в том, чтобы почувствовать внутренний “ритм” другого человека и как можно полнее отразить его. При этом думайте о том, что каждый человек (ваш воспитанник, коллега по работе, член вашей семьи) - индивидуальность, обладающая уникальным психологическим “ритмом”, и, чтобы правильно понять человека, надо прежде всего почувствовать его энергетику, темперамент, направленность, динамику, внутреннюю экспресс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E:\маме\18-19\223108165.png"/>
          <p:cNvPicPr/>
          <p:nvPr/>
        </p:nvPicPr>
        <p:blipFill>
          <a:blip r:embed="rId1"/>
          <a:stretch/>
        </p:blipFill>
        <p:spPr>
          <a:xfrm>
            <a:off x="3564000" y="4121280"/>
            <a:ext cx="1812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фессиональная компетентность педагога определяется сложным комплексом умений – он должен в совершенстве владеть своим предметом и совершенствовать свои знания и умения на уровне последних научных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мпетентная психологическая деятельность предъявляет определенные требования к личности учителя, т.е. развитие его потребностно-мотивационной, когнитивной, эмоционально-ценностной, операциональной, коммуникативной и рефлексивной составляющих. Это формирование готовности к профессиональной деятельности в системе вариативного обучения, готовности к инновационной деятельности и потребности в самообразовани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:\маме\18-19\42040266.jpg"/>
          <p:cNvPicPr/>
          <p:nvPr/>
        </p:nvPicPr>
        <p:blipFill>
          <a:blip r:embed="rId1"/>
          <a:stretch/>
        </p:blipFill>
        <p:spPr>
          <a:xfrm>
            <a:off x="2771640" y="3789360"/>
            <a:ext cx="30895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словия формирования и развития психологической компетентности педаго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Педагогический такт - это обязательное соблюдение педагогом принципа меры в общении с детьми в образовательной деятельности, который подразумевает под собой уважение к воспитанникам, внимательность и доверие, разумность в требованиях к выполнению задач и многое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Умение найти правильный подход к воспитанникам и знать их индивидуальные и психолого-возрастн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Способность и желание работать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E:\маме\18-19\luchshiy-pedagog-2017-goda.png"/>
          <p:cNvPicPr/>
          <p:nvPr/>
        </p:nvPicPr>
        <p:blipFill>
          <a:blip r:embed="rId1"/>
          <a:stretch/>
        </p:blipFill>
        <p:spPr>
          <a:xfrm>
            <a:off x="3564000" y="3573360"/>
            <a:ext cx="22492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Заинтересованность в результатах свое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Педагог должен владеть навыками и умениями организаторск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. Владеть своей речью - она должна быть простой, ясной и убедительной в общении с воспит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E:\маме\18-19\socpedagog.jpeg"/>
          <p:cNvPicPr/>
          <p:nvPr/>
        </p:nvPicPr>
        <p:blipFill>
          <a:blip r:embed="rId1"/>
          <a:stretch/>
        </p:blipFill>
        <p:spPr>
          <a:xfrm>
            <a:off x="3276720" y="2997360"/>
            <a:ext cx="22003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7. Уметь управлять психическим состоянием воспитанников в течение дня. Для этого необходимо создавать комфортную обстановку и уметь видеть и различать психическое состоян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9. «Эмпатичность» педагога, то есть способность чувствовать эмоциональное состояние воспитанника, уметь сопереживать и откликнуться на проблему ребенка. Главное здесь для педагога - понять состояние ребенка и взглянуть на ситуацию с его позиции, чтобы найти пути решения возникшей проблемы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E:\маме\18-19\педагог.jpg"/>
          <p:cNvPicPr/>
          <p:nvPr/>
        </p:nvPicPr>
        <p:blipFill>
          <a:blip r:embed="rId1"/>
          <a:stretch/>
        </p:blipFill>
        <p:spPr>
          <a:xfrm>
            <a:off x="3446640" y="2924280"/>
            <a:ext cx="1817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. Также немаловажное значение имеет внешняя привлекательность педагога, то есть способность расположить к себе детей внешним видом и манерой поведения, потому что дети получают информацию не только из речи педагога, но и визуально – обращают внимание на выражение чувств в мимических и пантомимических движениях педагога. Кроме того, приятные манеры поведения педагога способствуют быстрой адаптации к любой обстановке и упрощают установление коммуникативных связей, что повышает уровень воздействия н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E:\маме\18-19\18156_1_1_667_480_5_100.jpg"/>
          <p:cNvPicPr/>
          <p:nvPr/>
        </p:nvPicPr>
        <p:blipFill>
          <a:blip r:embed="rId1"/>
          <a:stretch/>
        </p:blipFill>
        <p:spPr>
          <a:xfrm>
            <a:off x="2556000" y="3068640"/>
            <a:ext cx="3676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психологической компетенции педагогов является комплексной, включая различные виды тренингов, психотехник, деловых игр, а также традиционные формы - лекции, бес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ры-релаксаци. За 3-5 минут, потраченных на психотехнические упражнения, педагог может снять усталость, стабилизироваться, почувствовать уверенность в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:\маме\18-19\yoga-canstockphoto6240955.jpg"/>
          <p:cNvPicPr/>
          <p:nvPr/>
        </p:nvPicPr>
        <p:blipFill>
          <a:blip r:embed="rId1"/>
          <a:stretch/>
        </p:blipFill>
        <p:spPr>
          <a:xfrm>
            <a:off x="2987640" y="2852640"/>
            <a:ext cx="22813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пражнение  “Внутренний луч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пражнение выполняется индивидуально; помогает снять утомление, обрести внутреннюю стабильность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того чтобы выполнять упражнение, надо принять удобную позу, сидя или стоя в зависимости от того, где оно будет выполняться (в группе, дома, в транспорт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едставьте, что внутри Вашей головы, в верхней ее части, возникает светлый луч, который медленно и последовательно движется сверху вниз и медленно, постепенно освещает лицо, шею, плечи, руки теплым, ровным и расслабляющим светом. По мере движения луча разглаживаются морщины, исчезает напряжение в области затылка, ослабляется складка на лбу, опадают брови, “охлаждаются” глаза, ослабляются зажимы в углах губ, опускаются плечи, освобождаются шея и грудь. Внутренний луч как бы формирует новую внешность спокойного, освобожденного человека, удовлетворенного собой и своей жизнью, профессией и воспитан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полните упражнение несколько раз - сверху 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полняя упражнение, вы получите удовольствие, даже наслаждение. Заканчивайте упражнение словами: “Я стал новым человеком! Я стал молодым и сильным, спокойным и стабильным! Я все буду делать хорошо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E:\маме\18-19\shadowhealing.jpg"/>
          <p:cNvPicPr/>
          <p:nvPr/>
        </p:nvPicPr>
        <p:blipFill>
          <a:blip r:embed="rId1"/>
          <a:stretch/>
        </p:blipFill>
        <p:spPr>
          <a:xfrm>
            <a:off x="3995640" y="4076640"/>
            <a:ext cx="2063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пражнение “Дерево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юбое напряженное психологическое состояние характеризуется суженностью сознания и сверх-концентрацией человека на своих пережива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щутимое ослабление внутренней напряженности достигается в том случае, если человек сумел произвести действие децентрации: “снял” центр ситуации с себя и перенес его на какой-либо предмет или внешние обстоятельства. Децентрация позволяет перенести, “выбросить” отрицательное состояние во внешнюю среду и тем самым избавиться от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уществует несколько форм децентрации. Ролевая децентрация связана с перевоплощением человека, мысленным включением в другую ситуацию. Используется педагогическая рефлексия, педагог старается посмотреть на себя “со стороны”, проанализировать ситуацию глазами внешнего наблюдателя, применить “психическое зеркало”. Коммуникативная децентрация осуществляется в диалоге с переменой коммуникативных позиций. Упражнение выполняется индивидуально. Оно вырабатывает внутреннюю стабильность, создает баланс нервно-психических процессов, освобождая от травмирующе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о дороге домой, в транспорте, представляйте себя деревом (каким вам нравиться, с каким легче всего себя отождествить). Детально проигрывайте в сознании образ этого дерева: его мощный и гибкий ствол, переплетающиеся ветви, колышущуюся на ветру листву, открытость кроны навстречу солнечным лучам и влаге дождя, циркуляцию питательных соков по стволу, корни, прочно вросшие в землю. Важно почувствовать питательные соки, которые корни вытягивают из земли. Земля - это символ жизни, корни - это символ стабильности, связи человека с реа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E:\маме\18-19\Спящая_Мэри.jpg"/>
          <p:cNvPicPr/>
          <p:nvPr/>
        </p:nvPicPr>
        <p:blipFill>
          <a:blip r:embed="rId1"/>
          <a:stretch/>
        </p:blipFill>
        <p:spPr>
          <a:xfrm>
            <a:off x="3059280" y="5084640"/>
            <a:ext cx="1744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Im</cp:lastModifiedBy>
  <dcterms:modified xsi:type="dcterms:W3CDTF">2018-09-16T08:39:38Z</dcterms:modified>
  <cp:revision>11</cp:revision>
  <dc:subject/>
  <dc:title>Diapositiva 1</dc:title>
</cp:coreProperties>
</file>