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9D2-88DF-44B0-A0FA-25A908C4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E22-AD32-4585-AAA4-A2AD02FA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B23-3641-473B-98DC-1FA26B1F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DA0-7A99-4927-9C1C-CE0B1A7A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495A-FCC1-48D0-BC30-C27B7411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2E4D-742B-4B03-9E30-AA8AAA92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A093-B753-479D-9F41-39D90AAB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BAC5-AEE6-486A-86C7-7821EFBE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06C7-7AB2-473A-8A05-779F002E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47B8-5B6B-41B7-BFC4-BDEF9BA2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66B6-E5F8-41AB-86B0-407742B9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984-C39A-4622-A86D-2EDBD94A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3EF1-FAB8-4B4C-9DEF-3E3E94AB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333E-A397-42D6-8912-6412269C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9497-82DF-44FC-A129-B8F2C459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56D0-3BD0-4A5A-9C1F-E600DD02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2BB5-0F63-4A52-A88F-6607C576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6BB-D819-4D04-AE8E-285298C2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9B0-1B4D-4281-8F29-1AACAE12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993-1E7D-4644-AF15-A3DC282B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E8E-37D4-4566-9384-BE46604D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879-79EE-4A34-A6AE-4AB18B03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DFD-DB27-4E70-B69C-DA320929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C5A-1FD6-480F-96C4-619EC621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1578-E7E2-400C-8F21-0DCBED28E3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3D98-85DD-4796-8936-54AE9F639C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7856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КРУЖОК</a:t>
            </a:r>
            <a:br>
              <a:rPr sz="5400"/>
            </a:b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«ХИМИЧЕСКОЕ МОДЕЛИРОВАНИЕ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онструирование шаростержневых моделей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488000" cy="50403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 и 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7058160" cy="48531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 и 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571760" y="1600200"/>
            <a:ext cx="5999040" cy="44989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 В БЫТ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8064360" cy="49244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к изучает рекламу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488360" cy="47815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зготовление наглядных пособий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48751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зготовление наглядных пособ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7201080" cy="48531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анимательные опыты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ДЫМ БЕЗ ОГНЯ»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913800" cy="468000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«ОРИГИНАЛЬНОЕ ЯЙЦО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5897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ДЕНИЕ ИГР И КОНУРСОВ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51116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Цели и задачи круж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Углубить и обогатить знания учащихся по предмету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стимулировать их познавательную активность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повысить интерес к химии, мотивацию к изучению предмета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расширить кругозор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освоить приёмы самообразования через различные источники информа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приобрести необходимые практические  умения и навыки по лабораторной технике, экспериментальной работе, химическому моделированию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Развивать внимание, логическое мышление, коммуникативные навыки, умение работать в групп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оспитывать убежденность позитивной роли химии в жизни современного общества,  необходимости химически грамотного отношения к собственному здоровью и окружающей сред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ДЕНИЕ ИГР И КОНУРС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775640" cy="49975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ОЖИДАЕМЫЕ РЕЗУЛЬТАТЫ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496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ужковые занятия призваны пробудить у учащихся интерес к химической науке, стимулировать изучение химии. Химические знания, сформированные на занятиях кружка, информационная культура должны быть использованы ими для раскрытия различных проявлений связи химии с жизн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518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Тематика заняти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знакомление с кабинетом химии, изучение правил техники безопас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ранение материалов, реактивов в химической лаборатории. Химическая посуда. Т.Б. при работе с пробирками, колбами, химическими стаканами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гревательные приборы (спиртовка, плитка, водяная баня), пользование ими. Нагрев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льтрование и перегонка. Выпаривание и кристаллизац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приемы работы с твердыми, жидкими и газообразными веществ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воры. Монтаж прибор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труирование шаростержневых модел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готовление наглядных пособ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имательные опыты по теме: «Химия в природ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я и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я и медиц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я в бы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ий смотр знаний. Заключительная игра «Что? Где? Когда?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АШ ДЕВИЗ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«ХИМИЯ – ПРОСТО КЛАСС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И ВСЁ ПОЛУЧИТСЯ У НАС!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О ВСЕХ ДЕЛАХ НАС ЖДЕТ УСПЕХ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ЕДЬ МЫ НА СВЕТЕ ЛУЧШЕ ВСЕХ!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95280" y="2359080"/>
            <a:ext cx="6696000" cy="44989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знакомление с кабинетом химии, изучение правил техники безопасности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48956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знакомление с кабинетом химии, изучение правил техники безопасности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онтаж прибор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137440" cy="48387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онтаж прибор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8064360" cy="55166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Конструирование шаростержневых моделе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01680" y="1700280"/>
            <a:ext cx="8302680" cy="48974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6:41:16Z</dcterms:created>
  <dc:creator>ппп</dc:creator>
  <dc:description/>
  <dc:language>en-US</dc:language>
  <cp:lastModifiedBy>TEHNIKUM-5</cp:lastModifiedBy>
  <dcterms:modified xsi:type="dcterms:W3CDTF">2019-02-25T12:28:23Z</dcterms:modified>
  <cp:revision>205</cp:revision>
  <dc:subject/>
  <dc:title>Слайд 1</dc:title>
</cp:coreProperties>
</file>