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F77-DE01-43A1-A718-F1AF1E4A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74AA-0B89-486A-8F7F-A435F062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C1C-B176-4112-ADC4-D2E15736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235-B84F-4226-85B9-1D046F27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2473-985D-4754-87E6-340D3A22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A75F-C2E8-4D40-A89B-DA05BB58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AAED-6B01-4DB2-A867-D29FE1E0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ADE4-5261-409D-A2FA-67A07A75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FEDE-4EC0-48FA-A9A1-C2956888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5500-D6AE-4E5D-AA3D-59CB15C8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910C-ADCF-448C-AC88-910A2FB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14B-F0F7-4FFB-AEA6-CDE29F4A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7AF7-0B04-465A-98B8-146238C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95D3-9C71-4F23-9C30-1AB7F588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BCF-7154-46A4-8580-AB2BD633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9E0D-BE01-4119-B547-ED19C8FD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69DC-1E82-4843-828F-9357813C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837-3214-4FD8-AF3C-D9408BA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E04-6C67-40AC-B1AE-E32A6B10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0ED-D817-4D3D-97B4-A91C5760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D0F-E556-485C-93A3-CF98070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E91-8082-4794-A7D8-722B0E60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207-0F1D-4C4F-B0C7-03138104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180-4EB9-4AD9-A65A-FC22A40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A6A3-6208-4B68-A8C9-81DCD71DA0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197D-C2AB-458B-8D12-4FC8A430EF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7856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КРУЖОК</a:t>
            </a:r>
            <a:br>
              <a:rPr sz="5400"/>
            </a:b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«ХИМИЧЕСКОЕ МОДЕЛИРОВАНИЕ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онструирование шаростержневых моделей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488000" cy="50403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 и 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7058160" cy="48531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 и 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571760" y="160020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 В БЫТ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8064360" cy="49244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к изучает рекламу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488360" cy="47815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зготовление наглядных пособий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48751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зготовление наглядных пособ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201080" cy="48531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анимательные опыты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ДЫМ БЕЗ ОГНЯ»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9138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«ОРИГИНАЛЬНОЕ ЯЙЦО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5897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ДЕНИЕ ИГР И КОНУРСОВ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51116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Цели и задачи круж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Углубить и обогатить знания учащихся по предмету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стимулировать их познавательную активность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повысить интерес к химии, мотивацию к изучению предмет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расширить кругозо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освоить приёмы самообразования через различные источники информа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приобрести необходимые практические  умения и навыки по лабораторной технике, экспериментальной работе, химическому моделированию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Развивать внимание, логическое мышление, коммуникативные навыки, умение работать в групп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оспитывать убежденность позитивной роли химии в жизни современного общества,  необходимости химически грамотного отношения к собственному здоровью и окружающей сред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ДЕНИЕ ИГР И КОНУРС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775640" cy="49975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ОЖИДАЕМЫЕ РЕЗУЛЬТАТЫ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496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ужковые занятия призваны пробудить у учащихся интерес к химической науке, стимулировать изучение химии. Химические знания, сформированные на занятиях кружка, информационная культура должны быть использованы ими для раскрытия различных проявлений связи химии с жизн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518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Тематика заняти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знакомление с кабинетом химии, изучение правил техники безопас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ранение материалов, реактивов в химической лаборатории. Химическая посуда. Т.Б. при работе с пробирками, колбами, химическими стаканами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гревательные приборы (спиртовка, плитка, водяная баня), пользование ими. Нагрев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льтрование и перегонка. Выпаривание и кристаллизац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приемы работы с твердыми, жидкими и газообразными веществ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воры. Монтаж прибор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руирование шаростержневых модел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готовление наглядных пособ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имательные опыты по теме: «Химия в природ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я и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я и медиц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я в бы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ий смотр знаний. Заключительная игра «Что? Где? Когда?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АШ ДЕВИЗ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«ХИМИЯ – ПРОСТО КЛАСС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И ВСЁ ПОЛУЧИТСЯ У НАС!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О ВСЕХ ДЕЛАХ НАС ЖДЕТ УСПЕХ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ЕДЬ МЫ НА СВЕТЕ ЛУЧШЕ ВСЕХ!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95280" y="2359080"/>
            <a:ext cx="6696000" cy="44989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знакомление с кабинетом химии, изучение правил техники безопасност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48956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знакомление с кабинетом химии, изучение правил техники безопасност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онтаж прибор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37440" cy="48387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онтаж прибор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064360" cy="55166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Конструирование шаростержневых моделе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01680" y="1700280"/>
            <a:ext cx="8302680" cy="48974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41:16Z</dcterms:created>
  <dc:creator>ппп</dc:creator>
  <dc:description/>
  <dc:language>en-US</dc:language>
  <cp:lastModifiedBy>TEHNIKUM-5</cp:lastModifiedBy>
  <dcterms:modified xsi:type="dcterms:W3CDTF">2019-02-25T12:28:23Z</dcterms:modified>
  <cp:revision>205</cp:revision>
  <dc:subject/>
  <dc:title>Слайд 1</dc:title>
</cp:coreProperties>
</file>