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3FD-EC2C-4C0F-B01D-960D21C1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E64-40C3-4754-B519-92E225E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4A0-C418-4382-8CB3-6E46348F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E57-A52E-4209-B834-942AADE9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B35-68AF-4ACD-9741-7B9274A6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516B-D009-4D7C-A3DA-3DE6B8C4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EC37-A512-445F-88A8-9BDF1AC4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58F-625A-46C0-9FCE-EEDB824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A0F7-A381-4AF3-A1CC-C187E3B1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4A2F-A29F-4EEF-9E9F-F7A61AD9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BC7-48C3-4B58-BC37-5CC952D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149-3EF4-40EE-A3A8-5772CCF9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3024-81FE-4DA9-B122-14B81D9F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3DEA-AD20-49C8-9E2D-66BEAE7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6DB-3A4B-415D-B211-40FB1EB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7FC-3E89-4467-BF7F-0890B360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A7B-D512-44F9-A283-47683383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F9DE8-5426-46CE-845C-98A9D28D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656CC-A99B-4B3A-8DF9-7B7C524F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351B5-F838-488F-ACCF-B36E2650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33F0E-590F-4E10-838E-B61B4B6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E9AEA-78AB-49D7-AF02-010676F4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272-638E-4D89-9D4A-4D58C58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08578-BDAC-47C5-BBCC-79468B28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CE84F-ACBF-40B7-B607-62AAED4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B1EF-EBA6-4F8B-9DDA-5769EA4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A9F8B-E2CD-40A6-AE86-12D71F9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247FE-062A-4222-8939-D78D606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DA241-8FB6-4CB1-AD9D-8899F79D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6BD77-DC6B-4AB3-8342-2F8C9167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5E5DB-0668-4ED7-A393-57AC1B36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F598F-20BC-4393-820A-2C78AF62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9AA0B-3536-4C4D-988F-22B9EFDB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061-BF13-48B0-A820-C34FB7D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A7A0B-73E1-481F-AB3B-7656234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76963-4389-4133-B695-BCB09F9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44F82-14B2-41D5-9EED-DF0D27B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F4347-2121-4FE8-9CAD-117B4D1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2D235-ECFC-4C69-A44A-0B3E0FC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D724D-4969-429C-833E-422AEED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CE7B7-6B4D-4C38-9AE3-93E382F1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A09DD-FE67-4D94-BCD1-B8F12BDE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879B0-EA04-4440-A301-02A871B0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E937D-9A8F-423F-816E-242BDC03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36F-6468-46C3-BEDC-EFB20941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A0D75-7707-4979-99ED-3737DD5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3A883-A290-4351-A51D-B56F7C9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43801-487A-400E-A6DA-34FA733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AB689-D488-4268-AF19-380B7776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6F1EA-1B14-4624-973A-FB221D3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6D897-22D7-4D3A-A07C-A466C9D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7E56B-8CE4-49A0-A95E-25C652B8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8E0BB-1F7D-422F-8638-654CBD2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B6629-C36D-486E-9F90-5CCB46C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E5463-EDCE-469F-9E10-4165B7DB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DF4-6BAE-4EEA-A938-F2259361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EB81D-66A9-4330-9624-2774C6C1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2E05-86D5-4D95-9A4F-B7CF488A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B86E-AADC-4A1E-8B5D-16B908D6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B77FA-F8BC-498B-B164-2B395A0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B4D4-7829-460D-A82E-93C2E5C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15C47-BF5C-4603-9E0A-90EB691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79E5-D7F4-4C85-836A-BB198E2A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A269-F57C-4C5E-8ABD-0114072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86DD-AF2A-4D6F-83C8-9179851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962A-9A5A-4B6D-A33D-C94E6F6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38D-8C2D-4EED-B673-BADE3FE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546E-D9C7-4F46-947A-EF4DAD0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7B4B-A706-432F-A085-49995CBC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BF10-7735-462B-990A-D2430F96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2E724-65BC-4C4C-9984-20CDB85D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21AA4-FAEC-49B0-96F0-3A0A8A1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A2D5B-6358-4D2D-8C63-3F6EF3E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61930-6B30-4B94-8871-4D567888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75B3D-D998-46EC-B004-6C319E6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6F2A4-57E8-4D8C-9A81-9FD079C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FD916-F5EA-4313-A171-6E2611A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05B-879A-4218-81B9-7BA6BE3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588DB-713C-4E28-99AB-0651CFAF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01C5E-EA7C-4E50-8F05-C32E453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527EF-803E-4DD3-9574-5A860CD6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5ABA8-AA1F-43D3-B8F8-77273C47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5F14E-C577-43F9-8562-17268097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F173D-0758-4004-A9B4-9E8F0E5D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A9551-8284-44CA-B779-AF60A05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65BB-F8FE-4D32-9B02-944FAA2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5F0B-2811-4676-901F-B24809F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80F8-2734-440B-A8CF-B4F0F03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996-A60C-45D0-BADD-862A639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2771640" y="44280"/>
            <a:ext cx="5199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F48C-B8DF-42AB-BE53-2CF2AAE4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41A7-34CC-4251-8809-9689A6E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BDA53-D88F-498D-8A4C-6481A09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6E53-44BF-4CBB-AC0E-04BF92B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12720" y="4396320"/>
            <a:ext cx="8153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0F17-CD07-4AA0-AF28-D445ADB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98900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72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90880" y="4396320"/>
            <a:ext cx="3978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2FE1-DBC7-49B0-B8E0-B38EC98B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6960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26120" y="198900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127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6960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126120" y="4396320"/>
            <a:ext cx="2625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7240-9BEF-478A-ADC6-4B22ADFE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88E-4658-46A7-83ED-90F7C7731D4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2" descr="1.tif"/>
          <p:cNvPicPr/>
          <p:nvPr/>
        </p:nvPicPr>
        <p:blipFill>
          <a:blip r:embed="rId2"/>
          <a:srcRect l="4910" t="0" r="57713" b="8468"/>
          <a:stretch/>
        </p:blipFill>
        <p:spPr>
          <a:xfrm>
            <a:off x="34920" y="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14"/>
          <p:cNvSpPr/>
          <p:nvPr/>
        </p:nvSpPr>
        <p:spPr>
          <a:xfrm>
            <a:off x="3348000" y="0"/>
            <a:ext cx="0" cy="158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1276200" y="115920"/>
            <a:ext cx="1849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7437-05B4-4782-BA1F-CE55C8151435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41B-5D04-41EC-BEF9-5AF610E969A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FA9-C8E6-4D18-914B-528D71D3DA7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0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0" y="1279440"/>
            <a:ext cx="533520" cy="493920"/>
          </a:xfrm>
          <a:prstGeom prst="rect">
            <a:avLst/>
          </a:prstGeom>
          <a:solidFill>
            <a:srgbClr val="e95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590400" y="1279440"/>
            <a:ext cx="8553600" cy="493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1.tif"/>
          <p:cNvPicPr/>
          <p:nvPr/>
        </p:nvPicPr>
        <p:blipFill>
          <a:blip r:embed="rId2"/>
          <a:srcRect l="0" t="0" r="0" b="6700"/>
          <a:stretch/>
        </p:blipFill>
        <p:spPr>
          <a:xfrm>
            <a:off x="0" y="0"/>
            <a:ext cx="2484360" cy="10778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14"/>
          <p:cNvSpPr/>
          <p:nvPr/>
        </p:nvSpPr>
        <p:spPr>
          <a:xfrm>
            <a:off x="2556000" y="0"/>
            <a:ext cx="0" cy="1125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F78B-66B0-48E9-834C-39108C95704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642-B56B-44FF-BC58-A92E6D345CE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73B1-5DD1-49C1-82DA-0559D6D742E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12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2771640" y="44280"/>
            <a:ext cx="519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ptima Cyr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3C40-C082-430B-8B14-EAD309219D8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3130560" cy="3048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1600" y="1828800"/>
            <a:ext cx="8494920" cy="40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УЛЬТУРНЫЕ ПРАКТИКИ В ОБРАЗОВАТЕЛЬНОЙ ДЕЯТЕЛЬНОСТИ ДОШКОЛЬНОЙ ОБРАЗОВАТЕЛЬНОЙ ОРГАНИЗАЦИИ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Optima Cy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766800" y="4748040"/>
            <a:ext cx="8377200" cy="19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деление дошкольного образования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подаватель Жаринова Е.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Подзаголовок 2"/>
          <p:cNvSpPr/>
          <p:nvPr/>
        </p:nvSpPr>
        <p:spPr>
          <a:xfrm>
            <a:off x="108000" y="6048360"/>
            <a:ext cx="194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73320" cy="2109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1960" y="1325160"/>
            <a:ext cx="8153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ультурные практики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яет, как ребенок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бъектом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го отношения, восприятия, принятия или непринятия чего-либо в свое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стро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т задач взрослого, 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жизнедеятельности ребенк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ребенок – полноправный субъект деятельности, взаимодействия и общения.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– «не ведомый, не воспитываемый, не обучающийся» (эти понятия предполагают пассивного ребенка, которым можно манипулироват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754280"/>
            <a:ext cx="81532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бодное 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аправление в педагогической теории и практике, рассматривающее воспитание как помощь природе ребенка, естественно развивающегося в процессе освоения окружающего мира и свободно самоопределяющегося в 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едагогическая энциклопед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446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44600" cy="2019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4396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ы свободного воспит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вноправие взрослого 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нятие ребенка как субъекта образовательной и культур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ключение давления на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важение и принятие желаний ребенка, его «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оритет выбора ребенка и его интереса, а не интереса взросл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едагогическая поддержка его инициати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едоставление ребенку максимальных для его возраста полномочий в разных формах жизнедеятельности и само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90600" cy="180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716120"/>
            <a:ext cx="81532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 культурным практикам можно отнести исследовательские, коммуникативные, художественные, организационные, образовательные, проект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ы и формы действий ребен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го возраста.  В этих практиках-пробах он сам овладевает интересной для него информацией в соответствии с собственными мотивами и индивидуальной программой познавательной и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тождественны видам деятельност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формируют индивидуальны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81400" cy="21542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культурных практик в образовательном процессе идет по двум направлени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на основе инициатив сами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, инициируемые, организуемые и направляемые взросл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6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63600" cy="1936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09120" y="2153880"/>
            <a:ext cx="3886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амостоятельная детская деятельность, которая протекает как индивидуально, так и в процессе сотрудничества со сверстни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ая активность направлена на самостоятельное познание окружающего, поиски ответов на возникшие вопросы, индивидуальную и совместную со сверстниками 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00240" y="2115720"/>
            <a:ext cx="38862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авляются воспитателем на развитие самостоятельной  активности детей, основываются на поддержке детских инициатив и интере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культурных практик направлен на обогащение культурного опыта, самостоятельности поведения и деятельности, позитивной социализации и индивидуализации дошколь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265400"/>
            <a:ext cx="3886200" cy="9014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ные практики на основе инициатив сам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0240" y="1290600"/>
            <a:ext cx="3886200" cy="8143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ные практики, инициируемые, организуемые и направляемые взросл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919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227240"/>
            <a:ext cx="81532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проектировании культурных практ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у важно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колько инициируемые культурные практики позволяют решать поставленные образовательные зада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деятельностные умения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творческие умения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способы общения и сотрудничества осваивают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чувства и эмоции развиваются у дет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ся ли самостоятельность и инициативность у дет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36680" cy="1765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итературе выделены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культурных практи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вободные практики детской деятельност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гра, продуктивная, познавательно-исследовательская деятельность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актики культурной идентификации и взаимодействия ребенка  с окружающим социум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знакомление с окружающим, продуктивная деятельность, игры и др.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актики игро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южетно-ролевые игры, дидактические игры, подвижные игры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81240" cy="17827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741320"/>
            <a:ext cx="815328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ммуникативные практи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(чтение художественной литературы, развитие речи, игры-драматизации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здорового образа жиз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изическое развитие, воспитание культурно-гигиенических навыков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формирования поведения и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южетно-ролевые игры, бытовой труд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 познания мира и самопозн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знавательно-исследовательская, продуктивная деятельность, нравственно-патриотическое воспитание, самопознание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927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09520" y="-360"/>
            <a:ext cx="675612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 Cyr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Соотношение видов культурных практик, </a:t>
            </a:r>
            <a:r>
              <a:rPr b="1" lang="en-US" sz="2000" spc="-1" strike="noStrike">
                <a:solidFill>
                  <a:srgbClr val="000000"/>
                </a:solidFill>
                <a:latin typeface="Optima Cyr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универсальных культурных умений и целевых ориентиров на этапе завершения дошкольного образования</a:t>
            </a:r>
            <a:endParaRPr b="0" lang="en-US" sz="2000" spc="-1" strike="noStrike">
              <a:solidFill>
                <a:srgbClr val="ffffff"/>
              </a:solidFill>
              <a:latin typeface="Optima Cyr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44360" y="2095560"/>
          <a:ext cx="8736120" cy="4470480"/>
        </p:xfrm>
        <a:graphic>
          <a:graphicData uri="http://schemas.openxmlformats.org/drawingml/2006/table">
            <a:tbl>
              <a:tblPr/>
              <a:tblGrid>
                <a:gridCol w="1720800"/>
                <a:gridCol w="2881440"/>
                <a:gridCol w="413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ультурных прак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версальные культурн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ые ориентиры на этапе завершения дошкольного образования (п. 4.6 ФГОС Д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1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бодные практики детск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ет основными культурными способами деятельности; самостоятельно действует (в повседневной жизни, в различных видах детской деятельности); выражает индивидуальное предпочтение видам деятельности, партне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енок овладевает основными культурными способами деятельности, проявляет инициативу и самостоятельность в разных видах деятельности – игре, общении, познавательно-исследовательской деятельности,  конструировании и др.; способен выбирать себе род занятий, участников по совмест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508120" cy="2354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69840" y="-360"/>
            <a:ext cx="599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979640"/>
            <a:ext cx="81532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иссия дошкольного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охранение уникальности и самоценности дошкольного детства как отправной точки включения и дальнейшего овладения разнообразными формами жизнедеятельности в быстро изменяющемся мире, содействие развитию различных форм активности ребенка, передача общественных норм и ценностей, способствующих позитивной социализации в поликультурном многонациональном обще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ая основная образовате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920" indent="-286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839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09680" y="190080"/>
            <a:ext cx="65563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Optima Cyr"/>
              </a:rPr>
              <a:t>Соотношение видов культурных практик, универсальных культурных умений и целевых ориентиров на этапе завершения дошкольного образования</a:t>
            </a:r>
            <a:endParaRPr b="0" lang="en-US" sz="2000" spc="-1" strike="noStrike">
              <a:solidFill>
                <a:srgbClr val="ffffff"/>
              </a:solidFill>
              <a:latin typeface="Optima Cyr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3920" y="2089080"/>
          <a:ext cx="8656560" cy="4475160"/>
        </p:xfrm>
        <a:graphic>
          <a:graphicData uri="http://schemas.openxmlformats.org/drawingml/2006/table">
            <a:tbl>
              <a:tblPr/>
              <a:tblGrid>
                <a:gridCol w="1704960"/>
                <a:gridCol w="2855880"/>
                <a:gridCol w="4095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ультурных прак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версальные культурн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ые ориентиры на этапе завершения дошкольного образования (п. 4.6 ФГОС Д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и игрового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южетно-ролевой игре разыгрывает события из личной жизни, дополняя и приукрашивая действительность желаемым; согласовывает свои действия с действиями партнеров по игре; следует различным  правилам и социальным норм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ёнок обладает развитым воображением, которое реализуется в разных видах деятельности, и прежде всего в игре; ребенок владеет разными формами и видами игры, различает условную и реальную ситуации, умеет подчиняться разным  правилам и социальным норм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90600" cy="1882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98440" y="1131480"/>
            <a:ext cx="842976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рактика ребенка становится культурной,  когда она создает возможности для его повседневной активности, личной инициативы, осмысления повседневного опыта и создания собственных творческих продуктов деятельности на основе осваиваемых культурных норм (где культура – сущностное качество любой формы деятельности)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рылова Н.Б. Развитие культурологического подхода в современной педагогик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181240" cy="17478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62006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67840" y="645840"/>
            <a:ext cx="84978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каз Министерства образования и наук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Минобрнауки России) от 17 октября 2013 г. N 1155 г. Москва "О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ении федерального государственного образователь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та дошкольного образован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. Примерная основная образовательная программа дошкольного образования (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ена решением федерального учебно-методического объединения по общему образованию, протокол от 20 мая 2015 г. № 2/1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. Бабаева Т.И., Солнцева О.В. Проектирование культурных практик дошкольников в образовательном процессе детского сада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. Крылова Н.Б. Свободное воспитание в семье и школе: культурные практики детей. – М.: Сентябрь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рылова Н.Б. Культурология образования/ Н.Б. Крылова. – М.: Народное образование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17600" cy="1819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орепанова М.В. Культурные практики как основа проектирования образовательной деятельности до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Лыкова И.А., Протасова Е.Ю. Культурные практики в детском саду: современный подход и возможные трактов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Родина Н.М. Культурные практики в образовательном процессе детского са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Теплова А.Б. Культурные практики дет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 2015,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Щетинина А.М. Условия овладения ребенком позиции субъекта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//Журнал «Детский сад: теория и практика». 2015, №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4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4468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778040"/>
            <a:ext cx="8153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риобщения к культурным образцам человеческой деятельности (культуре жизни, познанию мира, речи, коммуникации, и прочим), приобретения культурных умений при взаимодействии со взрослыми и в самостоятельной деятельности в предметной сре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ывается процессом овладения культурными практи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ая основная образовате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335320" cy="2173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766520"/>
            <a:ext cx="8153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Поддержка разнообразия детства, сохранение его уникальности и самоценности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– один из основных принципов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тандар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Детство понимается как период жизни значимый без всяких условий, значимый «тем, что происходит с ребенком сейчас, а не тем, что этот период есть период подготовки к следующему периоду» 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(п.1.2 ФГОС Д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63680" cy="21906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803240"/>
            <a:ext cx="81532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никальный характер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х культурных уме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является в самостоятельных действиях в виде собственных проб, поиска, выбора действий и поступков, манипулирования предметами, конструирования, продуктивной деятельности, творчества,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е культурные ум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готовность и способность ребенка действовать на основе принятия и освоения общезначимых (общечеловеческих) культурных образцов деятельности, поведения и отнош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Н.Б.Крыл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71600" cy="2127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816200"/>
            <a:ext cx="815328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 содержательном разделе Программы должны быть представлен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особенности образовательной деятельности разных видов и культурных практик;......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.2.11.2.ФГОС Д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2055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72260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ные прак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 определению Н.Б.Крыловой, – это разнообразные, основанные на текущих и перспективных интересах ребенка виды самостоятельной деятельности, поведения, душевного самочувствия и складывающегося с первых дней  жизни уникального индивидуального жизненного опы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виды деятельности и поведения ребенок начинает практиковать как интересные ему и обеспечивающие самореализ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0968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754280"/>
            <a:ext cx="81532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льту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(от лат. cultura - возделывание - воспитание, образование, развитие, почитание), исторически определенный уровень развития общества, творческих сил и способностей человека, выраженный в типах и формах организации жизни и деятельности людей, в их взаимоотношениях, а также в создаваемых ими материальных и духовных ценност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Большой Энциклопедический словар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3" descr="ЖАРИНОВА ЕГ WSR 001.jpg"/>
          <p:cNvPicPr/>
          <p:nvPr/>
        </p:nvPicPr>
        <p:blipFill>
          <a:blip r:embed="rId1"/>
          <a:stretch/>
        </p:blipFill>
        <p:spPr>
          <a:xfrm>
            <a:off x="0" y="0"/>
            <a:ext cx="2227320" cy="2027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Optima Cyr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790280"/>
            <a:ext cx="81532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ультура проявляется глубинно (ее внешние формы вторичны). Культура  непосредственно не транслируется, не передается  от учителя к ученику как некая установка… Культура вызревает как собственный уникальный образ мыслей, поступков и действий взрослого и ребенка, как особенность их внутренней и внешней жизн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рылова Н.Б. Культурология образования/ Н.Б. Крылова. – М.: Народное образование, 2000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иганова Елена Анатольевна</dc:creator>
  <dc:description/>
  <dc:language>en-US</dc:language>
  <cp:lastModifiedBy>XTreme.ws</cp:lastModifiedBy>
  <dcterms:modified xsi:type="dcterms:W3CDTF">2017-10-05T02:10:31Z</dcterms:modified>
  <cp:revision>484</cp:revision>
  <dc:subject/>
  <dc:title>Слайд 1</dc:title>
</cp:coreProperties>
</file>