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08B-A854-49B0-B2A5-D0805D64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FC7-E54D-4EC5-99B1-A6E0DFCD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462-2BB1-4238-B44F-9328F4A9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4A2-AE8D-4A17-A140-CC08627D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7A8-B407-43CE-9E76-36D6DADB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B5A6-E67C-419D-97A7-23F0F1D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2AA-1133-496E-82C3-F19B5ED4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B544-7FF5-4781-9132-7D92F975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827-12D5-4C19-9207-836702E1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D87D-5E2D-4D32-B202-6B759C0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165-20AD-4340-BAE0-F00592F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31A-4858-4EAA-BFB3-221C925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992-911F-4A14-AF5E-C991E55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62FE-A51C-4898-97D0-C550C0E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A420-7B24-4C4A-8A5D-F5E4248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3369-5742-4549-B54C-035308A0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69B1-E576-485E-AB6A-7048CCC8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0F21-CBE6-4303-AA7C-4395C9F0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10D3-868D-4ED5-95B2-9012955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8C133-44A2-4F25-BFDC-04844BFC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0BD54-4A3E-4FFA-A9FE-2734D64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EF16D-B95D-4657-97FF-A38868B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882-3DB1-4845-ABF8-87B4AC8A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CB693-DD8E-4FBF-A1A6-C9B3A78F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DAA81-B481-4330-A60F-5D03C36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3E83B-869B-4232-9E68-9601F62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37AA3-2C44-4A0D-823D-8F961AF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3957D-CB94-4306-92E6-39093F25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59C02-CBFC-4DE4-86ED-1DA8615B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004C9-5123-4BF4-938C-37B9914A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E3149-92E6-4D1D-81E7-14566C75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8E2FC-7110-46F7-8B09-21B8CF80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80765-A1F4-4798-AB2B-BEC624D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B10-7C5C-4756-AD3E-4C2595E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79910-B9EC-4640-8790-64E56F15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F843B-349D-4455-82F0-E53990E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C99F3-7686-4A5C-8E4E-55AD4184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AE8F4-980D-4689-BC74-F6D72214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6CF55-F031-4C45-8A99-3390ACF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015BA-32CD-44EC-A71A-FCB4F1A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101BC-BC9C-4522-BA8C-9C32BAA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EB0EA-3809-497F-BCFA-7C260E3C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B13D5-1741-4407-95B9-A79B2C0F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B6A58-0AE4-4C42-868C-9AEF234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CE6-3C80-484F-82FB-57932BCB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4D169-CEEA-4211-BBD0-B33DCEAF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93F3A-BD6E-4224-90D4-45B7BD3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E29E4-1844-4D70-AE1C-8C2719F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986F7-7892-4260-A34A-EC0916D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1A844-41A3-4EF2-AD36-B3491F34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27707-1207-4AA3-9443-0CD3EDF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66B53-2F5B-4E44-BBD9-67E848D1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2B9F5-5B10-4F41-B9E9-FAC8654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2321F-F0A1-42C3-92F5-4FDCF36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392A-937C-4B83-8717-8E7ED82A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91-2467-4B04-B10C-C8B2B58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E584A-E2D4-4A4E-AB67-AFF6B205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6C69-35A0-4265-A6A2-1C128F15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8846-06D5-454D-928B-40B8E46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D2E91-9F5A-4AA0-B83F-FB84193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42B2-CE4E-4BB0-A0B1-5F243B8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B39F-787D-4B81-87B0-B10F8BD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6A3B-D1CF-48BD-B669-8AE4AD4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EE6B-F46F-42DF-B630-DC3D92B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84C6-CE22-4A90-923C-A8F1D82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F9D8-E4D8-4EE9-BCFA-1C76462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C74-B797-4E56-9704-B17A4B8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0D25-5BEE-4DEA-89E8-E5FCB11C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FAA4-0418-4388-B91B-101D2B46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5563-5972-4385-BB5A-7272994B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8ABA3-2596-4CA8-880D-D05BE59C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8F433-3794-459E-9315-78EA8BD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EA55C-E3FD-4230-A639-99C4F00E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35B35-A940-4AA4-8AA1-DEBE9B12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C7C99-C0CF-44B4-8F1B-85F0188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EF739-9584-4A2C-9454-8F55E540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9B101-692F-4672-AC15-4154C0B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669-DB93-48C2-935D-2CBA5F3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B843A-E3C5-4103-BE6D-6DA26A9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49026-B501-498D-BDF5-FF99E148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00962-D985-49CD-B2C9-3C3F6A2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FC7CB-C872-4107-AB0C-2EA2ACDA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C9E3D-6CFF-4D4E-B1A3-6943F4BE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BAF4-1398-4336-9148-DD8E1A3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6A1D-05DC-4BA9-8EC1-3862664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07BA-F544-4F07-9B29-0DC8E165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2D42F-0DE7-46E0-B494-BD70ABB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4D8F-41C4-4196-96F3-7435A10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758-7968-4245-811D-32E9FB2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6596-165B-40DD-B370-17DBFE5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1F53-8189-43D7-9F4E-8DCCD98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424D-70AA-4DD3-94FA-E900CC3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FAFC4-65D3-4137-8E52-189B810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7563-D980-49B8-A1EB-3F894AC2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5D5B-B22C-411D-8F18-9DBBDB0B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1090-84EF-4D4A-BC07-A5498AEA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6EB-AB74-4F6D-9D06-8E3A4D1188C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2" descr="1.tif"/>
          <p:cNvPicPr/>
          <p:nvPr/>
        </p:nvPicPr>
        <p:blipFill>
          <a:blip r:embed="rId2"/>
          <a:srcRect l="4910" t="0" r="57713" b="8468"/>
          <a:stretch/>
        </p:blipFill>
        <p:spPr>
          <a:xfrm>
            <a:off x="34920" y="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14"/>
          <p:cNvSpPr/>
          <p:nvPr/>
        </p:nvSpPr>
        <p:spPr>
          <a:xfrm>
            <a:off x="3348000" y="0"/>
            <a:ext cx="0" cy="158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1276200" y="115920"/>
            <a:ext cx="1849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448-F7AD-4682-B7A6-A7DD55F5840A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A48-CE64-4CA8-82D4-DCBB05026A7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1A1-F5AC-430E-BF40-03E00EEFB3B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39E-613B-4243-BB89-4E2C0C22F54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32A-DE26-48F1-8B5C-0DABE6AA20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D65-0148-48F7-B835-A19C911CFAF3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4611-71CC-4EDE-8B70-0B214B64BFE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3130560" cy="3048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1600" y="1828800"/>
            <a:ext cx="8494920" cy="40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УЛЬТУРНЫЕ ПРАКТИКИ В ОБРАЗОВАТЕЛЬНОЙ ДЕЯТЕЛЬНОСТИ ДОШКОЛЬНОЙ ОБРАЗОВАТЕЛЬНОЙ ОРГАНИЗАЦИИ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766800" y="4748040"/>
            <a:ext cx="8377200" cy="19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деление дошкольного образования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подаватель Жаринова Е.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Подзаголовок 2"/>
          <p:cNvSpPr/>
          <p:nvPr/>
        </p:nvSpPr>
        <p:spPr>
          <a:xfrm>
            <a:off x="108000" y="6048360"/>
            <a:ext cx="194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73320" cy="2109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1960" y="1325160"/>
            <a:ext cx="8153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ультурные практики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яет, как ребенок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бъектом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го отношения, восприятия, принятия или непринятия чего-либо в свое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стро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т задач взрослого, 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жизнедеятельности ребенк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ребенок – полноправный субъект деятельности, взаимодействия и общения.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– «не ведомый, не воспитываемый, не обучающийся» (эти понятия предполагают пассивного ребенка, которым можно манипулироват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754280"/>
            <a:ext cx="81532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бодное 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аправление в педагогической теории и практике, рассматривающее воспитание как помощь природе ребенка, естественно развивающегося в процессе освоения окружающего мира и свободно самоопределяющегося в 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едагогическая энциклопед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446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44600" cy="2019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4396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ы свободного вос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вноправие взрослого 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нятие ребенка как субъекта образовательной и культур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ключение давления на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важение и принятие желаний ребенка, его «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оритет выбора ребенка и его интереса, а не интереса взросл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едагогическая поддержка его инициати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едоставление ребенку максимальных для его возраста полномочий в разных формах жизнедеятельности и само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90600" cy="180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716120"/>
            <a:ext cx="81532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 культурным практикам можно отнести исследовательские, коммуникативные, художественные, организационные, образовательные, проект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ы и формы действий ребен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го возраста.  В этих практиках-пробах он сам овладевает интересной для него информацией в соответствии с собственными мотивами и индивидуальной программой познавательной и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тождественны видам деятельност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формируют индивидуальны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81400" cy="21542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культурных практик в образовательном процессе идет по двум направлени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на основе инициатив сами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, инициируемые, организуемые и направляемые взросл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6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63600" cy="1936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09120" y="2153880"/>
            <a:ext cx="3886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амостоятельная детская деятельность, которая протекает как индивидуально, так и в процессе сотрудничества со сверстни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ая активность направлена на самостоятельное познание окружающего, поиски ответов на возникшие вопросы, индивидуальную и совместную со сверстниками 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00240" y="2115720"/>
            <a:ext cx="38862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авляются воспитателем на развитие самостоятельной  активности детей, основываются на поддержке детских инициатив и интере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культурных практик направлен на обогащение культурного опыта, самостоятельности поведения и деятельности, позитивной социализации и индивидуализации дошколь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265400"/>
            <a:ext cx="3886200" cy="9014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ные практики на основе инициатив сам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0240" y="1290600"/>
            <a:ext cx="3886200" cy="8143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ные практики, инициируемые, организуемые и направляемые взросл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919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227240"/>
            <a:ext cx="81532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проектировании культурных практ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у важно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колько инициируемые культурные практики позволяют решать поставленные образовательные зада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деятельностные умения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творческие умения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способы общения и сотрудничества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чувства и эмоции развиваются у дет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ся ли самостоятельность и инициативность у дет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36680" cy="1765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итературе выделены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культурных практи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вободные практики детской деятельност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гра, продуктивная, познавательно-исследовательская деятельность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актики культурной идентификации и взаимодействия ребенка  с окружающим социум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знакомление с окружающим, продуктивная деятельность, игры и др.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актики игро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южетно-ролевые игры, дидактические игры, подвижные игры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81240" cy="17827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741320"/>
            <a:ext cx="815328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ммуникативные практи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(чтение художественной литературы, развитие речи, игры-драматизации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здорового образа жиз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изическое развитие, воспитание культурно-гигиенических навыков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формирования поведения и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южетно-ролевые игры, бытовой труд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познания мира и самопозн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знавательно-исследовательская, продуктивная деятельность, нравственно-патриотическое воспитание, самопознание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927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09520" y="-360"/>
            <a:ext cx="675612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 Cyr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Соотношение видов культурных практик, </a:t>
            </a:r>
            <a:r>
              <a:rPr b="1" lang="en-US" sz="2000" spc="-1" strike="noStrike">
                <a:solidFill>
                  <a:srgbClr val="000000"/>
                </a:solidFill>
                <a:latin typeface="Optima Cyr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универсальных культурных умений и целевых ориентиров на этапе завершения дошкольного образования</a:t>
            </a:r>
            <a:endParaRPr b="0" lang="en-US" sz="2000" spc="-1" strike="noStrike">
              <a:solidFill>
                <a:srgbClr val="ffffff"/>
              </a:solidFill>
              <a:latin typeface="Optima Cyr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44360" y="2095560"/>
          <a:ext cx="8736120" cy="4470480"/>
        </p:xfrm>
        <a:graphic>
          <a:graphicData uri="http://schemas.openxmlformats.org/drawingml/2006/table">
            <a:tbl>
              <a:tblPr/>
              <a:tblGrid>
                <a:gridCol w="1720800"/>
                <a:gridCol w="2881440"/>
                <a:gridCol w="413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ультурных прак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версальные культурн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ые ориентиры на этапе завершения дошкольного образования (п. 4.6 ФГОС Д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1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бодные практики детск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ет основными культурными способами деятельности; самостоятельно действует (в повседневной жизни, в различных видах детской деятельности); выражает индивидуальное предпочтение видам деятельности, партне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енок овладевает основными культурными способами деятельности, проявляет инициативу и самостоятельность в разных видах деятельности – игре, общении, познавательно-исследовательской деятельности,  конструировании и др.; способен выбирать себе род занятий, участников по совмест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508120" cy="2354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69840" y="-360"/>
            <a:ext cx="599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979640"/>
            <a:ext cx="81532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иссия дошкольного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охранение уникальности и самоценности дошкольного детства как отправной точки включения и дальнейшего овладения разнообразными формами жизнедеятельности в быстро изменяющемся мире, содействие развитию различных форм активности ребенка, передача общественных норм и ценностей, способствующих позитивной социализации в поликультурном многонациональном обще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ая основная образовате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839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09680" y="190080"/>
            <a:ext cx="65563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Соотношение видов культурных практик, универсальных культурных умений и целевых ориентиров на этапе завершения дошкольного образования</a:t>
            </a:r>
            <a:endParaRPr b="0" lang="en-US" sz="2000" spc="-1" strike="noStrike">
              <a:solidFill>
                <a:srgbClr val="ffffff"/>
              </a:solidFill>
              <a:latin typeface="Optima Cyr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3920" y="2089080"/>
          <a:ext cx="8656560" cy="4475160"/>
        </p:xfrm>
        <a:graphic>
          <a:graphicData uri="http://schemas.openxmlformats.org/drawingml/2006/table">
            <a:tbl>
              <a:tblPr/>
              <a:tblGrid>
                <a:gridCol w="1704960"/>
                <a:gridCol w="2855880"/>
                <a:gridCol w="4095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ультурных прак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версальные культурн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ые ориентиры на этапе завершения дошкольного образования (п. 4.6 ФГОС Д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и игрового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южетно-ролевой игре разыгрывает события из личной жизни, дополняя и приукрашивая действительность желаемым; согласовывает свои действия с действиями партнеров по игре; следует различным  правилам и социальным норм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ёнок обладает развитым воображением, которое реализуется в разных видах деятельности, и прежде всего в игре; ребенок владеет разными формами и видами игры, различает условную и реальную ситуации, умеет подчиняться разным  правилам и социальным норм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90600" cy="1882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98440" y="1131480"/>
            <a:ext cx="842976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рактика ребенка становится культурной,  когда она создает возможности для его повседневной активности, личной инициативы, осмысления повседневного опыта и создания собственных творческих продуктов деятельности на основе осваиваемых культурных норм (где культура – сущностное качество любой формы деятельности)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рылова Н.Б. Развитие культурологического подхода в современной педагогик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81240" cy="17478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62006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67840" y="645840"/>
            <a:ext cx="84978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каз Министерства образования и наук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Минобрнауки России) от 17 октября 2013 г. N 1155 г. Москва "О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ении федерального государственного образователь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та дошкольного образован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. Примерная основная образовательная программа дошкольного образования (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ена решением федерального учебно-методического объединения по общему образованию, протокол от 20 мая 2015 г. № 2/1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. Бабаева Т.И., Солнцева О.В. Проектирование культурных практик дошкольников в образовательном процессе детского сада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. Крылова Н.Б. Свободное воспитание в семье и школе: культурные практики детей. – М.: Сентябрь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рылова Н.Б. Культурология образования/ Н.Б. Крылова. – М.: Народное образование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819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орепанова М.В. Культурные практики как основа проектирования образовательной деятельности до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Лыкова И.А., Протасова Е.Ю. Культурные практики в детском саду: современный подход и возможные трактов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Родина Н.М. Культурные практики в образовательном процессе детского са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Теплова А.Б. Культурные практики дет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Щетинина А.М. Условия овладения ребенком позиции субъекта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4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4468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778040"/>
            <a:ext cx="8153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риобщения к культурным образцам человеческой деятельности (культуре жизни, познанию мира, речи, коммуникации, и прочим), приобретения культурных умений при взаимодействии со взрослыми и в самостоятельной деятельности в предметной сре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ывается процессом овладения культурными практи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ая основная образовате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35320" cy="2173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Поддержка разнообразия детства, сохранение его уникальности и самоценности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– один из основных принципов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тандар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Детство понимается как период жизни значимый без всяких условий, значимый «тем, что происходит с ребенком сейчас, а не тем, что этот период есть период подготовки к следующему периоду» 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(п.1.2 ФГОС Д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63680" cy="21906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803240"/>
            <a:ext cx="81532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никальный характер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х культурных уме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является в самостоятельных действиях в виде собственных проб, поиска, выбора действий и поступков, манипулирования предметами, конструирования, продуктивной деятельности, творчества,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е культурные ум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готовность и способность ребенка действовать на основе принятия и освоения общезначимых (общечеловеческих) культурных образцов деятельности, поведения и отнош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Н.Б.Крыл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71600" cy="2127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816200"/>
            <a:ext cx="815328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 содержательном разделе Программы должны быть представлен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особенности образовательной деятельности разных видов и культурных практик;......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.2.11.2.ФГОС Д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2055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72260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 определению Н.Б.Крыловой, – это разнообразные, основанные на текущих и перспективных интересах ребенка виды самостоятельной деятельности, поведения, душевного самочувствия и складывающегося с первых дней  жизни уникального индивидуального жизненного опы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виды деятельности и поведения ребенок начинает практиковать как интересные ему и обеспечивающие самореализ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754280"/>
            <a:ext cx="81532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(от лат. cultura - возделывание - воспитание, образование, развитие, почитание), исторически определенный уровень развития общества, творческих сил и способностей человека, выраженный в типах и формах организации жизни и деятельности людей, в их взаимоотношениях, а также в создаваемых ими материальных и духовных ценност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Большой Энциклопедический словар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27320" cy="2027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790280"/>
            <a:ext cx="81532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ультура проявляется глубинно (ее внешние формы вторичны). Культура  непосредственно не транслируется, не передается  от учителя к ученику как некая установка… Культура вызревает как собственный уникальный образ мыслей, поступков и действий взрослого и ребенка, как особенность их внутренней и внешней жизн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рылова Н.Б. Культурология образования/ Н.Б. Крылова. – М.: Народное образование, 2000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иганова Елена Анатольевна</dc:creator>
  <dc:description/>
  <dc:language>en-US</dc:language>
  <cp:lastModifiedBy>XTreme.ws</cp:lastModifiedBy>
  <dcterms:modified xsi:type="dcterms:W3CDTF">2017-10-05T02:10:31Z</dcterms:modified>
  <cp:revision>484</cp:revision>
  <dc:subject/>
  <dc:title>Слайд 1</dc:title>
</cp:coreProperties>
</file>