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6576-3F31-4A15-8135-D47E7C531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2553-60F9-4D3C-A3AE-F4CC4B6AA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3B0F-E86D-4EE9-8973-A37B7AB06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D0F5-5FC8-47BA-9299-296926AA4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BBA9-39D9-4DFE-8D6D-78A4B6854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0862-19D5-44CD-84AE-A0C3E7126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993C-906D-4DF8-A824-F8B370F6D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FD9B-989A-4C54-8CB9-FF22DC561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0B9B-E593-45E8-99A6-464BAB5B8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24DE-FB90-459C-A846-F898D5A7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F758-4C53-4143-B6D1-2D2007C9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3C04-4B13-4CDE-9919-524BFC12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279E6-B187-41DF-89DC-1EF924A797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2133720"/>
            <a:ext cx="7632720" cy="20872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Подготовка к ВПР по обществознанию 6 клас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250920" y="115920"/>
            <a:ext cx="871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ние 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правлено на анализ социальной ситуации, описанной в форме цитаты известного писателя, ученого, общественного деятеля и т.п. Задание включает в себя систему вопросов, проверяющих знание/понимание социальных свойств человека, особенностей его взаимодействия с другими людьми, а также умение объяснять элементарные взаимосвязи изученных социальных объектов. Обучающийся должен сначала объяснить значения отдельных слов, словосочетаний, а затем – смысл всего высказыв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270000" y="3541680"/>
            <a:ext cx="8675640" cy="155088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2"/>
          <p:cNvSpPr/>
          <p:nvPr/>
        </p:nvSpPr>
        <p:spPr>
          <a:xfrm>
            <a:off x="927000" y="5373720"/>
            <a:ext cx="791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Дайте своё объяснение смысла высказывания. Ответ. 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Как Вы думаете, почему важно, чтобы каждый человек был добрым? Ответ. 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179280" y="260280"/>
            <a:ext cx="8713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ние–задача 6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ребует анализа представленной информации. При выполнении этого задания проверяется умение применять обществоведческие знания в процессе решения типичных задач в области социальных отношений, адекватных возрасту обучающих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96920" y="3433680"/>
            <a:ext cx="883440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236520" y="26028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ние 7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полагают анализ визуального изображения социальных объектов, социальных ситуаций. Обучающийся должен осуществить поиск социальной информации, представленной в различных знаковых системах (фотоизображение) и выполнить задания, связанные с соответствующей фотографи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900000" y="1460520"/>
            <a:ext cx="6764400" cy="367200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2"/>
          <p:cNvSpPr/>
          <p:nvPr/>
        </p:nvSpPr>
        <p:spPr>
          <a:xfrm>
            <a:off x="1547640" y="5373720"/>
            <a:ext cx="639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имущество: _________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асность: _____________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1"/>
          <p:cNvSpPr/>
          <p:nvPr/>
        </p:nvSpPr>
        <p:spPr>
          <a:xfrm>
            <a:off x="266760" y="5157720"/>
            <a:ext cx="85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Чем, по Вашему мнению, следует руководствоваться тому, кто собирается оформить кредит на покупку товара? Ответ. 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266760" y="404640"/>
            <a:ext cx="833760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1"/>
          <p:cNvSpPr/>
          <p:nvPr/>
        </p:nvSpPr>
        <p:spPr>
          <a:xfrm>
            <a:off x="250920" y="260280"/>
            <a:ext cx="871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ние 8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о на проверку умения осознанно и произвольно строить речевое высказывание в письменной форме на заданную тему с использованием шести предложенных понят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черкне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что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1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сех вариантах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едполагает систему вопросов о виде деятельности (учеба, игра, труд, общение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8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оставление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раткого сообщения о нашей стране / регионе прожива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395280" y="2197080"/>
            <a:ext cx="857268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235080" y="1341360"/>
            <a:ext cx="871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черкнем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что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1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сех вариантах </a:t>
            </a: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едполагает систему вопросов о виде деятельности (учеба, игра, труд, общение)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8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оставление </a:t>
            </a: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раткого сообщения о нашей стране / регионе прожива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оугольник 2"/>
          <p:cNvSpPr/>
          <p:nvPr/>
        </p:nvSpPr>
        <p:spPr>
          <a:xfrm>
            <a:off x="179280" y="28440"/>
            <a:ext cx="8928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1 Челове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.1 Биологическое и социальное в человеке. Черты сходства и различий челове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 животног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.2 Основные возрастные периоды жизни человека. Отношения между поколения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обенности подросткового возрас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.3 Потребности и способности челове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.4 Понятие деятельности. Многообразие видов деятельности (игра, труд, учени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щение). Познание человеком мира и самого себя как вид деятель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2 Человек в малой групп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1 Человек в малой группе. Сверстники и друзь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2 Межличностные отношения. Личные и деловые отнош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3 Семья и семейные отношения. Роль семьи в жизни человека и общества. Семейны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нности и традиции. Досуг семь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4 Право человека на образование. Школьное образование. Права и обязан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учающего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 Общество, сферы общественной жизн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1 Общество как форма жизнедеятельности людей. Взаимосвязь общества и природ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2 Экономика – основа жизни общества. Виды экономической деятель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3 Социальная сфера современного общества. Социальные групп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4 Политическая сфера общества. Государство. Современное Российское государств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итуция Р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5 Место нашей Родины среди современных государств. Участие России 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народных организация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6 Культура. Духовные ценности. Традиционные ценности российского народ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0920" y="1336680"/>
            <a:ext cx="864216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179280" y="189000"/>
            <a:ext cx="885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ние 1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елено на проверку умения анализировать и оценивать собственную деятельность и ее результаты. Задание предполагает систему вопросов об одном из видов деятельности с опорой на личный социальный опыт обучающего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177840" y="1758960"/>
            <a:ext cx="8753400" cy="215892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2"/>
          <p:cNvSpPr/>
          <p:nvPr/>
        </p:nvSpPr>
        <p:spPr>
          <a:xfrm>
            <a:off x="971640" y="4149720"/>
            <a:ext cx="777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Составьте рассказ о своей учёбе, используя пла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) Какие школьные предметы вызывают у Вас интерес? Почему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) Какие предметы являются трудными для Вас? В чём Вы видите причины трудностей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вет. 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___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179280" y="189000"/>
            <a:ext cx="885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ние 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полагает выбор и запись нескольких правильны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ов из предложенного перечня ответов. Оно проверяет ум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ть понят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85840" y="1989000"/>
            <a:ext cx="857232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2"/>
          <p:cNvSpPr/>
          <p:nvPr/>
        </p:nvSpPr>
        <p:spPr>
          <a:xfrm>
            <a:off x="250920" y="189000"/>
            <a:ext cx="85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ние 3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ено на основе графического представления статистической информации. Оно нацелено на проверку умения осуществлять поиск социальной информации, представленной в различных знаковых системах (диаграмма) и </a:t>
            </a:r>
            <a:r>
              <a:rPr b="0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стоит из двух часте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вой част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емуся требуется проанализировать предложенную информацию, определить наиболее/наименее популярное мнение по заданной тематике и высказать предположение о причинах соответствующего выбора опрошенных.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торой част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я нужно дать собственный ответ 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вленный в ходе социологического исследования вопрос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670040" y="2496960"/>
            <a:ext cx="5732640" cy="41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179280" y="144360"/>
            <a:ext cx="8820360" cy="639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179280" y="5229360"/>
            <a:ext cx="885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Много или мало времени наибольшая доля опрошенных проводит в Интернете? Поясните свой ответ.  Ответ. 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акой ответ на вопрос Вы дали бы, если бы участвовали в опросе? Почему? Ответ. 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264960" y="404640"/>
            <a:ext cx="8685360" cy="464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154080" y="333360"/>
            <a:ext cx="8964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ние 4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агает установление соответствия между существенными чертами и признаками изученных социальных явлений и обществоведческими терминами и понятиями. Оно проверяет умение обучающихся классифицировать объекты, самостоятельно выбирать основания и критерии для классификац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54080" y="1692360"/>
            <a:ext cx="88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5T10:16:27Z</dcterms:created>
  <dc:creator>User</dc:creator>
  <dc:description/>
  <dc:language>en-US</dc:language>
  <cp:lastModifiedBy>User</cp:lastModifiedBy>
  <dcterms:modified xsi:type="dcterms:W3CDTF">2019-02-25T10:54:39Z</dcterms:modified>
  <cp:revision>4</cp:revision>
  <dc:subject/>
  <dc:title>Подготовка к ВПР по обществознанию 6 класс</dc:title>
</cp:coreProperties>
</file>