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465AA-2631-45D3-8999-EBD57DAD8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BA02A-8C21-49A8-B0B6-6A881BDF4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1991F-A345-4A30-ACCC-4C37AB934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EDFBF-EF9E-4480-B048-BFDBA2CAA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80ED4-B5FB-4F85-92BE-5393AAC72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69317-0784-4C36-AD48-01BE8DCA1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A33C2-625F-4E52-84D3-678D4223F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45D9F-4BA7-46F1-9507-48EE74875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0B320-C32A-4F65-ABBD-E9F599C65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C5625-7F0B-4DB0-87C2-55A3FD895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86582-B6BE-42E1-918E-73A5038A5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3DFB1-5678-4C83-B87A-EF6A3EDB1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1039B-21D9-4ED9-AE4F-E61D8F682EF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26920" y="2133720"/>
            <a:ext cx="7632720" cy="208728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Calibri"/>
              </a:rPr>
              <a:t>Подготовка к ВПР по обществознанию 6 класс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Прямоугольник 1"/>
          <p:cNvSpPr/>
          <p:nvPr/>
        </p:nvSpPr>
        <p:spPr>
          <a:xfrm>
            <a:off x="250920" y="115920"/>
            <a:ext cx="8713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дание 5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правлено на анализ социальной ситуации, описанной в форме цитаты известного писателя, ученого, общественного деятеля и т.п. Задание включает в себя систему вопросов, проверяющих знание/понимание социальных свойств человека, особенностей его взаимодействия с другими людьми, а также умение объяснять элементарные взаимосвязи изученных социальных объектов. Обучающийся должен сначала объяснить значения отдельных слов, словосочетаний, а затем – смысл всего высказыва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270000" y="3541680"/>
            <a:ext cx="8675640" cy="1550880"/>
          </a:xfrm>
          <a:prstGeom prst="rect">
            <a:avLst/>
          </a:prstGeom>
          <a:ln w="0">
            <a:noFill/>
          </a:ln>
        </p:spPr>
      </p:pic>
      <p:sp>
        <p:nvSpPr>
          <p:cNvPr id="58" name="Прямоугольник 2"/>
          <p:cNvSpPr/>
          <p:nvPr/>
        </p:nvSpPr>
        <p:spPr>
          <a:xfrm>
            <a:off x="927000" y="5373720"/>
            <a:ext cx="791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2. Дайте своё объяснение смысла высказывания. Ответ. _______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3. Как Вы думаете, почему важно, чтобы каждый человек был добрым? Ответ. _____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Прямоугольник 1"/>
          <p:cNvSpPr/>
          <p:nvPr/>
        </p:nvSpPr>
        <p:spPr>
          <a:xfrm>
            <a:off x="179280" y="260280"/>
            <a:ext cx="87138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дание–задача 6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ребует анализа представленной информации. При выполнении этого задания проверяется умение применять обществоведческие знания в процессе решения типичных задач в области социальных отношений, адекватных возрасту обучающихс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196920" y="3433680"/>
            <a:ext cx="8834400" cy="20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Прямоугольник 1"/>
          <p:cNvSpPr/>
          <p:nvPr/>
        </p:nvSpPr>
        <p:spPr>
          <a:xfrm>
            <a:off x="236520" y="260280"/>
            <a:ext cx="871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дание 7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едполагают анализ визуального изображения социальных объектов, социальных ситуаций. Обучающийся должен осуществить поиск социальной информации, представленной в различных знаковых системах (фотоизображение) и выполнить задания, связанные с соответствующей фотографие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900000" y="1460520"/>
            <a:ext cx="6764400" cy="3672000"/>
          </a:xfrm>
          <a:prstGeom prst="rect">
            <a:avLst/>
          </a:prstGeom>
          <a:ln w="0">
            <a:noFill/>
          </a:ln>
        </p:spPr>
      </p:pic>
      <p:sp>
        <p:nvSpPr>
          <p:cNvPr id="63" name="Прямоугольник 2"/>
          <p:cNvSpPr/>
          <p:nvPr/>
        </p:nvSpPr>
        <p:spPr>
          <a:xfrm>
            <a:off x="1547640" y="5373720"/>
            <a:ext cx="639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еимущество: _________________________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пасность: _____________________________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Прямоугольник 1"/>
          <p:cNvSpPr/>
          <p:nvPr/>
        </p:nvSpPr>
        <p:spPr>
          <a:xfrm>
            <a:off x="266760" y="5157720"/>
            <a:ext cx="856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2. Чем, по Вашему мнению, следует руководствоваться тому, кто собирается оформить кредит на покупку товара? Ответ. 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266760" y="404640"/>
            <a:ext cx="8337600" cy="43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Прямоугольник 1"/>
          <p:cNvSpPr/>
          <p:nvPr/>
        </p:nvSpPr>
        <p:spPr>
          <a:xfrm>
            <a:off x="250920" y="260280"/>
            <a:ext cx="8713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дание 8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авлено на проверку умения осознанно и произвольно строить речевое высказывание в письменной форме на заданную тему с использованием шести предложенных поняти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дчеркнем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что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ние 1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 всех вариантах </a:t>
            </a:r>
            <a:r>
              <a:rPr b="0" i="1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едполагает систему вопросов о виде деятельности (учеба, игра, труд, общение)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а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ние 8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составление </a:t>
            </a:r>
            <a:r>
              <a:rPr b="0" i="1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краткого сообщения о нашей стране / регионе проживани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395280" y="2197080"/>
            <a:ext cx="8572680" cy="252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Прямоугольник 1"/>
          <p:cNvSpPr/>
          <p:nvPr/>
        </p:nvSpPr>
        <p:spPr>
          <a:xfrm>
            <a:off x="235080" y="1341360"/>
            <a:ext cx="8712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дчеркнем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что </a:t>
            </a:r>
            <a:r>
              <a:rPr b="0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ние 1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 всех вариантах </a:t>
            </a:r>
            <a:r>
              <a:rPr b="0" i="1" lang="ru-RU" sz="3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едполагает систему вопросов о виде деятельности (учеба, игра, труд, общение)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а </a:t>
            </a:r>
            <a:r>
              <a:rPr b="0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ние 8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составление </a:t>
            </a:r>
            <a:r>
              <a:rPr b="0" i="1" lang="ru-RU" sz="3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краткого сообщения о нашей стране / регионе проживания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Прямоугольник 2"/>
          <p:cNvSpPr/>
          <p:nvPr/>
        </p:nvSpPr>
        <p:spPr>
          <a:xfrm>
            <a:off x="179280" y="28440"/>
            <a:ext cx="892836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1 Человек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.1 Биологическое и социальное в человеке. Черты сходства и различий челове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 животног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.2 Основные возрастные периоды жизни человека. Отношения между поколениям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собенности подросткового возраст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.3 Потребности и способности челове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.4 Понятие деятельности. Многообразие видов деятельности (игра, труд, учение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бщение). Познание человеком мира и самого себя как вид деятельност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2 Человек в малой групп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.1 Человек в малой группе. Сверстники и друзь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.2 Межличностные отношения. Личные и деловые отношен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.3 Семья и семейные отношения. Роль семьи в жизни человека и общества. Семейны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ценности и традиции. Досуг семь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.4 Право человека на образование. Школьное образование. Права и обязанност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бучающегос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3 Общество, сферы общественной жизн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1 Общество как форма жизнедеятельности людей. Взаимосвязь общества и природ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2 Экономика – основа жизни общества. Виды экономической деятельност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3 Социальная сфера современного общества. Социальные групп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4 Политическая сфера общества. Государство. Современное Российское государство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ституция РФ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5 Место нашей Родины среди современных государств. Участие России 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дународных организациях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6 Культура. Духовные ценности. Традиционные ценности российского народ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250920" y="1336680"/>
            <a:ext cx="8642160" cy="322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1"/>
          <p:cNvSpPr/>
          <p:nvPr/>
        </p:nvSpPr>
        <p:spPr>
          <a:xfrm>
            <a:off x="179280" y="189000"/>
            <a:ext cx="8856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дание 1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целено на проверку умения анализировать и оценивать собственную деятельность и ее результаты. Задание предполагает систему вопросов об одном из видов деятельности с опорой на личный социальный опыт обучающегос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177840" y="1758960"/>
            <a:ext cx="8753400" cy="2158920"/>
          </a:xfrm>
          <a:prstGeom prst="rect">
            <a:avLst/>
          </a:prstGeom>
          <a:ln w="0">
            <a:noFill/>
          </a:ln>
        </p:spPr>
      </p:pic>
      <p:sp>
        <p:nvSpPr>
          <p:cNvPr id="46" name="Прямоугольник 2"/>
          <p:cNvSpPr/>
          <p:nvPr/>
        </p:nvSpPr>
        <p:spPr>
          <a:xfrm>
            <a:off x="971640" y="4149720"/>
            <a:ext cx="7777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2. Составьте рассказ о своей учёбе, используя план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) Какие школьные предметы вызывают у Вас интерес? Почему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2) Какие предметы являются трудными для Вас? В чём Вы видите причины трудностей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твет. ________________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______________________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"/>
          <p:cNvSpPr/>
          <p:nvPr/>
        </p:nvSpPr>
        <p:spPr>
          <a:xfrm>
            <a:off x="179280" y="189000"/>
            <a:ext cx="8856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дание 2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едполагает выбор и запись нескольких правильны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ов из предложенного перечня ответов. Оно проверяет умен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ять понят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285840" y="1989000"/>
            <a:ext cx="8572320" cy="28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Прямоугольник 2"/>
          <p:cNvSpPr/>
          <p:nvPr/>
        </p:nvSpPr>
        <p:spPr>
          <a:xfrm>
            <a:off x="250920" y="189000"/>
            <a:ext cx="8569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дание 3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роено на основе графического представления статистической информации. Оно нацелено на проверку умения осуществлять поиск социальной информации, представленной в различных знаковых системах (диаграмма) и </a:t>
            </a:r>
            <a:r>
              <a:rPr b="0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остоит из двух частей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ервой части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чающемуся требуется проанализировать предложенную информацию, определить наиболее/наименее популярное мнение по заданной тематике и высказать предположение о причинах соответствующего выбора опрошенных.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 второй части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ния нужно дать собственный ответ н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авленный в ходе социологического исследования вопрос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1670040" y="2496960"/>
            <a:ext cx="5732640" cy="415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179280" y="144360"/>
            <a:ext cx="8820360" cy="639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Прямоугольник 1"/>
          <p:cNvSpPr/>
          <p:nvPr/>
        </p:nvSpPr>
        <p:spPr>
          <a:xfrm>
            <a:off x="179280" y="5229360"/>
            <a:ext cx="885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Много или мало времени наибольшая доля опрошенных проводит в Интернете? Поясните свой ответ.  Ответ. _______________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Какой ответ на вопрос Вы дали бы, если бы участвовали в опросе? Почему? Ответ. ________________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264960" y="404640"/>
            <a:ext cx="8685360" cy="464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"/>
          <p:cNvSpPr/>
          <p:nvPr/>
        </p:nvSpPr>
        <p:spPr>
          <a:xfrm>
            <a:off x="154080" y="333360"/>
            <a:ext cx="8964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дание 4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полагает установление соответствия между существенными чертами и признаками изученных социальных явлений и обществоведческими терминами и понятиями. Оно проверяет умение обучающихся классифицировать объекты, самостоятельно выбирать основания и критерии для классификаци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154080" y="1692360"/>
            <a:ext cx="881064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5T10:16:27Z</dcterms:created>
  <dc:creator>User</dc:creator>
  <dc:description/>
  <dc:language>en-US</dc:language>
  <cp:lastModifiedBy>User</cp:lastModifiedBy>
  <dcterms:modified xsi:type="dcterms:W3CDTF">2019-02-25T10:54:39Z</dcterms:modified>
  <cp:revision>4</cp:revision>
  <dc:subject/>
  <dc:title>Подготовка к ВПР по обществознанию 6 класс</dc:title>
</cp:coreProperties>
</file>