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0F4D-5611-4A9C-82AA-CF590780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8112-796F-46F8-919F-94C85C02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21A6-82DE-498C-A347-BAFE18A3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5E21-1202-440B-B1F2-51CB9978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0A4F-827A-4C3F-BFC5-0689DA85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B0D1-722A-4800-BFD7-97457020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5C6A-EC68-42C4-8C37-A952C7B3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2596-0E11-4F0E-8A09-1DA94ABD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3971-1DAE-4127-9D1E-FEFEC7D5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5DB9-FE8B-4238-84CC-D50086FD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3172-3745-48BC-A912-9162FFEB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EC42-2AA0-4B20-8332-21B7F7D4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CC1B-799D-46D7-B6D4-6288C62A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1C48-3392-4DBD-9D40-CD585A5E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B308-F39E-45E6-9648-D3D74E7B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2683-B44A-4AE1-8997-7B32C1E6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AF5B-5C42-4F65-8E07-0A536AC3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EACC-876D-4C3E-B436-206DE06F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72D-392F-4E5F-A6D4-765DD559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17A-EEDF-42E0-8EDE-F656F8E0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FE35-1D7B-4C66-BF5E-50013BFC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7133-6516-4979-BBB9-CA421793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65CA-269B-4CBD-9715-B1D94B6C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3231-383B-403D-8120-6AF8EA15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84D7-CA05-460B-9517-6DD77365FF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C9D7-8A8C-4B72-ADB6-4DCEE5F2EC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fotki.yandex.ru/users/akyla82/view/22328?page=0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571680" y="1428840"/>
            <a:ext cx="810072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Arial"/>
                <a:ea typeface="Arial"/>
              </a:rPr>
              <a:t>Исследовательский проект.</a:t>
            </a:r>
            <a:br>
              <a:rPr sz="2400"/>
            </a:br>
            <a:r>
              <a:rPr b="1" lang="ru-RU" sz="2800" spc="-1" strike="noStrike">
                <a:solidFill>
                  <a:srgbClr val="0000ff"/>
                </a:solidFill>
                <a:latin typeface="Cambria"/>
              </a:rPr>
              <a:t>«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Сказки народов ханты.Создание творческой работы по любимой сказке </a:t>
            </a:r>
            <a:r>
              <a:rPr b="1" lang="ru-RU" sz="2800" spc="-1" strike="noStrike">
                <a:solidFill>
                  <a:srgbClr val="0000ff"/>
                </a:solidFill>
                <a:latin typeface="Cambri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886200" y="3857760"/>
            <a:ext cx="52578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f497d"/>
                </a:solidFill>
                <a:uFillTx/>
                <a:latin typeface="Cambria"/>
              </a:rPr>
              <a:t>Выполнила</a:t>
            </a:r>
            <a:r>
              <a:rPr b="0" lang="ru-RU" sz="18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: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Калина Лида, ученица 1 в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f497d"/>
                </a:solidFill>
                <a:uFillTx/>
                <a:latin typeface="Cambria"/>
              </a:rPr>
              <a:t>Руководитель: </a:t>
            </a:r>
            <a:r>
              <a:rPr b="1" lang="ru-RU" sz="1800" spc="-1" strike="noStrike" u="sng">
                <a:solidFill>
                  <a:srgbClr val="1f497d"/>
                </a:solidFill>
                <a:uFillTx/>
                <a:latin typeface="Cambria"/>
              </a:rPr>
              <a:t>Ягудина Нажия Гафуановна учитель начальных классов</a:t>
            </a:r>
            <a:r>
              <a:rPr b="1" lang="ru-RU" sz="1800" spc="-1" strike="noStrike">
                <a:solidFill>
                  <a:srgbClr val="1f497d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332000" y="260280"/>
            <a:ext cx="6400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050920" y="6165720"/>
            <a:ext cx="525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348000" y="6237360"/>
            <a:ext cx="30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omic Sans MS"/>
              </a:rPr>
              <a:t>Излучинск – 201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50920" y="18900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Муниципальное бюджетное общеобразовательное  учреждение  «Излучинская общеобразовательная средняя школа  с углубленным изучением отдельных предметов №1», п.г.т.Излучи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8" descr="ПРОЕКТНАЯ РАБОТА «В гостях у хантыйской сказки» Автор: Касимова Ирина, учениц..."/>
          <p:cNvPicPr/>
          <p:nvPr/>
        </p:nvPicPr>
        <p:blipFill>
          <a:blip r:embed="rId1"/>
          <a:srcRect l="10470" t="48338" r="51723" b="0"/>
          <a:stretch/>
        </p:blipFill>
        <p:spPr>
          <a:xfrm>
            <a:off x="500040" y="3214800"/>
            <a:ext cx="3000240" cy="2928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4500720" y="260280"/>
            <a:ext cx="43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omic Sans MS"/>
              </a:rPr>
              <a:t>Мансийская народная сказка «Берестяной нос»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072040" y="1571760"/>
            <a:ext cx="36432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omic Sans MS"/>
              </a:rPr>
              <a:t>Смекалка старика, позволила ему обхитрить лесных чудищ и вернуться домой с добыч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>
            <a:lum contrast="30000"/>
          </a:blip>
          <a:srcRect l="34321" t="17094" r="11765" b="25204"/>
          <a:stretch/>
        </p:blipFill>
        <p:spPr>
          <a:xfrm>
            <a:off x="4786200" y="3929040"/>
            <a:ext cx="3971880" cy="23511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29" name="Прямоугольник 4"/>
          <p:cNvSpPr/>
          <p:nvPr/>
        </p:nvSpPr>
        <p:spPr>
          <a:xfrm>
            <a:off x="357120" y="285768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omic Sans MS"/>
              </a:rPr>
              <a:t>Хантыйская народная сказка «Хочу не хочу»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2">
            <a:lum contrast="36000"/>
          </a:blip>
          <a:srcRect l="26494" t="18507" r="0" b="15950"/>
          <a:stretch/>
        </p:blipFill>
        <p:spPr>
          <a:xfrm>
            <a:off x="500040" y="285840"/>
            <a:ext cx="3929040" cy="2286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31" name="Прямоугольник 7"/>
          <p:cNvSpPr/>
          <p:nvPr/>
        </p:nvSpPr>
        <p:spPr>
          <a:xfrm>
            <a:off x="500040" y="4143240"/>
            <a:ext cx="3857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omic Sans MS"/>
              </a:rPr>
              <a:t>Каждый должен делать ту работу, которую он умеет делать лучше всего, а заниматься «не своим делом» опасно для жизни и здоровья</a:t>
            </a:r>
            <a:r>
              <a:rPr b="1" lang="ru-RU" sz="1800" spc="-1" strike="noStrike">
                <a:solidFill>
                  <a:srgbClr val="1f497d"/>
                </a:solidFill>
                <a:latin typeface="Comic Sans MS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omic Sans MS"/>
              </a:rPr>
              <a:t>Выводы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696276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казки коренных народов учат нас: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marL="3121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милости ко всему живому;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marL="3121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брать у природы лишь самое необходимое;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marL="3121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уважать старших и  почитать заветы 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marL="3121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редков; 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marL="3121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трудиться в поте лица;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marL="3121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не отступать перед трудностями;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marL="3121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не  совершать дурных поступков.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marL="3121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34" name="Рисунок 3" descr="02327202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961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2" descr=""/>
          <p:cNvPicPr/>
          <p:nvPr/>
        </p:nvPicPr>
        <p:blipFill>
          <a:blip r:embed="rId1"/>
          <a:stretch/>
        </p:blipFill>
        <p:spPr>
          <a:xfrm>
            <a:off x="6143760" y="285840"/>
            <a:ext cx="2506680" cy="2187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6840" y="1600200"/>
            <a:ext cx="56149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Arial"/>
                <a:ea typeface="Arial"/>
              </a:rPr>
              <a:t>Хантыйские  сказки посвящены  самым различным событиям.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Arial"/>
                <a:ea typeface="Arial"/>
              </a:rPr>
              <a:t>В них отражена жизнь народа с ее радостями и горестями, мудростью и оплошностями, показано умение жить в согласии с природой.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68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Cambria"/>
              </a:rPr>
              <a:t>Особенности сказок народов ханты и манси.</a:t>
            </a:r>
            <a:br>
              <a:rPr sz="3200"/>
            </a:b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Arial"/>
                <a:ea typeface="Arial"/>
              </a:rPr>
              <a:t>Читая хантыйские  сказки я узнала, что мой народ издревле занимался охотой, рыболовством, оленеводством. Детей с малых лет приучали  трудиться. Сыновья  с отцом ходили на промысел, дочери помогали маме выделывать шкуры, готовить пищу. Еще я узнала, что из шкур ханты делали практически все: украшали и утепляли жилище, шили одежду, обувь, даже нарты обделывались шкурой.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6840" y="356760"/>
            <a:ext cx="5972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Arial"/>
                <a:ea typeface="Arial"/>
              </a:rPr>
              <a:t>Ханты живут в гармонии с природой. Это было обусловлено их бытом и деятельностью: охотой, рыбалкой, оленеводством, сбором ягод, шишек. Поэтому особое значение в культуре этих народов приобретает взаимоотношения человека и природы.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6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omic Sans MS"/>
              </a:rPr>
              <a:t>Заключение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643040"/>
            <a:ext cx="83883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Все сказки народов учат людей «полезному»; в них опыт, мудрость многих поколений, а если еще внимательнее читать, то можно узнать больше: о культуре, традициях, быте этого народа.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43" name="Рисунок 3" descr="02327202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961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Cambria"/>
              </a:rPr>
              <a:t>Настоящая дружба.</a:t>
            </a:r>
            <a:br>
              <a:rPr sz="3200"/>
            </a:b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Cambria"/>
              </a:rPr>
              <a:t> </a:t>
            </a:r>
            <a:r>
              <a:rPr b="0" lang="ru-RU" sz="2400" spc="-1" strike="noStrike">
                <a:solidFill>
                  <a:srgbClr val="215968"/>
                </a:solidFill>
                <a:latin typeface="Cambria"/>
              </a:rPr>
              <a:t>          </a:t>
            </a:r>
            <a:r>
              <a:rPr b="0" lang="ru-RU" sz="2400" spc="-1" strike="noStrike">
                <a:solidFill>
                  <a:srgbClr val="215968"/>
                </a:solidFill>
                <a:latin typeface="Cambria"/>
              </a:rPr>
              <a:t>В одном лесу жили Белочка и Зайчик. Они  были друзьями Вместе играли то в прятки, то в догонялки. Им было так весело, что они забывали об осторожности.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marL="322200" indent="-32220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5968"/>
                </a:solidFill>
                <a:latin typeface="Cambria"/>
              </a:rPr>
              <a:t>      </a:t>
            </a:r>
            <a:r>
              <a:rPr b="0" lang="ru-RU" sz="2400" spc="-1" strike="noStrike">
                <a:solidFill>
                  <a:srgbClr val="215968"/>
                </a:solidFill>
                <a:latin typeface="Cambria"/>
              </a:rPr>
              <a:t>Однажды, когда Зайчик убегал от Белочки ,попал прямо  в лапы Лисы. Белочка, увидев ,что друг попал в беду, от отчаяния прыгнула Лисе на голову. От боли и неожиданности Лиса выпустила Зайчика. Его только и видели. Белочка прыгнула на сосну и стала бросать шишки в Лису. Лиса так испугалась, что перестала ходить в этот лес.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marL="322200" indent="-32220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5968"/>
                </a:solidFill>
                <a:latin typeface="Cambria"/>
              </a:rPr>
              <a:t>    </a:t>
            </a:r>
            <a:r>
              <a:rPr b="0" lang="ru-RU" sz="2400" spc="-1" strike="noStrike">
                <a:solidFill>
                  <a:srgbClr val="215968"/>
                </a:solidFill>
                <a:latin typeface="Cambria"/>
              </a:rPr>
              <a:t>А Белочка и Зайчик стали дружить еще крепче.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marL="322200" indent="-32220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5968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215968"/>
                </a:solidFill>
                <a:latin typeface="Cambria"/>
              </a:rPr>
              <a:t>Нужно быть честным, не бросать друзей в опасности 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marL="322200" indent="-32220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omic Sans MS"/>
              </a:rPr>
              <a:t>Список литературы: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5968"/>
                </a:solidFill>
                <a:latin typeface="Arial"/>
                <a:ea typeface="Arial"/>
              </a:rPr>
              <a:t>1.</a:t>
            </a:r>
            <a:r>
              <a:rPr b="0" lang="en-US" sz="1600" spc="-1" strike="noStrike">
                <a:solidFill>
                  <a:srgbClr val="215968"/>
                </a:solidFill>
                <a:latin typeface="Arial"/>
                <a:ea typeface="Arial"/>
              </a:rPr>
              <a:t>C</a:t>
            </a:r>
            <a:r>
              <a:rPr b="0" lang="ru-RU" sz="1600" spc="-1" strike="noStrike">
                <a:solidFill>
                  <a:srgbClr val="215968"/>
                </a:solidFill>
                <a:latin typeface="Arial"/>
                <a:ea typeface="Arial"/>
              </a:rPr>
              <a:t>оставитель  Е.В.Ковган, Н.Б.Кошкарева, В.Н.Соловар. Сказки народов ханты./Книга для чтения в младших и средних классах. ТОО «Алфавит».1995г.</a:t>
            </a:r>
            <a:endParaRPr b="0" lang="en-US" sz="16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5968"/>
                </a:solidFill>
                <a:latin typeface="Arial"/>
                <a:ea typeface="Arial"/>
              </a:rPr>
              <a:t>2.Составитель Е.Н.Самойлова.Сказки народов севера. ТОО  «Алфавит».1995г.</a:t>
            </a:r>
            <a:endParaRPr b="0" lang="en-US" sz="16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5968"/>
                </a:solidFill>
                <a:latin typeface="Arial"/>
                <a:ea typeface="Arial"/>
              </a:rPr>
              <a:t>3.А.М.Конькова.Сказки бабушки Аннэ. ГИСТЕЛ ДРУК, А-1031 Вена, Мюнцгассе 6,Австрия.1993г.</a:t>
            </a:r>
            <a:endParaRPr b="0" lang="en-US" sz="16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5968"/>
                </a:solidFill>
                <a:latin typeface="Arial"/>
                <a:ea typeface="Arial"/>
              </a:rPr>
              <a:t>4.М.Анисимова, А.Кузьмина. На священных берегах Ваха. Нижневатовск: районное издательство «Приобье».1999г.</a:t>
            </a:r>
            <a:endParaRPr b="0" lang="en-US" sz="16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5968"/>
                </a:solidFill>
                <a:latin typeface="Arial"/>
                <a:ea typeface="Arial"/>
              </a:rPr>
              <a:t>5.</a:t>
            </a:r>
            <a:r>
              <a:rPr b="0" lang="en-US" sz="1600" spc="-1" strike="noStrike">
                <a:solidFill>
                  <a:srgbClr val="215968"/>
                </a:solidFill>
                <a:latin typeface="Arial"/>
                <a:ea typeface="Arial"/>
              </a:rPr>
              <a:t>http:\\znaniya.com\task 84645487</a:t>
            </a:r>
            <a:endParaRPr b="0" lang="en-US" sz="16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5968"/>
                </a:solidFill>
                <a:latin typeface="Arial"/>
                <a:ea typeface="Arial"/>
              </a:rPr>
              <a:t>6/http://vospitatel.edu54.ru</a:t>
            </a:r>
            <a:endParaRPr b="0" lang="en-US" sz="16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7. http://fotki.yandex.ru/users/akyla82/view/22328?page=0</a:t>
            </a:r>
            <a:r>
              <a:rPr b="0" lang="ru-RU" sz="1600" spc="-1" strike="noStrike">
                <a:solidFill>
                  <a:srgbClr val="215968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0" y="620640"/>
            <a:ext cx="6418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omic Sans MS"/>
              </a:rPr>
              <a:t>Актуальность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8388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Я очень люблю слушать сказки. Они волшебные, красивые. В них много всего «полезного». На уроках мы исследовали русские народные сказки. Отвечали на вопросы: Чему учат сказки? Что можно узнать из сказок о жизни людей в старину. Однажды мне мама рассказала сказки хантов, которые ей рассказывала её бабушка. Они отличались от тех которые я привыкла слышать. И мне стало интересно: </a:t>
            </a:r>
            <a:endParaRPr b="0" lang="en-US" sz="2800" spc="-1" strike="noStrike">
              <a:solidFill>
                <a:srgbClr val="215968"/>
              </a:solidFill>
              <a:latin typeface="Cambr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-А как жили мои предки. Можно ли узнать об этом из наших сказок. </a:t>
            </a:r>
            <a:endParaRPr b="0" lang="en-US" sz="2800" spc="-1" strike="noStrike">
              <a:solidFill>
                <a:srgbClr val="215968"/>
              </a:solidFill>
              <a:latin typeface="Cambri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1" name="Рисунок 3" descr="02327202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961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714240"/>
            <a:ext cx="84852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f497d"/>
                </a:solidFill>
                <a:latin typeface="Comic Sans MS"/>
              </a:rPr>
              <a:t>Цель</a:t>
            </a:r>
            <a:r>
              <a:rPr b="0" lang="ru-RU" sz="2000" spc="-1" strike="noStrike">
                <a:solidFill>
                  <a:srgbClr val="1f497d"/>
                </a:solidFill>
                <a:latin typeface="Comic Sans MS"/>
              </a:rPr>
              <a:t>: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Исследовать сказку, как жанр, на основе уже полученных знаний. </a:t>
            </a:r>
            <a:br>
              <a:rPr sz="2000"/>
            </a:br>
            <a:br>
              <a:rPr sz="2900"/>
            </a:br>
            <a:endParaRPr b="0" lang="en-US" sz="20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9640" y="2214720"/>
            <a:ext cx="832176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omic Sans MS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ыявить,  чему нас учат сказки  народов ха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ыявить особенности хантыйских сказ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Исследовать какую информацию о жизни предков можно узнать из сказ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ридумать свою сказку о народах ха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3" descr="02327202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0080" y="764640"/>
            <a:ext cx="8143920" cy="155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f497d"/>
                </a:solidFill>
                <a:uFillTx/>
                <a:latin typeface="Comic Sans MS"/>
              </a:rPr>
              <a:t>Гипотеза:</a:t>
            </a:r>
            <a:r>
              <a:rPr b="0" lang="ru-RU" sz="32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з сказок можно извлекать жизненные уроки и информацию о жизни предков.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814068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omic Sans MS"/>
              </a:rPr>
              <a:t>Методы исследования: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зучение теоретической литературы;</a:t>
            </a:r>
            <a:endParaRPr b="0" lang="en-US" sz="2800" spc="-1" strike="noStrike">
              <a:solidFill>
                <a:srgbClr val="215968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чтение сказок</a:t>
            </a:r>
            <a:endParaRPr b="0" lang="en-US" sz="2800" spc="-1" strike="noStrike">
              <a:solidFill>
                <a:srgbClr val="215968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сравнение;</a:t>
            </a:r>
            <a:endParaRPr b="0" lang="en-US" sz="2800" spc="-1" strike="noStrike">
              <a:solidFill>
                <a:srgbClr val="215968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обобщение;</a:t>
            </a:r>
            <a:endParaRPr b="0" lang="en-US" sz="2800" spc="-1" strike="noStrike">
              <a:solidFill>
                <a:srgbClr val="215968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анализ.</a:t>
            </a:r>
            <a:endParaRPr b="0" lang="en-US" sz="2800" spc="-1" strike="noStrike">
              <a:solidFill>
                <a:srgbClr val="215968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7" name="Рисунок 3" descr="02327202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961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Учитель\Documents\Teaching Document\201603\Resim000005.jpg"/>
          <p:cNvPicPr/>
          <p:nvPr/>
        </p:nvPicPr>
        <p:blipFill>
          <a:blip r:embed="rId2"/>
          <a:stretch/>
        </p:blipFill>
        <p:spPr>
          <a:xfrm>
            <a:off x="5643720" y="3429000"/>
            <a:ext cx="2714400" cy="3071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omic Sans MS"/>
              </a:rPr>
              <a:t>Содержание: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2600" y="1213920"/>
            <a:ext cx="78166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Чему учат сказки?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Особенности хантыйских сказок.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Информация о жизни предков, извлеченная из сказок.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Выводы.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Заключение.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Список литературы.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01" name="Рисунок 3" descr="02327202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04" name="Рисунок 1" descr="C:\Users\Учитель\Documents\Teaching Document\201603\Resim000007.jpg"/>
          <p:cNvPicPr/>
          <p:nvPr/>
        </p:nvPicPr>
        <p:blipFill>
          <a:blip r:embed="rId1"/>
          <a:stretch/>
        </p:blipFill>
        <p:spPr>
          <a:xfrm>
            <a:off x="857160" y="3857760"/>
            <a:ext cx="2451240" cy="2714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Учитель\Documents\Teaching Document\201603\Resim000004.jpg"/>
          <p:cNvPicPr/>
          <p:nvPr/>
        </p:nvPicPr>
        <p:blipFill>
          <a:blip r:embed="rId2"/>
          <a:stretch/>
        </p:blipFill>
        <p:spPr>
          <a:xfrm>
            <a:off x="6357960" y="3786120"/>
            <a:ext cx="2185920" cy="2800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C:\Users\Учитель\Pictures\Ругин Р. Легенды и мифы народа ханты (дополненное и переизданное издание)_files\100x146-images-stories-ekrk-rar-elektronnaya_kniga_yamala-folklor_i_mifologiya-legends_and_mifs_narod_hants_2-1.jpg"/>
          <p:cNvPicPr/>
          <p:nvPr/>
        </p:nvPicPr>
        <p:blipFill>
          <a:blip r:embed="rId3"/>
          <a:stretch/>
        </p:blipFill>
        <p:spPr>
          <a:xfrm>
            <a:off x="3929040" y="3714840"/>
            <a:ext cx="1548000" cy="2409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C:\Users\Учитель\Pictures\Ругин Р. Легенды и мифы народа ханты (дополненное и переизданное издание)_files\kp.jpg"/>
          <p:cNvPicPr/>
          <p:nvPr/>
        </p:nvPicPr>
        <p:blipFill>
          <a:blip r:embed="rId4"/>
          <a:stretch/>
        </p:blipFill>
        <p:spPr>
          <a:xfrm>
            <a:off x="6143760" y="285840"/>
            <a:ext cx="2571480" cy="20001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Что такое сказка Сказка - это вымышленная история со счастливым концом и обяз..."/>
          <p:cNvPicPr/>
          <p:nvPr/>
        </p:nvPicPr>
        <p:blipFill>
          <a:blip r:embed="rId5"/>
          <a:srcRect l="37346" t="47712" r="3127" b="0"/>
          <a:stretch/>
        </p:blipFill>
        <p:spPr>
          <a:xfrm>
            <a:off x="1357200" y="928800"/>
            <a:ext cx="3629160" cy="23907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8"/>
          <p:cNvSpPr/>
          <p:nvPr/>
        </p:nvSpPr>
        <p:spPr>
          <a:xfrm>
            <a:off x="857160" y="228600"/>
            <a:ext cx="46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omic Sans MS"/>
              </a:rPr>
              <a:t>Чтение сказ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11" name="Picture 20" descr="C:\Users\Учитель\Desktop\проект\IMG_20150923_114558.jpg"/>
          <p:cNvPicPr/>
          <p:nvPr/>
        </p:nvPicPr>
        <p:blipFill>
          <a:blip r:embed="rId1"/>
          <a:stretch/>
        </p:blipFill>
        <p:spPr>
          <a:xfrm>
            <a:off x="357120" y="1000080"/>
            <a:ext cx="2571840" cy="3357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14" name="Picture 16" descr="G:\скан рисунков\002.jpg"/>
          <p:cNvPicPr/>
          <p:nvPr/>
        </p:nvPicPr>
        <p:blipFill>
          <a:blip r:embed="rId2"/>
          <a:stretch/>
        </p:blipFill>
        <p:spPr>
          <a:xfrm>
            <a:off x="6000840" y="214200"/>
            <a:ext cx="3000240" cy="2967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G:\скан рисунков\003.jpg"/>
          <p:cNvPicPr/>
          <p:nvPr/>
        </p:nvPicPr>
        <p:blipFill>
          <a:blip r:embed="rId3"/>
          <a:stretch/>
        </p:blipFill>
        <p:spPr>
          <a:xfrm>
            <a:off x="5357880" y="3429000"/>
            <a:ext cx="3786120" cy="3324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G:\скан рисунков\004.jpg"/>
          <p:cNvPicPr/>
          <p:nvPr/>
        </p:nvPicPr>
        <p:blipFill>
          <a:blip r:embed="rId4"/>
          <a:stretch/>
        </p:blipFill>
        <p:spPr>
          <a:xfrm>
            <a:off x="500040" y="4319640"/>
            <a:ext cx="4643640" cy="253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G:\скан рисунков\005.jpg"/>
          <p:cNvPicPr/>
          <p:nvPr/>
        </p:nvPicPr>
        <p:blipFill>
          <a:blip r:embed="rId5"/>
          <a:stretch/>
        </p:blipFill>
        <p:spPr>
          <a:xfrm>
            <a:off x="3143160" y="1000080"/>
            <a:ext cx="3000600" cy="3214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10920" y="1773360"/>
            <a:ext cx="799308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Arial"/>
                <a:ea typeface="Arial"/>
              </a:rPr>
              <a:t>Каждая сказка нас учит чему-то. Только надо присмотреться и прислушаться к ней. 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19" name="Рисунок 3" descr="02327202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4643280" y="857160"/>
            <a:ext cx="45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omic Sans MS"/>
              </a:rPr>
              <a:t>Хантыйская народная сказка «Морошка»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072040" y="200016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omic Sans MS"/>
              </a:rPr>
              <a:t>Непослушание и лень дочери привело ее к гибе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>
            <a:lum contrast="18000"/>
          </a:blip>
          <a:srcRect l="34321" t="19954" r="12737" b="22377"/>
          <a:stretch/>
        </p:blipFill>
        <p:spPr>
          <a:xfrm>
            <a:off x="642960" y="428760"/>
            <a:ext cx="3902040" cy="25714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23" name="Picture 6" descr=""/>
          <p:cNvPicPr/>
          <p:nvPr/>
        </p:nvPicPr>
        <p:blipFill>
          <a:blip r:embed="rId2">
            <a:lum contrast="24000"/>
          </a:blip>
          <a:srcRect l="0" t="15681" r="28439" b="28064"/>
          <a:stretch/>
        </p:blipFill>
        <p:spPr>
          <a:xfrm>
            <a:off x="5572080" y="3357720"/>
            <a:ext cx="3335400" cy="3286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24" name="Прямоугольник 7"/>
          <p:cNvSpPr/>
          <p:nvPr/>
        </p:nvSpPr>
        <p:spPr>
          <a:xfrm>
            <a:off x="357120" y="3105000"/>
            <a:ext cx="492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omic Sans MS"/>
              </a:rPr>
              <a:t>Хантыйская народная сказка «Золотой топор»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8"/>
          <p:cNvSpPr/>
          <p:nvPr/>
        </p:nvSpPr>
        <p:spPr>
          <a:xfrm>
            <a:off x="1214280" y="4398840"/>
            <a:ext cx="328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omic Sans MS"/>
              </a:rPr>
              <a:t>За свое трудолюбие и честность мужик  был вознагражд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9-02-25T14:24:21Z</dcterms:modified>
  <cp:revision>93</cp:revision>
  <dc:subject/>
  <dc:title>Слайд 1</dc:title>
</cp:coreProperties>
</file>