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9E9-3C00-44EF-BCC7-D04D68E3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E55-086E-47D4-803D-EECE01C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762-6619-4EB9-97B2-847BA0A7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700-2CD0-4731-9FA1-178EF268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A61-66DB-4A91-B6B5-824A1EBC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F8E5-85FD-42F7-88B5-13BC7BA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F82-96FB-4FCB-B7D2-DBF5261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2981-819E-4D06-A161-36115D15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8E90-380B-41E2-A416-40A5BA5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1F5-C907-4A5E-AF47-79DEAAE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9857-1972-4B68-9503-3FF2E34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6FA-7D47-4E24-875D-7EB63A96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5F8-18D4-4472-96AA-C970FE5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8A09-5F36-4FFC-8CD0-58CD545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A5F0-A78E-40BA-95DE-A4486084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5D0C-62AD-48B4-BC89-A30CC698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041-C099-4F23-A8F3-3BB74D7A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7FB-614B-468E-B7B1-06508B7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3CF-DC94-41A6-A8FE-235F5779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647-6EC4-45B6-8CFB-E935A71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B34-7B30-4EEB-B097-ADFCC11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250-AB8E-4567-BA43-7CC6F87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CCF-AF6A-4DA2-BD13-062C1B49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285-D1F2-48FE-85DC-3634FFA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3AE4-3460-4571-81FB-A6403F229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660-B26E-4A51-A222-00F5B4F39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otki.yandex.ru/users/akyla82/view/22328?page=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571680" y="1428840"/>
            <a:ext cx="81007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Исследовательский проект.</a:t>
            </a:r>
            <a:br>
              <a:rPr sz="2400"/>
            </a:b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казки народов ханты.Создание творческой работы по любимой сказке </a:t>
            </a: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886200" y="3857760"/>
            <a:ext cx="52578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Cambria"/>
              </a:rPr>
              <a:t>Выполнила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Калина Лида, ученица 1 в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Cambria"/>
              </a:rPr>
              <a:t>Руководитель: 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Cambria"/>
              </a:rPr>
              <a:t>Ягудина Нажия Гафуановна учитель начальных классов</a:t>
            </a:r>
            <a:r>
              <a:rPr b="1" lang="ru-RU" sz="18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332000" y="26028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050920" y="6165720"/>
            <a:ext cx="525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348000" y="623736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</a:rPr>
              <a:t>Излучинск –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50920" y="18900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униципальное бюджетное общеобразовательное  учреждение  «Излучинская общеобразовательная средняя школа  с углубленным изучением отдельных предметов №1», п.г.т.Излуч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ПРОЕКТНАЯ РАБОТА «В гостях у хантыйской сказки» Автор: Касимова Ирина, учениц..."/>
          <p:cNvPicPr/>
          <p:nvPr/>
        </p:nvPicPr>
        <p:blipFill>
          <a:blip r:embed="rId1"/>
          <a:srcRect l="10470" t="48338" r="51723" b="0"/>
          <a:stretch/>
        </p:blipFill>
        <p:spPr>
          <a:xfrm>
            <a:off x="500040" y="3214800"/>
            <a:ext cx="3000240" cy="292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500720" y="26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Мансийская народная сказка «Берестяной нос»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072040" y="1571760"/>
            <a:ext cx="36432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Смекалка старика, позволила ему обхитрить лесных чудищ и вернуться домой с добыч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>
            <a:lum contrast="30000"/>
          </a:blip>
          <a:srcRect l="34321" t="17094" r="11765" b="25204"/>
          <a:stretch/>
        </p:blipFill>
        <p:spPr>
          <a:xfrm>
            <a:off x="4786200" y="3929040"/>
            <a:ext cx="3971880" cy="2351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29" name="Прямоугольник 4"/>
          <p:cNvSpPr/>
          <p:nvPr/>
        </p:nvSpPr>
        <p:spPr>
          <a:xfrm>
            <a:off x="357120" y="28576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Хантыйская народная сказка «Хочу не хочу»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>
            <a:lum contrast="36000"/>
          </a:blip>
          <a:srcRect l="26494" t="18507" r="0" b="15950"/>
          <a:stretch/>
        </p:blipFill>
        <p:spPr>
          <a:xfrm>
            <a:off x="500040" y="285840"/>
            <a:ext cx="3929040" cy="2286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1" name="Прямоугольник 7"/>
          <p:cNvSpPr/>
          <p:nvPr/>
        </p:nvSpPr>
        <p:spPr>
          <a:xfrm>
            <a:off x="500040" y="4143240"/>
            <a:ext cx="385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Каждый должен делать ту работу, которую он умеет делать лучше всего, а заниматься «не своим делом» опасно для жизни и здоровья</a:t>
            </a:r>
            <a:r>
              <a:rPr b="1" lang="ru-RU" sz="1800" spc="-1" strike="noStrike">
                <a:solidFill>
                  <a:srgbClr val="1f497d"/>
                </a:solidFill>
                <a:latin typeface="Comic Sans MS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omic Sans MS"/>
              </a:rPr>
              <a:t>Выводы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69627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зки коренных народов учат нас: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илости ко всему живому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брать у природы лишь самое необходимое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важать старших и  почитать заветы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едков;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рудиться в поте лица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е отступать перед трудностями;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е  совершать дурных поступков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121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34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6143760" y="285840"/>
            <a:ext cx="2506680" cy="218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6840" y="1600200"/>
            <a:ext cx="56149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Хантыйские  сказки посвящены  самым различным событиям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В них отражена жизнь народа с ее радостями и горестями, мудростью и оплошностями, показано умение жить в согласии с природой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Особенности сказок народов ханты и манси.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Читая хантыйские  сказки я узнала, что мой народ издревле занимался охотой, рыболовством, оленеводством. Детей с малых лет приучали  трудиться. Сыновья  с отцом ходили на промысел, дочери помогали маме выделывать шкуры, готовить пищу. Еще я узнала, что из шкур ханты делали практически все: украшали и утепляли жилище, шили одежду, обувь, даже нарты обделывались шкурой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56760"/>
            <a:ext cx="5972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Arial"/>
              </a:rPr>
              <a:t>Ханты живут в гармонии с природой. Это было обусловлено их бытом и деятельностью: охотой, рыбалкой, оленеводством, сбором ягод, шишек. Поэтому особое значение в культуре этих народов приобретает взаимоотношения человека и природы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6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omic Sans MS"/>
              </a:rPr>
              <a:t>Заключение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643040"/>
            <a:ext cx="83883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се сказки народов учат людей «полезному»; в них опыт, мудрость многих поколений, а если еще внимательнее читать, то можно узнать больше: о культуре, традициях, быте этого народа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43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Настоящая дружба.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 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В одном лесу жили Белочка и Зайчик. Они  были друзьями Вместе играли то в прятки, то в догонялки. Им было так весело, что они забывали об осторожности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Однажды, когда Зайчик убегал от Белочки ,попал прямо  в лапы Лисы. Белочка, увидев ,что друг попал в беду, от отчаяния прыгнула Лисе на голову. От боли и неожиданности Лиса выпустила Зайчика. Его только и видели. Белочка прыгнула на сосну и стала бросать шишки в Лису. Лиса так испугалась, что перестала ходить в этот лес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А Белочка и Зайчик стали дружить еще крепче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215968"/>
                </a:solidFill>
                <a:latin typeface="Cambria"/>
              </a:rPr>
              <a:t>Нужно быть честным, не бросать друзей в опасности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22200" indent="-3222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omic Sans MS"/>
              </a:rPr>
              <a:t>Список литературы: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1.</a:t>
            </a:r>
            <a:r>
              <a:rPr b="0" lang="en-US" sz="1600" spc="-1" strike="noStrike">
                <a:solidFill>
                  <a:srgbClr val="215968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оставитель  Е.В.Ковган, Н.Б.Кошкарева, В.Н.Соловар. Сказки народов ханты./Книга для чтения в младших и средних классах. ТОО «Алфавит».1995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2.Составитель Е.Н.Самойлова.Сказки народов севера. ТОО  «Алфавит».1995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3.А.М.Конькова.Сказки бабушки Аннэ. ГИСТЕЛ ДРУК, А-1031 Вена, Мюнцгассе 6,Австрия.1993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4.М.Анисимова, А.Кузьмина. На священных берегах Ваха. Нижневатовск: районное издательство «Приобье».1999г.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Arial"/>
                <a:ea typeface="Arial"/>
              </a:rPr>
              <a:t>5.</a:t>
            </a:r>
            <a:r>
              <a:rPr b="0" lang="en-US" sz="1600" spc="-1" strike="noStrike">
                <a:solidFill>
                  <a:srgbClr val="215968"/>
                </a:solidFill>
                <a:latin typeface="Arial"/>
                <a:ea typeface="Arial"/>
              </a:rPr>
              <a:t>http:\\znaniya.com\task 84645487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5968"/>
                </a:solidFill>
                <a:latin typeface="Arial"/>
                <a:ea typeface="Arial"/>
              </a:rPr>
              <a:t>6/http://vospitatel.edu54.ru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7. http://fotki.yandex.ru/users/akyla82/view/22328?page=0</a:t>
            </a:r>
            <a:r>
              <a:rPr b="0" lang="ru-RU" sz="1600" spc="-1" strike="noStrike">
                <a:solidFill>
                  <a:srgbClr val="21596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0" y="620640"/>
            <a:ext cx="64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omic Sans MS"/>
              </a:rPr>
              <a:t>Актуальность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838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Я очень люблю слушать сказки. Они волшебные, красивые. В них много всего «полезного». На уроках мы исследовали русские народные сказки. Отвечали на вопросы: Чему учат сказки? Что можно узнать из сказок о жизни людей в старину. Однажды мне мама рассказала сказки хантов, которые ей рассказывала её бабушка. Они отличались от тех которые я привыкла слышать. И мне стало интересно: 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-А как жили мои предки. Можно ли узнать об этом из наших сказок. 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1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14240"/>
            <a:ext cx="84852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f497d"/>
                </a:solidFill>
                <a:latin typeface="Comic Sans MS"/>
              </a:rPr>
              <a:t>Цель</a:t>
            </a:r>
            <a:r>
              <a:rPr b="0" lang="ru-RU" sz="2000" spc="-1" strike="noStrike">
                <a:solidFill>
                  <a:srgbClr val="1f497d"/>
                </a:solidFill>
                <a:latin typeface="Comic Sans MS"/>
              </a:rPr>
              <a:t>: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Исследовать сказку, как жанр, на основе уже полученных знаний. </a:t>
            </a:r>
            <a:br>
              <a:rPr sz="2000"/>
            </a:br>
            <a:br>
              <a:rPr sz="2900"/>
            </a:b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2214720"/>
            <a:ext cx="83217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явить,  чему нас учат сказки  народов х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явить особенности хантыйских ска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сследовать какую информацию о жизни предков можно узнать из ск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думать свою сказку о народах х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0080" y="764640"/>
            <a:ext cx="8143920" cy="155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f497d"/>
                </a:solidFill>
                <a:uFillTx/>
                <a:latin typeface="Comic Sans MS"/>
              </a:rPr>
              <a:t>Гипотеза: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з сказок можно извлекать жизненные уроки и информацию о жизни предков.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1406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mic Sans MS"/>
              </a:rPr>
              <a:t>Методы исследования: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зучение теоретической литературы;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чтение сказок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сравнение;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бобщение;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анализ.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7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Учитель\Documents\Teaching Document\201603\Resim000005.jpg"/>
          <p:cNvPicPr/>
          <p:nvPr/>
        </p:nvPicPr>
        <p:blipFill>
          <a:blip r:embed="rId2"/>
          <a:stretch/>
        </p:blipFill>
        <p:spPr>
          <a:xfrm>
            <a:off x="5643720" y="3429000"/>
            <a:ext cx="2714400" cy="3071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omic Sans MS"/>
              </a:rPr>
              <a:t>Содержание: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7816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ему учат сказк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Особенности хантыйских сказок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Информация о жизни предков, извлеченная из сказок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ыводы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Заключение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Список литературы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1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4" name="Рисунок 1" descr="C:\Users\Учитель\Documents\Teaching Document\201603\Resim000007.jpg"/>
          <p:cNvPicPr/>
          <p:nvPr/>
        </p:nvPicPr>
        <p:blipFill>
          <a:blip r:embed="rId1"/>
          <a:stretch/>
        </p:blipFill>
        <p:spPr>
          <a:xfrm>
            <a:off x="857160" y="3857760"/>
            <a:ext cx="2451240" cy="27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Учитель\Documents\Teaching Document\201603\Resim000004.jpg"/>
          <p:cNvPicPr/>
          <p:nvPr/>
        </p:nvPicPr>
        <p:blipFill>
          <a:blip r:embed="rId2"/>
          <a:stretch/>
        </p:blipFill>
        <p:spPr>
          <a:xfrm>
            <a:off x="6357960" y="3786120"/>
            <a:ext cx="2185920" cy="28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C:\Users\Учитель\Pictures\Ругин Р. Легенды и мифы народа ханты (дополненное и переизданное издание)_files\100x146-images-stories-ekrk-rar-elektronnaya_kniga_yamala-folklor_i_mifologiya-legends_and_mifs_narod_hants_2-1.jpg"/>
          <p:cNvPicPr/>
          <p:nvPr/>
        </p:nvPicPr>
        <p:blipFill>
          <a:blip r:embed="rId3"/>
          <a:stretch/>
        </p:blipFill>
        <p:spPr>
          <a:xfrm>
            <a:off x="3929040" y="3714840"/>
            <a:ext cx="154800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C:\Users\Учитель\Pictures\Ругин Р. Легенды и мифы народа ханты (дополненное и переизданное издание)_files\kp.jpg"/>
          <p:cNvPicPr/>
          <p:nvPr/>
        </p:nvPicPr>
        <p:blipFill>
          <a:blip r:embed="rId4"/>
          <a:stretch/>
        </p:blipFill>
        <p:spPr>
          <a:xfrm>
            <a:off x="6143760" y="285840"/>
            <a:ext cx="2571480" cy="2000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Что такое сказка Сказка - это вымышленная история со счастливым концом и обяз..."/>
          <p:cNvPicPr/>
          <p:nvPr/>
        </p:nvPicPr>
        <p:blipFill>
          <a:blip r:embed="rId5"/>
          <a:srcRect l="37346" t="47712" r="3127" b="0"/>
          <a:stretch/>
        </p:blipFill>
        <p:spPr>
          <a:xfrm>
            <a:off x="1357200" y="928800"/>
            <a:ext cx="362916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857160" y="228600"/>
            <a:ext cx="46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mic Sans MS"/>
              </a:rPr>
              <a:t>Чтение сказ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11" name="Picture 20" descr="C:\Users\Учитель\Desktop\проект\IMG_20150923_114558.jpg"/>
          <p:cNvPicPr/>
          <p:nvPr/>
        </p:nvPicPr>
        <p:blipFill>
          <a:blip r:embed="rId1"/>
          <a:stretch/>
        </p:blipFill>
        <p:spPr>
          <a:xfrm>
            <a:off x="357120" y="1000080"/>
            <a:ext cx="2571840" cy="335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14" name="Picture 16" descr="G:\скан рисунков\002.jpg"/>
          <p:cNvPicPr/>
          <p:nvPr/>
        </p:nvPicPr>
        <p:blipFill>
          <a:blip r:embed="rId2"/>
          <a:stretch/>
        </p:blipFill>
        <p:spPr>
          <a:xfrm>
            <a:off x="6000840" y="214200"/>
            <a:ext cx="3000240" cy="296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G:\скан рисунков\003.jpg"/>
          <p:cNvPicPr/>
          <p:nvPr/>
        </p:nvPicPr>
        <p:blipFill>
          <a:blip r:embed="rId3"/>
          <a:stretch/>
        </p:blipFill>
        <p:spPr>
          <a:xfrm>
            <a:off x="5357880" y="3429000"/>
            <a:ext cx="3786120" cy="3324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G:\скан рисунков\004.jpg"/>
          <p:cNvPicPr/>
          <p:nvPr/>
        </p:nvPicPr>
        <p:blipFill>
          <a:blip r:embed="rId4"/>
          <a:stretch/>
        </p:blipFill>
        <p:spPr>
          <a:xfrm>
            <a:off x="500040" y="4319640"/>
            <a:ext cx="4643640" cy="253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G:\скан рисунков\005.jpg"/>
          <p:cNvPicPr/>
          <p:nvPr/>
        </p:nvPicPr>
        <p:blipFill>
          <a:blip r:embed="rId5"/>
          <a:stretch/>
        </p:blipFill>
        <p:spPr>
          <a:xfrm>
            <a:off x="3143160" y="1000080"/>
            <a:ext cx="3000600" cy="32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79930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Arial"/>
                <a:ea typeface="Arial"/>
              </a:rPr>
              <a:t>Каждая сказка нас учит чему-то. Только надо присмотреться и прислушаться к ней. 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19" name="Рисунок 3" descr="0232720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643280" y="8571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Хантыйская народная сказка «Морошка»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072040" y="200016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Непослушание и лень дочери привело ее к гиб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>
            <a:lum contrast="18000"/>
          </a:blip>
          <a:srcRect l="34321" t="19954" r="12737" b="22377"/>
          <a:stretch/>
        </p:blipFill>
        <p:spPr>
          <a:xfrm>
            <a:off x="642960" y="428760"/>
            <a:ext cx="3902040" cy="25714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3" name="Picture 6" descr=""/>
          <p:cNvPicPr/>
          <p:nvPr/>
        </p:nvPicPr>
        <p:blipFill>
          <a:blip r:embed="rId2">
            <a:lum contrast="24000"/>
          </a:blip>
          <a:srcRect l="0" t="15681" r="28439" b="28064"/>
          <a:stretch/>
        </p:blipFill>
        <p:spPr>
          <a:xfrm>
            <a:off x="5572080" y="3357720"/>
            <a:ext cx="3335400" cy="3286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24" name="Прямоугольник 7"/>
          <p:cNvSpPr/>
          <p:nvPr/>
        </p:nvSpPr>
        <p:spPr>
          <a:xfrm>
            <a:off x="357120" y="310500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Хантыйская народная сказка «Золотой топор»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214280" y="4398840"/>
            <a:ext cx="32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За свое трудолюбие и честность мужик  был вознагражд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2-25T14:24:21Z</dcterms:modified>
  <cp:revision>93</cp:revision>
  <dc:subject/>
  <dc:title>Слайд 1</dc:title>
</cp:coreProperties>
</file>