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A939-9640-49F8-9E66-EAD5823A49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690C-E250-4707-A24D-EA2DED5EF6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F49-033B-44BC-AA09-15CED321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F8F-B76E-49FA-8740-966BBB92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15A-1730-485A-AE4F-C0B1D67C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33D-FAA8-4F2B-8E57-725C895C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711-9892-42D4-BD24-BC22A82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703-EF7E-4127-97E6-2EE1B103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284-13C5-41BD-AF90-34FB7E1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BDB-3080-4ACC-97BC-3E66AD0B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5B9-E36B-4A17-99C6-49576EA8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342-BE73-4516-B5E7-4FFDC65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9B1-5793-4E97-9DE9-BE08752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240-4711-4AAE-8C38-8706614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5FCD-5671-45D3-9970-4EB118838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МО учителей-логопедов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рганизация коррекционной работы в рамках психолого-педагогического сопровождения ребенка с ОВЗ с  нарушением речи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 опыта работы учителя-логоп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квалификационной категор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нстантиновой Э.Н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БОУ СОШ №30 г. Химки ДО «Бибигон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6 декабря 2017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бласти деятельности специалистов ПМПк-сопров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гопедическая диагностика, коррекция и развитие речи и психических процессов, разработка рекомендаций другим специалистам по использованию рациональных логопедических приемов в работе с ребенком, разработка и уточнение индивидуальных образовательных маршрутов, обеспечение совместной и самостоятельной деятельности с детьми в соответствии с избранными программ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60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идеями, определяющими содержание взаимодействия педагогов, комплексность коррекционно-развивающей работы с детьми, работы по преодолению или предупреждению у дошкольников с отклонениями в развитии школьной дезадаптации, являются следу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коррекционных, образовательных и воспитательных задач. Принцип коррекционной направленности занятий  и свободной деятельности детей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й характер работы и формирование качеств личности ребенка. Принцип максимального выявления и использования резервов психического развития до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 детей интереса к занятиям, познавательной активности и самостоятельности. Опора на личный опыт детей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успеха на каждом занятии как важнейшее средство стимуляции познавательной деятельности детей. Принцип индивидуализации и дифференциации обучения на основе комплексной диагностики развития. Дифференцированный характер учебной деятельности детей на занятии с учетом их индивидуальной психологической готовности к нему. Индивидуализация темпов освоения детьми знаний и умений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я последовательность в работе. Систематичность в закреплении сформированных умений и знаний. Доведение умений до автоматизированных навыков на каждой ступени обучения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и вариативность дидактического материала и приемов коррекционной работы всех специалистов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ринципа деятельностного подхода, активное использование различных видов, особенно ведущего вида деятельности в общеразвивающих и коррекционных целях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 коррекционной работе различных видов продуктивной и игровой деятельности, что позволяет ненавязчиво, опосредованно осуществлять коррекционное воздействие в интересной и увлекательной форм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Организация коррекционной работы в рамках психолого-педагогического сопровождения ребенка с ОВЗ с нарушениями речи будет эффективна при использовании междисциплинарного системного подхода в реализации коррекционно-образовательного маршрута ребенка с ОВЗ, реализующей адаптированную образовательную  программу с общим недоразвитием речи и общей программой детского сада «От рождения до школы», в тесном взаимодействии всех участников, реализующих инклюзивную практи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224784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с ограниченными возможностями здоровья - физическое лицо, имеющее недостатки в физическом и (или) психологическом развитии, подтвержденные психолого-медико-педагогической комиссией и препятствующие получению образования без создания специальных условий;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З № 273. ст. 2. П. 16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dobe Fangsong Std R"/>
              </a:rPr>
              <a:t>Проблемы  развития детей с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ми речевыми нарушения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дефектами речи — это дети с сохранным слухом и интеллектом, страдающие резко выраженными отклонениями в развитии речи и ограниченные в  речевом общени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ми дефектами у детей с нарушениями речи являются ограниченность мышления, отклонения в эмоционально-волевой сфере, неустойчивость внимания и памяти, особенно речевой, низкий уровень понимания словесных инструкций, недостаточность регулирующей функции речи, низкий уровень контроля за собственной деятельностью, низкая умственная работоспособность, неустойчивое психическое состоя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dobe Fangsong Std R"/>
              </a:rPr>
              <a:t>Проблемы  развития детей с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ми речевыми нарушения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страдающие такими нарушениями, обладают скудным речевым запасом, некоторые совсем не говорят. Общение с окружающими в этом случае очень ограничено. Несмотря на то, что большинство таких детей способны понимать обращенную к ним речь, сами они лишены возможности в словесной форме общаться с окружающими. Это приводит к тяжелому положению детей в коллективе: они полностью или частично лишены возможности участвовать в играх со сверстниками. Развивающее влияние общения оказывается в таких условиях минимальным. Поэтому, несмотря на достаточные возможности умственного развития, у таких детей возникает вторичное отставание психики, что иногда дает повод неправильно считать их неполноценными в интеллектуальном отношении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во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едовать вместе с кем-нибудь, находясь рядом, ведя куда-нибудь или идя за кем-нибуд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аре русского языка С.И.Ожег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деятельности психолого-медико-педагогического консилиума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особенностей развития и социальной адаптации того или иного ребенка с ОВЗ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ложившейся ситу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реализация общей стратегии заданной ПМПК и конкретных тактик включения ребенка с ОВЗ в инклюзивную практику при направлении в данное образовательное учре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Пконсилиу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6" descr=""/>
          <p:cNvPicPr/>
          <p:nvPr/>
        </p:nvPicPr>
        <p:blipFill>
          <a:blip r:embed="rId1"/>
          <a:stretch/>
        </p:blipFill>
        <p:spPr>
          <a:xfrm>
            <a:off x="3657600" y="3352680"/>
            <a:ext cx="474192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"/>
          <p:cNvPicPr/>
          <p:nvPr/>
        </p:nvPicPr>
        <p:blipFill>
          <a:blip r:embed="rId2"/>
          <a:stretch/>
        </p:blipFill>
        <p:spPr>
          <a:xfrm>
            <a:off x="936720" y="1417680"/>
            <a:ext cx="36813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Adobe Fangsong Std R"/>
              </a:rPr>
              <a:t>Основные этапы психолого-педагогического сопровождения детей с ОВЗ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 информации  о ребен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индивидуального маршрута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ая работа с ребен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ы коррекцион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тировка индивидуального маршр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 обследование основными специалистами ДО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звернутого заключения, с уточнением и конкретизацией рекомендаций ПМПК по индивидуализации образовательной программы группы, реализующей инклюзивную практик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-</a:t>
            </a:r>
            <a:r>
              <a:rPr b="1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Первичное обследование основными специалистами ДО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Составление развернутого заключения, с уточнением и конкретизацией рекомендаций ПМПК по индивидуализации образовательной программы группы, реализующей инклюзивную практик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I -</a:t>
            </a:r>
            <a:r>
              <a:rPr b="1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После обследования ребенка специалисты проводят коллегиальное обсуждение полученных результа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пределение вероятного прогноза его дальнейшего развития и комплекс развивающих, коррекционных и абиталиционных мероприяти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пределение специальных коррекционных и развивающих программ, форму работы (индивидуальная, групповая) и частоту их провед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Выработка решения по направлениям индивидуальной образовательной программы и составление индивидуального образовательного пла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Консультации специалистов, координация и согласованность взаимодействия специалист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II -</a:t>
            </a:r>
            <a:r>
              <a:rPr b="1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рганизация динамического сопровождения и проведение диагностических срезов состояния ребенка с ОВЗ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бсуждение особенностей и формулирование основных положений сопровождения остальных детей группы в связи с включением в нее ребенка с ОВЗ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Итогов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- Оценка состояния ребенка после окончания цикла развивающей и коррекционной работы или итоговое обследов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- Решение задач динамической оценки состояния ребенка в рамках деятельности консилиу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Bibigon</cp:lastModifiedBy>
  <dcterms:modified xsi:type="dcterms:W3CDTF">2019-02-25T14:52:20Z</dcterms:modified>
  <cp:revision>30</cp:revision>
  <dc:subject/>
  <dc:title>Алгоритм взаимодействия специалистов сопровождения для ребенка с тяжелыми речевыми нарушениями в условиях инклюзивного образования в ДОО.</dc:title>
</cp:coreProperties>
</file>