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DA9D-9ED7-45BC-8CCC-2ED3E13FF7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F49A-501B-41AC-8E83-6F6DFE11CF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344-E072-4219-829E-C36A27D1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A80-8D0F-4627-8DD6-3ADC52E5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A15E-3338-4C09-A5DA-6ABB6FDB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5622-5B28-4A3B-9765-B70233B1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339-2BEC-4E40-AD8F-24F291F6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CD8-B476-481C-8B81-D9DF28D6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C48-34F4-4D05-8523-86594EF9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DE56-DEA0-4B0F-95DD-34C86B39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3F37-733F-4690-8EC9-29CB984F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1BD-3599-488F-A79B-620F2241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3EE-BBC7-4D40-A044-831FF913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3616-66BC-4767-8254-4A26D179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EE32-8B41-48F5-A5EA-8510D0FFA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ММО учителей-логопедов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Организация коррекционной работы в рамках психолого-педагогического сопровождения ребенка с ОВЗ с  нарушением речи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з опыта работы учителя-логопе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 </a:t>
            </a: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квалификационной категор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онстантиновой Э.Н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БОУ СОШ №30 г. Химки ДО «Бибигон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6 декабря 2017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бласти деятельности специалистов ПМПк-сопровож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огопедическая диагностика, коррекция и развитие речи и психических процессов, разработка рекомендаций другим специалистам по использованию рациональных логопедических приемов в работе с ребенком, разработка и уточнение индивидуальных образовательных маршрутов, обеспечение совместной и самостоятельной деятельности с детьми в соответствии с избранными программ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2860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идеями, определяющими содержание взаимодействия педагогов, комплексность коррекционно-развивающей работы с детьми, работы по преодолению или предупреждению у дошкольников с отклонениями в развитии школьной дезадаптации, являются следующ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коррекционных, образовательных и воспитательных задач. Принцип коррекционной направленности занятий  и свободной деятельности детей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й характер работы и формирование качеств личности ребенка. Принцип максимального выявления и использования резервов психического развития дошкольн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у детей интереса к занятиям, познавательной активности и самостоятельности. Опора на личный опыт детей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успеха на каждом занятии как важнейшее средство стимуляции познавательной деятельности детей. Принцип индивидуализации и дифференциации обучения на основе комплексной диагностики развития. Дифференцированный характер учебной деятельности детей на занятии с учетом их индивидуальной психологической готовности к нему. Индивидуализация темпов освоения детьми знаний и умений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ая последовательность в работе. Систематичность в закреплении сформированных умений и знаний. Доведение умений до автоматизированных навыков на каждой ступени обучения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ие и вариативность дидактического материала и приемов коррекционной работы всех специалистов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ринципа деятельностного подхода, активное использование различных видов, особенно ведущего вида деятельности в общеразвивающих и коррекционных целях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в коррекционной работе различных видов продуктивной и игровой деятельности, что позволяет ненавязчиво, опосредованно осуществлять коррекционное воздействие в интересной и увлекательной форм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Организация коррекционной работы в рамках психолого-педагогического сопровождения ребенка с ОВЗ с нарушениями речи будет эффективна при использовании междисциплинарного системного подхода в реализации коррекционно-образовательного маршрута ребенка с ОВЗ, реализующей адаптированную образовательную  программу с общим недоразвитием речи и общей программой детского сада «От рождения до школы», в тесном взаимодействии всех участников, реализующих инклюзивную практик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2247840" y="1600200"/>
            <a:ext cx="464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йся с ограниченными возможностями здоровья - физическое лицо, имеющее недостатки в физическом и (или) психологическом развитии, подтвержденные психолого-медико-педагогической комиссией и препятствующие получению образования без создания специальных условий;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З № 273. ст. 2. П. 16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dobe Fangsong Std R"/>
              </a:rPr>
              <a:t>Проблемы  развития детей с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ыми речевыми нарушениям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дефектами речи — это дети с сохранным слухом и интеллектом, страдающие резко выраженными отклонениями в развитии речи и ограниченные в  речевом общени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ыми дефектами у детей с нарушениями речи являются ограниченность мышления, отклонения в эмоционально-волевой сфере, неустойчивость внимания и памяти, особенно речевой, низкий уровень понимания словесных инструкций, недостаточность регулирующей функции речи, низкий уровень контроля за собственной деятельностью, низкая умственная работоспособность, неустойчивое психическое состоян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dobe Fangsong Std R"/>
              </a:rPr>
              <a:t>Проблемы  развития детей с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ыми речевыми нарушениям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, страдающие такими нарушениями, обладают скудным речевым запасом, некоторые совсем не говорят. Общение с окружающими в этом случае очень ограничено. Несмотря на то, что большинство таких детей способны понимать обращенную к ним речь, сами они лишены возможности в словесной форме общаться с окружающими. Это приводит к тяжелому положению детей в коллективе: они полностью или частично лишены возможности участвовать в играх со сверстниками. Развивающее влияние общения оказывается в таких условиях минимальным. Поэтому, несмотря на достаточные возможности умственного развития, у таких детей возникает вторичное отставание психики, что иногда дает повод неправильно считать их неполноценными в интеллектуальном отношении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овожд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едовать вместе с кем-нибудь, находясь рядом, ведя куда-нибудь или идя за кем-нибудь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оваре русского языка С.И.Ожег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деятельности психолого-медико-педагогического консилиума Д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особенностей развития и социальной адаптации того или иного ребенка с ОВЗ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сложившейся ситуац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 реализация общей стратегии заданной ПМПК и конкретных тактик включения ребенка с ОВЗ в инклюзивную практику при направлении в данное образовательное учрежд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МПконсилиу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6" descr=""/>
          <p:cNvPicPr/>
          <p:nvPr/>
        </p:nvPicPr>
        <p:blipFill>
          <a:blip r:embed="rId1"/>
          <a:stretch/>
        </p:blipFill>
        <p:spPr>
          <a:xfrm>
            <a:off x="3657600" y="3352680"/>
            <a:ext cx="4741920" cy="26672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"/>
          <p:cNvPicPr/>
          <p:nvPr/>
        </p:nvPicPr>
        <p:blipFill>
          <a:blip r:embed="rId2"/>
          <a:stretch/>
        </p:blipFill>
        <p:spPr>
          <a:xfrm>
            <a:off x="936720" y="1417680"/>
            <a:ext cx="368136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Adobe Fangsong Std R"/>
              </a:rPr>
              <a:t>Основные этапы психолого-педагогического сопровождения детей с ОВЗ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эта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бор информации  о ребен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 эта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индивидуального маршрута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 эта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рекционная работа с ребенк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 эта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ультаты коррекционной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ректировка индивидуального маршру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ое обследование основными специалистами ДО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развернутого заключения, с уточнением и конкретизацией рекомендаций ПМПК по индивидуализации образовательной программы группы, реализующей инклюзивную практику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I-</a:t>
            </a:r>
            <a:r>
              <a:rPr b="1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ЭТА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Первичное обследование основными специалистами ДО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Составление развернутого заключения, с уточнением и конкретизацией рекомендаций ПМПК по индивидуализации образовательной программы группы, реализующей инклюзивную практику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II -</a:t>
            </a:r>
            <a:r>
              <a:rPr b="1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ЭТА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После обследования ребенка специалисты проводят коллегиальное обсуждение полученных результат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Определение вероятного прогноза его дальнейшего развития и комплекс развивающих, коррекционных и абиталиционных мероприяти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Определение специальных коррекционных и развивающих программ, форму работы (индивидуальная, групповая) и частоту их провед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Выработка решения по направлениям индивидуальной образовательной программы и составление индивидуального образовательного план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Консультации специалистов, координация и согласованность взаимодействия специалист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III -</a:t>
            </a:r>
            <a:r>
              <a:rPr b="1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ЭТА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Организация динамического сопровождения и проведение диагностических срезов состояния ребенка с ОВЗ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Обсуждение особенностей и формулирование основных положений сопровождения остальных детей группы в связи с включением в нее ребенка с ОВЗ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Итоговы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- Оценка состояния ребенка после окончания цикла развивающей и коррекционной работы или итоговое обследова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- Решение задач динамической оценки состояния ребенка в рамках деятельности консилиу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Bibigon</cp:lastModifiedBy>
  <dcterms:modified xsi:type="dcterms:W3CDTF">2019-02-25T14:52:20Z</dcterms:modified>
  <cp:revision>30</cp:revision>
  <dc:subject/>
  <dc:title>Алгоритм взаимодействия специалистов сопровождения для ребенка с тяжелыми речевыми нарушениями в условиях инклюзивного образования в ДОО.</dc:title>
</cp:coreProperties>
</file>