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C3A-18FF-4966-B362-791D907D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EDA-01E2-4A2D-823B-72F3CB19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E04A-0BF8-4EC8-A483-97D3FA53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21B-7734-4A37-8F97-5D522192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E6D-98FB-4B67-BC2C-2BF66CAB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12D-CB3F-4E96-B698-1F791C76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1A9-0380-436A-8324-35983DE8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5F8-FF24-4A6E-BBA6-C965D442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9D2-F7AC-4A9D-B4ED-2AA2511F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3BE-41D7-4F88-98C6-5D969703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7EE-4B18-4E43-971E-1A35303A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98CA-75D6-4D80-916D-C4C5B7FE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9C62-0C1D-4AFF-83EF-028380BBC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Итоговое собеседование по русскому языку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допуск к ОГЭ-2019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Users\Учитель\Desktop\Рисунок1.jpg"/>
          <p:cNvPicPr/>
          <p:nvPr/>
        </p:nvPicPr>
        <p:blipFill>
          <a:blip r:embed="rId1"/>
          <a:srcRect l="17461" t="2541" r="50115" b="78396"/>
          <a:stretch/>
        </p:blipFill>
        <p:spPr>
          <a:xfrm>
            <a:off x="642960" y="1214280"/>
            <a:ext cx="789444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http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://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сошгф.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xn--c1avios"/>
          <p:cNvPicPr/>
          <p:nvPr/>
        </p:nvPicPr>
        <p:blipFill>
          <a:blip r:embed="rId1"/>
          <a:srcRect l="11223" t="731" r="12292" b="0"/>
          <a:stretch/>
        </p:blipFill>
        <p:spPr>
          <a:xfrm>
            <a:off x="2484360" y="1700280"/>
            <a:ext cx="4508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 2018/2019 учебного года итоговое собеседование по русскому языку является обязательным для всех выпускников 9 класс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его успешная сдача станет допуском к государственной итоговой аттестации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pamjatka_is-9"/>
          <p:cNvPicPr/>
          <p:nvPr/>
        </p:nvPicPr>
        <p:blipFill>
          <a:blip r:embed="rId1"/>
          <a:srcRect l="0" t="1819" r="81928" b="86407"/>
          <a:stretch/>
        </p:blipFill>
        <p:spPr>
          <a:xfrm>
            <a:off x="1547640" y="189000"/>
            <a:ext cx="6048720" cy="3092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pamjatka_is-9"/>
          <p:cNvPicPr/>
          <p:nvPr/>
        </p:nvPicPr>
        <p:blipFill>
          <a:blip r:embed="rId2"/>
          <a:srcRect l="49187" t="1819" r="444" b="81070"/>
          <a:stretch/>
        </p:blipFill>
        <p:spPr>
          <a:xfrm>
            <a:off x="755640" y="3716280"/>
            <a:ext cx="7775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pamjatka_is-9"/>
          <p:cNvPicPr/>
          <p:nvPr/>
        </p:nvPicPr>
        <p:blipFill>
          <a:blip r:embed="rId1"/>
          <a:srcRect l="49861" t="21083" r="444" b="35371"/>
          <a:stretch/>
        </p:blipFill>
        <p:spPr>
          <a:xfrm>
            <a:off x="1258920" y="836640"/>
            <a:ext cx="689436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pamjatka_is-9"/>
          <p:cNvPicPr/>
          <p:nvPr/>
        </p:nvPicPr>
        <p:blipFill>
          <a:blip r:embed="rId1"/>
          <a:srcRect l="49168" t="63931" r="-403" b="0"/>
          <a:stretch/>
        </p:blipFill>
        <p:spPr>
          <a:xfrm>
            <a:off x="1042920" y="1197000"/>
            <a:ext cx="74167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pamjatka_is-9"/>
          <p:cNvPicPr/>
          <p:nvPr/>
        </p:nvPicPr>
        <p:blipFill>
          <a:blip r:embed="rId1"/>
          <a:srcRect l="444" t="22167" r="50003" b="35009"/>
          <a:stretch/>
        </p:blipFill>
        <p:spPr>
          <a:xfrm>
            <a:off x="539640" y="868320"/>
            <a:ext cx="792000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7786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116000" y="1135080"/>
            <a:ext cx="731052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дель собеседо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)чтение текста вслух;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) пересказ текста с привлечением дополнительной информации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) монологическое высказыва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по одной из выбранных тем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) диалог с экзаменатором-собеседником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 выполнение работ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каждому участнику отводится в среднем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езультато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тогового собеседования является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«зачёт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«незачё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бщее количество балл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 выполнение всей работы –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Участник итогового собеседования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лучает зачёт в случа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если за выполнение всей работы он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брал 10 или более 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0T08:43:10Z</dcterms:created>
  <dc:creator>МАРИНА</dc:creator>
  <dc:description/>
  <dc:language>en-US</dc:language>
  <cp:lastModifiedBy>МАРИНА</cp:lastModifiedBy>
  <dcterms:modified xsi:type="dcterms:W3CDTF">2019-02-25T18:32:47Z</dcterms:modified>
  <cp:revision>4</cp:revision>
  <dc:subject/>
  <dc:title>Слайд 1</dc:title>
</cp:coreProperties>
</file>