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F1F-22CD-4339-AB0D-B0833F76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F95-F4BD-4A20-9BA4-799C3D8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D74-0590-4301-BA5B-B52759C4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582-4ADC-4333-9C25-5007386B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2ED-2B60-4474-B037-EC102A8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840-89FD-4E90-96BB-BD7356E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7AD-E86D-4FF0-9A38-0399953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EB-BF52-4DD7-8C56-2393A20A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75A-5487-41B1-B075-C65F4B2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919-3434-49DD-BE64-11CE567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62F-E4F6-4612-8681-434D8A5A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50C-94B6-4A55-B331-5636599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EE6-7494-40F6-B921-E131D87FD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тоговое собеседование по русскому языку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допуск к ОГЭ-201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Учитель\Desktop\Рисунок1.jpg"/>
          <p:cNvPicPr/>
          <p:nvPr/>
        </p:nvPicPr>
        <p:blipFill>
          <a:blip r:embed="rId1"/>
          <a:srcRect l="17461" t="2541" r="50115" b="78396"/>
          <a:stretch/>
        </p:blipFill>
        <p:spPr>
          <a:xfrm>
            <a:off x="642960" y="1214280"/>
            <a:ext cx="78944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http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://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сошгф.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xn--c1avios"/>
          <p:cNvPicPr/>
          <p:nvPr/>
        </p:nvPicPr>
        <p:blipFill>
          <a:blip r:embed="rId1"/>
          <a:srcRect l="11223" t="731" r="12292" b="0"/>
          <a:stretch/>
        </p:blipFill>
        <p:spPr>
          <a:xfrm>
            <a:off x="2484360" y="1700280"/>
            <a:ext cx="4508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 2018/2019 учебного года итоговое собеседование по русскому языку является обязательным для всех выпускников 9 класс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его успешная сдача станет допуском к государственной итоговой аттестаци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mjatka_is-9"/>
          <p:cNvPicPr/>
          <p:nvPr/>
        </p:nvPicPr>
        <p:blipFill>
          <a:blip r:embed="rId1"/>
          <a:srcRect l="0" t="1819" r="81928" b="86407"/>
          <a:stretch/>
        </p:blipFill>
        <p:spPr>
          <a:xfrm>
            <a:off x="1547640" y="189000"/>
            <a:ext cx="6048720" cy="309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amjatka_is-9"/>
          <p:cNvPicPr/>
          <p:nvPr/>
        </p:nvPicPr>
        <p:blipFill>
          <a:blip r:embed="rId2"/>
          <a:srcRect l="49187" t="1819" r="444" b="81070"/>
          <a:stretch/>
        </p:blipFill>
        <p:spPr>
          <a:xfrm>
            <a:off x="755640" y="3716280"/>
            <a:ext cx="777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amjatka_is-9"/>
          <p:cNvPicPr/>
          <p:nvPr/>
        </p:nvPicPr>
        <p:blipFill>
          <a:blip r:embed="rId1"/>
          <a:srcRect l="49861" t="21083" r="444" b="35371"/>
          <a:stretch/>
        </p:blipFill>
        <p:spPr>
          <a:xfrm>
            <a:off x="1258920" y="836640"/>
            <a:ext cx="68943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amjatka_is-9"/>
          <p:cNvPicPr/>
          <p:nvPr/>
        </p:nvPicPr>
        <p:blipFill>
          <a:blip r:embed="rId1"/>
          <a:srcRect l="49168" t="63931" r="-403" b="0"/>
          <a:stretch/>
        </p:blipFill>
        <p:spPr>
          <a:xfrm>
            <a:off x="1042920" y="1197000"/>
            <a:ext cx="7416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amjatka_is-9"/>
          <p:cNvPicPr/>
          <p:nvPr/>
        </p:nvPicPr>
        <p:blipFill>
          <a:blip r:embed="rId1"/>
          <a:srcRect l="444" t="22167" r="50003" b="35009"/>
          <a:stretch/>
        </p:blipFill>
        <p:spPr>
          <a:xfrm>
            <a:off x="539640" y="868320"/>
            <a:ext cx="7920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16000" y="1135080"/>
            <a:ext cx="73105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ль собесед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)чтение текста вслух;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) пересказ текста с привлечением дополнительной информации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) монологическое высказы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о одной из выбранных тем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) диалог с экзаменатором-собеседником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 выполнение рабо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аждому участнику отводится в среднем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зультат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огового собеседования является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зачёт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незачё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бщее количество бал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выполнение всей работы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Участник итогового собеседования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лучает зачёт в случ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если за выполнение всей работы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брал 10 или более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08:43:10Z</dcterms:created>
  <dc:creator>МАРИНА</dc:creator>
  <dc:description/>
  <dc:language>en-US</dc:language>
  <cp:lastModifiedBy>МАРИНА</cp:lastModifiedBy>
  <dcterms:modified xsi:type="dcterms:W3CDTF">2019-02-25T18:32:47Z</dcterms:modified>
  <cp:revision>4</cp:revision>
  <dc:subject/>
  <dc:title>Слайд 1</dc:title>
</cp:coreProperties>
</file>