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5799-B7D4-4871-B996-1D1710B53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C46A-46DC-439F-B060-492640ECF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37E0-7A73-4036-9C08-F7FB640A2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D261-1788-40C0-9732-85F9ACDE7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3E9AD-F443-4490-B800-DED866C96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248BD-82E0-4269-83FC-735B9791D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B18B2-E839-4212-9E1F-001613F88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0508C-6317-42CD-A177-95AAAC8FB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28B22-24FE-4613-8844-B0E1CC4DE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E2A11-87F1-4865-B2C7-8F885115E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E4145-8594-47FA-8CC8-98F1FB03D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1D48-A1C6-4247-8F78-A2A3AB07C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00504-B17A-4C8E-B9C9-8650E9390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45AD6-6A7D-4B3B-B7BB-93F213FF7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7F430-7BBC-4CEC-9628-B6B0BC847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1FD44-B137-44BF-9503-11196DA86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3B022-5915-4231-9D9A-F221AF82E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7E45DF-40CA-4F0F-BC0D-7F2079E2B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AC1983-89CE-4FFA-A1AB-CA42DBFCC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8B152C-3C60-4E79-B6F2-3F8564C58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9244D9-D322-4458-992B-BD2EF6167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0FDC8A-560E-4691-BE1D-382F52A64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9679-6EDA-4AAE-B375-E0CD49047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2CA0F3-CC92-4E05-B3B3-39B75244F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6B9467-BD59-4588-8ABE-A220C9469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939BC9-111C-4B87-A1B9-381D0EE8C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FEABC7-A6EA-466F-94AF-58F634F07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B8B603-8C2F-4F10-81D4-9413B84D8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054B29-A4DF-45B8-A05D-773D35F4B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091B5C-CB05-4BCF-8E1E-B11D1B03A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15A7D3-3A9C-447F-9280-F78D5D3E1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82B7B9-A2E8-4EE3-95E0-0FF331A2B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192915-1E65-414E-9573-338CEF6D9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1C7E-8250-43E8-BA20-3FA4478A1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77F5A2-B05A-4085-8951-46D572172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282A46-6458-40CD-806F-DC21DDC50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B8000B-3984-45FF-AB87-EEF7D55FD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3E8D36-318E-4104-804C-B8CB61210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765C92-87BD-4B81-9817-11E35ECAF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D44F10-FBA1-45C5-B61E-4B0832A01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FEF9E3-4A50-4CB7-AD67-5F2B3C0EE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76FE32-A609-49DE-A745-F3D624482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769678-2B1C-441E-A812-5C1A8FE60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C8A150-3996-4E2C-A884-C03F7F7C6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F186-C00C-48B6-A52F-B7A00BCD2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F8670B-905A-49BA-95DD-3D98DE939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6A4445-315F-43A2-B0E0-3C9CE97DD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C68876-BA2A-4363-B914-F103AF31E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4E2020-4FA0-4FE5-9FAF-E996A34E5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2240A4-E882-4C7B-8051-43F89E087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7EE836-DFA7-4C54-A4F7-983991921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5F857F-635D-41B1-BBC8-78BA5CB67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3E4DAB-43FA-4BF8-A491-406890C84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B60CD1-0770-4015-ADB9-F542E3BD0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4701D0-68FA-4A7F-A41A-C1FE33FDD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0944-BD42-4134-A4BB-2CEE748EA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B00F53-5C35-4E14-B86A-146195EFE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6F90-4338-4232-B0A7-E3B04800C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8817-99BD-4E9A-9549-A267AD036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6F21-9B9C-498E-9436-EAFE4B533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15654-4692-47D3-9CCB-836B4EC1DFBC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67495-2243-4D97-AA10-2053190C6D09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Скругленный прямоугольник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53E79-1756-485E-8AE3-D6DCA380C58D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3C0FA-A8FD-4E0B-9B07-10F819A7230F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1C2A7-10AD-4F51-9F22-70F0F507D017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6732720" y="3886200"/>
            <a:ext cx="2016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Учитель французского языка Сухарская А.Б.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ffffff"/>
                </a:solidFill>
                <a:latin typeface="Franklin Gothic Book"/>
              </a:rPr>
              <a:t>Futur simple – </a:t>
            </a: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будущее простое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696464"/>
                </a:solidFill>
                <a:latin typeface="Franklin Gothic Book"/>
              </a:rPr>
              <a:t>Formation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Образуется путем добавления к  неопределенной форме глагола следующих окончаний: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1 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-</a:t>
            </a:r>
            <a:r>
              <a:rPr b="1" lang="ru-RU" sz="2600" spc="-1" strike="noStrike">
                <a:solidFill>
                  <a:srgbClr val="000000"/>
                </a:solidFill>
                <a:latin typeface="Cambria"/>
              </a:rPr>
              <a:t>ai </a:t>
            </a:r>
            <a:r>
              <a:rPr b="1" lang="fr-CA" sz="2600" spc="-1" strike="noStrike">
                <a:solidFill>
                  <a:srgbClr val="000000"/>
                </a:solidFill>
                <a:latin typeface="Perpetua"/>
              </a:rPr>
              <a:t>              -ons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600" spc="-1" strike="noStrike">
                <a:solidFill>
                  <a:srgbClr val="000000"/>
                </a:solidFill>
                <a:latin typeface="Perpetua"/>
              </a:rPr>
              <a:t>2 </a:t>
            </a:r>
            <a:r>
              <a:rPr b="1" lang="ru-RU" sz="2600" spc="-1" strike="noStrike">
                <a:solidFill>
                  <a:srgbClr val="000000"/>
                </a:solidFill>
                <a:latin typeface="Cambria"/>
              </a:rPr>
              <a:t>–as</a:t>
            </a:r>
            <a:r>
              <a:rPr b="1" lang="fr-CA" sz="2600" spc="-1" strike="noStrike">
                <a:solidFill>
                  <a:srgbClr val="000000"/>
                </a:solidFill>
                <a:latin typeface="Perpetua"/>
              </a:rPr>
              <a:t>             - ez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600" spc="-1" strike="noStrike">
                <a:solidFill>
                  <a:srgbClr val="000000"/>
                </a:solidFill>
                <a:latin typeface="Perpetua"/>
              </a:rPr>
              <a:t>3</a:t>
            </a:r>
            <a:r>
              <a:rPr b="1" lang="ru-RU" sz="2600" spc="-1" strike="noStrike">
                <a:solidFill>
                  <a:srgbClr val="000000"/>
                </a:solidFill>
                <a:latin typeface="Cambria"/>
              </a:rPr>
              <a:t> -a </a:t>
            </a:r>
            <a:r>
              <a:rPr b="1" lang="fr-CA" sz="2600" spc="-1" strike="noStrike">
                <a:solidFill>
                  <a:srgbClr val="000000"/>
                </a:solidFill>
                <a:latin typeface="Perpetua"/>
              </a:rPr>
              <a:t>              </a:t>
            </a:r>
            <a:r>
              <a:rPr b="1" lang="ru-RU" sz="2600" spc="-1" strike="noStrike">
                <a:solidFill>
                  <a:srgbClr val="000000"/>
                </a:solidFill>
                <a:latin typeface="Cambria"/>
              </a:rPr>
              <a:t> -on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96464"/>
                </a:solidFill>
                <a:latin typeface="Calibri"/>
              </a:rPr>
              <a:t>Образец спряжения глагола I группы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Perpetua"/>
              </a:rPr>
              <a:t>Parler-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говорить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Je parler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ai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Tu parler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as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Il, elle, on parler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Nous parler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ons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Vous parler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ez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Ils, elles parler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ont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00"/>
                </a:solidFill>
                <a:latin typeface="Cambria"/>
              </a:rPr>
              <a:t>У глагола </a:t>
            </a:r>
            <a:r>
              <a:rPr b="1" lang="ru-RU" sz="2400" spc="-1" strike="noStrike">
                <a:solidFill>
                  <a:srgbClr val="ff6600"/>
                </a:solidFill>
                <a:latin typeface="Cambria"/>
              </a:rPr>
              <a:t>envoyer</a:t>
            </a:r>
            <a:r>
              <a:rPr b="0" lang="ru-RU" sz="2400" spc="-1" strike="noStrike">
                <a:solidFill>
                  <a:srgbClr val="ff6600"/>
                </a:solidFill>
                <a:latin typeface="Cambria"/>
              </a:rPr>
              <a:t> в будущем времени изменяется основа: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00"/>
                </a:solidFill>
                <a:latin typeface="Cambria"/>
              </a:rPr>
              <a:t>envoyer — </a:t>
            </a:r>
            <a:r>
              <a:rPr b="1" lang="ru-RU" sz="2400" spc="-1" strike="noStrike">
                <a:solidFill>
                  <a:srgbClr val="ff6600"/>
                </a:solidFill>
                <a:latin typeface="Cambria"/>
              </a:rPr>
              <a:t>enverr~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96464"/>
                </a:solidFill>
                <a:latin typeface="Calibri"/>
              </a:rPr>
              <a:t>Образец спряжения глагола II группы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Finir- 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заканчитвать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Je finir</a:t>
            </a:r>
            <a:r>
              <a:rPr b="1" lang="ru-RU" sz="2600" spc="-1" strike="noStrike">
                <a:solidFill>
                  <a:srgbClr val="000000"/>
                </a:solidFill>
                <a:latin typeface="Cambria"/>
              </a:rPr>
              <a:t>ai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Tu finir</a:t>
            </a:r>
            <a:r>
              <a:rPr b="1" lang="ru-RU" sz="2600" spc="-1" strike="noStrike">
                <a:solidFill>
                  <a:srgbClr val="000000"/>
                </a:solidFill>
                <a:latin typeface="Cambria"/>
              </a:rPr>
              <a:t>as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Il, elle, on finir</a:t>
            </a:r>
            <a:r>
              <a:rPr b="1" lang="ru-RU" sz="2600" spc="-1" strike="noStrike">
                <a:solidFill>
                  <a:srgbClr val="000000"/>
                </a:solidFill>
                <a:latin typeface="Cambria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Nous finir</a:t>
            </a:r>
            <a:r>
              <a:rPr b="1" lang="ru-RU" sz="2600" spc="-1" strike="noStrike">
                <a:solidFill>
                  <a:srgbClr val="000000"/>
                </a:solidFill>
                <a:latin typeface="Cambria"/>
              </a:rPr>
              <a:t>ons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Vous finir</a:t>
            </a:r>
            <a:r>
              <a:rPr b="1" lang="ru-RU" sz="2600" spc="-1" strike="noStrike">
                <a:solidFill>
                  <a:srgbClr val="000000"/>
                </a:solidFill>
                <a:latin typeface="Cambria"/>
              </a:rPr>
              <a:t>ez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Ils, elles finir</a:t>
            </a:r>
            <a:r>
              <a:rPr b="1" lang="ru-RU" sz="2600" spc="-1" strike="noStrike">
                <a:solidFill>
                  <a:srgbClr val="000000"/>
                </a:solidFill>
                <a:latin typeface="Cambria"/>
              </a:rPr>
              <a:t>on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96464"/>
                </a:solidFill>
                <a:latin typeface="Calibri"/>
              </a:rPr>
              <a:t>Глаголы III группы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У большинства глаголов III группы будущее время образуется по правилу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6600"/>
                </a:solidFill>
                <a:latin typeface="Cambria"/>
              </a:rPr>
              <a:t>НО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: глаголы, оканчивающиеся на </a:t>
            </a:r>
            <a:r>
              <a:rPr b="1" lang="ru-RU" sz="2600" spc="-1" strike="noStrike">
                <a:solidFill>
                  <a:srgbClr val="000000"/>
                </a:solidFill>
                <a:latin typeface="Cambria"/>
              </a:rPr>
              <a:t>-</a:t>
            </a:r>
            <a:r>
              <a:rPr b="1" lang="ru-RU" sz="2600" spc="-1" strike="noStrike">
                <a:solidFill>
                  <a:srgbClr val="ff6600"/>
                </a:solidFill>
                <a:latin typeface="Cambria"/>
              </a:rPr>
              <a:t>re</a:t>
            </a:r>
            <a:r>
              <a:rPr b="1" lang="ru-RU" sz="2600" spc="-1" strike="noStrike">
                <a:solidFill>
                  <a:srgbClr val="000000"/>
                </a:solidFill>
                <a:latin typeface="Cambria"/>
              </a:rPr>
              <a:t>,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 теряют конечное </a:t>
            </a:r>
            <a:r>
              <a:rPr b="1" lang="ru-RU" sz="2600" spc="-1" strike="noStrike">
                <a:solidFill>
                  <a:srgbClr val="ff6600"/>
                </a:solidFill>
                <a:latin typeface="Cambria"/>
              </a:rPr>
              <a:t>-e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 </a:t>
            </a:r>
            <a:r>
              <a:rPr b="0" lang="ru-RU" sz="2600" spc="-1" strike="noStrike">
                <a:solidFill>
                  <a:srgbClr val="96a9a9"/>
                </a:solidFill>
                <a:latin typeface="Cambria"/>
              </a:rPr>
              <a:t>(attendre → j’attendrai)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Calibri"/>
              </a:rPr>
              <a:t>Особые формы глаголов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6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mic"/>
              </a:rPr>
              <a:t>aller — </a:t>
            </a:r>
            <a:r>
              <a:rPr b="1" lang="ru-RU" sz="1700" spc="-1" strike="noStrike">
                <a:solidFill>
                  <a:srgbClr val="000000"/>
                </a:solidFill>
                <a:latin typeface="comic"/>
              </a:rPr>
              <a:t>ir~</a:t>
            </a:r>
            <a:endParaRPr b="0" lang="en-US" sz="17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6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mic"/>
              </a:rPr>
              <a:t>apercevoir — </a:t>
            </a:r>
            <a:r>
              <a:rPr b="1" lang="ru-RU" sz="1700" spc="-1" strike="noStrike">
                <a:solidFill>
                  <a:srgbClr val="000000"/>
                </a:solidFill>
                <a:latin typeface="comic"/>
              </a:rPr>
              <a:t>apercevr~                                   </a:t>
            </a:r>
            <a:r>
              <a:rPr b="0" lang="ru-RU" sz="1700" spc="-1" strike="noStrike">
                <a:solidFill>
                  <a:srgbClr val="000000"/>
                </a:solidFill>
                <a:latin typeface="comic"/>
              </a:rPr>
              <a:t>venir —</a:t>
            </a:r>
            <a:r>
              <a:rPr b="1" lang="ru-RU" sz="1700" spc="-1" strike="noStrike">
                <a:solidFill>
                  <a:srgbClr val="000000"/>
                </a:solidFill>
                <a:latin typeface="comic"/>
              </a:rPr>
              <a:t>viendr~</a:t>
            </a:r>
            <a:endParaRPr b="0" lang="en-US" sz="17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6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mic"/>
              </a:rPr>
              <a:t>                                                                                        </a:t>
            </a:r>
            <a:r>
              <a:rPr b="0" lang="ru-RU" sz="1700" spc="-1" strike="noStrike">
                <a:solidFill>
                  <a:srgbClr val="000000"/>
                </a:solidFill>
                <a:latin typeface="comic"/>
              </a:rPr>
              <a:t>voir — </a:t>
            </a:r>
            <a:r>
              <a:rPr b="1" lang="ru-RU" sz="1700" spc="-1" strike="noStrike">
                <a:solidFill>
                  <a:srgbClr val="000000"/>
                </a:solidFill>
                <a:latin typeface="comic"/>
              </a:rPr>
              <a:t>verr~</a:t>
            </a:r>
            <a:endParaRPr b="0" lang="en-US" sz="17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6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mic"/>
              </a:rPr>
              <a:t>                                                                                       </a:t>
            </a:r>
            <a:r>
              <a:rPr b="0" lang="ru-RU" sz="1700" spc="-1" strike="noStrike">
                <a:solidFill>
                  <a:srgbClr val="000000"/>
                </a:solidFill>
                <a:latin typeface="comic"/>
              </a:rPr>
              <a:t>vouloir — </a:t>
            </a:r>
            <a:r>
              <a:rPr b="1" lang="ru-RU" sz="1700" spc="-1" strike="noStrike">
                <a:solidFill>
                  <a:srgbClr val="000000"/>
                </a:solidFill>
                <a:latin typeface="comic"/>
              </a:rPr>
              <a:t>voudr~</a:t>
            </a:r>
            <a:endParaRPr b="0" lang="en-US" sz="17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6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mic"/>
              </a:rPr>
              <a:t>avoir — </a:t>
            </a:r>
            <a:r>
              <a:rPr b="1" lang="ru-RU" sz="1700" spc="-1" strike="noStrike">
                <a:solidFill>
                  <a:srgbClr val="000000"/>
                </a:solidFill>
                <a:latin typeface="comic"/>
              </a:rPr>
              <a:t>aur~</a:t>
            </a:r>
            <a:endParaRPr b="0" lang="en-US" sz="17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6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mic"/>
              </a:rPr>
              <a:t>courir — </a:t>
            </a:r>
            <a:r>
              <a:rPr b="1" lang="ru-RU" sz="1700" spc="-1" strike="noStrike">
                <a:solidFill>
                  <a:srgbClr val="000000"/>
                </a:solidFill>
                <a:latin typeface="comic"/>
              </a:rPr>
              <a:t>courr~</a:t>
            </a:r>
            <a:endParaRPr b="0" lang="en-US" sz="17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6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mic"/>
              </a:rPr>
              <a:t>devoir — </a:t>
            </a:r>
            <a:r>
              <a:rPr b="1" lang="ru-RU" sz="1700" spc="-1" strike="noStrike">
                <a:solidFill>
                  <a:srgbClr val="000000"/>
                </a:solidFill>
                <a:latin typeface="comic"/>
              </a:rPr>
              <a:t>devr~</a:t>
            </a:r>
            <a:endParaRPr b="0" lang="en-US" sz="17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6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mic"/>
              </a:rPr>
              <a:t>être — </a:t>
            </a:r>
            <a:r>
              <a:rPr b="1" lang="ru-RU" sz="1700" spc="-1" strike="noStrike">
                <a:solidFill>
                  <a:srgbClr val="000000"/>
                </a:solidFill>
                <a:latin typeface="comic"/>
              </a:rPr>
              <a:t>ser~</a:t>
            </a:r>
            <a:endParaRPr b="0" lang="en-US" sz="17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6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mic"/>
              </a:rPr>
              <a:t>falloir — </a:t>
            </a:r>
            <a:r>
              <a:rPr b="1" lang="ru-RU" sz="1700" spc="-1" strike="noStrike">
                <a:solidFill>
                  <a:srgbClr val="000000"/>
                </a:solidFill>
                <a:latin typeface="comic"/>
              </a:rPr>
              <a:t>il faudra</a:t>
            </a:r>
            <a:endParaRPr b="0" lang="en-US" sz="17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6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mic"/>
              </a:rPr>
              <a:t>faire — </a:t>
            </a:r>
            <a:r>
              <a:rPr b="1" lang="ru-RU" sz="1700" spc="-1" strike="noStrike">
                <a:solidFill>
                  <a:srgbClr val="000000"/>
                </a:solidFill>
                <a:latin typeface="comic"/>
              </a:rPr>
              <a:t>fer~</a:t>
            </a:r>
            <a:endParaRPr b="0" lang="en-US" sz="17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6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mic"/>
              </a:rPr>
              <a:t>mourir — </a:t>
            </a:r>
            <a:r>
              <a:rPr b="1" lang="ru-RU" sz="1700" spc="-1" strike="noStrike">
                <a:solidFill>
                  <a:srgbClr val="000000"/>
                </a:solidFill>
                <a:latin typeface="comic"/>
              </a:rPr>
              <a:t>mourr~</a:t>
            </a:r>
            <a:endParaRPr b="0" lang="en-US" sz="17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6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mic"/>
              </a:rPr>
              <a:t>pleuvoir — </a:t>
            </a:r>
            <a:r>
              <a:rPr b="1" lang="ru-RU" sz="1700" spc="-1" strike="noStrike">
                <a:solidFill>
                  <a:srgbClr val="000000"/>
                </a:solidFill>
                <a:latin typeface="comic"/>
              </a:rPr>
              <a:t>il pleuvra</a:t>
            </a:r>
            <a:endParaRPr b="0" lang="en-US" sz="17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6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mic"/>
              </a:rPr>
              <a:t>pouvoir — </a:t>
            </a:r>
            <a:r>
              <a:rPr b="1" lang="ru-RU" sz="1700" spc="-1" strike="noStrike">
                <a:solidFill>
                  <a:srgbClr val="000000"/>
                </a:solidFill>
                <a:latin typeface="comic"/>
              </a:rPr>
              <a:t>pourr~</a:t>
            </a:r>
            <a:endParaRPr b="0" lang="en-US" sz="17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6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mic"/>
              </a:rPr>
              <a:t>recevoir — </a:t>
            </a:r>
            <a:r>
              <a:rPr b="1" lang="ru-RU" sz="1700" spc="-1" strike="noStrike">
                <a:solidFill>
                  <a:srgbClr val="000000"/>
                </a:solidFill>
                <a:latin typeface="comic"/>
              </a:rPr>
              <a:t>recevr~</a:t>
            </a:r>
            <a:endParaRPr b="0" lang="en-US" sz="17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6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mic"/>
              </a:rPr>
              <a:t>savoir — </a:t>
            </a:r>
            <a:r>
              <a:rPr b="1" lang="ru-RU" sz="1700" spc="-1" strike="noStrike">
                <a:solidFill>
                  <a:srgbClr val="000000"/>
                </a:solidFill>
                <a:latin typeface="comic"/>
              </a:rPr>
              <a:t>saur~</a:t>
            </a:r>
            <a:endParaRPr b="0" lang="en-US" sz="17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6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mic"/>
              </a:rPr>
              <a:t>tenir — </a:t>
            </a:r>
            <a:r>
              <a:rPr b="1" lang="ru-RU" sz="1700" spc="-1" strike="noStrike">
                <a:solidFill>
                  <a:srgbClr val="000000"/>
                </a:solidFill>
                <a:latin typeface="comic"/>
              </a:rPr>
              <a:t>tiendr~</a:t>
            </a:r>
            <a:endParaRPr b="0" lang="en-US" sz="17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6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mic"/>
              </a:rPr>
              <a:t>valoir — </a:t>
            </a:r>
            <a:r>
              <a:rPr b="1" lang="ru-RU" sz="1700" spc="-1" strike="noStrike">
                <a:solidFill>
                  <a:srgbClr val="000000"/>
                </a:solidFill>
                <a:latin typeface="comic"/>
              </a:rPr>
              <a:t>il vaudra</a:t>
            </a:r>
            <a:br>
              <a:rPr sz="1700"/>
            </a:br>
            <a:endParaRPr b="0" lang="en-US" sz="17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6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3T08:32:46Z</dcterms:created>
  <dc:creator>dell</dc:creator>
  <dc:description/>
  <dc:language>en-US</dc:language>
  <cp:lastModifiedBy>Аллочка</cp:lastModifiedBy>
  <dcterms:modified xsi:type="dcterms:W3CDTF">2019-02-26T18:50:07Z</dcterms:modified>
  <cp:revision>3</cp:revision>
  <dc:subject/>
  <dc:title>Futur simple – будущее простое</dc:title>
</cp:coreProperties>
</file>