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0E9-2FE9-4422-AC42-994294B0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C72-255D-432D-9543-3E3EB0B2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10DB-8F4B-4F71-86F3-0A8F062E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486-D55E-44DE-A493-E4E263B2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BB86-76BB-4C72-A547-82D02AF9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671B-3279-44A8-9F95-DB5AFA14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FC71-4BDE-42F2-9378-9ACEBD8C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282B-BD03-40B7-B851-D383860F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C91D-8126-43E7-BBAA-7CA52BCA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E6F7-5174-435B-A050-29CA6A1F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2BA8-988A-4096-93FB-C77BDF12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2A9-BBAA-4434-BDB0-B0340674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85DC-E332-4381-B164-7A82EC26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00A7-2BF0-48FE-BDEF-0D910FE0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D18B-E4C0-4C57-8C7C-8B3FAB31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3A1D-FA49-4247-8028-E56740A1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99B5-8599-4D29-B50E-9854BDCA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A8D3E-46FC-49DD-B500-9DC6010C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C1747-3112-4CAE-8FAF-DBECC957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8C21D-6C69-47AC-9B8B-A38DC133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2E180-AE46-4DF8-9721-CD87630B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7F9B8-0DB8-404A-90C7-16FC8EE3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CAF-C5CA-4140-AC6A-45FECE29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E3DA4-BCD2-4757-93C8-742BC9E2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842C9-597B-4A9A-829B-51A96196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CEBCC-298F-485B-AAF2-DC13DB32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88669-9F9D-4BCD-8035-DA27A97E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08708-6C7D-44DB-BEEE-5348F82C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3B7A2-FE85-43C8-A052-22B2EB65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B7906-EA14-403A-82D1-F868AFB0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D6F26-3C9F-4007-A3F6-48943887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57EB2-645C-4B95-B337-C26C8118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B8B0E-61C6-41B6-9E92-E59F2057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872-3CD3-48BB-AA41-591454DE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E1BAF-5212-461A-85F5-746531BC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C53D-64CF-4909-A41A-41A2B796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36935-425C-4FB6-B474-4BD46CA2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65053-BFC9-4E4B-91C5-0C2F81FB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CAD6A-B6EA-4D1F-AA3E-A0E433CD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B9630-2592-422C-ACBF-24837C77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B8937-7CBD-4BC9-838C-B152E5FA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1D221-B87E-472B-98E3-769F70C4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576D3-AD45-453C-B7CC-845C34F7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162A7-89C8-45D0-9A2C-8448E387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D7DB-8B4F-430B-BD75-74968746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91A91-A5FB-40C2-BA5E-A885E061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6D6EB-46A8-46CD-BE64-87C8367B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EC95A-D3C6-4A95-90C9-0EC75E37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F1039-D4FB-443C-93DB-BAA9BEFA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2823C-E944-4375-9B81-B271D8EC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C5D57-9C38-480F-AAC9-A7FD76D1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83CB5-ECFF-4C03-BAEF-C8186E79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E60FB-F2CB-477A-B2D3-DF464903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A2C59-885C-43C2-B2B7-073CB1E1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79814-3640-4533-A43B-CB41E75D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5F1B-AD96-487B-A027-86F3E0A1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A7BA5-31A8-49B4-9C20-7D691081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162-012A-4B2C-9A04-D7DE4E3F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0C2-DCF7-404C-9EE7-F57787A7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861-F83B-4483-B0C9-706A3C82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0744-8298-437A-B8C4-4998154031C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3BC3-2A00-4ED7-9B54-BDDEE0CBA5F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A54E-24B1-4987-970E-6CDCE50EC01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49EF-103A-4AE1-9EE9-949078E032B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5CF5-8A26-43A1-9891-E176D0601A1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732720" y="3886200"/>
            <a:ext cx="2016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Учитель французского языка Сухарская А.Б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Franklin Gothic Book"/>
              </a:rPr>
              <a:t>Futur simple –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будущее просто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96464"/>
                </a:solidFill>
                <a:latin typeface="Franklin Gothic Book"/>
              </a:rPr>
              <a:t>Formation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разуется путем добавления к  неопределенной форме глагола следующих окончаний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1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ai </a:t>
            </a:r>
            <a:r>
              <a:rPr b="1" lang="fr-CA" sz="2600" spc="-1" strike="noStrike">
                <a:solidFill>
                  <a:srgbClr val="000000"/>
                </a:solidFill>
                <a:latin typeface="Perpetua"/>
              </a:rPr>
              <a:t>              -on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–as</a:t>
            </a:r>
            <a:r>
              <a:rPr b="1" lang="fr-CA" sz="2600" spc="-1" strike="noStrike">
                <a:solidFill>
                  <a:srgbClr val="000000"/>
                </a:solidFill>
                <a:latin typeface="Perpetua"/>
              </a:rPr>
              <a:t>             - ez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-a </a:t>
            </a:r>
            <a:r>
              <a:rPr b="1" lang="fr-CA" sz="2600" spc="-1" strike="noStrike">
                <a:solidFill>
                  <a:srgbClr val="000000"/>
                </a:solidFill>
                <a:latin typeface="Perpetua"/>
              </a:rPr>
              <a:t>             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-on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Образец спряжения глагола I группы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Parler-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говори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Je parler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ai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Tu parler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Il, elle, on parler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Nous parler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on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Vous parler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Ils, elles parler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on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mbria"/>
              </a:rPr>
              <a:t>У глагола </a:t>
            </a:r>
            <a:r>
              <a:rPr b="1" lang="ru-RU" sz="2400" spc="-1" strike="noStrike">
                <a:solidFill>
                  <a:srgbClr val="ff6600"/>
                </a:solidFill>
                <a:latin typeface="Cambria"/>
              </a:rPr>
              <a:t>envoyer</a:t>
            </a:r>
            <a:r>
              <a:rPr b="0" lang="ru-RU" sz="2400" spc="-1" strike="noStrike">
                <a:solidFill>
                  <a:srgbClr val="ff6600"/>
                </a:solidFill>
                <a:latin typeface="Cambria"/>
              </a:rPr>
              <a:t> в будущем времени изменяется основа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mbria"/>
              </a:rPr>
              <a:t>envoyer — </a:t>
            </a:r>
            <a:r>
              <a:rPr b="1" lang="ru-RU" sz="2400" spc="-1" strike="noStrike">
                <a:solidFill>
                  <a:srgbClr val="ff6600"/>
                </a:solidFill>
                <a:latin typeface="Cambria"/>
              </a:rPr>
              <a:t>enverr~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Образец спряжения глагола II группы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inir-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канчитва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Je finir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ai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Tu finir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a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Il, elle, on finir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Nous finir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on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Vous finir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ez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Ils, elles finir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on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Глаголы III группы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 большинства глаголов III группы будущее время образуется по правилу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00"/>
                </a:solidFill>
                <a:latin typeface="Cambria"/>
              </a:rPr>
              <a:t>НО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глаголы, оканчивающиеся на 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1" lang="ru-RU" sz="2600" spc="-1" strike="noStrike">
                <a:solidFill>
                  <a:srgbClr val="ff6600"/>
                </a:solidFill>
                <a:latin typeface="Cambria"/>
              </a:rPr>
              <a:t>re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теряют конечное </a:t>
            </a:r>
            <a:r>
              <a:rPr b="1" lang="ru-RU" sz="2600" spc="-1" strike="noStrike">
                <a:solidFill>
                  <a:srgbClr val="ff6600"/>
                </a:solidFill>
                <a:latin typeface="Cambria"/>
              </a:rPr>
              <a:t>-e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600" spc="-1" strike="noStrike">
                <a:solidFill>
                  <a:srgbClr val="96a9a9"/>
                </a:solidFill>
                <a:latin typeface="Cambria"/>
              </a:rPr>
              <a:t>(attendre → j’attendrai)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Особые формы глаголов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aller 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i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apercevoir 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apercevr~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venir —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viend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                                                 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voir 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ver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                                                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vouloir 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voud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avoir 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au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courir 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cour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devoir 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dev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être 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se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falloir 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il faudra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faire 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fe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mourir 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mour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pleuvoir 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il pleuvra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pouvoir 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pour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recevoir 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recev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savoir 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sau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tenir 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tiend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valoir 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il vaudra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8:32:46Z</dcterms:created>
  <dc:creator>dell</dc:creator>
  <dc:description/>
  <dc:language>en-US</dc:language>
  <cp:lastModifiedBy>Аллочка</cp:lastModifiedBy>
  <dcterms:modified xsi:type="dcterms:W3CDTF">2019-02-26T18:50:07Z</dcterms:modified>
  <cp:revision>3</cp:revision>
  <dc:subject/>
  <dc:title>Futur simple – будущее простое</dc:title>
</cp:coreProperties>
</file>