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954-CB9B-4AE1-866A-DAA82DFE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30D-9C74-4D25-BB25-3BD85FFE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FF9-D917-4779-8D1E-04C1C67C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AC3-FEE0-45DD-A21C-8626A10F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B8C4F-F55E-4BCE-9376-74FEF83F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31A5B-D6A2-4491-871B-0203566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5E398-5A13-4589-876A-235096D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513F4-1180-459D-BCB7-262CE513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33CEE-CF42-457D-A325-9DE96799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E43D1-94AB-4E0B-8621-ECF60F7C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A9207-5A28-49E3-984E-A574E60C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A50-090E-4967-B1A2-167969FE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869A0-8CCF-4BE6-9BA2-C2D70BB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32FE7-85F3-4F33-8E10-15BDE511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938EF-9FE6-4849-860E-24C46A02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8D83D-34B1-4100-8D32-19DA5BE9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A1358-AA95-4FF3-AEAD-5DA9A208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29F-18A3-4416-BB44-A8FCD9A2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F6D-D2A3-41BE-B39D-45F5BAD6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973-58CC-401C-ABA7-00380167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5B2-4C08-4EF8-A306-50708FA1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C62-7F16-4F03-83C1-AA5FCA1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8D4-1A0B-48A3-8EDD-122D163E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F64-0E3B-40B7-823A-5E514C7C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4272-8C4D-4D8F-8079-A96D72FDC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FE1E-D34C-47FD-BE01-33B2CE1292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i="1" lang="ru-RU" sz="6000" spc="-1" strike="noStrike">
                <a:solidFill>
                  <a:srgbClr val="ffffff"/>
                </a:solidFill>
                <a:latin typeface="Tahoma"/>
              </a:rPr>
              <a:t>Использование технологии развития критического мышления на уроках в начальной школе</a:t>
            </a:r>
            <a:br>
              <a:rPr sz="6000"/>
            </a:br>
            <a:r>
              <a:rPr b="0" i="1" lang="ru-RU" sz="6000" spc="-1" strike="noStrike">
                <a:solidFill>
                  <a:srgbClr val="ffffff"/>
                </a:solidFill>
                <a:latin typeface="Tahoma"/>
              </a:rPr>
              <a:t>Учитель: Грибанова Т.А.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мысление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ас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419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ение с остановк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57200" y="5486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ортовой журна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200" y="2819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блица «Знаю – Хочу узнать – Узнал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лас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ПолезнИскоп ориг+"/>
          <p:cNvPicPr/>
          <p:nvPr/>
        </p:nvPicPr>
        <p:blipFill>
          <a:blip r:embed="rId1"/>
          <a:stretch/>
        </p:blipFill>
        <p:spPr>
          <a:xfrm>
            <a:off x="609480" y="1195560"/>
            <a:ext cx="790416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имер класт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ПолезнИскопаем+"/>
          <p:cNvPicPr/>
          <p:nvPr/>
        </p:nvPicPr>
        <p:blipFill>
          <a:blip r:embed="rId1"/>
          <a:stretch/>
        </p:blipFill>
        <p:spPr>
          <a:xfrm>
            <a:off x="762120" y="1263600"/>
            <a:ext cx="7391160" cy="525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ПолезнИскопаем+"/>
          <p:cNvPicPr/>
          <p:nvPr/>
        </p:nvPicPr>
        <p:blipFill>
          <a:blip r:embed="rId2"/>
          <a:stretch/>
        </p:blipFill>
        <p:spPr>
          <a:xfrm>
            <a:off x="762120" y="1295280"/>
            <a:ext cx="7391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нервСистема+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Таблица «Знаю – Хочу узнать – Узнал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523880"/>
          <a:ext cx="8229600" cy="4411800"/>
        </p:xfrm>
        <a:graphic>
          <a:graphicData uri="http://schemas.openxmlformats.org/drawingml/2006/table">
            <a:tbl>
              <a:tblPr/>
              <a:tblGrid>
                <a:gridCol w="2438640"/>
                <a:gridCol w="3200400"/>
                <a:gridCol w="2590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Знаю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очу узнать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Узнал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1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ь – природная зон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2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выглядит степь в разное время года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3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 живет в степи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4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5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ru-RU" sz="3500" spc="-1" strike="noStrike">
                <a:solidFill>
                  <a:srgbClr val="ffffff"/>
                </a:solidFill>
                <a:latin typeface="Monotype Corsiva"/>
              </a:rPr>
              <a:t>Методика «Бортовой журнал»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Monotype Corsiva"/>
              </a:rPr>
              <a:t>Схема заполнения журнала</a:t>
            </a:r>
            <a:br>
              <a:rPr sz="3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Имя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_____________________________________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Тема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______________________________________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Дата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______________________________________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Время работы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_____________________________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3200400"/>
          <a:ext cx="8229600" cy="3124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1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ок или сх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флекс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инквей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3276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блица «толстых» и «тонких» вопрос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7200" y="4648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ссоци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09480" y="5727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рево предсказан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инквей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ерва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существительное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тема синквейн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Втора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два прилагательных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описывающих тем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реть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три глагола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: действия, которые производит существительно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Четверта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фраза из 4-х слов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передающая ваше отношение к существительном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ятая строка –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синоним существительного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или ваши ассоциации к этому слов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Весна+"/>
          <p:cNvPicPr/>
          <p:nvPr/>
        </p:nvPicPr>
        <p:blipFill>
          <a:blip r:embed="rId1"/>
          <a:stretch/>
        </p:blipFill>
        <p:spPr>
          <a:xfrm>
            <a:off x="533520" y="304920"/>
            <a:ext cx="6324480" cy="3020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снег+"/>
          <p:cNvPicPr/>
          <p:nvPr/>
        </p:nvPicPr>
        <p:blipFill>
          <a:blip r:embed="rId2"/>
          <a:stretch/>
        </p:blipFill>
        <p:spPr>
          <a:xfrm>
            <a:off x="2209680" y="3581280"/>
            <a:ext cx="655344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толстых» и «тонких» вопрос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05120"/>
          <a:ext cx="8229600" cy="4343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SzPct val="102890"/>
                        <a:buBlip>
                          <a:blip r:embed="rId1"/>
                        </a:buBlip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тонкие» вопрос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SzPct val="102890"/>
                        <a:buBlip>
                          <a:blip r:embed="rId2"/>
                        </a:buBlip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толстые вопросы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нкие вопросы – требуют фактического отв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лстые вопросы требуют обстоятельного развернутого отв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Доска и мел –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наши главные инструменты, но хочется чего-то большего…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Объект 3" descr="http://mypresentation.ru/documents/43734baa8a330e57353cd6c1dede4d42/img19.jpg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южетная таблица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Литературное чтение.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Н.Носов «Заплатка»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2133720"/>
          <a:ext cx="8229600" cy="4136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7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гда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чему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б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вал штан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ж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заборе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цепилс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гал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идел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бят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б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Объект 3" descr="https://fs00.infourok.ru/images/doc/154/177726/640/img20.jpg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Users\Грибанова\Documents\Scanned Documents\ЗДОРОВ1.jpg"/>
          <p:cNvPicPr/>
          <p:nvPr/>
        </p:nvPicPr>
        <p:blipFill>
          <a:blip r:embed="rId1"/>
          <a:stretch/>
        </p:blipFill>
        <p:spPr>
          <a:xfrm>
            <a:off x="15840" y="0"/>
            <a:ext cx="480708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Грибанова\Documents\Scanned Documents\здоров.jpg"/>
          <p:cNvPicPr/>
          <p:nvPr/>
        </p:nvPicPr>
        <p:blipFill>
          <a:blip r:embed="rId2"/>
          <a:stretch/>
        </p:blipFill>
        <p:spPr>
          <a:xfrm>
            <a:off x="4792680" y="0"/>
            <a:ext cx="49878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Organization Chart 3"/>
          <p:cNvGrpSpPr/>
          <p:nvPr/>
        </p:nvGrpSpPr>
        <p:grpSpPr>
          <a:xfrm>
            <a:off x="609480" y="417600"/>
            <a:ext cx="8077320" cy="5982480"/>
            <a:chOff x="609480" y="417600"/>
            <a:chExt cx="8077320" cy="5982480"/>
          </a:xfrm>
        </p:grpSpPr>
        <p:cxnSp>
          <p:nvCxnSpPr>
            <p:cNvPr id="86" name="_s1028"/>
            <p:cNvCxnSpPr>
              <a:stCxn id="87" idx="0"/>
              <a:endCxn id="88" idx="2"/>
            </p:cNvCxnSpPr>
            <p:nvPr/>
          </p:nvCxnSpPr>
          <p:spPr>
            <a:xfrm flipV="1" rot="16200000">
              <a:off x="5491080" y="2001960"/>
              <a:ext cx="1157400" cy="2813040"/>
            </a:xfrm>
            <a:prstGeom prst="bentConnector3">
              <a:avLst>
                <a:gd name="adj1" fmla="val 1437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9" name="_s1029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4076640" y="3400920"/>
              <a:ext cx="1157400" cy="15840"/>
            </a:xfrm>
            <a:prstGeom prst="bentConnector3">
              <a:avLst>
                <a:gd name="adj1" fmla="val 1437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1" name="_s1030"/>
            <p:cNvCxnSpPr>
              <a:stCxn id="92" idx="0"/>
              <a:endCxn id="88" idx="2"/>
            </p:cNvCxnSpPr>
            <p:nvPr/>
          </p:nvCxnSpPr>
          <p:spPr>
            <a:xfrm flipH="1" flipV="1" rot="5400000">
              <a:off x="2664000" y="1987560"/>
              <a:ext cx="1157400" cy="2842200"/>
            </a:xfrm>
            <a:prstGeom prst="bentConnector3">
              <a:avLst>
                <a:gd name="adj1" fmla="val 1437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88" name="_s1031"/>
            <p:cNvSpPr/>
            <p:nvPr/>
          </p:nvSpPr>
          <p:spPr>
            <a:xfrm>
              <a:off x="3450960" y="417600"/>
              <a:ext cx="2424240" cy="23929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Структура урока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_s1032"/>
            <p:cNvSpPr/>
            <p:nvPr/>
          </p:nvSpPr>
          <p:spPr>
            <a:xfrm>
              <a:off x="609480" y="4007160"/>
              <a:ext cx="2423160" cy="2392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вызов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_s1033"/>
            <p:cNvSpPr/>
            <p:nvPr/>
          </p:nvSpPr>
          <p:spPr>
            <a:xfrm>
              <a:off x="3436560" y="4007160"/>
              <a:ext cx="2423160" cy="2392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осмысление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_s1034"/>
            <p:cNvSpPr/>
            <p:nvPr/>
          </p:nvSpPr>
          <p:spPr>
            <a:xfrm>
              <a:off x="6263640" y="4007160"/>
              <a:ext cx="2423160" cy="2392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рефлексия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16760" cy="61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Если ребенок мыслит критически, он легко вступает в любую фазу урок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зов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зговая атака (штурм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457200" y="2057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ерите ли вы, что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рзина ид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57200" y="3886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блица «Знаю – Хочу узнать – Узнал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рево предсказан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ЕМ «КОРЗИНА ИДЕЙ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ы говорим почва. А что же такое почв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ая группа после обсуждения высказывает свои предполо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чва – это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ительная зем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ша, а не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о обитания, дом живот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Таблица «Знаю – Хочу узнать – Узнал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523880"/>
          <a:ext cx="8229600" cy="4411800"/>
        </p:xfrm>
        <a:graphic>
          <a:graphicData uri="http://schemas.openxmlformats.org/drawingml/2006/table">
            <a:tbl>
              <a:tblPr/>
              <a:tblGrid>
                <a:gridCol w="2438640"/>
                <a:gridCol w="3200400"/>
                <a:gridCol w="2590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Знаю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очу узнать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Узнал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1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ь – природная зон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2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выглядит степь в разное время года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3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 живет в степи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4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5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7" descr="Я знаю+"/>
          <p:cNvPicPr/>
          <p:nvPr/>
        </p:nvPicPr>
        <p:blipFill>
          <a:blip r:embed="rId1"/>
          <a:stretch/>
        </p:blipFill>
        <p:spPr>
          <a:xfrm>
            <a:off x="685800" y="1563840"/>
            <a:ext cx="8001000" cy="4989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Познание мира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«Откуда пришла книга?»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Таблица 3" descr="https://myslide.ru/documents_4/924cb1736f897bac551b19f4581d2f94/img7.jpg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рибанова</cp:lastModifiedBy>
  <dcterms:modified xsi:type="dcterms:W3CDTF">2019-02-13T09:09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