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0F6-D00F-4615-B55D-1673B908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9A2-5179-4405-9CC1-294116ED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79A-61EE-4EC4-B9A1-D55A8836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6B5-0FA0-4152-B623-22217926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C85BA-2790-4E34-BE1A-E34860F8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FF7A3-F94A-4390-8027-6F103AF2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6F0CF-09B5-4FC3-9C88-2A1FF0DB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C87B2-5607-4651-9DF4-9525CF75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D7709-9B45-468B-8DFF-0787AF0A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E9DFE-5F28-4099-BC76-A50FB85E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A8AA2-776D-4F4D-815C-9619777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CC0-125E-4B3B-83E1-896AA2C2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1F15A-2C4B-442F-8CB8-4E352D01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5C69B-3585-4E0C-A871-B52C076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FF6E6-F41E-4E8C-BC7D-299C432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AA410-D443-45E5-8820-20DA7A10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BA190-9D4B-4582-B995-5C5DE558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491-B9B7-45AA-B60B-528A4D91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0C7-0F9F-4346-91CD-2ECA86C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337-408B-46C5-A1A4-E28C9DE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FCC-B6E9-4A85-B1B2-43283841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84E-4EFF-491A-B06C-011EE0D3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EE3-E3A9-45D3-ABD4-078EBCF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D4B-E08D-45E3-949B-98D2591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382-BB2D-48F8-B8ED-89BBC570D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DD5-5EFD-405B-990F-B1ACC76656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i="1" lang="ru-RU" sz="6000" spc="-1" strike="noStrike">
                <a:solidFill>
                  <a:srgbClr val="ffffff"/>
                </a:solidFill>
                <a:latin typeface="Tahoma"/>
              </a:rPr>
              <a:t>Использование технологии развития критического мышления на уроках в начальной школе</a:t>
            </a:r>
            <a:br>
              <a:rPr sz="6000"/>
            </a:br>
            <a:r>
              <a:rPr b="0" i="1" lang="ru-RU" sz="6000" spc="-1" strike="noStrike">
                <a:solidFill>
                  <a:srgbClr val="ffffff"/>
                </a:solidFill>
                <a:latin typeface="Tahoma"/>
              </a:rPr>
              <a:t>Учитель: Грибанова Т.А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мысление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с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419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ение с остановк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57200" y="5486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ртовой журна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20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лас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ПолезнИскоп ориг+"/>
          <p:cNvPicPr/>
          <p:nvPr/>
        </p:nvPicPr>
        <p:blipFill>
          <a:blip r:embed="rId1"/>
          <a:stretch/>
        </p:blipFill>
        <p:spPr>
          <a:xfrm>
            <a:off x="609480" y="1195560"/>
            <a:ext cx="790416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имер класт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ПолезнИскопаем+"/>
          <p:cNvPicPr/>
          <p:nvPr/>
        </p:nvPicPr>
        <p:blipFill>
          <a:blip r:embed="rId1"/>
          <a:stretch/>
        </p:blipFill>
        <p:spPr>
          <a:xfrm>
            <a:off x="762120" y="1263600"/>
            <a:ext cx="7391160" cy="525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ПолезнИскопаем+"/>
          <p:cNvPicPr/>
          <p:nvPr/>
        </p:nvPicPr>
        <p:blipFill>
          <a:blip r:embed="rId2"/>
          <a:stretch/>
        </p:blipFill>
        <p:spPr>
          <a:xfrm>
            <a:off x="762120" y="1295280"/>
            <a:ext cx="7391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нервСистема+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523880"/>
          <a:ext cx="8229600" cy="4411800"/>
        </p:xfrm>
        <a:graphic>
          <a:graphicData uri="http://schemas.openxmlformats.org/drawingml/2006/table">
            <a:tbl>
              <a:tblPr/>
              <a:tblGrid>
                <a:gridCol w="2438640"/>
                <a:gridCol w="3200400"/>
                <a:gridCol w="2590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наю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очу узнать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знал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1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ь – природная зон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2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выглядит степь в разное время года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3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 живет в степи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4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5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ru-RU" sz="3500" spc="-1" strike="noStrike">
                <a:solidFill>
                  <a:srgbClr val="ffffff"/>
                </a:solidFill>
                <a:latin typeface="Monotype Corsiva"/>
              </a:rPr>
              <a:t>Методика «Бортовой журнал»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Monotype Corsiva"/>
              </a:rPr>
              <a:t>Схема заполнения журнала</a:t>
            </a:r>
            <a:br>
              <a:rPr sz="3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Имя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________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Тема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_________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Дата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_________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Время работы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3200400"/>
          <a:ext cx="8229600" cy="3124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1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ок или сх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флекс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инквей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3276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блица «толстых» и «тонких» вопрос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7200" y="4648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ссоци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09480" y="5727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рево предсказан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инквей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ерв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существительное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тема синквейн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тор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два прилагательных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описывающих тем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ть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три глагола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: действия, которые производит существитель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Четверт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фраза из 4-х слов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передающая ваше отношение к существительном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ят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синоним существительного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или ваши ассоциации к этому слов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Весна+"/>
          <p:cNvPicPr/>
          <p:nvPr/>
        </p:nvPicPr>
        <p:blipFill>
          <a:blip r:embed="rId1"/>
          <a:stretch/>
        </p:blipFill>
        <p:spPr>
          <a:xfrm>
            <a:off x="533520" y="304920"/>
            <a:ext cx="6324480" cy="302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нег+"/>
          <p:cNvPicPr/>
          <p:nvPr/>
        </p:nvPicPr>
        <p:blipFill>
          <a:blip r:embed="rId2"/>
          <a:stretch/>
        </p:blipFill>
        <p:spPr>
          <a:xfrm>
            <a:off x="2209680" y="3581280"/>
            <a:ext cx="655344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толстых» и «тонких» вопрос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05120"/>
          <a:ext cx="8229600" cy="4343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SzPct val="102890"/>
                        <a:buBlip>
                          <a:blip r:embed="rId1"/>
                        </a:buBlip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SzPct val="102890"/>
                        <a:buBlip>
                          <a:blip r:embed="rId2"/>
                        </a:buBlip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олстые вопросы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нкие вопросы – требуют фактического от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лстые вопросы требуют обстоятельного развернутого от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Доска и мел –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наши главные инструменты, но хочется чего-то большего…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Объект 3" descr="http://mypresentation.ru/documents/43734baa8a330e57353cd6c1dede4d42/img19.jpg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южетная таблица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Литературное чтение.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Н.Носов «Заплатка»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2133720"/>
          <a:ext cx="8229600" cy="4136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7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гда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ему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б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вал штан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ж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заборе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цепилс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гал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идел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бят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б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Объект 3" descr="https://fs00.infourok.ru/images/doc/154/177726/640/img20.jpg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Грибанова\Documents\Scanned Documents\ЗДОРОВ1.jpg"/>
          <p:cNvPicPr/>
          <p:nvPr/>
        </p:nvPicPr>
        <p:blipFill>
          <a:blip r:embed="rId1"/>
          <a:stretch/>
        </p:blipFill>
        <p:spPr>
          <a:xfrm>
            <a:off x="15840" y="0"/>
            <a:ext cx="48070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Грибанова\Documents\Scanned Documents\здоров.jpg"/>
          <p:cNvPicPr/>
          <p:nvPr/>
        </p:nvPicPr>
        <p:blipFill>
          <a:blip r:embed="rId2"/>
          <a:stretch/>
        </p:blipFill>
        <p:spPr>
          <a:xfrm>
            <a:off x="4792680" y="0"/>
            <a:ext cx="49878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Organization Chart 3"/>
          <p:cNvGrpSpPr/>
          <p:nvPr/>
        </p:nvGrpSpPr>
        <p:grpSpPr>
          <a:xfrm>
            <a:off x="609480" y="417600"/>
            <a:ext cx="8077320" cy="5982480"/>
            <a:chOff x="609480" y="417600"/>
            <a:chExt cx="8077320" cy="5982480"/>
          </a:xfrm>
        </p:grpSpPr>
        <p:cxnSp>
          <p:nvCxnSpPr>
            <p:cNvPr id="86" name="_s1028"/>
            <p:cNvCxnSpPr>
              <a:stCxn id="87" idx="0"/>
              <a:endCxn id="88" idx="2"/>
            </p:cNvCxnSpPr>
            <p:nvPr/>
          </p:nvCxnSpPr>
          <p:spPr>
            <a:xfrm flipV="1" rot="16200000">
              <a:off x="5491080" y="2001960"/>
              <a:ext cx="1157400" cy="2813040"/>
            </a:xfrm>
            <a:prstGeom prst="bentConnector3">
              <a:avLst>
                <a:gd name="adj1" fmla="val 143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" name="_s1029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4076640" y="3400920"/>
              <a:ext cx="1157400" cy="15840"/>
            </a:xfrm>
            <a:prstGeom prst="bentConnector3">
              <a:avLst>
                <a:gd name="adj1" fmla="val 143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1" name="_s1030"/>
            <p:cNvCxnSpPr>
              <a:stCxn id="92" idx="0"/>
              <a:endCxn id="88" idx="2"/>
            </p:cNvCxnSpPr>
            <p:nvPr/>
          </p:nvCxnSpPr>
          <p:spPr>
            <a:xfrm flipH="1" flipV="1" rot="5400000">
              <a:off x="2664000" y="1987560"/>
              <a:ext cx="1157400" cy="2842200"/>
            </a:xfrm>
            <a:prstGeom prst="bentConnector3">
              <a:avLst>
                <a:gd name="adj1" fmla="val 143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8" name="_s1031"/>
            <p:cNvSpPr/>
            <p:nvPr/>
          </p:nvSpPr>
          <p:spPr>
            <a:xfrm>
              <a:off x="3450960" y="417600"/>
              <a:ext cx="2424240" cy="23929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Структура урока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1032"/>
            <p:cNvSpPr/>
            <p:nvPr/>
          </p:nvSpPr>
          <p:spPr>
            <a:xfrm>
              <a:off x="609480" y="4007160"/>
              <a:ext cx="2423160" cy="2392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вызов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_s1033"/>
            <p:cNvSpPr/>
            <p:nvPr/>
          </p:nvSpPr>
          <p:spPr>
            <a:xfrm>
              <a:off x="3436560" y="4007160"/>
              <a:ext cx="2423160" cy="2392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осмысление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_s1034"/>
            <p:cNvSpPr/>
            <p:nvPr/>
          </p:nvSpPr>
          <p:spPr>
            <a:xfrm>
              <a:off x="6263640" y="4007160"/>
              <a:ext cx="2423160" cy="2392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рефлексия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16760" cy="61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Если ребенок мыслит критически, он легко вступает в любую фазу урок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зов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зговая атака (штурм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457200" y="2057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рите ли вы, что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рзина ид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57200" y="3886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рево предсказан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ЕМ «КОРЗИНА ИДЕЙ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ы говорим почва. А что же такое почв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ая группа после обсуждения высказывает свои предполо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чва – это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ительная зем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ша, а не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обитания, дом живот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523880"/>
          <a:ext cx="8229600" cy="4411800"/>
        </p:xfrm>
        <a:graphic>
          <a:graphicData uri="http://schemas.openxmlformats.org/drawingml/2006/table">
            <a:tbl>
              <a:tblPr/>
              <a:tblGrid>
                <a:gridCol w="2438640"/>
                <a:gridCol w="3200400"/>
                <a:gridCol w="2590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наю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очу узнать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знал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1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ь – природная зон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2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выглядит степь в разное время года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3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 живет в степи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4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5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7" descr="Я знаю+"/>
          <p:cNvPicPr/>
          <p:nvPr/>
        </p:nvPicPr>
        <p:blipFill>
          <a:blip r:embed="rId1"/>
          <a:stretch/>
        </p:blipFill>
        <p:spPr>
          <a:xfrm>
            <a:off x="685800" y="1563840"/>
            <a:ext cx="8001000" cy="4989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Познание мира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«Откуда пришла книга?»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Таблица 3" descr="https://myslide.ru/documents_4/924cb1736f897bac551b19f4581d2f94/img7.jpg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рибанова</cp:lastModifiedBy>
  <dcterms:modified xsi:type="dcterms:W3CDTF">2019-02-13T09:09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