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03F7C-4FB2-48D4-AC53-2A32DF95644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83D01-A1AC-4E3B-B888-E11C205FA50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F8CF0-D661-4CAF-B44B-AE413F1226B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FAF95-213B-4806-AF4E-8DACA8B1EB8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6A58E-4FC2-4793-A5E3-38761B12945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C5532-DF0A-4C12-922A-7BA242E4BFD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70139-58C8-46B0-971B-4ABD1A36216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28206-F3AC-4FCD-9494-E5BE09FB660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897F2-2DF2-46A7-807D-53E1BA5DF04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EDCF6-9329-439A-8841-2AAF61C5601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D40F0-F0E2-4A12-94D8-93A42BD79F6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06B54-955E-4D58-BFF8-F878A1D0969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E4BF5-E75B-4399-8682-94BF127312B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19CD8-67CF-4177-A52E-DC14A39E971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5F1A4-2E85-49AA-8F73-6F16A925176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1A863-5D35-4B13-8DE3-BFF213CDD52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57F9F-CA7A-45BA-B334-3BDAE7C9FE7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A1E3-6D87-4AFA-92AB-C6D28BEF8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8BBF-375B-41A0-85F5-456DCD40D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3BA9-8B62-49C5-BDD9-134BB3095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012A-624C-41BD-96CB-EC826700D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01AF-B9DB-4935-9A67-C3443D95D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07D8-B1A6-4624-B032-191A94901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4C3D-573B-4879-BB04-2B648478F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6456-C85B-4A21-942F-201512B46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B8D9-9F3E-4CA5-B9D3-626A7BBC0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775F-9EEC-434E-961C-BE30EEEE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46CA-2DE2-49F6-8F5C-D54D9E28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DFE8-372B-4B85-8D37-7FFFEFF4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A1E3A-BC4A-42C7-AD46-4762D8EA8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8552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Живая план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56840" y="3143160"/>
            <a:ext cx="635796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занятие-практикум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для обучающихся 1-2 классов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одготовила: учитель начальных класс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Л,В, Ломова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г. Ту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2019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Экологические пробл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C:\Users\Max\Desktop\пожар.jpg"/>
          <p:cNvPicPr/>
          <p:nvPr/>
        </p:nvPicPr>
        <p:blipFill>
          <a:blip r:embed="rId2"/>
          <a:stretch/>
        </p:blipFill>
        <p:spPr>
          <a:xfrm>
            <a:off x="762120" y="1357200"/>
            <a:ext cx="7619760" cy="5000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Экологические пробл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C:\Users\Max\Desktop\грязь.jpg"/>
          <p:cNvPicPr/>
          <p:nvPr/>
        </p:nvPicPr>
        <p:blipFill>
          <a:blip r:embed="rId2"/>
          <a:stretch/>
        </p:blipFill>
        <p:spPr>
          <a:xfrm>
            <a:off x="500040" y="1500120"/>
            <a:ext cx="8286840" cy="4643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Экологические пробл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C:\Users\Max\Desktop\г1.jpg"/>
          <p:cNvPicPr/>
          <p:nvPr/>
        </p:nvPicPr>
        <p:blipFill>
          <a:blip r:embed="rId2"/>
          <a:stretch/>
        </p:blipFill>
        <p:spPr>
          <a:xfrm>
            <a:off x="1071720" y="1643040"/>
            <a:ext cx="7143480" cy="4214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кологические пробл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C:\Users\Max\Desktop\дым.jpg"/>
          <p:cNvPicPr/>
          <p:nvPr/>
        </p:nvPicPr>
        <p:blipFill>
          <a:blip r:embed="rId2"/>
          <a:stretch/>
        </p:blipFill>
        <p:spPr>
          <a:xfrm>
            <a:off x="785880" y="1643040"/>
            <a:ext cx="7572240" cy="4572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то могу сделать я для охраны природы? </a:t>
            </a:r>
            <a:br>
              <a:rPr sz="36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бросай мус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рви цв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ломай ветки деревь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разоряй гнёз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разводи в лесу костё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кармливай пти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режно используй в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жай деревья и цв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кологические зна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C:\Users\Max\Desktop\знаки.jpg"/>
          <p:cNvPicPr/>
          <p:nvPr/>
        </p:nvPicPr>
        <p:blipFill>
          <a:blip r:embed="rId2"/>
          <a:stretch/>
        </p:blipFill>
        <p:spPr>
          <a:xfrm>
            <a:off x="452520" y="1500120"/>
            <a:ext cx="8238960" cy="4643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C:\Users\Max\Desktop\1.jpg"/>
          <p:cNvPicPr/>
          <p:nvPr/>
        </p:nvPicPr>
        <p:blipFill>
          <a:blip r:embed="rId2"/>
          <a:stretch/>
        </p:blipFill>
        <p:spPr>
          <a:xfrm>
            <a:off x="428760" y="428760"/>
            <a:ext cx="8358120" cy="5715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2017 -год экологии в Ро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Эмблема представляет одновременно богатство, уникальность объектов природы и усилия по охране окружающей среды на территории Ро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C:\Users\Max\Desktop\логотип.jpg"/>
          <p:cNvPicPr/>
          <p:nvPr/>
        </p:nvPicPr>
        <p:blipFill>
          <a:blip r:embed="rId2"/>
          <a:stretch/>
        </p:blipFill>
        <p:spPr>
          <a:xfrm>
            <a:off x="952560" y="271944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Что такое экологи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Экос-д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Логос-нау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Экология - это наука о доме, в котором живут растения, животные, челов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Экология - это наука, изучающая взаимоотношения между человеком, растительным и животным миром и окружающей средой, в том числе влияние деятельности человека на окружающую среду и живую прир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Расте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C:\Users\Max\Desktop\д.jpg"/>
          <p:cNvPicPr/>
          <p:nvPr/>
        </p:nvPicPr>
        <p:blipFill>
          <a:blip r:embed="rId2"/>
          <a:stretch/>
        </p:blipFill>
        <p:spPr>
          <a:xfrm>
            <a:off x="1428840" y="1643040"/>
            <a:ext cx="6643440" cy="4429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Животны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42960" y="121392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Звери       Птицы        Насекомые  Рыб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C:\Users\Max\Desktop\мед.jpg"/>
          <p:cNvPicPr/>
          <p:nvPr/>
        </p:nvPicPr>
        <p:blipFill>
          <a:blip r:embed="rId2"/>
          <a:stretch/>
        </p:blipFill>
        <p:spPr>
          <a:xfrm>
            <a:off x="785880" y="2857680"/>
            <a:ext cx="1571400" cy="1595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C:\Users\Max\Desktop\птицы.jpg"/>
          <p:cNvPicPr/>
          <p:nvPr/>
        </p:nvPicPr>
        <p:blipFill>
          <a:blip r:embed="rId3"/>
          <a:stretch/>
        </p:blipFill>
        <p:spPr>
          <a:xfrm>
            <a:off x="2857680" y="2786040"/>
            <a:ext cx="1428480" cy="1500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C:\Users\Max\Desktop\бк.jpg"/>
          <p:cNvPicPr/>
          <p:nvPr/>
        </p:nvPicPr>
        <p:blipFill>
          <a:blip r:embed="rId4"/>
          <a:stretch/>
        </p:blipFill>
        <p:spPr>
          <a:xfrm>
            <a:off x="5072040" y="2786040"/>
            <a:ext cx="1571760" cy="1571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C:\Users\Max\Desktop\рыбы.jpg"/>
          <p:cNvPicPr/>
          <p:nvPr/>
        </p:nvPicPr>
        <p:blipFill>
          <a:blip r:embed="rId5"/>
          <a:stretch/>
        </p:blipFill>
        <p:spPr>
          <a:xfrm>
            <a:off x="7072200" y="2786040"/>
            <a:ext cx="1714680" cy="1500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Человек  и природа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7168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C:\Users\Max\Desktop\человек.jpg"/>
          <p:cNvPicPr/>
          <p:nvPr/>
        </p:nvPicPr>
        <p:blipFill>
          <a:blip r:embed="rId2"/>
          <a:stretch/>
        </p:blipFill>
        <p:spPr>
          <a:xfrm>
            <a:off x="1785960" y="1928880"/>
            <a:ext cx="5429160" cy="3929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Что даёт природа человек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Возду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Солнечный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Пищ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Одеж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Жилищ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Отд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C:\Users\Max\Desktop\лес.jpg"/>
          <p:cNvPicPr/>
          <p:nvPr/>
        </p:nvPicPr>
        <p:blipFill>
          <a:blip r:embed="rId2"/>
          <a:stretch/>
        </p:blipFill>
        <p:spPr>
          <a:xfrm>
            <a:off x="4286160" y="1785960"/>
            <a:ext cx="4500720" cy="3857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Экологические пробл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Вырубка ле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Лесные пожа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Загрязнение мусором воды, поч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Загрязнение возду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Браконьерств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Экологические пробл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C:\Users\Max\Desktop\вырубка лес.jpg"/>
          <p:cNvPicPr/>
          <p:nvPr/>
        </p:nvPicPr>
        <p:blipFill>
          <a:blip r:embed="rId2"/>
          <a:stretch/>
        </p:blipFill>
        <p:spPr>
          <a:xfrm>
            <a:off x="857160" y="1428840"/>
            <a:ext cx="7429680" cy="471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10:11:32Z</dcterms:created>
  <dc:creator>Max</dc:creator>
  <dc:description/>
  <dc:language>en-US</dc:language>
  <cp:lastModifiedBy>user</cp:lastModifiedBy>
  <dcterms:modified xsi:type="dcterms:W3CDTF">2019-02-26T13:17:55Z</dcterms:modified>
  <cp:revision>37</cp:revision>
  <dc:subject/>
  <dc:title>Слайд 1</dc:title>
</cp:coreProperties>
</file>