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4E37-C470-4F84-81A6-B01C4D5076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0F0D-3EA1-4413-B974-D889EC6F57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6ED8-4CF0-4BE3-A66B-529AEE6BFF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83C0-6D7D-4449-9759-351B3A4317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37F9-E7FA-4088-88F7-14031C2BD2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3EE6-5F89-4C8F-8E81-62FF09EF91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B485-46B4-42FE-B4DC-6682F37394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F0D6-A61E-42F8-B9B3-3F82896F37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3316-92B7-42F2-987D-A10BA4C82E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E873-3108-4E47-9A35-0E0FDEA1F6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27AE-F830-40BE-9942-D8CE1F0392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18A0-6864-4DBD-8472-DDB4F47CB6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E811-A68A-4CB3-8AA6-3FA1669077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F120-06BE-4CE1-8DE3-AD5C172178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AD19-2B7E-435A-ADC7-10BBD01E55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D446-C4E4-483E-A890-8C163EF479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6F29-94D0-4774-AE9C-591928D1B4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28A-1401-43A7-818B-C845819A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E79-7916-410D-AF0C-3EA03054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A9C-7FB9-4726-A992-8B99DC9F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57F-94AF-43C7-BC91-1F39EBDF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D70-5788-43BA-8351-6AFD31DF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6A9-B999-4749-90A8-AE6975D1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7FE-22A0-4DC3-9FB3-C57BA448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A99-CDED-46BC-BF4E-0845B841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A53-48E2-4216-B03E-4604DB61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A14-7504-4E23-9DF0-8B787518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362-70D3-4F5B-ACB3-062852F4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D22-5CDB-4E11-A8D9-1ECAC324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65F8-DE26-410E-8FA4-1FB22CDA5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Живая план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6840" y="314316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анятие-практику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обучающихся 1-2 классов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дготовила: 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,В, Ломов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. Т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019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Max\Desktop\пожар.jpg"/>
          <p:cNvPicPr/>
          <p:nvPr/>
        </p:nvPicPr>
        <p:blipFill>
          <a:blip r:embed="rId2"/>
          <a:stretch/>
        </p:blipFill>
        <p:spPr>
          <a:xfrm>
            <a:off x="762120" y="1357200"/>
            <a:ext cx="7619760" cy="500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Max\Desktop\грязь.jpg"/>
          <p:cNvPicPr/>
          <p:nvPr/>
        </p:nvPicPr>
        <p:blipFill>
          <a:blip r:embed="rId2"/>
          <a:stretch/>
        </p:blipFill>
        <p:spPr>
          <a:xfrm>
            <a:off x="500040" y="1500120"/>
            <a:ext cx="8286840" cy="46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Max\Desktop\г1.jpg"/>
          <p:cNvPicPr/>
          <p:nvPr/>
        </p:nvPicPr>
        <p:blipFill>
          <a:blip r:embed="rId2"/>
          <a:stretch/>
        </p:blipFill>
        <p:spPr>
          <a:xfrm>
            <a:off x="1071720" y="1643040"/>
            <a:ext cx="7143480" cy="42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Max\Desktop\дым.jpg"/>
          <p:cNvPicPr/>
          <p:nvPr/>
        </p:nvPicPr>
        <p:blipFill>
          <a:blip r:embed="rId2"/>
          <a:stretch/>
        </p:blipFill>
        <p:spPr>
          <a:xfrm>
            <a:off x="785880" y="1643040"/>
            <a:ext cx="757224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огу сделать я для охраны природы? </a:t>
            </a:r>
            <a:br>
              <a:rPr sz="36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бросай мус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ви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ломай ветк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зоряй гнё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зводи в лесу кост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армливай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но используй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жай деревья и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Max\Desktop\знаки.jpg"/>
          <p:cNvPicPr/>
          <p:nvPr/>
        </p:nvPicPr>
        <p:blipFill>
          <a:blip r:embed="rId2"/>
          <a:stretch/>
        </p:blipFill>
        <p:spPr>
          <a:xfrm>
            <a:off x="452520" y="1500120"/>
            <a:ext cx="8238960" cy="46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Max\Desktop\1.jpg"/>
          <p:cNvPicPr/>
          <p:nvPr/>
        </p:nvPicPr>
        <p:blipFill>
          <a:blip r:embed="rId2"/>
          <a:stretch/>
        </p:blipFill>
        <p:spPr>
          <a:xfrm>
            <a:off x="428760" y="428760"/>
            <a:ext cx="835812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017 -год экологии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мблема представляет одновременно богатство, уникальность объектов природы и усилия по охране окружающей среды на территории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Max\Desktop\логотип.jpg"/>
          <p:cNvPicPr/>
          <p:nvPr/>
        </p:nvPicPr>
        <p:blipFill>
          <a:blip r:embed="rId2"/>
          <a:stretch/>
        </p:blipFill>
        <p:spPr>
          <a:xfrm>
            <a:off x="952560" y="27194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то такое эк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кос-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Логос-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кология - это наука о доме, в котором живут растения, животные,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кология - это наука, изучающая взаимоотношения между человеком, растительным и животным миром и окружающей средой, в том числе влияние деятельности человека на окружающую среду и живую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ст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Max\Desktop\д.jpg"/>
          <p:cNvPicPr/>
          <p:nvPr/>
        </p:nvPicPr>
        <p:blipFill>
          <a:blip r:embed="rId2"/>
          <a:stretch/>
        </p:blipFill>
        <p:spPr>
          <a:xfrm>
            <a:off x="1428840" y="1643040"/>
            <a:ext cx="6643440" cy="44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Живот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вери       Птицы        Насекомые  Ры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Max\Desktop\мед.jpg"/>
          <p:cNvPicPr/>
          <p:nvPr/>
        </p:nvPicPr>
        <p:blipFill>
          <a:blip r:embed="rId2"/>
          <a:stretch/>
        </p:blipFill>
        <p:spPr>
          <a:xfrm>
            <a:off x="785880" y="2857680"/>
            <a:ext cx="1571400" cy="159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Max\Desktop\птицы.jpg"/>
          <p:cNvPicPr/>
          <p:nvPr/>
        </p:nvPicPr>
        <p:blipFill>
          <a:blip r:embed="rId3"/>
          <a:stretch/>
        </p:blipFill>
        <p:spPr>
          <a:xfrm>
            <a:off x="2857680" y="27860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Max\Desktop\бк.jpg"/>
          <p:cNvPicPr/>
          <p:nvPr/>
        </p:nvPicPr>
        <p:blipFill>
          <a:blip r:embed="rId4"/>
          <a:stretch/>
        </p:blipFill>
        <p:spPr>
          <a:xfrm>
            <a:off x="5072040" y="2786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Max\Desktop\рыбы.jpg"/>
          <p:cNvPicPr/>
          <p:nvPr/>
        </p:nvPicPr>
        <p:blipFill>
          <a:blip r:embed="rId5"/>
          <a:stretch/>
        </p:blipFill>
        <p:spPr>
          <a:xfrm>
            <a:off x="7072200" y="2786040"/>
            <a:ext cx="1714680" cy="1500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еловек  и природ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Max\Desktop\человек.jpg"/>
          <p:cNvPicPr/>
          <p:nvPr/>
        </p:nvPicPr>
        <p:blipFill>
          <a:blip r:embed="rId2"/>
          <a:stretch/>
        </p:blipFill>
        <p:spPr>
          <a:xfrm>
            <a:off x="1785960" y="1928880"/>
            <a:ext cx="5429160" cy="392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то даёт природа челове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олнеч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Жил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д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Max\Desktop\лес.jpg"/>
          <p:cNvPicPr/>
          <p:nvPr/>
        </p:nvPicPr>
        <p:blipFill>
          <a:blip r:embed="rId2"/>
          <a:stretch/>
        </p:blipFill>
        <p:spPr>
          <a:xfrm>
            <a:off x="4286160" y="1785960"/>
            <a:ext cx="4500720" cy="385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ырубка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грязнение мусором воды, 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грязнение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раконьер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Max\Desktop\вырубка лес.jpg"/>
          <p:cNvPicPr/>
          <p:nvPr/>
        </p:nvPicPr>
        <p:blipFill>
          <a:blip r:embed="rId2"/>
          <a:stretch/>
        </p:blipFill>
        <p:spPr>
          <a:xfrm>
            <a:off x="857160" y="1428840"/>
            <a:ext cx="7429680" cy="471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Max</dc:creator>
  <dc:description/>
  <dc:language>en-US</dc:language>
  <cp:lastModifiedBy>user</cp:lastModifiedBy>
  <dcterms:modified xsi:type="dcterms:W3CDTF">2019-02-26T13:17:55Z</dcterms:modified>
  <cp:revision>37</cp:revision>
  <dc:subject/>
  <dc:title>Слайд 1</dc:title>
</cp:coreProperties>
</file>