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F67-C3B3-4753-93DA-67C53163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C69-6CD0-404C-97DF-7464C5F1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91A-2877-46F7-8F4E-530F273F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D7D-1390-4691-AC0C-4D61028B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E51BB-6140-4D0C-9ECD-05521915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FC845-F47B-40F5-8F7C-8522ED2F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D5486-5F7E-46D1-9735-F246764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7FE94-99C0-411F-98FA-AEC5DA7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648C5-BD44-4097-9DD3-643BD1C7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EFA3F-32A1-488B-B7FF-D57C6A24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11477-823C-4511-B498-CA9A4C3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126-09D6-4ADC-92B9-ABDF4926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0562E-EFF4-405E-B390-B234506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52AC6-0ED3-4548-8C8C-1B7EDB3A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1DAD0-CE97-49E7-98D6-60744C0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348B2-8795-42D1-A969-74173D73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7FCC2-5D6A-4EAC-8798-58CF4327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B50-55C6-4F99-8C49-1A947DF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C82-0F51-4FAF-BCDB-DA8F635A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ADD-D2E6-480B-9142-3DA7CEE0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92F-3B67-4DBB-8AD5-629F1CAB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8D5-FA21-4FA6-98BA-F1D37BEB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07A-9A93-4788-960E-855CCB1C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EF6-0D0A-4028-8CC0-0C448E3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4EB4-E930-4A93-83CE-D842F4749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4A82-5B92-4FE6-A241-18DD225FB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208;&#144;&#208;" TargetMode="External"/><Relationship Id="rId3" Type="http://schemas.openxmlformats.org/officeDocument/2006/relationships/hyperlink" Target="http://ru.wikipedia.org/wiki/&#208;&#147;&#208;&#190;&#208;" TargetMode="External"/><Relationship Id="rId4" Type="http://schemas.openxmlformats.org/officeDocument/2006/relationships/hyperlink" Target="http://ru.wikipedia.org/wiki/&#208;&#161;&#209;&#130;&#209;&#128;&#208;&#181;&#209;&#129;&#209;&#129;" TargetMode="External"/><Relationship Id="rId5" Type="http://schemas.openxmlformats.org/officeDocument/2006/relationships/hyperlink" Target="http://ru.wikipedia.org/wiki/&#208;&#175;&#208;&#180;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208;&#147;&#208;&#184;&#208;&#191;&#208;&#181;&#209;&#128;&#209;&#130;&#208;&#190;&#208;&#189;&#208;&#184;&#209;&#143;" TargetMode="External"/><Relationship Id="rId3" Type="http://schemas.openxmlformats.org/officeDocument/2006/relationships/hyperlink" Target="http://ru.wikipedia.org/wiki/&#208;&#157;&#208;&#176;&#209;&#128;&#208;&#186;&#208;&#190;&#209;&#130;&#208;&#184;&#208;&#186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76360" y="1628640"/>
            <a:ext cx="64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ё что вы знали и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знали про чай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Древнекитайские представления о действии ча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147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снимает головные боли и устал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уменьшает действие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лкогол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и способствует отказу от его употреб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является питательным продуктом и утоляет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голо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(в особенности — с различными добавкам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облегчает самочувствие во время жа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освежает и прогоняет сонлив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успокаивает, снимает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стрес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способствует перевариванию жирной пищ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выводит из организма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яд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продлевает жизн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Ограничения на употребление ч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чай на пустой желуд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чай слишком горячим, обжигающи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холодный ча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заваривать слишком крепк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заваривать слишком дол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заваривать более четырёх р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чай непосредственно перед ед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чай непосредственно после еды — только после небольшого переры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запивать чаем лекар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вчерашний ча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О возможном вреде ч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-за наличия в его составе кофеина чай вреден для сердца и может быть опасен для больных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гипертоние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епкий чай (или просто танин в дозе 2,5-3 грамма) может вызвать проблемы с желудочно-кишечным трактом (ЖКТ) и даже запо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 — это разновидность лёгкого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наркот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, в особенности крепкий, плохо влияет на кожу, на цвет лица, вызывает бессонницу, недержание мочи, физическую слабость, нервные припадки, головокружение, ослабление зр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заключении, я хотела бы напомнить, что чайный напиток представляет собой сложную комбинацию веществ, оказывающую многоплановое и в целом благотворное воздействие на организм человека. Поэтому я считаю, что человек сам выбирает пить или не пить ему ча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96000" y="5084640"/>
            <a:ext cx="1666800" cy="15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640" y="1268280"/>
            <a:ext cx="80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Спасибо за внимани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345600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Цели работ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) Ознакомить аудиторию с историей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) Выявить основные виды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) Изучить полезные и вредные свойства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Задачи работ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) Исследовать химический состав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) Определить страны наиболее                                                                                   употребляемые ча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) Описать основные этапы изготовления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ff"/>
                </a:solidFill>
                <a:latin typeface="Times New Roman"/>
              </a:rPr>
              <a:t>10 фактов, которые вы не знали о ча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Чай делают из листьев дерева Camellia sinesis. Хотя дерево может достичь высоты 10 метров , его подрезают до размера куста, чтобы листья легко было собирать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лово «чай» в английском и родственных языках (tea, tay,the,tey,...) происходит из названия чая в китайском диалекте Amoy - Te (произносится Тэй). В Мандаринском диалекте слово, обозначающее чай - Cha. От него произошли слова Char, Chai (на русском - Чай) и другие похожие. Видимо, используется то или иное название в зависимости от того, кто поставлял чай в ту или иную страну. В некоторых странах используются оба варианта.</a:t>
            </a:r>
            <a:br>
              <a:rPr sz="23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00720" y="5076720"/>
            <a:ext cx="1762200" cy="178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 можно прочитать, что чай пил еще китайский император Шен Нунг почти 5 тысяч лет назад, определивший, что чайные листья, брошенные в воду, превращают ее в бодрящий напиток. Однако документальных подтверждений этим фактам нет. Первое упоминание об использовании чая относится к 4 веку нашей эры. Ученые при этом считают, что чай начали пить много столетий назад в Восточной Азии. Там он использовался в медицинских целях, в виде сушеных листьев, с добавкой лука, мяты, апельсина, имбиря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3095640" cy="234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аривать чай кипятком стали во время династии Минг (14-17 век). Таким образом, употребление чая в современном смысле началось менее 700 лет назад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хлажденный чай был изобретен в 1904 году, когда на выставке в Саинт-Луисе была представлена марка от Ричарда Блечиндена (Richard Blechynden). Чай со льдом таким образом стал популярен во всем мире, хотя перед этим охлажденный чай в Америке пили еще в начале 19 века. Интересно, что 80% чая в штатах продается в виде охлажденного напитк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448000" cy="26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изобрел чайный пакетик? Легенда гласит, что поставщик из Нью-Йорка Томас Салливан обнаружил, что дорого обходится доставка чая в металлических банках. Так, в 1904 году он начал продавать чай в бумажных пакетах. Один из клиентов случайно уронил пакет в воду и обнаружил, что получается неплохой чай. История красивая, но патент на пакетики с чаем датирован 1903 годом. Большинство ценителей чая считают, что изобретение чая в пакетиках ухудшило его вкус и свойств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80000" y="5084640"/>
            <a:ext cx="1828800" cy="133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До 18 века в Европе считали, что зеленый и черный чай делаются из разных растений - китайские производители скрывали секрет их изготовления. Чайные растения начали поставляться из Китая только в начале 19 века, вместе с рецептами по производству чая. Немного позже англичане обнаружили дикорастущий чай в Индии, он получил название Camellia sinensis. Из этого растения получают как черный, так и зеленый чай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которые сорта черного и зеленого чая проходят дополнительную обработку - например, добавление масла бергамота (несъедобного цитрусового фрукта) в черный чай превращает его в сорт Earl Gray Tea.</a:t>
            </a:r>
            <a:br>
              <a:rPr sz="23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12000" y="5391000"/>
            <a:ext cx="195264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й выращивается в основном в пяти странах - Китае(почти 80% зеленого чая), Индии(в основном черный), Шри-Ланке(часто называемой Цейлоном, родина чая Липтон), Японии(разные экзотические чаи) и Тайване(разные сорта зеленого чая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й содержит множество антиоксидантов, при умеренном потреблении улучшает имунную систему, помогает в профилактике рака и сердечно-сосудистых заболеван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286000" cy="246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Химический состав ч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Дубильные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Алкало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Пигм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Угле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Пек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Зольные элем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Витам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159280" cy="330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8:36:12Z</dcterms:created>
  <dc:creator>aaaa</dc:creator>
  <dc:description/>
  <dc:language>en-US</dc:language>
  <cp:lastModifiedBy>aaaa</cp:lastModifiedBy>
  <dcterms:modified xsi:type="dcterms:W3CDTF">2010-06-25T14:53:28Z</dcterms:modified>
  <cp:revision>4</cp:revision>
  <dc:subject/>
  <dc:title>Слайд 1</dc:title>
</cp:coreProperties>
</file>