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0ED-4123-4EB8-9146-EE60CC29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028-FBA0-43BC-AB9C-42B24CA2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8E0-0E65-4C23-B5EA-D414F965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D80-3199-4DE7-AF97-4B191A97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3A0BF-9CF7-4BC8-A2C7-39D35F8F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78DF7-BF16-498E-A7E8-C68CA39F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85F61-BC97-4A5B-BF78-CD6B3AF1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C7686-64BC-4E98-9831-2297520B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AE394-5097-4DD1-A7CE-F45F8402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6EC29-3F67-4A67-A7CB-3D4A6534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00A78-ACC4-4DBE-8438-DF184DB4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C7A-1818-47C1-ADD1-43642A87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A565A-4F50-4585-8506-A0A67A68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CCF9C-F5AA-45B9-9E1C-9159CA5F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929E6-4D2B-4C63-B7DD-88850123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AC6CE-A7A0-40F5-B9F2-090913D1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DE39D-15D9-4C2D-B24A-F66C3758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3DD-D411-41BD-BCB4-D48F9A0F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B3D-E96D-44B7-B9B3-4DBF7199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E3F-81DB-472E-BCB2-76866BD1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07F-EA68-4B2F-ACA2-19786A08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3F3C-B902-4B8D-BE9A-75EE69D1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1E2-19C2-4130-9CAD-F0D6361B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57A-467C-442E-B283-6BB83957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D385-B6C7-435A-B2BF-76EC43077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03B6-AFFC-4E98-860A-C804A45FB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208;&#144;&#208;" TargetMode="External"/><Relationship Id="rId3" Type="http://schemas.openxmlformats.org/officeDocument/2006/relationships/hyperlink" Target="http://ru.wikipedia.org/wiki/&#208;&#147;&#208;&#190;&#208;" TargetMode="External"/><Relationship Id="rId4" Type="http://schemas.openxmlformats.org/officeDocument/2006/relationships/hyperlink" Target="http://ru.wikipedia.org/wiki/&#208;&#161;&#209;&#130;&#209;&#128;&#208;&#181;&#209;&#129;&#209;&#129;" TargetMode="External"/><Relationship Id="rId5" Type="http://schemas.openxmlformats.org/officeDocument/2006/relationships/hyperlink" Target="http://ru.wikipedia.org/wiki/&#208;&#175;&#208;&#180;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208;&#147;&#208;&#184;&#208;&#191;&#208;&#181;&#209;&#128;&#209;&#130;&#208;&#190;&#208;&#189;&#208;&#184;&#209;&#143;" TargetMode="External"/><Relationship Id="rId3" Type="http://schemas.openxmlformats.org/officeDocument/2006/relationships/hyperlink" Target="http://ru.wikipedia.org/wiki/&#208;&#157;&#208;&#176;&#209;&#128;&#208;&#186;&#208;&#190;&#209;&#130;&#208;&#184;&#208;&#186;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76360" y="1628640"/>
            <a:ext cx="6408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ё что вы знали и 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 знали про чай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Древнекитайские представления о действии чая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147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снимает головные боли и устал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уменьшает действие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алкогол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и способствует отказу от его употреб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является питательным продуктом и утоляет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голод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(в особенности — с различными добавками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облегчает самочувствие во время жа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освежает и прогоняет сонлив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успокаивает, снимает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стрес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способствует перевариванию жирной пищ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выводит из организма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яды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 продлевает жизн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Ограничения на употребление ч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пить чай на пустой желудо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пить чай слишком горячим, обжигающи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пить холодный ча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заваривать слишком крепк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заваривать слишком дол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заваривать более четырёх р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пить чай непосредственно перед ед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пить чай непосредственно после еды — только после небольшого переры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запивать чаем лекарст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пить вчерашний ча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О возможном вреде ч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з-за наличия в его составе кофеина чай вреден для сердца и может быть опасен для больных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гипертонией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репкий чай (или просто танин в дозе 2,5-3 грамма) может вызвать проблемы с желудочно-кишечным трактом (ЖКТ) и даже запо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 — это разновидность лёгкого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наркот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й, в особенности крепкий, плохо влияет на кожу, на цвет лица, вызывает бессонницу, недержание мочи, физическую слабость, нервные припадки, головокружение, ослабление зр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Заключ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заключении, я хотела бы напомнить, что чайный напиток представляет собой сложную комбинацию веществ, оказывающую многоплановое и в целом благотворное воздействие на организм человека. Поэтому я считаю, что человек сам выбирает пить или не пить ему ча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96000" y="5084640"/>
            <a:ext cx="1666800" cy="15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55640" y="1268280"/>
            <a:ext cx="806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Спасибо за внимани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916360" y="3716280"/>
            <a:ext cx="345600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</a:rPr>
              <a:t>Цели работ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1) Ознакомить аудиторию с историей ч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2) Выявить основные виды ч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3) Изучить полезные и вредные свойства ч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</a:rPr>
              <a:t>Задачи работ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1) Исследовать химический состав ч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2) Определить страны наиболее                                                                                   употребляемые ча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3) Описать основные этапы изготовления ч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ff"/>
                </a:solidFill>
                <a:latin typeface="Times New Roman"/>
              </a:rPr>
              <a:t>10 фактов, которые вы не знали о чае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Чай делают из листьев дерева Camellia sinesis. Хотя дерево может достичь высоты 10 метров , его подрезают до размера куста, чтобы листья легко было собирать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Слово «чай» в английском и родственных языках (tea, tay,the,tey,...) происходит из названия чая в китайском диалекте Amoy - Te (произносится Тэй). В Мандаринском диалекте слово, обозначающее чай - Cha. От него произошли слова Char, Chai (на русском - Чай) и другие похожие. Видимо, используется то или иное название в зависимости от того, кто поставлял чай в ту или иную страну. В некоторых странах используются оба варианта.</a:t>
            </a:r>
            <a:br>
              <a:rPr sz="2300"/>
            </a:b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00720" y="5076720"/>
            <a:ext cx="1762200" cy="178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 можно прочитать, что чай пил еще китайский император Шен Нунг почти 5 тысяч лет назад, определивший, что чайные листья, брошенные в воду, превращают ее в бодрящий напиток. Однако документальных подтверждений этим фактам нет. Первое упоминание об использовании чая относится к 4 веку нашей эры. Ученые при этом считают, что чай начали пить много столетий назад в Восточной Азии. Там он использовался в медицинских целях, в виде сушеных листьев, с добавкой лука, мяты, апельсина, имбиря. 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580000" y="4508640"/>
            <a:ext cx="3095640" cy="234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аривать чай кипятком стали во время династии Минг (14-17 век). Таким образом, употребление чая в современном смысле началось менее 700 лет назад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хлажденный чай был изобретен в 1904 году, когда на выставке в Саинт-Луисе была представлена марка от Ричарда Блечиндена (Richard Blechynden). Чай со льдом таким образом стал популярен во всем мире, хотя перед этим охлажденный чай в Америке пили еще в начале 19 века. Интересно, что 80% чая в штатах продается в виде охлажденного напитк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19640" y="3860640"/>
            <a:ext cx="2448000" cy="2694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изобрел чайный пакетик? Легенда гласит, что поставщик из Нью-Йорка Томас Салливан обнаружил, что дорого обходится доставка чая в металлических банках. Так, в 1904 году он начал продавать чай в бумажных пакетах. Один из клиентов случайно уронил пакет в воду и обнаружил, что получается неплохой чай. История красивая, но патент на пакетики с чаем датирован 1903 годом. Большинство ценителей чая считают, что изобретение чая в пакетиках ухудшило его вкус и свойств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80000" y="5084640"/>
            <a:ext cx="1828800" cy="1335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До 18 века в Европе считали, что зеленый и черный чай делаются из разных растений - китайские производители скрывали секрет их изготовления. Чайные растения начали поставляться из Китая только в начале 19 века, вместе с рецептами по производству чая. Немного позже англичане обнаружили дикорастущий чай в Индии, он получил название Camellia sinensis. Из этого растения получают как черный, так и зеленый чай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екоторые сорта черного и зеленого чая проходят дополнительную обработку - например, добавление масла бергамота (несъедобного цитрусового фрукта) в черный чай превращает его в сорт Earl Gray Tea.</a:t>
            </a:r>
            <a:br>
              <a:rPr sz="23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12000" y="5391000"/>
            <a:ext cx="195264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й выращивается в основном в пяти странах - Китае(почти 80% зеленого чая), Индии(в основном черный), Шри-Ланке(часто называемой Цейлоном, родина чая Липтон), Японии(разные экзотические чаи) и Тайване(разные сорта зеленого чая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й содержит множество антиоксидантов, при умеренном потреблении улучшает имунную систему, помогает в профилактике рака и сердечно-сосудистых заболевани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286000" cy="2463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Химический состав ч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Дубильные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Алкало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Пигмен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Угле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Пект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Зольные элемен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Витам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159280" cy="330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8:36:12Z</dcterms:created>
  <dc:creator>aaaa</dc:creator>
  <dc:description/>
  <dc:language>en-US</dc:language>
  <cp:lastModifiedBy>aaaa</cp:lastModifiedBy>
  <dcterms:modified xsi:type="dcterms:W3CDTF">2010-06-25T14:53:28Z</dcterms:modified>
  <cp:revision>4</cp:revision>
  <dc:subject/>
  <dc:title>Слайд 1</dc:title>
</cp:coreProperties>
</file>