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34B4-C53A-4609-B597-F911F4CF8A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C504-DD72-47D2-82E0-05C71BB882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486B-57DC-4C01-A1A8-ABDEA17B68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AB3B-A046-49FD-A006-EBBCBC7C1F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AC46-09EA-4481-9E74-1D2EAC489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6E56-6306-49F8-BFC9-78A7671E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9A1B-064B-46AB-AC8D-84D1A07CC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9CA2-82CD-4CEF-B86D-1336607D3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6A6E-A930-4BC8-BF62-EBF03FB9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F20A-9724-4603-AF75-0F51A9D7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6F29-9B5E-492B-BCA4-32BCA6E3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93FE-5828-44A6-9C8C-28BE3134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86F2-4353-48FD-840B-67D587FA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CE64-5DDB-4569-A489-4A94BA70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AD05-7BF7-4BF9-8E6B-D7FC703E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23B7-CA2F-4908-9E14-A71E5BEB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FFCA-F9D6-4ADF-9B86-E0387B753C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84;&#1099;&#1083;&#1100;&#1085;&#1099;&#1077;%20&#1087;&#1091;&#1079;&#1099;&#1088;&#1080;.%20&#1055;&#1077;&#1085;&#1072;&amp;p=54&amp;img_url=m.io.ua/img_aa/medium/1690/15/16901558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yandex.ru/yandsearch?rpt=simage&amp;ed=1&amp;text=&#1084;&#1099;&#1083;&#1100;&#1085;&#1099;&#1077;%20&#1087;&#1091;&#1079;&#1099;&#1088;&#1080;.%20&#1055;&#1077;&#1085;&#1072;&amp;p=153&amp;img_url=us.123rf.com/400wm/400/400/nikkytok/nikkytok1007/nikkytok100700235/7457020-hand-catching-a-soap-bubble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55;&#1105;&#1090;&#1088;%201&amp;p=6&amp;img_url=www.myjulia.ru/data/cache/2011/06/26/803997_3036-0x600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yandex.ru/yandsearch?rpt=simage&amp;text=&#1075;&#1077;&#1088;&#1073;%20&#1075;&#1086;&#1088;&#1086;&#1076;&#1072;%20&#1064;&#1091;&#1103;&amp;p=2&amp;img_url=www.popov.org/photo/2181/town-emblem-32.3.jpg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text=&#1043;&#1077;&#1085;&#1088;&#1080;&#1093;%20&#1040;&#1092;&#1072;&#1085;&#1072;&#1089;&#1100;&#1077;&#1074;&#1080;&#1095;%20&#1041;&#1088;&#1086;&#1082;&#1072;&#1088;&amp;p=4&amp;img_url=www.bossmag.ru/images.mag/2008-12/76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yandex.ru/yandsearch?rpt=simage&amp;text=&#1043;&#1077;&#1085;&#1088;&#1080;&#1093;%20&#1040;&#1092;&#1072;&#1085;&#1072;&#1089;&#1100;&#1077;&#1074;&#1080;&#1095;%20&#1041;&#1088;&#1086;&#1082;&#1072;&#1088;&amp;p=14&amp;img_url=all-photo.ru/empire/photos/9045-0.jpg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84;&#1099;&#1083;&#1100;&#1085;&#1099;&#1077;%20&#1087;&#1091;&#1079;&#1099;&#1088;&#1080;.%20&#1055;&#1077;&#1085;&#1072;&amp;p=182&amp;img_url=thumb11.shutterstock.com/thumb_small/384643/384643,1309406479,10/stock-photo-funny-kid-in-the-soap-foam-80161123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84;&#1099;&#1083;&#1100;&#1085;&#1099;&#1077;%20&#1087;&#1091;&#1079;&#1099;&#1088;&#1080;.%20&#1055;&#1077;&#1085;&#1072;&amp;p=100&amp;img_url=static1.porjati.ru/uploads/posts/2011-10/thumbs/1318948629_12694725619933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84;&#1099;&#1083;&#1086;&#1074;&#1072;&#1088;&#1077;&#1085;&#1080;&#1077;&amp;p=61&amp;img_url=shop-podelkin.ru/img/tinymce/Soap/handmade_soap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yandex.ru/yandsearch?rpt=simage&amp;ed=1&amp;text=&#1084;&#1099;&#1083;&#1086;&#1074;&#1072;&#1088;&#1077;&#1085;&#1080;&#1077;&amp;p=117&amp;img_url=radikal.ua/data/upload/6895e/4fa6c/7f2bfd8b2f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images.yandex.ru/yandsearch?rpt=simage&amp;ed=1&amp;text=&#1084;&#1099;&#1083;&#1086;&#1074;&#1072;&#1088;&#1077;&#1085;&#1080;&#1077;%20&#1080;&#1079;%20&#1076;&#1077;&#1090;&#1089;&#1082;&#1086;&#1075;&#1086;%20&#1084;&#1099;&#1083;&#1072;&amp;p=12&amp;img_url=www.readabout.info/Svoimi_rukami/Mylovarenie_doma._Mylo_ruchnoj_raboty/forma_milo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84;&#1099;&#1083;&#1100;&#1085;&#1099;&#1077;%20&#1087;&#1091;&#1079;&#1099;&#1088;&#1080;.%20&#1055;&#1077;&#1085;&#1072;&amp;p=46&amp;img_url=assets1.mmm-tasty.ru/7208828107/assets/att/b3/84/1353449_29719_2122304_x_09741a69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75;&#1086;&#1088;&#1072;%20&#1057;&#1072;&#1087;&#1086;%20&#1074;%20&#1056;&#1080;&#1084;&#1077;&amp;p=2&amp;img_url=900igr.net/datai/tekhnologija/Sinteticheskie-mojuschie-sredstva/0018-030-Kak-vozniklo-mylo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yandex.ru/yandsearch?rpt=simage&amp;ed=1&amp;text=&#1084;&#1099;&#1083;&#1086;&#1074;&#1072;&#1088;&#1077;&#1085;&#1080;&#1077;&amp;p=60&amp;img_url=www.docrafts.co.uk.moikompas.ru/img/compas/2008-02-11/milo/42742310.jp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88;&#1091;&#1080;&#1085;&#1099;%20&#1055;&#1086;&#1084;&#1087;&#1077;&#1080;&amp;p=2&amp;img_url=www.mk.ru/upload/article_images/e1/e3/2e/495_483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yandex.ru/yandsearch?rpt=simage&amp;text=&#1087;&#1088;&#1080;&#1095;&#1105;&#1089;&#1082;&#1080;%20&#1076;&#1088;&#1077;&#1074;&#1085;&#1080;&#1093;%20&#1074;&#1072;&#1074;&#1080;&#1083;&#1086;&#1085;&#1103;&#1085;&amp;p=16&amp;img_url=500.superstrizhka.ru/1612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yandex.ru/yandsearch?rpt=simage&amp;ed=1&amp;text=%20&#1080;&#1079;%20&#1080;&#1089;&#1090;&#1086;&#1088;&#1080;&#1080;%20&#1084;&#1099;&#1083;&#1086;&#1074;&#1072;&#1088;&#1077;&#1085;&#1080;&#1103;&amp;p=3&amp;img_url=s51.radikal.ru/i133/1109/51/da390b43f1fc.jpg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yandex.ru/yandsearch?rpt=simage&amp;text=&#1087;&#1088;&#1080;&#1095;&#1105;&#1089;&#1082;&#1080;%20&#1076;&#1088;&#1077;&#1074;&#1085;&#1080;&#1093;%20&#1074;&#1072;&#1074;&#1080;&#1083;&#1086;&#1085;&#1103;&#1085;&amp;p=8&amp;img_url=stat17.privet.ru/lr/091b07d52d2083520cbcca6693437369" TargetMode="External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88;&#1091;&#1089;&#1089;&#1082;&#1080;&#1077;%20&#1073;&#1072;&#1085;&#1080;&amp;p=18&amp;img_url=www.tunnel.ru/userfiles/ck/images/238/Ballada_o_bane_2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yandex.ru/yandsearch?rpt=simage&amp;ed=1&amp;text=&#1088;&#1091;&#1089;&#1089;&#1082;&#1080;&#1077;%20&#1073;&#1072;&#1085;&#1080;&amp;p=52&amp;img_url=trendymen.ru/places/addresses/images/fitness/banya_new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2286000" y="4221000"/>
            <a:ext cx="610236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а здравствует мыло душисто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999720" y="3857400"/>
            <a:ext cx="7558200" cy="23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12" descr="http://im2-tub-ru.yandex.net/i?id=50404170-59-72">
            <a:hlinkClick r:id="rId1"/>
          </p:cNvPr>
          <p:cNvPicPr/>
          <p:nvPr/>
        </p:nvPicPr>
        <p:blipFill>
          <a:blip r:embed="rId2"/>
          <a:stretch/>
        </p:blipFill>
        <p:spPr>
          <a:xfrm rot="20941200">
            <a:off x="545760" y="781200"/>
            <a:ext cx="3241800" cy="30398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3" descr="http://im8-tub-ru.yandex.net/i?id=370656821-19-7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0760" y="642960"/>
            <a:ext cx="3571920" cy="35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143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ромышленное производство мыла в России налажено во времена Петра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1" name="AutoShape 13"/>
          <p:cNvSpPr/>
          <p:nvPr/>
        </p:nvSpPr>
        <p:spPr>
          <a:xfrm>
            <a:off x="3995640" y="1700280"/>
            <a:ext cx="5148360" cy="4394160"/>
          </a:xfrm>
          <a:prstGeom prst="verticalScroll">
            <a:avLst>
              <a:gd name="adj" fmla="val 12500"/>
            </a:avLst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11" descr="http://im4-tub-ru.yandex.net/i?id=479892835-19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2000160"/>
            <a:ext cx="3429000" cy="40006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2" descr="http://im2-tub-ru.yandex.net/i?id=350718292-19-7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4920" y="2286000"/>
            <a:ext cx="350028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Фабрика Генриха Афанасьевича Брокара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5" name="Содержимое 9" descr="http://im0-tub-ru.yandex.net/i?id=60288950-33-72">
            <a:hlinkClick r:id="rId1"/>
          </p:cNvPr>
          <p:cNvPicPr/>
          <p:nvPr/>
        </p:nvPicPr>
        <p:blipFill>
          <a:blip r:embed="rId2"/>
          <a:stretch/>
        </p:blipFill>
        <p:spPr>
          <a:xfrm rot="21255600">
            <a:off x="247320" y="1776240"/>
            <a:ext cx="3198960" cy="46850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0" descr="http://im0-tub-ru.yandex.net/i?id=170301681-71-72">
            <a:hlinkClick r:id="rId3"/>
          </p:cNvPr>
          <p:cNvPicPr/>
          <p:nvPr/>
        </p:nvPicPr>
        <p:blipFill>
          <a:blip r:embed="rId4"/>
          <a:stretch/>
        </p:blipFill>
        <p:spPr>
          <a:xfrm rot="205800">
            <a:off x="3857400" y="1856880"/>
            <a:ext cx="450036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246880" cy="63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a54f01"/>
                </a:solidFill>
                <a:latin typeface="Arial"/>
              </a:rPr>
              <a:t>Область   применения мыла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 в качестве моющего средства;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ри отбеливании тканей;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 в производстве косметических средств;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 для изготовления полировочных составов водоэмульсионных красок;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 при производстве солидолов;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 при резании металлов;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 в текстильной, кожевенной металлургической           промышленности;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 можно остановить инфекционное воспаление глаз;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 функциональные портновские мелки;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 можно подарить жизнь старой молнии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8" name="Рисунок 12" descr="http://im7-tub-ru.yandex.net/i?id=129102307-35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00920" y="4786200"/>
            <a:ext cx="1928880" cy="20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Классификация мыл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зяйственно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уалетно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чебно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ибактериально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ло-скраб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фюмерно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7" descr="http://im3-tub-ru.yandex.net/i?id=64391597-39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6160" y="1143000"/>
            <a:ext cx="42865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8582040" cy="528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Изготовление мыла в домашних условиях.</a:t>
            </a:r>
            <a:br>
              <a:rPr sz="3200"/>
            </a:b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Приобретение ингредиентов.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3635280" y="486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C:\Documents and Settings\Пользователь\Рабочий стол\P1010783.JPG"/>
          <p:cNvPicPr/>
          <p:nvPr/>
        </p:nvPicPr>
        <p:blipFill>
          <a:blip r:embed="rId1"/>
          <a:stretch/>
        </p:blipFill>
        <p:spPr>
          <a:xfrm>
            <a:off x="928800" y="2143080"/>
            <a:ext cx="2184120" cy="22860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C:\Documents and Settings\Пользователь\Рабочий стол\мыло в домашних условиях\P1010788.JPG"/>
          <p:cNvPicPr/>
          <p:nvPr/>
        </p:nvPicPr>
        <p:blipFill>
          <a:blip r:embed="rId2"/>
          <a:stretch/>
        </p:blipFill>
        <p:spPr>
          <a:xfrm>
            <a:off x="6215040" y="214308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C:\Documents and Settings\Пользователь\Рабочий стол\P1010784.JPG"/>
          <p:cNvPicPr/>
          <p:nvPr/>
        </p:nvPicPr>
        <p:blipFill>
          <a:blip r:embed="rId3"/>
          <a:stretch/>
        </p:blipFill>
        <p:spPr>
          <a:xfrm>
            <a:off x="3643200" y="2143080"/>
            <a:ext cx="2071800" cy="22147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7" descr="C:\Documents and Settings\Пользователь\Рабочий стол\мыло в домашних условиях\P1010796.JPG"/>
          <p:cNvPicPr/>
          <p:nvPr/>
        </p:nvPicPr>
        <p:blipFill>
          <a:blip r:embed="rId4"/>
          <a:stretch/>
        </p:blipFill>
        <p:spPr>
          <a:xfrm>
            <a:off x="714240" y="4929120"/>
            <a:ext cx="1857600" cy="164304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8" descr="C:\Documents and Settings\Пользователь\Рабочий стол\мыло в домашних условиях\P1010797.JPG"/>
          <p:cNvPicPr/>
          <p:nvPr/>
        </p:nvPicPr>
        <p:blipFill>
          <a:blip r:embed="rId5"/>
          <a:stretch/>
        </p:blipFill>
        <p:spPr>
          <a:xfrm>
            <a:off x="3071880" y="4929120"/>
            <a:ext cx="1357200" cy="164304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9" descr="C:\Documents and Settings\Пользователь\Рабочий стол\мыло в домашних условиях\P1010799.JPG"/>
          <p:cNvPicPr/>
          <p:nvPr/>
        </p:nvPicPr>
        <p:blipFill>
          <a:blip r:embed="rId6"/>
          <a:stretch/>
        </p:blipFill>
        <p:spPr>
          <a:xfrm>
            <a:off x="4857840" y="4929120"/>
            <a:ext cx="1500120" cy="16430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0" descr="C:\Documents and Settings\Пользователь\Рабочий стол\мыло в домашних условиях\P1010801.JPG"/>
          <p:cNvPicPr/>
          <p:nvPr/>
        </p:nvPicPr>
        <p:blipFill>
          <a:blip r:embed="rId7"/>
          <a:stretch/>
        </p:blipFill>
        <p:spPr>
          <a:xfrm>
            <a:off x="6858000" y="4857840"/>
            <a:ext cx="14144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- потрите мыло на мелкой тёрке</a:t>
            </a:r>
            <a:br>
              <a:rPr sz="2800"/>
            </a:b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  - добавьте масло-основу</a:t>
            </a:r>
            <a:br>
              <a:rPr sz="2800"/>
            </a:b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  - поставьте на водяную баню</a:t>
            </a:r>
            <a:br>
              <a:rPr sz="2800"/>
            </a:b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  - добавьте глицерина и витамина Е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2" name="Рисунок 2" descr="C:\Documents and Settings\Пользователь\Рабочий стол\мыло в домашних условиях\P1010803.JPG"/>
          <p:cNvPicPr/>
          <p:nvPr/>
        </p:nvPicPr>
        <p:blipFill>
          <a:blip r:embed="rId1"/>
          <a:stretch/>
        </p:blipFill>
        <p:spPr>
          <a:xfrm>
            <a:off x="571680" y="2000160"/>
            <a:ext cx="1785600" cy="23576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3" descr="C:\Documents and Settings\Пользователь\Рабочий стол\мыло в домашних условиях\P1010806.JPG"/>
          <p:cNvPicPr/>
          <p:nvPr/>
        </p:nvPicPr>
        <p:blipFill>
          <a:blip r:embed="rId2"/>
          <a:stretch/>
        </p:blipFill>
        <p:spPr>
          <a:xfrm>
            <a:off x="2643120" y="4357800"/>
            <a:ext cx="1714680" cy="214308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4" descr="C:\Documents and Settings\Пользователь\Рабочий стол\мыло в домашних условиях\P1010802.JPG"/>
          <p:cNvPicPr/>
          <p:nvPr/>
        </p:nvPicPr>
        <p:blipFill>
          <a:blip r:embed="rId3"/>
          <a:stretch/>
        </p:blipFill>
        <p:spPr>
          <a:xfrm>
            <a:off x="6143760" y="4500720"/>
            <a:ext cx="2043000" cy="18716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5" descr="C:\Documents and Settings\Пользователь\Рабочий стол\P1010826.JPG"/>
          <p:cNvPicPr/>
          <p:nvPr/>
        </p:nvPicPr>
        <p:blipFill>
          <a:blip r:embed="rId4"/>
          <a:stretch/>
        </p:blipFill>
        <p:spPr>
          <a:xfrm>
            <a:off x="4643280" y="2071800"/>
            <a:ext cx="164340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- прогреть масло и добавить мыльную стружку</a:t>
            </a:r>
            <a:br>
              <a:rPr sz="2800"/>
            </a:b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- влить несколько капель эфирного масла</a:t>
            </a:r>
            <a:br>
              <a:rPr sz="2800"/>
            </a:b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- засыпать лепестки цветов или сок свёклы</a:t>
            </a:r>
            <a:br>
              <a:rPr sz="2800"/>
            </a:b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7" name="Содержимое 3" descr="C:\Documents and Settings\Пользователь\Рабочий стол\P1010825.JPG"/>
          <p:cNvPicPr/>
          <p:nvPr/>
        </p:nvPicPr>
        <p:blipFill>
          <a:blip r:embed="rId1"/>
          <a:stretch/>
        </p:blipFill>
        <p:spPr>
          <a:xfrm>
            <a:off x="3286080" y="3643200"/>
            <a:ext cx="2571840" cy="27147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4" descr="C:\Documents and Settings\Пользователь\Рабочий стол\мыло в домашних условиях\P1010805.JPG"/>
          <p:cNvPicPr/>
          <p:nvPr/>
        </p:nvPicPr>
        <p:blipFill>
          <a:blip r:embed="rId2"/>
          <a:stretch/>
        </p:blipFill>
        <p:spPr>
          <a:xfrm>
            <a:off x="428760" y="1785960"/>
            <a:ext cx="2571480" cy="285732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5" descr="http://im0-tub-ru.yandex.net/i?id=341266788-34-72"/>
          <p:cNvPicPr/>
          <p:nvPr/>
        </p:nvPicPr>
        <p:blipFill>
          <a:blip r:embed="rId3"/>
          <a:stretch/>
        </p:blipFill>
        <p:spPr>
          <a:xfrm>
            <a:off x="6072120" y="1857240"/>
            <a:ext cx="24289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- разлейте мыло по формочкам</a:t>
            </a:r>
            <a:br>
              <a:rPr sz="2800"/>
            </a:b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 - поставьте на холод</a:t>
            </a:r>
            <a:br>
              <a:rPr sz="2800"/>
            </a:b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 - подсушите мыло  несколько дней и пользуйтесь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1" name="Содержимое 3" descr="C:\Documents and Settings\Пользователь\Рабочий стол\P1010830.JPG"/>
          <p:cNvPicPr/>
          <p:nvPr/>
        </p:nvPicPr>
        <p:blipFill>
          <a:blip r:embed="rId1"/>
          <a:stretch/>
        </p:blipFill>
        <p:spPr>
          <a:xfrm>
            <a:off x="500040" y="2214720"/>
            <a:ext cx="2500200" cy="350028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4" descr="C:\Documents and Settings\Пользователь\Рабочий стол\P1010839.JPG"/>
          <p:cNvPicPr/>
          <p:nvPr/>
        </p:nvPicPr>
        <p:blipFill>
          <a:blip r:embed="rId2"/>
          <a:stretch/>
        </p:blipFill>
        <p:spPr>
          <a:xfrm>
            <a:off x="6215040" y="2143080"/>
            <a:ext cx="2428920" cy="357192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5" descr="C:\Documents and Settings\Пользователь\Рабочий стол\P1010836.JPG"/>
          <p:cNvPicPr/>
          <p:nvPr/>
        </p:nvPicPr>
        <p:blipFill>
          <a:blip r:embed="rId3"/>
          <a:stretch/>
        </p:blipFill>
        <p:spPr>
          <a:xfrm>
            <a:off x="3286080" y="2143080"/>
            <a:ext cx="25718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500040" y="857160"/>
            <a:ext cx="7991640" cy="4824360"/>
          </a:xfrm>
          <a:prstGeom prst="horizontalScroll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Мыло, изготовленное в домашних условиях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хорошо пенится , безопасно для здоровья., не содерж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консервантов. Оно максимально натуральное, основа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только  на растительных компонен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4" descr="http://im2-tub-ru.yandex.net/i?id=69510896-04-72"/>
          <p:cNvPicPr/>
          <p:nvPr/>
        </p:nvPicPr>
        <p:blipFill>
          <a:blip r:embed="rId1"/>
          <a:stretch/>
        </p:blipFill>
        <p:spPr>
          <a:xfrm>
            <a:off x="5929200" y="4071960"/>
            <a:ext cx="2643480" cy="24289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5" descr="http://im0-tub-ru.yandex.net/i?id=109503179-25-72"/>
          <p:cNvPicPr/>
          <p:nvPr/>
        </p:nvPicPr>
        <p:blipFill>
          <a:blip r:embed="rId2"/>
          <a:stretch/>
        </p:blipFill>
        <p:spPr>
          <a:xfrm>
            <a:off x="1428840" y="4071960"/>
            <a:ext cx="3357360" cy="25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1071720"/>
            <a:ext cx="822168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99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9" name="Рисунок 2" descr="http://im3-tub-ru.yandex.net/i?id=64391597-39-72"/>
          <p:cNvPicPr/>
          <p:nvPr/>
        </p:nvPicPr>
        <p:blipFill>
          <a:blip r:embed="rId1"/>
          <a:stretch/>
        </p:blipFill>
        <p:spPr>
          <a:xfrm>
            <a:off x="2357280" y="2857680"/>
            <a:ext cx="378648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ff"/>
                </a:solidFill>
                <a:latin typeface="Arial"/>
              </a:rPr>
              <a:t>Мыло ручной работы очень популярно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53" name="Рисунок 8" descr="http://im6-tub-ru.yandex.net/i?id=239261523-39-72">
            <a:hlinkClick r:id="rId1"/>
          </p:cNvPr>
          <p:cNvPicPr/>
          <p:nvPr/>
        </p:nvPicPr>
        <p:blipFill>
          <a:blip r:embed="rId2"/>
          <a:stretch/>
        </p:blipFill>
        <p:spPr>
          <a:xfrm rot="20382600">
            <a:off x="853920" y="1911240"/>
            <a:ext cx="2864160" cy="29638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9" descr="http://im5-tub-ru.yandex.net/i?id=71449753-48-72">
            <a:hlinkClick r:id="rId3"/>
          </p:cNvPr>
          <p:cNvPicPr/>
          <p:nvPr/>
        </p:nvPicPr>
        <p:blipFill>
          <a:blip r:embed="rId4"/>
          <a:stretch/>
        </p:blipFill>
        <p:spPr>
          <a:xfrm rot="853200">
            <a:off x="4791240" y="2106720"/>
            <a:ext cx="3633480" cy="35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Цель проекта: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142920" y="1844640"/>
            <a:ext cx="8643960" cy="1143000"/>
          </a:xfrm>
          <a:prstGeom prst="horizontalScroll">
            <a:avLst>
              <a:gd name="adj" fmla="val 12500"/>
            </a:avLst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зготовить мыло в домашних услов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AG00317_"/>
          <p:cNvPicPr/>
          <p:nvPr/>
        </p:nvPicPr>
        <p:blipFill>
          <a:blip r:embed="rId1"/>
          <a:stretch/>
        </p:blipFill>
        <p:spPr>
          <a:xfrm>
            <a:off x="1116000" y="2492280"/>
            <a:ext cx="2286000" cy="32101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7" descr="http://im5-tub-ru.yandex.net/i?id=524390287-26-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00280" y="3033720"/>
            <a:ext cx="4929480" cy="339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5840" y="14292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Задачи проекта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0" name="AutoShape 3"/>
          <p:cNvSpPr/>
          <p:nvPr/>
        </p:nvSpPr>
        <p:spPr>
          <a:xfrm>
            <a:off x="0" y="1700280"/>
            <a:ext cx="3168720" cy="2376360"/>
          </a:xfrm>
          <a:prstGeom prst="vertic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3059280" y="2205000"/>
            <a:ext cx="2881080" cy="2376360"/>
          </a:xfrm>
          <a:prstGeom prst="vertic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5940360" y="1773360"/>
            <a:ext cx="3203640" cy="2303280"/>
          </a:xfrm>
          <a:prstGeom prst="vertic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24000" y="2133720"/>
            <a:ext cx="2519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2b00"/>
                </a:solidFill>
                <a:latin typeface="Arial"/>
              </a:rPr>
              <a:t>Познакомиться с историей появления мы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300720" y="2205000"/>
            <a:ext cx="2592360" cy="22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4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2b00"/>
                </a:solidFill>
                <a:latin typeface="Arial"/>
              </a:rPr>
              <a:t>Изучить литературные источники по технологии изготовления мы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635280" y="2637000"/>
            <a:ext cx="1873440" cy="13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2b00"/>
                </a:solidFill>
                <a:latin typeface="Arial"/>
              </a:rPr>
              <a:t>Узнать об областях  его приме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>
            <a:off x="1403280" y="4797360"/>
            <a:ext cx="6337440" cy="165600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1547640" y="5157720"/>
            <a:ext cx="602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2b00"/>
                </a:solidFill>
                <a:latin typeface="Arial"/>
              </a:rPr>
              <a:t>Приобрести все ингредиенты и пошагово выполнить мыловар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 flipH="1">
            <a:off x="2195280" y="1125360"/>
            <a:ext cx="936360" cy="57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7"/>
          <p:cNvSpPr/>
          <p:nvPr/>
        </p:nvSpPr>
        <p:spPr>
          <a:xfrm>
            <a:off x="4572000" y="1197000"/>
            <a:ext cx="0" cy="936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8"/>
          <p:cNvSpPr/>
          <p:nvPr/>
        </p:nvSpPr>
        <p:spPr>
          <a:xfrm>
            <a:off x="6156360" y="1125360"/>
            <a:ext cx="792000" cy="57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9"/>
          <p:cNvSpPr/>
          <p:nvPr/>
        </p:nvSpPr>
        <p:spPr>
          <a:xfrm>
            <a:off x="4500720" y="4581360"/>
            <a:ext cx="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7" descr="http://im5-tub-ru.yandex.net/i?id=95307434-22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214200"/>
            <a:ext cx="13572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700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900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Гипотеза исследования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74" name="Picture 5" descr="AG00317_"/>
          <p:cNvPicPr/>
          <p:nvPr/>
        </p:nvPicPr>
        <p:blipFill>
          <a:blip r:embed="rId1"/>
          <a:stretch/>
        </p:blipFill>
        <p:spPr>
          <a:xfrm>
            <a:off x="539640" y="3573360"/>
            <a:ext cx="1728720" cy="24465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6"/>
          <p:cNvSpPr/>
          <p:nvPr/>
        </p:nvSpPr>
        <p:spPr>
          <a:xfrm>
            <a:off x="2268360" y="1989000"/>
            <a:ext cx="6191280" cy="3654720"/>
          </a:xfrm>
          <a:prstGeom prst="cloudCallout">
            <a:avLst>
              <a:gd name="adj1" fmla="val -53972"/>
              <a:gd name="adj2" fmla="val 10319"/>
            </a:avLst>
          </a:prstGeom>
          <a:solidFill>
            <a:srgbClr val="d9e5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1828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Я предполагаю, что  мыло, изготовленное в домашних условиях, безопаснее чем купленное в магаз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Методы исследования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7" name="AutoShape 8"/>
          <p:cNvSpPr/>
          <p:nvPr/>
        </p:nvSpPr>
        <p:spPr>
          <a:xfrm>
            <a:off x="5940360" y="4292640"/>
            <a:ext cx="2521080" cy="227952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Обоб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9"/>
          <p:cNvSpPr/>
          <p:nvPr/>
        </p:nvSpPr>
        <p:spPr>
          <a:xfrm>
            <a:off x="5796000" y="1557360"/>
            <a:ext cx="3168720" cy="187308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С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0"/>
          <p:cNvSpPr/>
          <p:nvPr/>
        </p:nvSpPr>
        <p:spPr>
          <a:xfrm>
            <a:off x="250920" y="1643040"/>
            <a:ext cx="3106800" cy="27147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С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информ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из справоч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3"/>
          <p:cNvSpPr/>
          <p:nvPr/>
        </p:nvSpPr>
        <p:spPr>
          <a:xfrm>
            <a:off x="1403280" y="436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5"/>
          <p:cNvSpPr/>
          <p:nvPr/>
        </p:nvSpPr>
        <p:spPr>
          <a:xfrm flipH="1">
            <a:off x="2500200" y="1500120"/>
            <a:ext cx="2214720" cy="18162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6"/>
          <p:cNvSpPr/>
          <p:nvPr/>
        </p:nvSpPr>
        <p:spPr>
          <a:xfrm>
            <a:off x="5867280" y="1268280"/>
            <a:ext cx="936720" cy="863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7"/>
          <p:cNvSpPr/>
          <p:nvPr/>
        </p:nvSpPr>
        <p:spPr>
          <a:xfrm>
            <a:off x="5437080" y="1268280"/>
            <a:ext cx="1079640" cy="36734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9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1"/>
          <p:cNvSpPr/>
          <p:nvPr/>
        </p:nvSpPr>
        <p:spPr>
          <a:xfrm flipH="1">
            <a:off x="4429080" y="1341360"/>
            <a:ext cx="574560" cy="26593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2"/>
          <p:cNvSpPr/>
          <p:nvPr/>
        </p:nvSpPr>
        <p:spPr>
          <a:xfrm>
            <a:off x="3000240" y="4071960"/>
            <a:ext cx="2357640" cy="2428920"/>
          </a:xfrm>
          <a:prstGeom prst="pi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Наблю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Из истории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285840" y="1214280"/>
            <a:ext cx="4933800" cy="1785960"/>
          </a:xfrm>
          <a:prstGeom prst="flowChartDocumen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2b00"/>
                </a:solidFill>
                <a:latin typeface="Arial"/>
              </a:rPr>
              <a:t>Легенда гласит, что сло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2b00"/>
                </a:solidFill>
                <a:latin typeface="Arial"/>
              </a:rPr>
              <a:t>«мыло»    произош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2b00"/>
                </a:solidFill>
                <a:latin typeface="Arial"/>
              </a:rPr>
              <a:t>от названия горы Сапо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2b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42b00"/>
                </a:solidFill>
                <a:latin typeface="Arial"/>
              </a:rPr>
              <a:t>древнем Ри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11" descr="http://im3-tub-ru.yandex.net/i?id=336928893-54-72">
            <a:hlinkClick r:id="rId1"/>
          </p:cNvPr>
          <p:cNvPicPr/>
          <p:nvPr/>
        </p:nvPicPr>
        <p:blipFill>
          <a:blip r:embed="rId2"/>
          <a:stretch/>
        </p:blipFill>
        <p:spPr>
          <a:xfrm rot="321000">
            <a:off x="5435280" y="1549080"/>
            <a:ext cx="2800440" cy="43099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4" descr="http://im0-tub-ru.yandex.net/i?id=181782987-36-7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5880" y="3000240"/>
            <a:ext cx="30718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6600"/>
                </a:solidFill>
                <a:latin typeface="Arial"/>
              </a:rPr>
              <a:t>                 </a:t>
            </a: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2" name="Шестиугольник 16"/>
          <p:cNvSpPr/>
          <p:nvPr/>
        </p:nvSpPr>
        <p:spPr>
          <a:xfrm rot="20797200">
            <a:off x="560160" y="151920"/>
            <a:ext cx="3497040" cy="278928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00b050"/>
          </a:solidFill>
          <a:ln w="25560">
            <a:solidFill>
              <a:srgbClr val="b9af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Первые мыловарни выявлены среди руин знаменитой Помпе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Содержимое 17" descr="http://im2-tub-ru.yandex.net/i?id=68444859-62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29160" y="0"/>
            <a:ext cx="3714840" cy="37148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8" descr="http://im0-tub-ru.yandex.net/i?id=532036616-22-72">
            <a:hlinkClick r:id="rId3"/>
          </p:cNvPr>
          <p:cNvPicPr/>
          <p:nvPr/>
        </p:nvPicPr>
        <p:blipFill>
          <a:blip r:embed="rId4"/>
          <a:stretch/>
        </p:blipFill>
        <p:spPr>
          <a:xfrm rot="21368400">
            <a:off x="3787560" y="3973320"/>
            <a:ext cx="1908000" cy="27367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9" descr="http://im3-tub-ru.yandex.net/i?id=296664691-65-72">
            <a:hlinkClick r:id="rId5"/>
          </p:cNvPr>
          <p:cNvPicPr/>
          <p:nvPr/>
        </p:nvPicPr>
        <p:blipFill>
          <a:blip r:embed="rId6"/>
          <a:stretch/>
        </p:blipFill>
        <p:spPr>
          <a:xfrm rot="21364200">
            <a:off x="674280" y="3540240"/>
            <a:ext cx="2579760" cy="31240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20" descr="http://im3-tub-ru.yandex.net/i?id=282099161-57-7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72120" y="3929040"/>
            <a:ext cx="2928960" cy="27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262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Русские бани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98" name="Содержимое 3" descr="http://im6-tub-ru.yandex.net/i?id=294028207-68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1285920"/>
            <a:ext cx="3500640" cy="48578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http://im8-tub-ru.yandex.net/i?id=226878405-56-7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1571760"/>
            <a:ext cx="36432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0:51:15Z</dcterms:created>
  <dc:creator>НАЧ КЛАССЫ</dc:creator>
  <dc:description/>
  <dc:language>en-US</dc:language>
  <cp:lastModifiedBy>Пользователь</cp:lastModifiedBy>
  <dcterms:modified xsi:type="dcterms:W3CDTF">2012-05-02T07:40:30Z</dcterms:modified>
  <cp:revision>56</cp:revision>
  <dc:subject/>
  <dc:title>Слайд 1</dc:title>
</cp:coreProperties>
</file>