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6858-3426-4BB9-A668-45523638D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A7E6-C341-40E0-A97F-398D347C8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5DA6-3294-4096-A3F9-949D06F416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FA68-456C-481E-8FCE-C9476EB78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95A-A533-4A53-B090-41F01D7D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8F2-D202-4A82-9851-7607FC2F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361-2264-4ECF-A5A0-643FDF90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068-0EE0-4074-BFAB-D0FA2C8F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66C-4C28-455E-A24D-937904B0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C5E-FE06-4ED0-B9B9-9ADD442D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91B-2CAE-48F4-8162-89AF92F2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03A-6F80-47F6-A44A-0C311498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E5F-F716-4B22-8F7A-3957538D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035-59C0-4077-BBD6-86F85AB4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85C-96BE-4FC3-85FF-E7DB4595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561-9B9B-4AE4-BD3C-971A5E46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36B3-C28C-48EE-83DD-D01CD0620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4;&#1099;&#1083;&#1100;&#1085;&#1099;&#1077;%20&#1087;&#1091;&#1079;&#1099;&#1088;&#1080;.%20&#1055;&#1077;&#1085;&#1072;&amp;p=54&amp;img_url=m.io.ua/img_aa/medium/1690/15/16901558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rpt=simage&amp;ed=1&amp;text=&#1084;&#1099;&#1083;&#1100;&#1085;&#1099;&#1077;%20&#1087;&#1091;&#1079;&#1099;&#1088;&#1080;.%20&#1055;&#1077;&#1085;&#1072;&amp;p=153&amp;img_url=us.123rf.com/400wm/400/400/nikkytok/nikkytok1007/nikkytok100700235/7457020-hand-catching-a-soap-bubb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55;&#1105;&#1090;&#1088;%201&amp;p=6&amp;img_url=www.myjulia.ru/data/cache/2011/06/26/803997_3036-0x600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text=&#1075;&#1077;&#1088;&#1073;%20&#1075;&#1086;&#1088;&#1086;&#1076;&#1072;%20&#1064;&#1091;&#1103;&amp;p=2&amp;img_url=www.popov.org/photo/2181/town-emblem-32.3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43;&#1077;&#1085;&#1088;&#1080;&#1093;%20&#1040;&#1092;&#1072;&#1085;&#1072;&#1089;&#1100;&#1077;&#1074;&#1080;&#1095;%20&#1041;&#1088;&#1086;&#1082;&#1072;&#1088;&amp;p=4&amp;img_url=www.bossmag.ru/images.mag/2008-12/76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yandex.ru/yandsearch?rpt=simage&amp;text=&#1043;&#1077;&#1085;&#1088;&#1080;&#1093;%20&#1040;&#1092;&#1072;&#1085;&#1072;&#1089;&#1100;&#1077;&#1074;&#1080;&#1095;%20&#1041;&#1088;&#1086;&#1082;&#1072;&#1088;&amp;p=14&amp;img_url=all-photo.ru/empire/photos/9045-0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4;&#1099;&#1083;&#1100;&#1085;&#1099;&#1077;%20&#1087;&#1091;&#1079;&#1099;&#1088;&#1080;.%20&#1055;&#1077;&#1085;&#1072;&amp;p=182&amp;img_url=thumb11.shutterstock.com/thumb_small/384643/384643,1309406479,10/stock-photo-funny-kid-in-the-soap-foam-80161123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4;&#1099;&#1083;&#1100;&#1085;&#1099;&#1077;%20&#1087;&#1091;&#1079;&#1099;&#1088;&#1080;.%20&#1055;&#1077;&#1085;&#1072;&amp;p=100&amp;img_url=static1.porjati.ru/uploads/posts/2011-10/thumbs/1318948629_12694725619933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4;&#1099;&#1083;&#1086;&#1074;&#1072;&#1088;&#1077;&#1085;&#1080;&#1077;&amp;p=61&amp;img_url=shop-podelkin.ru/img/tinymce/Soap/handmade_soap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rpt=simage&amp;ed=1&amp;text=&#1084;&#1099;&#1083;&#1086;&#1074;&#1072;&#1088;&#1077;&#1085;&#1080;&#1077;&amp;p=117&amp;img_url=radikal.ua/data/upload/6895e/4fa6c/7f2bfd8b2f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images.yandex.ru/yandsearch?rpt=simage&amp;ed=1&amp;text=&#1084;&#1099;&#1083;&#1086;&#1074;&#1072;&#1088;&#1077;&#1085;&#1080;&#1077;%20&#1080;&#1079;%20&#1076;&#1077;&#1090;&#1089;&#1082;&#1086;&#1075;&#1086;%20&#1084;&#1099;&#1083;&#1072;&amp;p=12&amp;img_url=www.readabout.info/Svoimi_rukami/Mylovarenie_doma._Mylo_ruchnoj_raboty/forma_milo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4;&#1099;&#1083;&#1100;&#1085;&#1099;&#1077;%20&#1087;&#1091;&#1079;&#1099;&#1088;&#1080;.%20&#1055;&#1077;&#1085;&#1072;&amp;p=46&amp;img_url=assets1.mmm-tasty.ru/7208828107/assets/att/b3/84/1353449_29719_2122304_x_09741a6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75;&#1086;&#1088;&#1072;%20&#1057;&#1072;&#1087;&#1086;%20&#1074;%20&#1056;&#1080;&#1084;&#1077;&amp;p=2&amp;img_url=900igr.net/datai/tekhnologija/Sinteticheskie-mojuschie-sredstva/0018-030-Kak-vozniklo-mylo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4;&#1099;&#1083;&#1086;&#1074;&#1072;&#1088;&#1077;&#1085;&#1080;&#1077;&amp;p=60&amp;img_url=www.docrafts.co.uk.moikompas.ru/img/compas/2008-02-11/milo/42742310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8;&#1091;&#1080;&#1085;&#1099;%20&#1055;&#1086;&#1084;&#1087;&#1077;&#1080;&amp;p=2&amp;img_url=www.mk.ru/upload/article_images/e1/e3/2e/495_483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rpt=simage&amp;text=&#1087;&#1088;&#1080;&#1095;&#1105;&#1089;&#1082;&#1080;%20&#1076;&#1088;&#1077;&#1074;&#1085;&#1080;&#1093;%20&#1074;&#1072;&#1074;&#1080;&#1083;&#1086;&#1085;&#1103;&#1085;&amp;p=16&amp;img_url=500.superstrizhka.ru/1612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rpt=simage&amp;ed=1&amp;text=%20&#1080;&#1079;%20&#1080;&#1089;&#1090;&#1086;&#1088;&#1080;&#1080;%20&#1084;&#1099;&#1083;&#1086;&#1074;&#1072;&#1088;&#1077;&#1085;&#1080;&#1103;&amp;p=3&amp;img_url=s51.radikal.ru/i133/1109/51/da390b43f1fc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rpt=simage&amp;text=&#1087;&#1088;&#1080;&#1095;&#1105;&#1089;&#1082;&#1080;%20&#1076;&#1088;&#1077;&#1074;&#1085;&#1080;&#1093;%20&#1074;&#1072;&#1074;&#1080;&#1083;&#1086;&#1085;&#1103;&#1085;&amp;p=8&amp;img_url=stat17.privet.ru/lr/091b07d52d2083520cbcca6693437369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8;&#1091;&#1089;&#1089;&#1082;&#1080;&#1077;%20&#1073;&#1072;&#1085;&#1080;&amp;p=18&amp;img_url=www.tunnel.ru/userfiles/ck/images/238/Ballada_o_bane_2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rpt=simage&amp;ed=1&amp;text=&#1088;&#1091;&#1089;&#1089;&#1082;&#1080;&#1077;%20&#1073;&#1072;&#1085;&#1080;&amp;p=52&amp;img_url=trendymen.ru/places/addresses/images/fitness/banya_new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2286000" y="4221000"/>
            <a:ext cx="6102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 здравствует мыло душисто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9720" y="3857400"/>
            <a:ext cx="7558200" cy="23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2" descr="http://im2-tub-ru.yandex.net/i?id=50404170-59-72">
            <a:hlinkClick r:id="rId1"/>
          </p:cNvPr>
          <p:cNvPicPr/>
          <p:nvPr/>
        </p:nvPicPr>
        <p:blipFill>
          <a:blip r:embed="rId2"/>
          <a:stretch/>
        </p:blipFill>
        <p:spPr>
          <a:xfrm rot="20941200">
            <a:off x="545760" y="781200"/>
            <a:ext cx="3241800" cy="3039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http://im8-tub-ru.yandex.net/i?id=370656821-19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760" y="642960"/>
            <a:ext cx="357192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143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омышленное производство мыла в России налажено во времена Петра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3995640" y="1700280"/>
            <a:ext cx="5148360" cy="4394160"/>
          </a:xfrm>
          <a:prstGeom prst="verticalScroll">
            <a:avLst>
              <a:gd name="adj" fmla="val 12500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1" descr="http://im4-tub-ru.yandex.net/i?id=479892835-19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000160"/>
            <a:ext cx="3429000" cy="40006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2" descr="http://im2-tub-ru.yandex.net/i?id=350718292-19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2286000"/>
            <a:ext cx="350028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Фабрика Генриха Афанасьевича Брокара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5" name="Содержимое 9" descr="http://im0-tub-ru.yandex.net/i?id=60288950-33-72">
            <a:hlinkClick r:id="rId1"/>
          </p:cNvPr>
          <p:cNvPicPr/>
          <p:nvPr/>
        </p:nvPicPr>
        <p:blipFill>
          <a:blip r:embed="rId2"/>
          <a:stretch/>
        </p:blipFill>
        <p:spPr>
          <a:xfrm rot="21255600">
            <a:off x="247320" y="1776240"/>
            <a:ext cx="3198960" cy="46850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http://im0-tub-ru.yandex.net/i?id=170301681-71-72">
            <a:hlinkClick r:id="rId3"/>
          </p:cNvPr>
          <p:cNvPicPr/>
          <p:nvPr/>
        </p:nvPicPr>
        <p:blipFill>
          <a:blip r:embed="rId4"/>
          <a:stretch/>
        </p:blipFill>
        <p:spPr>
          <a:xfrm rot="205800">
            <a:off x="3857400" y="1856880"/>
            <a:ext cx="45003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4688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a54f01"/>
                </a:solidFill>
                <a:latin typeface="Arial"/>
              </a:rPr>
              <a:t>Область   применения мыла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в качестве моющего средства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отбеливании тканей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в производстве косметических средств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для изготовления полировочных составов водоэмульсионных красок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при производстве солидолов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при резании металлов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в текстильной, кожевенной металлургической           промышленности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можно остановить инфекционное воспаление глаз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функциональные портновские мелки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можно подарить жизнь старой молнии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8" name="Рисунок 12" descr="http://im7-tub-ru.yandex.net/i?id=129102307-35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00920" y="4786200"/>
            <a:ext cx="192888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Классификация мыл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алет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чеб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бактериаль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ло-скра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фюмер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http://im3-tub-ru.yandex.net/i?id=64391597-39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143000"/>
            <a:ext cx="42865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58204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Изготовление мыла в домашних условиях.</a:t>
            </a:r>
            <a:br>
              <a:rPr sz="3200"/>
            </a:b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риобретение ингредиентов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3635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C:\Documents and Settings\Пользователь\Рабочий стол\P1010783.JPG"/>
          <p:cNvPicPr/>
          <p:nvPr/>
        </p:nvPicPr>
        <p:blipFill>
          <a:blip r:embed="rId1"/>
          <a:stretch/>
        </p:blipFill>
        <p:spPr>
          <a:xfrm>
            <a:off x="928800" y="2143080"/>
            <a:ext cx="218412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:\Documents and Settings\Пользователь\Рабочий стол\мыло в домашних условиях\P1010788.JPG"/>
          <p:cNvPicPr/>
          <p:nvPr/>
        </p:nvPicPr>
        <p:blipFill>
          <a:blip r:embed="rId2"/>
          <a:stretch/>
        </p:blipFill>
        <p:spPr>
          <a:xfrm>
            <a:off x="6215040" y="214308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C:\Documents and Settings\Пользователь\Рабочий стол\P1010784.JPG"/>
          <p:cNvPicPr/>
          <p:nvPr/>
        </p:nvPicPr>
        <p:blipFill>
          <a:blip r:embed="rId3"/>
          <a:stretch/>
        </p:blipFill>
        <p:spPr>
          <a:xfrm>
            <a:off x="3643200" y="2143080"/>
            <a:ext cx="2071800" cy="22147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C:\Documents and Settings\Пользователь\Рабочий стол\мыло в домашних условиях\P1010796.JPG"/>
          <p:cNvPicPr/>
          <p:nvPr/>
        </p:nvPicPr>
        <p:blipFill>
          <a:blip r:embed="rId4"/>
          <a:stretch/>
        </p:blipFill>
        <p:spPr>
          <a:xfrm>
            <a:off x="714240" y="4929120"/>
            <a:ext cx="1857600" cy="16430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C:\Documents and Settings\Пользователь\Рабочий стол\мыло в домашних условиях\P1010797.JPG"/>
          <p:cNvPicPr/>
          <p:nvPr/>
        </p:nvPicPr>
        <p:blipFill>
          <a:blip r:embed="rId5"/>
          <a:stretch/>
        </p:blipFill>
        <p:spPr>
          <a:xfrm>
            <a:off x="3071880" y="4929120"/>
            <a:ext cx="1357200" cy="1643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9" descr="C:\Documents and Settings\Пользователь\Рабочий стол\мыло в домашних условиях\P1010799.JPG"/>
          <p:cNvPicPr/>
          <p:nvPr/>
        </p:nvPicPr>
        <p:blipFill>
          <a:blip r:embed="rId6"/>
          <a:stretch/>
        </p:blipFill>
        <p:spPr>
          <a:xfrm>
            <a:off x="4857840" y="492912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0" descr="C:\Documents and Settings\Пользователь\Рабочий стол\мыло в домашних условиях\P1010801.JPG"/>
          <p:cNvPicPr/>
          <p:nvPr/>
        </p:nvPicPr>
        <p:blipFill>
          <a:blip r:embed="rId7"/>
          <a:stretch/>
        </p:blipFill>
        <p:spPr>
          <a:xfrm>
            <a:off x="6858000" y="4857840"/>
            <a:ext cx="14144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- потрите мыло на мелкой тёрке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 - добавьте масло-основу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 - поставьте на водяную баню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 - добавьте глицерина и витамина Е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2" name="Рисунок 2" descr="C:\Documents and Settings\Пользователь\Рабочий стол\мыло в домашних условиях\P1010803.JPG"/>
          <p:cNvPicPr/>
          <p:nvPr/>
        </p:nvPicPr>
        <p:blipFill>
          <a:blip r:embed="rId1"/>
          <a:stretch/>
        </p:blipFill>
        <p:spPr>
          <a:xfrm>
            <a:off x="571680" y="2000160"/>
            <a:ext cx="1785600" cy="2357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C:\Documents and Settings\Пользователь\Рабочий стол\мыло в домашних условиях\P1010806.JPG"/>
          <p:cNvPicPr/>
          <p:nvPr/>
        </p:nvPicPr>
        <p:blipFill>
          <a:blip r:embed="rId2"/>
          <a:stretch/>
        </p:blipFill>
        <p:spPr>
          <a:xfrm>
            <a:off x="2643120" y="4357800"/>
            <a:ext cx="1714680" cy="21430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C:\Documents and Settings\Пользователь\Рабочий стол\мыло в домашних условиях\P1010802.JPG"/>
          <p:cNvPicPr/>
          <p:nvPr/>
        </p:nvPicPr>
        <p:blipFill>
          <a:blip r:embed="rId3"/>
          <a:stretch/>
        </p:blipFill>
        <p:spPr>
          <a:xfrm>
            <a:off x="6143760" y="4500720"/>
            <a:ext cx="2043000" cy="18716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C:\Documents and Settings\Пользователь\Рабочий стол\P1010826.JPG"/>
          <p:cNvPicPr/>
          <p:nvPr/>
        </p:nvPicPr>
        <p:blipFill>
          <a:blip r:embed="rId4"/>
          <a:stretch/>
        </p:blipFill>
        <p:spPr>
          <a:xfrm>
            <a:off x="4643280" y="2071800"/>
            <a:ext cx="164340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- прогреть масло и добавить мыльную стружку</a:t>
            </a:r>
            <a:br>
              <a:rPr sz="2800"/>
            </a:b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- влить несколько капель эфирного масла</a:t>
            </a:r>
            <a:br>
              <a:rPr sz="2800"/>
            </a:b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- засыпать лепестки цветов или сок свёклы</a:t>
            </a:r>
            <a:br>
              <a:rPr sz="2800"/>
            </a:b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Содержимое 3" descr="C:\Documents and Settings\Пользователь\Рабочий стол\P1010825.JPG"/>
          <p:cNvPicPr/>
          <p:nvPr/>
        </p:nvPicPr>
        <p:blipFill>
          <a:blip r:embed="rId1"/>
          <a:stretch/>
        </p:blipFill>
        <p:spPr>
          <a:xfrm>
            <a:off x="3286080" y="3643200"/>
            <a:ext cx="2571840" cy="27147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C:\Documents and Settings\Пользователь\Рабочий стол\мыло в домашних условиях\P1010805.JPG"/>
          <p:cNvPicPr/>
          <p:nvPr/>
        </p:nvPicPr>
        <p:blipFill>
          <a:blip r:embed="rId2"/>
          <a:stretch/>
        </p:blipFill>
        <p:spPr>
          <a:xfrm>
            <a:off x="428760" y="1785960"/>
            <a:ext cx="2571480" cy="28573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http://im0-tub-ru.yandex.net/i?id=341266788-34-72"/>
          <p:cNvPicPr/>
          <p:nvPr/>
        </p:nvPicPr>
        <p:blipFill>
          <a:blip r:embed="rId3"/>
          <a:stretch/>
        </p:blipFill>
        <p:spPr>
          <a:xfrm>
            <a:off x="6072120" y="1857240"/>
            <a:ext cx="2428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- разлейте мыло по формочкам</a:t>
            </a:r>
            <a:br>
              <a:rPr sz="2800"/>
            </a:b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- поставьте на холод</a:t>
            </a:r>
            <a:br>
              <a:rPr sz="2800"/>
            </a:b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- подсушите мыло  несколько дней и пользуйтесь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1" name="Содержимое 3" descr="C:\Documents and Settings\Пользователь\Рабочий стол\P1010830.JPG"/>
          <p:cNvPicPr/>
          <p:nvPr/>
        </p:nvPicPr>
        <p:blipFill>
          <a:blip r:embed="rId1"/>
          <a:stretch/>
        </p:blipFill>
        <p:spPr>
          <a:xfrm>
            <a:off x="500040" y="2214720"/>
            <a:ext cx="2500200" cy="35002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C:\Documents and Settings\Пользователь\Рабочий стол\P1010839.JPG"/>
          <p:cNvPicPr/>
          <p:nvPr/>
        </p:nvPicPr>
        <p:blipFill>
          <a:blip r:embed="rId2"/>
          <a:stretch/>
        </p:blipFill>
        <p:spPr>
          <a:xfrm>
            <a:off x="6215040" y="2143080"/>
            <a:ext cx="2428920" cy="3571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C:\Documents and Settings\Пользователь\Рабочий стол\P1010836.JPG"/>
          <p:cNvPicPr/>
          <p:nvPr/>
        </p:nvPicPr>
        <p:blipFill>
          <a:blip r:embed="rId3"/>
          <a:stretch/>
        </p:blipFill>
        <p:spPr>
          <a:xfrm>
            <a:off x="3286080" y="2143080"/>
            <a:ext cx="25718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500040" y="857160"/>
            <a:ext cx="7991640" cy="482436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ыло, изготовленное в домашних условиях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хорошо пенится , безопасно для здоровья., не содерж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онсервантов. Оно максимально натуральное, основа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лько  на растительных компонен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http://im2-tub-ru.yandex.net/i?id=69510896-04-72"/>
          <p:cNvPicPr/>
          <p:nvPr/>
        </p:nvPicPr>
        <p:blipFill>
          <a:blip r:embed="rId1"/>
          <a:stretch/>
        </p:blipFill>
        <p:spPr>
          <a:xfrm>
            <a:off x="5929200" y="4071960"/>
            <a:ext cx="2643480" cy="2428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http://im0-tub-ru.yandex.net/i?id=109503179-25-72"/>
          <p:cNvPicPr/>
          <p:nvPr/>
        </p:nvPicPr>
        <p:blipFill>
          <a:blip r:embed="rId2"/>
          <a:stretch/>
        </p:blipFill>
        <p:spPr>
          <a:xfrm>
            <a:off x="1428840" y="4071960"/>
            <a:ext cx="335736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071720"/>
            <a:ext cx="822168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99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9" name="Рисунок 2" descr="http://im3-tub-ru.yandex.net/i?id=64391597-39-72"/>
          <p:cNvPicPr/>
          <p:nvPr/>
        </p:nvPicPr>
        <p:blipFill>
          <a:blip r:embed="rId1"/>
          <a:stretch/>
        </p:blipFill>
        <p:spPr>
          <a:xfrm>
            <a:off x="2357280" y="2857680"/>
            <a:ext cx="37864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Мыло ручной работы очень популярно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53" name="Рисунок 8" descr="http://im6-tub-ru.yandex.net/i?id=239261523-39-72">
            <a:hlinkClick r:id="rId1"/>
          </p:cNvPr>
          <p:cNvPicPr/>
          <p:nvPr/>
        </p:nvPicPr>
        <p:blipFill>
          <a:blip r:embed="rId2"/>
          <a:stretch/>
        </p:blipFill>
        <p:spPr>
          <a:xfrm rot="20382600">
            <a:off x="853920" y="1911240"/>
            <a:ext cx="2864160" cy="2963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9" descr="http://im5-tub-ru.yandex.net/i?id=71449753-48-72">
            <a:hlinkClick r:id="rId3"/>
          </p:cNvPr>
          <p:cNvPicPr/>
          <p:nvPr/>
        </p:nvPicPr>
        <p:blipFill>
          <a:blip r:embed="rId4"/>
          <a:stretch/>
        </p:blipFill>
        <p:spPr>
          <a:xfrm rot="853200">
            <a:off x="4791240" y="2106720"/>
            <a:ext cx="363348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42920" y="1844640"/>
            <a:ext cx="8643960" cy="1143000"/>
          </a:xfrm>
          <a:prstGeom prst="horizontalScroll">
            <a:avLst>
              <a:gd name="adj" fmla="val 12500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зготовить мыло в домашни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AG00317_"/>
          <p:cNvPicPr/>
          <p:nvPr/>
        </p:nvPicPr>
        <p:blipFill>
          <a:blip r:embed="rId1"/>
          <a:stretch/>
        </p:blipFill>
        <p:spPr>
          <a:xfrm>
            <a:off x="1116000" y="2492280"/>
            <a:ext cx="2286000" cy="3210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http://im5-tub-ru.yandex.net/i?id=524390287-26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0280" y="3033720"/>
            <a:ext cx="4929480" cy="33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0" y="1700280"/>
            <a:ext cx="3168720" cy="237636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059280" y="2205000"/>
            <a:ext cx="2881080" cy="237636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5940360" y="1773360"/>
            <a:ext cx="3203640" cy="230328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4000" y="2133720"/>
            <a:ext cx="2519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2b00"/>
                </a:solidFill>
                <a:latin typeface="Arial"/>
              </a:rPr>
              <a:t>Познакомиться с историей появления м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300720" y="2205000"/>
            <a:ext cx="259236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2b00"/>
                </a:solidFill>
                <a:latin typeface="Arial"/>
              </a:rPr>
              <a:t>Изучить литературные источники по технологии изготовления мы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635280" y="2637000"/>
            <a:ext cx="1873440" cy="13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2b00"/>
                </a:solidFill>
                <a:latin typeface="Arial"/>
              </a:rPr>
              <a:t>Узнать об областях  его прим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403280" y="4797360"/>
            <a:ext cx="6337440" cy="16560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547640" y="515772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2b00"/>
                </a:solidFill>
                <a:latin typeface="Arial"/>
              </a:rPr>
              <a:t>Приобрести все ингредиенты и пошагово выполнить мылова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2195280" y="1125360"/>
            <a:ext cx="936360" cy="57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4572000" y="1197000"/>
            <a:ext cx="0" cy="936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6156360" y="1125360"/>
            <a:ext cx="792000" cy="57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4500720" y="458136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7" descr="http://im5-tub-ru.yandex.net/i?id=95307434-2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1420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ипотеза исследовани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4" name="Picture 5" descr="AG00317_"/>
          <p:cNvPicPr/>
          <p:nvPr/>
        </p:nvPicPr>
        <p:blipFill>
          <a:blip r:embed="rId1"/>
          <a:stretch/>
        </p:blipFill>
        <p:spPr>
          <a:xfrm>
            <a:off x="539640" y="3573360"/>
            <a:ext cx="1728720" cy="2446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6"/>
          <p:cNvSpPr/>
          <p:nvPr/>
        </p:nvSpPr>
        <p:spPr>
          <a:xfrm>
            <a:off x="2268360" y="1989000"/>
            <a:ext cx="6191280" cy="3654720"/>
          </a:xfrm>
          <a:prstGeom prst="cloudCallout">
            <a:avLst>
              <a:gd name="adj1" fmla="val -53972"/>
              <a:gd name="adj2" fmla="val 10319"/>
            </a:avLst>
          </a:prstGeom>
          <a:solidFill>
            <a:srgbClr val="d9e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Я предполагаю, что  мыло, изготовленное в домашних условиях, безопаснее чем купленное в мага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5940360" y="4292640"/>
            <a:ext cx="2521080" cy="22795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б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5796000" y="1557360"/>
            <a:ext cx="3168720" cy="18730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250920" y="1643040"/>
            <a:ext cx="3106800" cy="27147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С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нформ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з справо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140328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 flipH="1">
            <a:off x="2500200" y="1500120"/>
            <a:ext cx="2214720" cy="1816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5867280" y="1268280"/>
            <a:ext cx="93672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5437080" y="1268280"/>
            <a:ext cx="1079640" cy="3673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 flipH="1">
            <a:off x="4429080" y="1341360"/>
            <a:ext cx="574560" cy="265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3000240" y="4071960"/>
            <a:ext cx="2357640" cy="24289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85840" y="1214280"/>
            <a:ext cx="4933800" cy="1785960"/>
          </a:xfrm>
          <a:prstGeom prst="flowChartDocumen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b00"/>
                </a:solidFill>
                <a:latin typeface="Arial"/>
              </a:rPr>
              <a:t>Легенда гласит, что сл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b00"/>
                </a:solidFill>
                <a:latin typeface="Arial"/>
              </a:rPr>
              <a:t>«мыло»    произош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b00"/>
                </a:solidFill>
                <a:latin typeface="Arial"/>
              </a:rPr>
              <a:t>от названия горы Сапо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b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42b00"/>
                </a:solidFill>
                <a:latin typeface="Arial"/>
              </a:rPr>
              <a:t>древнем Р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1" descr="http://im3-tub-ru.yandex.net/i?id=336928893-54-72">
            <a:hlinkClick r:id="rId1"/>
          </p:cNvPr>
          <p:cNvPicPr/>
          <p:nvPr/>
        </p:nvPicPr>
        <p:blipFill>
          <a:blip r:embed="rId2"/>
          <a:stretch/>
        </p:blipFill>
        <p:spPr>
          <a:xfrm rot="321000">
            <a:off x="5435280" y="1549080"/>
            <a:ext cx="2800440" cy="4309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4" descr="http://im0-tub-ru.yandex.net/i?id=181782987-36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3000240"/>
            <a:ext cx="3071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6600"/>
                </a:solidFill>
                <a:latin typeface="Arial"/>
              </a:rPr>
              <a:t>                 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Шестиугольник 16"/>
          <p:cNvSpPr/>
          <p:nvPr/>
        </p:nvSpPr>
        <p:spPr>
          <a:xfrm rot="20797200">
            <a:off x="560160" y="151920"/>
            <a:ext cx="3497040" cy="278928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00b050"/>
          </a:solidFill>
          <a:ln w="25560">
            <a:solidFill>
              <a:srgbClr val="b9a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Первые мыловарни выявлены среди руин знаменитой Помп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17" descr="http://im2-tub-ru.yandex.net/i?id=68444859-6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http://im0-tub-ru.yandex.net/i?id=532036616-22-72">
            <a:hlinkClick r:id="rId3"/>
          </p:cNvPr>
          <p:cNvPicPr/>
          <p:nvPr/>
        </p:nvPicPr>
        <p:blipFill>
          <a:blip r:embed="rId4"/>
          <a:stretch/>
        </p:blipFill>
        <p:spPr>
          <a:xfrm rot="21368400">
            <a:off x="3787560" y="3973320"/>
            <a:ext cx="1908000" cy="2736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http://im3-tub-ru.yandex.net/i?id=296664691-65-72">
            <a:hlinkClick r:id="rId5"/>
          </p:cNvPr>
          <p:cNvPicPr/>
          <p:nvPr/>
        </p:nvPicPr>
        <p:blipFill>
          <a:blip r:embed="rId6"/>
          <a:stretch/>
        </p:blipFill>
        <p:spPr>
          <a:xfrm rot="21364200">
            <a:off x="674280" y="3540240"/>
            <a:ext cx="2579760" cy="3124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0" descr="http://im3-tub-ru.yandex.net/i?id=282099161-57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72120" y="3929040"/>
            <a:ext cx="292896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262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Русские бан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8" name="Содержимое 3" descr="http://im6-tub-ru.yandex.net/i?id=294028207-6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285920"/>
            <a:ext cx="3500640" cy="48578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http://im8-tub-ru.yandex.net/i?id=226878405-56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571760"/>
            <a:ext cx="36432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0:51:15Z</dcterms:created>
  <dc:creator>НАЧ КЛАССЫ</dc:creator>
  <dc:description/>
  <dc:language>en-US</dc:language>
  <cp:lastModifiedBy>Пользователь</cp:lastModifiedBy>
  <dcterms:modified xsi:type="dcterms:W3CDTF">2012-05-02T07:40:30Z</dcterms:modified>
  <cp:revision>56</cp:revision>
  <dc:subject/>
  <dc:title>Слайд 1</dc:title>
</cp:coreProperties>
</file>