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A9D-2719-46A4-871A-EE9142A1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D13-231E-4C58-8D58-020C8F08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C57-F2E1-4BF3-92CE-14D6D64E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F12-65D5-45F9-916E-7D7945B2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9C4-1DAC-41EC-A63F-43EE5CF5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6A2-1B1B-4E33-A117-478A429D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A5B-9A47-4035-9DF7-502C809C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E6D-B121-4A15-B206-1216F70E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264-9B48-4702-A11C-4AE53047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FF6-9FBF-4D25-A164-8A7979E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018-1C09-4A7E-BAE1-23928174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06F-CA75-4585-B28C-EEA4D4D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1D9-089B-4127-9A21-3EBB99F74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образовательный проект</a:t>
            </a:r>
            <a:br>
              <a:rPr sz="4800"/>
            </a:br>
            <a:r>
              <a:rPr b="1" lang="ru-RU" sz="4800" spc="-1" strike="noStrike">
                <a:solidFill>
                  <a:srgbClr val="19194d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19194d"/>
                </a:solidFill>
                <a:latin typeface="Arial"/>
              </a:rPr>
              <a:t>ТАЛАНТ,ЖИВУЩИЙ СРЕДИ НА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426672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Выполнила воспитатель</a:t>
            </a:r>
            <a:r>
              <a:rPr b="0" lang="en-US" sz="2800" spc="-1" strike="noStrike">
                <a:solidFill>
                  <a:srgbClr val="19194d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Игнатьева Эвел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523880" y="152280"/>
            <a:ext cx="609624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МОУ «Марисолинская средняя образовательная школа» дошкольны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Детство и его ро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5 1.jpg"/>
          <p:cNvPicPr/>
          <p:nvPr/>
        </p:nvPicPr>
        <p:blipFill>
          <a:blip r:embed="rId1"/>
          <a:stretch/>
        </p:blipFill>
        <p:spPr>
          <a:xfrm>
            <a:off x="1371600" y="1371600"/>
            <a:ext cx="2327400" cy="26510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2.jpg"/>
          <p:cNvPicPr/>
          <p:nvPr/>
        </p:nvPicPr>
        <p:blipFill>
          <a:blip r:embed="rId2"/>
          <a:stretch/>
        </p:blipFill>
        <p:spPr>
          <a:xfrm>
            <a:off x="6477120" y="1523880"/>
            <a:ext cx="2460600" cy="3384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1.jpg"/>
          <p:cNvPicPr/>
          <p:nvPr/>
        </p:nvPicPr>
        <p:blipFill>
          <a:blip r:embed="rId3"/>
          <a:stretch/>
        </p:blipFill>
        <p:spPr>
          <a:xfrm>
            <a:off x="3809880" y="2895480"/>
            <a:ext cx="2521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360" y="914400"/>
            <a:ext cx="3506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Admin\Desktop\DSCN2073.JPG"/>
          <p:cNvPicPr/>
          <p:nvPr/>
        </p:nvPicPr>
        <p:blipFill>
          <a:blip r:embed="rId1"/>
          <a:stretch/>
        </p:blipFill>
        <p:spPr>
          <a:xfrm>
            <a:off x="4648320" y="2209680"/>
            <a:ext cx="4039920" cy="371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4720" y="1142640"/>
            <a:ext cx="4041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Встреча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1111Дудин.JPG"/>
          <p:cNvPicPr/>
          <p:nvPr/>
        </p:nvPicPr>
        <p:blipFill>
          <a:blip r:embed="rId2"/>
          <a:stretch/>
        </p:blipFill>
        <p:spPr>
          <a:xfrm>
            <a:off x="1295280" y="2209680"/>
            <a:ext cx="32004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Обществен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1афиша.jpg"/>
          <p:cNvPicPr/>
          <p:nvPr/>
        </p:nvPicPr>
        <p:blipFill>
          <a:blip r:embed="rId1"/>
          <a:stretch/>
        </p:blipFill>
        <p:spPr>
          <a:xfrm>
            <a:off x="1371600" y="1647720"/>
            <a:ext cx="3351240" cy="4630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обьявление.jpg"/>
          <p:cNvPicPr/>
          <p:nvPr/>
        </p:nvPicPr>
        <p:blipFill>
          <a:blip r:embed="rId2"/>
          <a:stretch/>
        </p:blipFill>
        <p:spPr>
          <a:xfrm>
            <a:off x="4952880" y="1676520"/>
            <a:ext cx="329256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Талант земли                                                         марисолин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3" descr="IMG_68511.jpg"/>
          <p:cNvPicPr/>
          <p:nvPr/>
        </p:nvPicPr>
        <p:blipFill>
          <a:blip r:embed="rId1"/>
          <a:stretch/>
        </p:blipFill>
        <p:spPr>
          <a:xfrm>
            <a:off x="1523880" y="1752480"/>
            <a:ext cx="30132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DSC_2320.JPG"/>
          <p:cNvPicPr/>
          <p:nvPr/>
        </p:nvPicPr>
        <p:blipFill>
          <a:blip r:embed="rId2"/>
          <a:stretch/>
        </p:blipFill>
        <p:spPr>
          <a:xfrm>
            <a:off x="4952880" y="1549440"/>
            <a:ext cx="3505320" cy="233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:\В.Дудин\45.jpg"/>
          <p:cNvPicPr/>
          <p:nvPr/>
        </p:nvPicPr>
        <p:blipFill>
          <a:blip r:embed="rId3"/>
          <a:stretch/>
        </p:blipFill>
        <p:spPr>
          <a:xfrm>
            <a:off x="5029200" y="3962520"/>
            <a:ext cx="33526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Награды и 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4" descr="Изображениеfgjgf 010.jpg"/>
          <p:cNvPicPr/>
          <p:nvPr/>
        </p:nvPicPr>
        <p:blipFill>
          <a:blip r:embed="rId1"/>
          <a:stretch/>
        </p:blipFill>
        <p:spPr>
          <a:xfrm>
            <a:off x="1371600" y="1676520"/>
            <a:ext cx="307332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Изображениеfgjgf 011.jpg"/>
          <p:cNvPicPr/>
          <p:nvPr/>
        </p:nvPicPr>
        <p:blipFill>
          <a:blip r:embed="rId2"/>
          <a:stretch/>
        </p:blipFill>
        <p:spPr>
          <a:xfrm>
            <a:off x="4572000" y="1447920"/>
            <a:ext cx="4290840" cy="27716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Изображениеfgjgf 012.jpg"/>
          <p:cNvPicPr/>
          <p:nvPr/>
        </p:nvPicPr>
        <p:blipFill>
          <a:blip r:embed="rId3"/>
          <a:stretch/>
        </p:blipFill>
        <p:spPr>
          <a:xfrm>
            <a:off x="4724280" y="4343400"/>
            <a:ext cx="4032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выполненное исследование поможет мне в пропаганде творчества Вячеслава Михайловича Дудина среди детей  и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4920" y="456840"/>
            <a:ext cx="3124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Талант – не гарантия успеха,   это кредит, который  даёт господь Бог  и вернуть его надо с проц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9194d"/>
                </a:solidFill>
                <a:latin typeface="Arial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19194d"/>
                </a:solidFill>
                <a:latin typeface="Arial"/>
              </a:rPr>
              <a:t>Сергей   Сергеевич  Коз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H:\В.Дудин\4. 11.2015.jpg"/>
          <p:cNvPicPr/>
          <p:nvPr/>
        </p:nvPicPr>
        <p:blipFill>
          <a:blip r:embed="rId1"/>
          <a:stretch/>
        </p:blipFill>
        <p:spPr>
          <a:xfrm>
            <a:off x="4724280" y="160020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Среди жителей нашего села живет много людей, каждый из которых интересен по своему.           Вячеслав Дудин наш земляк, который является яркой личностью в районе и за его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Мы и наши дети мало знаем о его творчестве, а ведь именно такие люди, как Вячеслав Дудин, прославляют наш край, </a:t>
            </a: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нашу марийскую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познакомить детей с творчеством Заслуженного работника культуры  Вячеслава Дудина и изучить его вклад в культурную жизнь села, района и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исследовать творческий путь Вячеслава Дудина</a:t>
            </a:r>
            <a:r>
              <a:rPr b="0" lang="en-US" sz="3200" spc="-1" strike="noStrike">
                <a:solidFill>
                  <a:srgbClr val="19194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систематизировать материал о деятельности и творчестве музыкан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пропагандировать его талант и общественн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9194d"/>
                </a:solidFill>
                <a:uFillTx/>
                <a:latin typeface="Arial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2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раскрытие 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определение цели и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встреча и интервью с музыкан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 подбор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38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план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проведение вводной бесе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с детьми о Вячеславе Дуд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экскурсия в кабинет музыки и встреча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анализ собранной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оформление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результат: конспект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"/>
              </a:rPr>
              <a:t>-продукт: занятие, представление результата работы (презентац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1-28T11:08:5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