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87-BA4C-4385-BD17-30DE1E76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78A-EB0D-4E83-8BCA-5457851B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B33-E5F0-4BFD-ADEA-87282AC3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6E2-5301-44BD-BE98-23BE533D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57F-D116-4E68-8587-2694109A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BFB-8348-4C76-8772-044540EA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B6D-4162-4E70-A54E-1BDC3BCF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2F6-3FDD-45B0-885E-CD911C74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7FB-2D8E-4158-A996-8C57009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EDF-62FD-4E5E-9B6B-8F19C93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975-09B0-402E-B624-B185C24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0CC-E537-4066-9C3B-D982D8C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F43-506E-4145-BD8D-497ADB251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чальной школ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её роль в формировании У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572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МОБУ «Шойбулакская СО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Смирнова М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2280" y="260280"/>
            <a:ext cx="8839440" cy="51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57280" y="6649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«Волшебные лист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Masha\Desktop\IMG_20171013_130859.jpg"/>
          <p:cNvPicPr/>
          <p:nvPr/>
        </p:nvPicPr>
        <p:blipFill>
          <a:blip r:embed="rId2"/>
          <a:stretch/>
        </p:blipFill>
        <p:spPr>
          <a:xfrm>
            <a:off x="725400" y="1487520"/>
            <a:ext cx="3125880" cy="210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Masha\Desktop\IMG_20171013_124551.jpg"/>
          <p:cNvPicPr/>
          <p:nvPr/>
        </p:nvPicPr>
        <p:blipFill>
          <a:blip r:embed="rId3"/>
          <a:stretch/>
        </p:blipFill>
        <p:spPr>
          <a:xfrm>
            <a:off x="5003640" y="1487520"/>
            <a:ext cx="2856240" cy="214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Masha\Desktop\IMG_20171013_124613.jpg"/>
          <p:cNvPicPr/>
          <p:nvPr/>
        </p:nvPicPr>
        <p:blipFill>
          <a:blip r:embed="rId4"/>
          <a:stretch/>
        </p:blipFill>
        <p:spPr>
          <a:xfrm>
            <a:off x="3132000" y="4235400"/>
            <a:ext cx="27608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39080" cy="51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340000" y="2257560"/>
            <a:ext cx="4248000" cy="3255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404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н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7320" y="333360"/>
            <a:ext cx="8839080" cy="51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Masha\Desktop\IMG_20171013_122837.jpg"/>
          <p:cNvPicPr/>
          <p:nvPr/>
        </p:nvPicPr>
        <p:blipFill>
          <a:blip r:embed="rId2"/>
          <a:stretch/>
        </p:blipFill>
        <p:spPr>
          <a:xfrm>
            <a:off x="900000" y="24130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Masha\Desktop\IMG_20171013_122822.jpg"/>
          <p:cNvPicPr/>
          <p:nvPr/>
        </p:nvPicPr>
        <p:blipFill>
          <a:blip r:embed="rId3"/>
          <a:stretch/>
        </p:blipFill>
        <p:spPr>
          <a:xfrm>
            <a:off x="5219640" y="241308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ов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4600" y="260280"/>
            <a:ext cx="8839080" cy="51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52280" y="1484280"/>
            <a:ext cx="204336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2043360" cy="153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1295280" cy="188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Учитель\Desktop\IMG_20171031_100700v.jpg"/>
          <p:cNvPicPr/>
          <p:nvPr/>
        </p:nvPicPr>
        <p:blipFill>
          <a:blip r:embed="rId5"/>
          <a:stretch/>
        </p:blipFill>
        <p:spPr>
          <a:xfrm>
            <a:off x="4211640" y="1940040"/>
            <a:ext cx="3538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476360" y="1718280"/>
            <a:ext cx="7166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  <a:ea typeface="Calibri"/>
              </a:rPr>
              <a:t>Задача педагогов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  <a:ea typeface="Calibri"/>
              </a:rPr>
              <a:t>принять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реализоват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спользо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18960" y="260280"/>
            <a:ext cx="8839440" cy="51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900000" y="1738440"/>
            <a:ext cx="75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в рамках образовательной деятельности есть особое результативное действие, совершаемое в специально организованных педагогом безопасных условиях, которые дают ребёнку возможность действовать самостоятельно и получать результат. Этот результат можно увидеть, осмыслить, применить в реальной пр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03440" y="981000"/>
            <a:ext cx="7992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етод проекта предполага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язь обучения с жизн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самостоятельности и активности детей в учебном процесс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я умения адаптироваться к действи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мение общаться, сотрудничать с детьми в различных видах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8000" y="236520"/>
            <a:ext cx="8839080" cy="512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665280" y="1341360"/>
            <a:ext cx="7775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про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иду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ризнаку предметно-содержательн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характеру конта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родолжительности и результатам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95160" y="1217160"/>
            <a:ext cx="777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проектов по доминирующе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о-ориентирован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прое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ческий прое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7080" y="260280"/>
            <a:ext cx="8839080" cy="51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1187280" y="1557360"/>
            <a:ext cx="64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ом работы над проектом 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д мыслительной деятельност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ранная ими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ные ими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ившиеся или отвергнутые варианты решения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енный конструктивный за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187280" y="162864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ная работа формирует следующие УУ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вны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овы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ыки оценоч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я и навыки работы в сотруднич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уникативны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он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2280" y="260280"/>
            <a:ext cx="88394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svoikrugozor.ru/wp-content/uploads/2015/02/%D0%BF%D0%BE%D0%B4%D0%B5%D0%BB%D0%BA%D0%B8-%D0%BC%D0%B0%D0%BC%D0%B5-%D0%B8%D0%B7-%D1%82%D0%BA%D0%B0%D0%BD%D0%B8-9.jpg"/>
          <p:cNvPicPr/>
          <p:nvPr/>
        </p:nvPicPr>
        <p:blipFill>
          <a:blip r:embed="rId1"/>
          <a:stretch/>
        </p:blipFill>
        <p:spPr>
          <a:xfrm>
            <a:off x="1835280" y="1557360"/>
            <a:ext cx="5546520" cy="312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115920" y="260280"/>
            <a:ext cx="8839080" cy="513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187280" y="53737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«Игольница».3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0200" y="333360"/>
            <a:ext cx="8839440" cy="51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3529080" cy="2213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1116000" y="5300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«Открытка мам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User</cp:lastModifiedBy>
  <dcterms:modified xsi:type="dcterms:W3CDTF">2019-02-26T17:29:08Z</dcterms:modified>
  <cp:revision>34</cp:revision>
  <dc:subject/>
  <dc:title>Проектная деятельность на уроках технологии в начальной школе и её роль в формировании УУД. </dc:title>
</cp:coreProperties>
</file>