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6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D16-E15D-484D-98A2-03037556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BC0-320B-4ECD-9485-088F6F3D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C7D4-4D1E-474F-A063-E2A77762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D735-C6A1-4594-BECF-25FB1A8F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E23-2407-4C93-B224-DE622323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2F16-B4BE-47A0-9C0C-19CD8456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D79-78DA-473E-A18A-B0B050A9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DA9B-EB8E-4941-A15A-DD2A68FE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F19-F6AF-48E5-A2A4-B221934B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72DB-5893-4A55-856D-35637E27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7A9-F99D-4E20-B84B-BC54E189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8DD-0114-45C7-81DE-8C079045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ff"/>
            </a:gs>
            <a:gs pos="100000">
              <a:srgbClr val="78949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9ABC-C426-42A5-A55B-646A638B64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1714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ектная деятельность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 уроках технологи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начальной школ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её роль в формировании УУД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572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МОБУ «Шойбулакская СО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Смирнова М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2280" y="260280"/>
            <a:ext cx="8839440" cy="513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557280" y="6649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«Волшебные лист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C:\Users\Masha\Desktop\IMG_20171013_130859.jpg"/>
          <p:cNvPicPr/>
          <p:nvPr/>
        </p:nvPicPr>
        <p:blipFill>
          <a:blip r:embed="rId2"/>
          <a:stretch/>
        </p:blipFill>
        <p:spPr>
          <a:xfrm>
            <a:off x="725400" y="1487520"/>
            <a:ext cx="3125880" cy="2101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Masha\Desktop\IMG_20171013_124551.jpg"/>
          <p:cNvPicPr/>
          <p:nvPr/>
        </p:nvPicPr>
        <p:blipFill>
          <a:blip r:embed="rId3"/>
          <a:stretch/>
        </p:blipFill>
        <p:spPr>
          <a:xfrm>
            <a:off x="5003640" y="1487520"/>
            <a:ext cx="2856240" cy="2141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Users\Masha\Desktop\IMG_20171013_124613.jpg"/>
          <p:cNvPicPr/>
          <p:nvPr/>
        </p:nvPicPr>
        <p:blipFill>
          <a:blip r:embed="rId4"/>
          <a:stretch/>
        </p:blipFill>
        <p:spPr>
          <a:xfrm>
            <a:off x="3132000" y="4235400"/>
            <a:ext cx="276084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38240" y="189000"/>
            <a:ext cx="8839080" cy="512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2340000" y="2257560"/>
            <a:ext cx="4248000" cy="32558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404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нительны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57320" y="333360"/>
            <a:ext cx="8839080" cy="512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Masha\Desktop\IMG_20171013_122837.jpg"/>
          <p:cNvPicPr/>
          <p:nvPr/>
        </p:nvPicPr>
        <p:blipFill>
          <a:blip r:embed="rId2"/>
          <a:stretch/>
        </p:blipFill>
        <p:spPr>
          <a:xfrm>
            <a:off x="900000" y="241308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Users\Masha\Desktop\IMG_20171013_122822.jpg"/>
          <p:cNvPicPr/>
          <p:nvPr/>
        </p:nvPicPr>
        <p:blipFill>
          <a:blip r:embed="rId3"/>
          <a:stretch/>
        </p:blipFill>
        <p:spPr>
          <a:xfrm>
            <a:off x="5219640" y="2413080"/>
            <a:ext cx="302436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1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оговы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74600" y="260280"/>
            <a:ext cx="8839080" cy="513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152280" y="1484280"/>
            <a:ext cx="2043360" cy="1444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152280" y="4876920"/>
            <a:ext cx="2043360" cy="1531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4"/>
          <a:stretch/>
        </p:blipFill>
        <p:spPr>
          <a:xfrm>
            <a:off x="2340000" y="2924280"/>
            <a:ext cx="1295280" cy="1884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:\Users\Учитель\Desktop\IMG_20171031_100700v.jpg"/>
          <p:cNvPicPr/>
          <p:nvPr/>
        </p:nvPicPr>
        <p:blipFill>
          <a:blip r:embed="rId5"/>
          <a:stretch/>
        </p:blipFill>
        <p:spPr>
          <a:xfrm>
            <a:off x="4211640" y="1940040"/>
            <a:ext cx="35384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476360" y="1718280"/>
            <a:ext cx="71661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Calibri"/>
                <a:ea typeface="Calibri"/>
              </a:rPr>
              <a:t>Задача педагогов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Calibri"/>
                <a:ea typeface="Calibri"/>
              </a:rPr>
              <a:t>принять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реализовать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использов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214200" y="35712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в начальной школе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318960" y="260280"/>
            <a:ext cx="8839440" cy="513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214200" y="28584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в начальной школе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900000" y="1738440"/>
            <a:ext cx="75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 в рамках образовательной деятельности есть особое результативное действие, совершаемое в специально организованных педагогом безопасных условиях, которые дают ребёнку возможность действовать самостоятельно и получать результат. Этот результат можно увидеть, осмыслить, применить в реальной практ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214200" y="28584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в начальной школе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703440" y="981000"/>
            <a:ext cx="7992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етод проекта предполага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вязь обучения с жизнь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витие самостоятельности и активности детей в учебном процесс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вития умения адаптироваться к действительн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мение общаться, сотрудничать с детьми в различных видах де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8000" y="236520"/>
            <a:ext cx="8839080" cy="5126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"/>
          <p:cNvSpPr/>
          <p:nvPr/>
        </p:nvSpPr>
        <p:spPr>
          <a:xfrm>
            <a:off x="665280" y="1341360"/>
            <a:ext cx="7775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ассификация проек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виду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признаку предметно-содержательной обл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характеру конта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количеству участ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продолжительности и результатам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214200" y="35712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в начальной школе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643040" y="1571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95160" y="1217160"/>
            <a:ext cx="777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ассификация проектов по доминирующе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ктико-ориентированн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онный проек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ворческий проек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7080" y="260280"/>
            <a:ext cx="8839080" cy="513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"/>
          <p:cNvSpPr/>
          <p:nvPr/>
        </p:nvSpPr>
        <p:spPr>
          <a:xfrm>
            <a:off x="1187280" y="1557360"/>
            <a:ext cx="640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зультатом работы над проектом яв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д мыслительной деятельности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ранная ими информ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бретенные ими 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явившиеся или отвергнутые варианты решения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денный конструктивный замы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1187280" y="1628640"/>
            <a:ext cx="720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ектная работа формирует следующие УУ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флексивные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исковые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выки оценочной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ния и навыки работы в сотрудничест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муникативные ум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зентационные ум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2280" y="260280"/>
            <a:ext cx="883944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http://svoikrugozor.ru/wp-content/uploads/2015/02/%D0%BF%D0%BE%D0%B4%D0%B5%D0%BB%D0%BA%D0%B8-%D0%BC%D0%B0%D0%BC%D0%B5-%D0%B8%D0%B7-%D1%82%D0%BA%D0%B0%D0%BD%D0%B8-9.jpg"/>
          <p:cNvPicPr/>
          <p:nvPr/>
        </p:nvPicPr>
        <p:blipFill>
          <a:blip r:embed="rId1"/>
          <a:stretch/>
        </p:blipFill>
        <p:spPr>
          <a:xfrm>
            <a:off x="1835280" y="1557360"/>
            <a:ext cx="5546520" cy="3120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115920" y="260280"/>
            <a:ext cx="8839080" cy="513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1187280" y="537372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ект «Игольница».3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60200" y="333360"/>
            <a:ext cx="8839440" cy="51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2951280" cy="221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3529080" cy="22132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1116000" y="530064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ект «Открытка мам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00:13:52Z</dcterms:created>
  <dc:creator>Admin</dc:creator>
  <dc:description/>
  <dc:language>en-US</dc:language>
  <cp:lastModifiedBy>User</cp:lastModifiedBy>
  <dcterms:modified xsi:type="dcterms:W3CDTF">2019-02-26T17:29:08Z</dcterms:modified>
  <cp:revision>34</cp:revision>
  <dc:subject/>
  <dc:title>Проектная деятельность на уроках технологии в начальной школе и её роль в формировании УУД. </dc:title>
</cp:coreProperties>
</file>