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jpeg" ContentType="image/jpeg"/>
  <Override PartName="/ppt/media/image15.gif" ContentType="image/gif"/>
  <Override PartName="/ppt/media/image1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2.png" ContentType="image/png"/>
  <Override PartName="/ppt/media/image14.jpeg" ContentType="image/jpeg"/>
  <Override PartName="/ppt/media/image5.gif" ContentType="image/gif"/>
  <Override PartName="/ppt/media/image10.gif" ContentType="image/gif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30A-98B8-4377-A73A-3ECE1375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E6B-001A-4010-951A-C187E2DC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13F-0D6C-423E-B7FA-D751EC3A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39B-2ED2-4DF3-B298-D1B12A54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441-15B5-4C80-95A5-3C6E386B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0F4-C01C-4E81-B0BE-E7D8654C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DEE-2C16-489E-9308-130F0FDB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6B0-DD1F-4144-8C32-0769B251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181-8EE1-4D55-8981-1B7D7BA9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2A4-8C7D-402A-8160-EF4BD452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172-82C7-4AA3-949E-883E553E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447-1679-4818-9C25-3F8815E2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C680-5A4C-441E-AE14-54DE145F8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9413000">
            <a:off x="3851280" y="620280"/>
            <a:ext cx="4319640" cy="2592360"/>
          </a:xfrm>
          <a:prstGeom prst="cloudCallout">
            <a:avLst>
              <a:gd name="adj1" fmla="val -80893"/>
              <a:gd name="adj2" fmla="val -3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entury Gothic"/>
              </a:rPr>
              <a:t>На зарядку станови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8911" t="0" r="0" b="3978"/>
          <a:stretch/>
        </p:blipFill>
        <p:spPr>
          <a:xfrm>
            <a:off x="0" y="3068640"/>
            <a:ext cx="3309840" cy="3489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231 L 0.0632 0.05093 C 0.07726 0.06296 0.09827 0.06968 0.12014 0.06968 C 0.14514 0.06968 0.16511 0.06296 0.17917 0.05093 L 0.24618 -0.00231 L -0.00382 -0.00231 Z">
                                      <p:cBhvr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0.06702 0.05324 C 0.08108 0.06528 0.10209 0.07199 0.12396 0.07199 C 0.14896 0.07199 0.16893 0.06528 0.18299 0.05324 L 0.25 1.85185E-006 L -1.66667E-006 1.85185E-006 Z">
                                      <p:cBhvr>
                                        <p:cTn id="11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22228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0920" y="4218120"/>
            <a:ext cx="1792080" cy="1598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659640" y="4508640"/>
            <a:ext cx="2087640" cy="18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flipH="1">
            <a:off x="633240" y="2276640"/>
            <a:ext cx="1758960" cy="180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24360" y="981000"/>
            <a:ext cx="1816200" cy="1816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940360" y="3122640"/>
            <a:ext cx="320364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34240" y="3500280"/>
            <a:ext cx="1836720" cy="30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4760" y="1844640"/>
            <a:ext cx="1814400" cy="302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191040" y="0"/>
            <a:ext cx="1734840" cy="289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1439640" cy="14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280200" y="3933720"/>
            <a:ext cx="1568520" cy="2076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564000" y="836640"/>
            <a:ext cx="2168640" cy="287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55640" y="2276640"/>
            <a:ext cx="152388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24360" y="1341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340000" y="16286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427640" y="2349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164360" y="4221000"/>
            <a:ext cx="1459080" cy="22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052800" y="4365720"/>
            <a:ext cx="1272960" cy="1973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250920" y="2205000"/>
            <a:ext cx="12999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flipH="1">
            <a:off x="6084720" y="3357720"/>
            <a:ext cx="2089440" cy="25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95200" y="3284640"/>
            <a:ext cx="182736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35280" y="438120"/>
            <a:ext cx="180036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093080" y="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427640" y="2276640"/>
            <a:ext cx="1319040" cy="211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763640" y="4292640"/>
            <a:ext cx="1408320" cy="225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236000" y="4005360"/>
            <a:ext cx="14094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188604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6480" cy="214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987640" y="4724280"/>
            <a:ext cx="186696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flipH="1">
            <a:off x="468360" y="184464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flipH="1">
            <a:off x="6443640" y="4149720"/>
            <a:ext cx="2016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3720" y="4076640"/>
            <a:ext cx="1243080" cy="212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48000" y="2133720"/>
            <a:ext cx="2125800" cy="363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365880" y="3357720"/>
            <a:ext cx="1494000" cy="25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4:01:23Z</dcterms:created>
  <dc:creator>User</dc:creator>
  <dc:description/>
  <dc:language>en-US</dc:language>
  <cp:lastModifiedBy>User</cp:lastModifiedBy>
  <dcterms:modified xsi:type="dcterms:W3CDTF">2012-09-02T15:59:42Z</dcterms:modified>
  <cp:revision>5</cp:revision>
  <dc:subject/>
  <dc:title>Слайд 1</dc:title>
</cp:coreProperties>
</file>