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7.jpeg" ContentType="image/jpeg"/>
  <Override PartName="/ppt/media/image15.gif" ContentType="image/gif"/>
  <Override PartName="/ppt/media/image1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6.gif" ContentType="image/gif"/>
  <Override PartName="/ppt/media/image2.png" ContentType="image/png"/>
  <Override PartName="/ppt/media/image14.jpeg" ContentType="image/jpeg"/>
  <Override PartName="/ppt/media/image5.gif" ContentType="image/gif"/>
  <Override PartName="/ppt/media/image10.gif" ContentType="image/gif"/>
  <Override PartName="/ppt/media/image17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8D6-0A50-4F7D-B4FD-78E1D35B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9DF-C685-423F-9126-08BBE2B9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350A-5849-45BE-8300-41426C05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F52D-C7DD-4E77-88B4-9C27E59C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485-B78E-4972-A397-5CB4C1EC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03D-B4C2-4BDB-88A8-C7E08120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B89-AAAD-4124-8A1C-BA814A27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CF2-8ECD-42BD-9680-753972EC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7CF-2FFE-4FBC-8E65-48FDAE80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01E-32E0-4AAF-938E-9C7ED6F4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1AB-01F1-4432-A213-B3A8C3E6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CFF-A308-4770-81D9-BB69A27A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A125-485A-4004-AE59-A01D6B3D5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9413000">
            <a:off x="3851280" y="620280"/>
            <a:ext cx="4319640" cy="2592360"/>
          </a:xfrm>
          <a:prstGeom prst="cloudCallout">
            <a:avLst>
              <a:gd name="adj1" fmla="val -80893"/>
              <a:gd name="adj2" fmla="val -3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entury Gothic"/>
              </a:rPr>
              <a:t>На зарядку становис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8911" t="0" r="0" b="3978"/>
          <a:stretch/>
        </p:blipFill>
        <p:spPr>
          <a:xfrm>
            <a:off x="0" y="3068640"/>
            <a:ext cx="3309840" cy="3489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231 L 0.0632 0.05093 C 0.07726 0.06296 0.09827 0.06968 0.12014 0.06968 C 0.14514 0.06968 0.16511 0.06296 0.17917 0.05093 L 0.24618 -0.00231 L -0.00382 -0.00231 Z">
                                      <p:cBhvr>
                                        <p:cTn id="9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85185E-006 L 0.06702 0.05324 C 0.08108 0.06528 0.10209 0.07199 0.12396 0.07199 C 0.14896 0.07199 0.16893 0.06528 0.18299 0.05324 L 0.25 1.85185E-006 L -1.66667E-006 1.85185E-006 Z">
                                      <p:cBhvr>
                                        <p:cTn id="11" dur="5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419640" y="3357720"/>
            <a:ext cx="2222280" cy="1981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50920" y="4218120"/>
            <a:ext cx="1792080" cy="1598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659640" y="4508640"/>
            <a:ext cx="2087640" cy="186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 flipH="1">
            <a:off x="633240" y="2276640"/>
            <a:ext cx="1758960" cy="180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924360" y="981000"/>
            <a:ext cx="1816200" cy="1816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940360" y="3122640"/>
            <a:ext cx="320364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34240" y="3500280"/>
            <a:ext cx="1836720" cy="3062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74760" y="1844640"/>
            <a:ext cx="1814400" cy="3024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191040" y="0"/>
            <a:ext cx="1734840" cy="2890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68360" y="333360"/>
            <a:ext cx="1439640" cy="14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280200" y="3933720"/>
            <a:ext cx="1568520" cy="2076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564000" y="836640"/>
            <a:ext cx="2168640" cy="287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55640" y="2276640"/>
            <a:ext cx="152388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24360" y="13413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340000" y="16286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427640" y="23493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164360" y="4221000"/>
            <a:ext cx="1459080" cy="2260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052800" y="4365720"/>
            <a:ext cx="1272960" cy="1973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250920" y="2205000"/>
            <a:ext cx="129996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flipH="1">
            <a:off x="6084720" y="3357720"/>
            <a:ext cx="2089440" cy="255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95200" y="3284640"/>
            <a:ext cx="1827360" cy="316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635280" y="438120"/>
            <a:ext cx="180036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1887480" cy="1887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095720" y="2952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093080" y="0"/>
            <a:ext cx="1887480" cy="1887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427640" y="2276640"/>
            <a:ext cx="1319040" cy="2114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1763640" y="4292640"/>
            <a:ext cx="1408320" cy="2257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236000" y="4005360"/>
            <a:ext cx="14094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908000" y="2492280"/>
            <a:ext cx="188604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2076480" cy="2141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987640" y="4724280"/>
            <a:ext cx="186696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flipH="1">
            <a:off x="468360" y="1844640"/>
            <a:ext cx="1944720" cy="2016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276720" y="328464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flipH="1">
            <a:off x="6443640" y="4149720"/>
            <a:ext cx="2016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3720" y="4076640"/>
            <a:ext cx="1243080" cy="2127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348000" y="2133720"/>
            <a:ext cx="2125800" cy="3638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365880" y="3357720"/>
            <a:ext cx="1494000" cy="255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14:01:23Z</dcterms:created>
  <dc:creator>User</dc:creator>
  <dc:description/>
  <dc:language>en-US</dc:language>
  <cp:lastModifiedBy>User</cp:lastModifiedBy>
  <dcterms:modified xsi:type="dcterms:W3CDTF">2012-09-02T15:59:42Z</dcterms:modified>
  <cp:revision>5</cp:revision>
  <dc:subject/>
  <dc:title>Слайд 1</dc:title>
</cp:coreProperties>
</file>