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7.jpeg" ContentType="image/jpeg"/>
  <Override PartName="/ppt/media/image15.gif" ContentType="image/gif"/>
  <Override PartName="/ppt/media/image1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6.gif" ContentType="image/gif"/>
  <Override PartName="/ppt/media/image2.png" ContentType="image/png"/>
  <Override PartName="/ppt/media/image14.jpeg" ContentType="image/jpeg"/>
  <Override PartName="/ppt/media/image5.gif" ContentType="image/gif"/>
  <Override PartName="/ppt/media/image10.gif" ContentType="image/gif"/>
  <Override PartName="/ppt/media/image17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5FC8-D8F3-439C-B986-102411B33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09D0-4FAF-4857-8DB5-92BE67B5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F246-69A6-4646-AFAC-43EF11CD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E97A-9A45-4CB0-863D-27B7F05B6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EE79-F11B-4F49-9977-8282EA59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6B30-E8DA-45BB-A61A-9E7BFD36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2DE7-035D-4AA3-855E-666D4FCC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4E23-EDE3-46E6-ABFB-127341E8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78D5-19FC-4856-83E8-70BCCF83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9D14-D2B1-4EE5-8D81-354E31ED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F187-AFCE-4537-A389-4C400305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0309-AA06-4DD7-81AD-01370D29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EF09-2835-4A19-BED8-801F8B5A4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9413000">
            <a:off x="3851280" y="620280"/>
            <a:ext cx="4319640" cy="2592360"/>
          </a:xfrm>
          <a:prstGeom prst="cloudCallout">
            <a:avLst>
              <a:gd name="adj1" fmla="val -80893"/>
              <a:gd name="adj2" fmla="val -3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entury Gothic"/>
              </a:rPr>
              <a:t>На зарядку становис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rcRect l="8911" t="0" r="0" b="3978"/>
          <a:stretch/>
        </p:blipFill>
        <p:spPr>
          <a:xfrm>
            <a:off x="0" y="3068640"/>
            <a:ext cx="3309840" cy="3489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3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231 L 0.0632 0.05093 C 0.07726 0.06296 0.09827 0.06968 0.12014 0.06968 C 0.14514 0.06968 0.16511 0.06296 0.17917 0.05093 L 0.24618 -0.00231 L -0.00382 -0.00231 Z">
                                      <p:cBhvr>
                                        <p:cTn id="9" dur="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3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85185E-006 L 0.06702 0.05324 C 0.08108 0.06528 0.10209 0.07199 0.12396 0.07199 C 0.14896 0.07199 0.16893 0.06528 0.18299 0.05324 L 0.25 1.85185E-006 L -1.66667E-006 1.85185E-006 Z">
                                      <p:cBhvr>
                                        <p:cTn id="11" dur="5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419640" y="3357720"/>
            <a:ext cx="2222280" cy="1981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50920" y="4218120"/>
            <a:ext cx="1792080" cy="1598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659640" y="4508640"/>
            <a:ext cx="2087640" cy="186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 flipH="1">
            <a:off x="633240" y="2276640"/>
            <a:ext cx="1758960" cy="1800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924360" y="981000"/>
            <a:ext cx="1816200" cy="1816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940360" y="3122640"/>
            <a:ext cx="3203640" cy="32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34240" y="3500280"/>
            <a:ext cx="1836720" cy="3062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74760" y="1844640"/>
            <a:ext cx="1814400" cy="3024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191040" y="0"/>
            <a:ext cx="1734840" cy="2890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68360" y="333360"/>
            <a:ext cx="1439640" cy="14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280200" y="3933720"/>
            <a:ext cx="1568520" cy="2076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564000" y="836640"/>
            <a:ext cx="2168640" cy="287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755640" y="2276640"/>
            <a:ext cx="152388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724360" y="134136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340000" y="162864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427640" y="234936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7164360" y="4221000"/>
            <a:ext cx="1459080" cy="2260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3052800" y="4365720"/>
            <a:ext cx="1272960" cy="1973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250920" y="2205000"/>
            <a:ext cx="129996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 flipH="1">
            <a:off x="6084720" y="3357720"/>
            <a:ext cx="2089440" cy="255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95200" y="3284640"/>
            <a:ext cx="1827360" cy="3168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635280" y="438120"/>
            <a:ext cx="1800360" cy="12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5280" y="2060640"/>
            <a:ext cx="1887480" cy="1887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095720" y="2952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7093080" y="0"/>
            <a:ext cx="1887480" cy="1887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427640" y="2276640"/>
            <a:ext cx="1319040" cy="2114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1763640" y="4292640"/>
            <a:ext cx="1408320" cy="2257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7236000" y="4005360"/>
            <a:ext cx="140940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908000" y="2492280"/>
            <a:ext cx="1886040" cy="1944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2076480" cy="2141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987640" y="4724280"/>
            <a:ext cx="1866960" cy="19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flipH="1">
            <a:off x="468360" y="1844640"/>
            <a:ext cx="1944720" cy="2016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3276720" y="328464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flipH="1">
            <a:off x="6443640" y="4149720"/>
            <a:ext cx="2016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23720" y="4076640"/>
            <a:ext cx="1243080" cy="2127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348000" y="2133720"/>
            <a:ext cx="2125800" cy="3638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365880" y="3357720"/>
            <a:ext cx="1494000" cy="255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14:01:23Z</dcterms:created>
  <dc:creator>User</dc:creator>
  <dc:description/>
  <dc:language>en-US</dc:language>
  <cp:lastModifiedBy>User</cp:lastModifiedBy>
  <dcterms:modified xsi:type="dcterms:W3CDTF">2012-09-02T15:59:42Z</dcterms:modified>
  <cp:revision>5</cp:revision>
  <dc:subject/>
  <dc:title>Слайд 1</dc:title>
</cp:coreProperties>
</file>