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AEA-7BAA-4D18-8D0A-2BD78913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56A-6B4C-4A12-BAEA-B7F78F2B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EAF-26E6-4003-9478-33704B43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353-DCA9-4774-86C2-DD42C987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A5C-B321-4134-9AD4-4E877FC9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6AD-FC31-44DA-B074-0445E605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925-BC5D-44B7-87E9-0C1C9486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C6D-A375-425E-84A4-81B7851F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143-CA9B-4279-9B6D-0E1ED265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3A2-6429-42DD-A45A-85E6839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924-F8D0-4467-936A-5F9A27AB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5C1-0DE0-4303-8AC5-9604E189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F577-36BA-4540-843A-479834703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file:///tmp/home/.config/libreoffice/4/user/gallery/&#1083;&#1077;&#1090;&#1086;.wav" TargetMode="External"/><Relationship Id="rId6" Type="http://schemas.microsoft.com/office/2007/relationships/media" Target="file:///tmp/home/.config/libreoffice/4/user/gallery/&#1083;&#1077;&#1090;&#1086;.wav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1"/>
          <p:cNvSpPr/>
          <p:nvPr/>
        </p:nvSpPr>
        <p:spPr>
          <a:xfrm>
            <a:off x="6732720" y="549360"/>
            <a:ext cx="1584360" cy="1584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5"/>
          <p:cNvSpPr/>
          <p:nvPr/>
        </p:nvSpPr>
        <p:spPr>
          <a:xfrm rot="669000">
            <a:off x="394920" y="475920"/>
            <a:ext cx="2158920" cy="1295280"/>
          </a:xfrm>
          <a:prstGeom prst="cloudCallout">
            <a:avLst>
              <a:gd name="adj1" fmla="val -56615"/>
              <a:gd name="adj2" fmla="val -12259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47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5"/>
          <p:cNvPicPr/>
          <p:nvPr/>
        </p:nvPicPr>
        <p:blipFill>
          <a:blip r:embed="rId1"/>
          <a:stretch/>
        </p:blipFill>
        <p:spPr>
          <a:xfrm rot="7636800">
            <a:off x="-1804680" y="12240"/>
            <a:ext cx="158436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Freeform 26"/>
          <p:cNvSpPr/>
          <p:nvPr/>
        </p:nvSpPr>
        <p:spPr>
          <a:xfrm rot="21420600">
            <a:off x="-181080" y="4331880"/>
            <a:ext cx="7489800" cy="2978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7" descr="33"/>
          <p:cNvPicPr/>
          <p:nvPr/>
        </p:nvPicPr>
        <p:blipFill>
          <a:blip r:embed="rId3">
            <a:lum bright="-18000"/>
          </a:blip>
          <a:srcRect l="55407" t="0" r="6812" b="0"/>
          <a:stretch/>
        </p:blipFill>
        <p:spPr>
          <a:xfrm>
            <a:off x="2340000" y="5589720"/>
            <a:ext cx="1295280" cy="114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33"/>
          <p:cNvPicPr/>
          <p:nvPr/>
        </p:nvPicPr>
        <p:blipFill>
          <a:blip r:embed="rId4">
            <a:lum bright="-18000"/>
          </a:blip>
          <a:srcRect l="55407" t="0" r="6812" b="0"/>
          <a:stretch/>
        </p:blipFill>
        <p:spPr>
          <a:xfrm rot="1489800">
            <a:off x="4003200" y="567072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0"/>
          <p:cNvSpPr/>
          <p:nvPr/>
        </p:nvSpPr>
        <p:spPr>
          <a:xfrm rot="20037000">
            <a:off x="5740560" y="19843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1"/>
          <p:cNvSpPr/>
          <p:nvPr/>
        </p:nvSpPr>
        <p:spPr>
          <a:xfrm rot="21222000">
            <a:off x="4791240" y="1555920"/>
            <a:ext cx="1939680" cy="11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 rot="466200">
            <a:off x="5573520" y="11239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5"/>
          <p:cNvSpPr/>
          <p:nvPr/>
        </p:nvSpPr>
        <p:spPr>
          <a:xfrm rot="1130400">
            <a:off x="4862520" y="595440"/>
            <a:ext cx="1951200" cy="117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6"/>
          <p:cNvSpPr/>
          <p:nvPr/>
        </p:nvSpPr>
        <p:spPr>
          <a:xfrm rot="19072800">
            <a:off x="5297040" y="2531880"/>
            <a:ext cx="1893960" cy="13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7"/>
          <p:cNvSpPr/>
          <p:nvPr/>
        </p:nvSpPr>
        <p:spPr>
          <a:xfrm rot="18183000">
            <a:off x="6329880" y="2548440"/>
            <a:ext cx="115272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8"/>
          <p:cNvSpPr/>
          <p:nvPr/>
        </p:nvSpPr>
        <p:spPr>
          <a:xfrm rot="16833000">
            <a:off x="6263280" y="3023280"/>
            <a:ext cx="194328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9"/>
          <p:cNvSpPr/>
          <p:nvPr/>
        </p:nvSpPr>
        <p:spPr>
          <a:xfrm rot="15939000">
            <a:off x="7198560" y="267048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2" descr="tree23"/>
          <p:cNvPicPr/>
          <p:nvPr/>
        </p:nvPicPr>
        <p:blipFill>
          <a:blip r:embed="rId8"/>
          <a:stretch/>
        </p:blipFill>
        <p:spPr>
          <a:xfrm>
            <a:off x="-252360" y="2421000"/>
            <a:ext cx="15955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tree23"/>
          <p:cNvPicPr/>
          <p:nvPr/>
        </p:nvPicPr>
        <p:blipFill>
          <a:blip r:embed="rId9"/>
          <a:stretch/>
        </p:blipFill>
        <p:spPr>
          <a:xfrm>
            <a:off x="468360" y="3213000"/>
            <a:ext cx="1595520" cy="168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3" descr="tree23"/>
          <p:cNvPicPr/>
          <p:nvPr/>
        </p:nvPicPr>
        <p:blipFill>
          <a:blip r:embed="rId10"/>
          <a:stretch/>
        </p:blipFill>
        <p:spPr>
          <a:xfrm>
            <a:off x="1116000" y="3933720"/>
            <a:ext cx="1049400" cy="1104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kalendula_kopija"/>
          <p:cNvPicPr/>
          <p:nvPr/>
        </p:nvPicPr>
        <p:blipFill>
          <a:blip r:embed="rId11"/>
          <a:srcRect l="12994" t="0" r="11676" b="0"/>
          <a:stretch/>
        </p:blipFill>
        <p:spPr>
          <a:xfrm>
            <a:off x="395280" y="5230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6" descr="kalendula_kopija"/>
          <p:cNvPicPr/>
          <p:nvPr/>
        </p:nvPicPr>
        <p:blipFill>
          <a:blip r:embed="rId12"/>
          <a:srcRect l="12991" t="0" r="11692" b="0"/>
          <a:stretch/>
        </p:blipFill>
        <p:spPr>
          <a:xfrm>
            <a:off x="1403280" y="591984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7" descr="kalendula_kopija"/>
          <p:cNvPicPr/>
          <p:nvPr/>
        </p:nvPicPr>
        <p:blipFill>
          <a:blip r:embed="rId13"/>
          <a:srcRect l="13013" t="0" r="11674" b="0"/>
          <a:stretch/>
        </p:blipFill>
        <p:spPr>
          <a:xfrm>
            <a:off x="3059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8" descr="kalendula_kopija"/>
          <p:cNvPicPr/>
          <p:nvPr/>
        </p:nvPicPr>
        <p:blipFill>
          <a:blip r:embed="rId14"/>
          <a:srcRect l="12994" t="0" r="11676" b="0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9" descr="kalendula_kopija"/>
          <p:cNvPicPr/>
          <p:nvPr/>
        </p:nvPicPr>
        <p:blipFill>
          <a:blip r:embed="rId15"/>
          <a:srcRect l="12994" t="0" r="11676" b="0"/>
          <a:stretch/>
        </p:blipFill>
        <p:spPr>
          <a:xfrm>
            <a:off x="176364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2"/>
          <p:cNvPicPr/>
          <p:nvPr/>
        </p:nvPicPr>
        <p:blipFill>
          <a:blip r:embed="rId16"/>
          <a:stretch/>
        </p:blipFill>
        <p:spPr>
          <a:xfrm rot="18170400">
            <a:off x="9330120" y="3638880"/>
            <a:ext cx="1544760" cy="11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33"/>
          <p:cNvPicPr/>
          <p:nvPr/>
        </p:nvPicPr>
        <p:blipFill>
          <a:blip r:embed="rId17">
            <a:lum bright="-18000"/>
          </a:blip>
          <a:srcRect l="55407" t="0" r="6812" b="0"/>
          <a:stretch/>
        </p:blipFill>
        <p:spPr>
          <a:xfrm>
            <a:off x="900000" y="4797360"/>
            <a:ext cx="1656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500"/>
                            </p:stCondLst>
                            <p:childTnLst>
                              <p:par>
                                <p:cTn id="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80" nodeType="after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5 -0.05232 L -0.02309 0.0868 C 0.00018 0.11759 0.03525 0.13657 0.07153 0.13657 C 0.11303 0.13657 0.14619 0.11759 0.1698 0.0868 L 0.28143 -0.05232 E">
                                      <p:cBhvr>
                                        <p:cTn id="81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7000"/>
                            </p:stCondLst>
                            <p:childTnLst>
                              <p:par>
                                <p:cTn id="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118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13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0046 L 0.02604 -0.07824 C 0.03819 -0.11319 0.0875 -0.1338 0.11719 -0.1162 L 0.18264 -0.07708 E">
                                      <p:cBhvr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-0.07731 L 0.32691 -0.07523 E">
                                      <p:cBhvr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6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91 -0.07523 L 0.4165 -0.20231 C 0.45729 -0.26041 0.62743 -0.17453 0.729 -0.04606 L 0.95625 0.23982 E">
                                      <p:cBhvr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150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2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57 -0.01783 C 0.08507 0.01458 0.07013 0.06203 0.09948 0.08912 C 0.1401 0.12939 0.21753 -0.00209 0.26666 0.0456 C 0.31059 0.08935 0.22257 0.18379 0.2651 0.22453 C 0.30954 0.26805 0.33264 0.15972 0.38003 0.20601 C 0.42291 0.24745 0.36753 0.2824 0.40538 0.31875 C 0.44184 0.35486 0.44757 0.29259 0.48038 0.325 C 0.49948 0.34328 0.49427 0.35694 0.49079 0.36782 E">
                                      <p:cBhvr>
                                        <p:cTn id="15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33 0.00278 L -0.91979 0.00278 L -0.91979 -0.43866 L -0.25833 -0.43866 L -0.25833 0.00278 Z">
                                      <p:cBhvr>
                                        <p:cTn id="160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45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