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C2F-E43F-41C2-8B75-95F03B4A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AC2-612C-4831-BB07-B86D6A1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20D-D1ED-464C-82F9-1FCE3F17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B09-5AA6-4442-8E15-414EE3AE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064-6952-4796-ABCE-B978281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3F0-8386-4E3A-8D3A-1ED13D72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919-8766-491E-B43C-5ECD77B4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354-9C47-4FBB-BCE0-8C2BA8E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15F-79A9-42D5-B6A6-D4F4248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7BC-1C28-427F-8159-9D1DA67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9F3-3B9F-4E18-80F8-CAEA58D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214-86F3-42ED-B288-B5E21879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F159-93D3-4F90-9531-5953F7A5F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&#1083;&#1077;&#1090;&#1086;.wav" TargetMode="External"/><Relationship Id="rId6" Type="http://schemas.microsoft.com/office/2007/relationships/media" Target="file:///tmp/home/.config/libreoffice/4/user/gallery/&#1083;&#1077;&#1090;&#1086;.wav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Freeform 26"/>
          <p:cNvSpPr/>
          <p:nvPr/>
        </p:nvSpPr>
        <p:spPr>
          <a:xfrm rot="21420600">
            <a:off x="-181080" y="4331880"/>
            <a:ext cx="7489800" cy="2978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tree23"/>
          <p:cNvPicPr/>
          <p:nvPr/>
        </p:nvPicPr>
        <p:blipFill>
          <a:blip r:embed="rId8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tree23"/>
          <p:cNvPicPr/>
          <p:nvPr/>
        </p:nvPicPr>
        <p:blipFill>
          <a:blip r:embed="rId9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tree23"/>
          <p:cNvPicPr/>
          <p:nvPr/>
        </p:nvPicPr>
        <p:blipFill>
          <a:blip r:embed="rId10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kalendula_kopija"/>
          <p:cNvPicPr/>
          <p:nvPr/>
        </p:nvPicPr>
        <p:blipFill>
          <a:blip r:embed="rId11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6" descr="kalendula_kopija"/>
          <p:cNvPicPr/>
          <p:nvPr/>
        </p:nvPicPr>
        <p:blipFill>
          <a:blip r:embed="rId12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kalendula_kopija"/>
          <p:cNvPicPr/>
          <p:nvPr/>
        </p:nvPicPr>
        <p:blipFill>
          <a:blip r:embed="rId13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kalendula_kopija"/>
          <p:cNvPicPr/>
          <p:nvPr/>
        </p:nvPicPr>
        <p:blipFill>
          <a:blip r:embed="rId14"/>
          <a:srcRect l="12994" t="0" r="11676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9" descr="kalendula_kopija"/>
          <p:cNvPicPr/>
          <p:nvPr/>
        </p:nvPicPr>
        <p:blipFill>
          <a:blip r:embed="rId15"/>
          <a:srcRect l="12994" t="0" r="11676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2"/>
          <p:cNvPicPr/>
          <p:nvPr/>
        </p:nvPicPr>
        <p:blipFill>
          <a:blip r:embed="rId16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33"/>
          <p:cNvPicPr/>
          <p:nvPr/>
        </p:nvPicPr>
        <p:blipFill>
          <a:blip r:embed="rId17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81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1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6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5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15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16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45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