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E86-B25C-4982-A562-FBAD0C62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E288-6E05-44BB-B640-15674EB3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000-031D-4A69-B596-ADEB0D2B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F38-BFFA-41E7-9270-2B9A8DF1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C65-C9F4-4423-B096-DA9F48C0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34C-EFA4-47B2-BD1F-76274722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3A8-8E2E-4E35-978D-CCCC378A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AC1-E212-4B56-B0E1-305AB0F4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E5F-D06E-4539-8CCE-B37901E0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C78-845B-41D7-9EA2-E8FA728F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3BA-4044-4008-BF76-B8C019F1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ED1-7431-45F4-BDBF-66994F0B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7C85-FA67-456E-B9F4-E310D7A35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landscap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476360" y="404640"/>
            <a:ext cx="727380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.Шолох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Тихий Дон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3" name="Picture 7" descr="Ш3"/>
          <p:cNvPicPr/>
          <p:nvPr/>
        </p:nvPicPr>
        <p:blipFill>
          <a:blip r:embed="rId2"/>
          <a:stretch/>
        </p:blipFill>
        <p:spPr>
          <a:xfrm>
            <a:off x="0" y="0"/>
            <a:ext cx="2241720" cy="29242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limon3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Т"/>
          <p:cNvPicPr/>
          <p:nvPr/>
        </p:nvPicPr>
        <p:blipFill>
          <a:blip r:embed="rId2"/>
          <a:stretch/>
        </p:blipFill>
        <p:spPr>
          <a:xfrm>
            <a:off x="196920" y="260280"/>
            <a:ext cx="2440080" cy="3240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771640" y="333360"/>
            <a:ext cx="6140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игорий нигде не соврал перед собой, несмотря на сомнения и метания. Это единственный персонаж, мысли которого раскрывает автор. Война развращает людей, провоцирует на совершение поступков, каких человек в обычном состоянии никогда бы не совершил. Григорий имел стержень, который не позволил ему ни разу сделать подлость. Глубокая привязанность к дому, к земле – сильнейшее душевное движение: «Моим рукам работать надо, а не воева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79280" y="3789360"/>
            <a:ext cx="8805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рой постоянно в ситуации выбора. Это не политические шатания, а поиски правды. Григорий тоскует по правде. А такой правды, с его точки зрения, нет ни у белых, ни у красных: «Одной правды нету в жизни. Видно, кто кого одолеет, то того и сожрет. А я дурную правду искал. Душой болел, туда-сюда качался». Эти поиски оказались, как он считает, «зряшными и пустыми». И в этом тоже его трагед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limon3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Рисунок4"/>
          <p:cNvPicPr/>
          <p:nvPr/>
        </p:nvPicPr>
        <p:blipFill>
          <a:blip r:embed="rId2"/>
          <a:stretch/>
        </p:blipFill>
        <p:spPr>
          <a:xfrm>
            <a:off x="250920" y="189000"/>
            <a:ext cx="2367000" cy="3456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916360" y="209520"/>
            <a:ext cx="59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916360" y="1989000"/>
            <a:ext cx="599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ак относятся жители хутора к любви Григория и Аксинь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843280" y="2997360"/>
            <a:ext cx="614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 любовь удивляет и пугает жителей хутора, которые стыдились смотреть в глаза Григорию и Аксинь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50920" y="4221000"/>
            <a:ext cx="8732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…то в этом не было бы ничего необычного, хлещущего по глазам. Хутор бы поговорил бы и перестал. Но они жили, почти не таясь…и поэтому в хуторе решили, что это преступно, безнравственно, и хутор прижух в поганеньком выжиданьице: придет Степан – узелок развяжет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imon3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Аксинья"/>
          <p:cNvPicPr/>
          <p:nvPr/>
        </p:nvPicPr>
        <p:blipFill>
          <a:blip r:embed="rId2"/>
          <a:stretch/>
        </p:blipFill>
        <p:spPr>
          <a:xfrm>
            <a:off x="179280" y="1052640"/>
            <a:ext cx="3386160" cy="2957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2340000" y="2826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Чем отличается любовь Аксиньи и Григор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708360" y="1052640"/>
            <a:ext cx="513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из ряда вон выходящее чувство. Причем отношения героев почти лишены романтики в привычном понимани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Не лазоревым алым цветом, а собачьей бесилой, дурнопьяном придорожным цветет поздняя бабья любовь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24000" y="4437000"/>
            <a:ext cx="85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Являются ли Григорий и Аксинья жертвами сво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любви-страс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55640" y="5661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, они жертвы, но и сами делают жертвами друг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limon3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Наталья"/>
          <p:cNvPicPr/>
          <p:nvPr/>
        </p:nvPicPr>
        <p:blipFill>
          <a:blip r:embed="rId2"/>
          <a:stretch/>
        </p:blipFill>
        <p:spPr>
          <a:xfrm>
            <a:off x="250920" y="189000"/>
            <a:ext cx="3744720" cy="2957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4067280" y="189000"/>
            <a:ext cx="495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Какую роль играет противопоставление двух героинь романа – Натальи и Аксинь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119480" y="282600"/>
            <a:ext cx="477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048200" y="1290600"/>
            <a:ext cx="4916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талья – воплощение дома, семь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ё цельность, чистота, верность, преданность описаны Шолоховым с любовью и сочувствием к своей героине. Чувство Натальи переносится на детей, на родн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50920" y="3645000"/>
            <a:ext cx="8732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 Аксиньи нет ни детей, ни родни. Любовь Аксиньи в беспредельном самопожертвовании, в перенесении центра своей жизни в другого человека, это глубокое, страстное чувство. 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limon3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Рисунок6"/>
          <p:cNvPicPr/>
          <p:nvPr/>
        </p:nvPicPr>
        <p:blipFill>
          <a:blip r:embed="rId2"/>
          <a:stretch/>
        </p:blipFill>
        <p:spPr>
          <a:xfrm>
            <a:off x="2771640" y="189000"/>
            <a:ext cx="4176720" cy="34052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03120" y="3882960"/>
            <a:ext cx="8589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счастливая личная жизнь героев, гибель Аксиньи, когда Григорий, «мертвея от ужаса, понял, что все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ине, на родной земле, все начала и все концы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limon36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sholohov"/>
          <p:cNvPicPr/>
          <p:nvPr/>
        </p:nvPicPr>
        <p:blipFill>
          <a:blip r:embed="rId2"/>
          <a:stretch/>
        </p:blipFill>
        <p:spPr>
          <a:xfrm>
            <a:off x="108000" y="115920"/>
            <a:ext cx="2378160" cy="3168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2627280" y="189000"/>
            <a:ext cx="63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е строки первого тома романа «Тихий Дон» был написаны М.Шолоховым 8 ноября 1926 г. Работа над книгой шла интенсивно. Закончив черновой вариант первой части, Шолохов уже в ноябре начал работать над второй. К концу лета работа над первым томом была завершена, и осенью Шолохов отвез рукопись в Москву, в журнал «Октябрь» и издательство «Московский писател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журнале роман был признан«бытописательским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лишенным политической остр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рукопись Тихого Дона"/>
          <p:cNvPicPr/>
          <p:nvPr/>
        </p:nvPicPr>
        <p:blipFill>
          <a:blip r:embed="rId3"/>
          <a:stretch/>
        </p:blipFill>
        <p:spPr>
          <a:xfrm>
            <a:off x="6588000" y="3429000"/>
            <a:ext cx="2373480" cy="3168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23184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58760" y="3448080"/>
            <a:ext cx="6213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 благодаря А.Серафимовичу именно уже в первых четырёх номерах за 1928 г. первая книга романа была опубликована. А в 5-10 номерах за этот же год – и вторая книга «Тихого Дон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публикации вокруг романа разгорелись жаркие споры. Автора даже обвиняли в плагиате. Весной 1929 г. руководители РАППа вынуждены были выступить в газете «Правда» в защиту Шолохо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imon3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Рисунок1"/>
          <p:cNvPicPr/>
          <p:nvPr/>
        </p:nvPicPr>
        <p:blipFill>
          <a:blip r:embed="rId2"/>
          <a:stretch/>
        </p:blipFill>
        <p:spPr>
          <a:xfrm>
            <a:off x="5796000" y="0"/>
            <a:ext cx="3193920" cy="3960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58760" y="136440"/>
            <a:ext cx="5492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резвычайно трудная судьба ожидала третью книгу романа. Хотя уже в декабре 1928 г. ростовская газета «Молот» напечатала отрывок из неё, а с января 1929 г. публикация книги началась в журнале «Октябрь», в апреле писатель был вынужден приостановить ее печатание. С весны по август 1929 г. Шолохов почти не находит времени для занятий литературой, полностью погрузившись в суровые заботы первого года коллектив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31840" y="4097160"/>
            <a:ext cx="8661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лько зимой 1930 г. Шолохов привез в Москву рукопись шестой части «Тихого Дона», оставив её для чтения и решения её судьбы в РАППе. В конце марта в Вёшенскую приходит  ответ с указанием внести исправления в роман: сделать главного героя Григория Мелехова окончательным большевик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930 г. в литературных кругах опять зазвучал разговоры о плагиат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 это не располагало к творческой рабо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limon36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Шолохов"/>
          <p:cNvPicPr/>
          <p:nvPr/>
        </p:nvPicPr>
        <p:blipFill>
          <a:blip r:embed="rId2"/>
          <a:stretch/>
        </p:blipFill>
        <p:spPr>
          <a:xfrm>
            <a:off x="179280" y="115920"/>
            <a:ext cx="223848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2679840" y="208080"/>
            <a:ext cx="621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июле 1931 г. состоялась встреча Шолохова со Сталиным. Несмотря на то что Сталина явно не устраивали многие страницы романа, в заключение беседы он твердо сказал: «Третью книгу «Тихого Дона» печатать будем!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ые главы начали выходить в свет только с января 1932 г., но редакция сделала в них столь значительные купюры, что Шолохов сам потребовал приостановить печат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8760" y="3376440"/>
            <a:ext cx="311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58760" y="3521160"/>
            <a:ext cx="8805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ое отдельное издание третьей книги «Тихий Дон» вышло в конце февраля 1933 г. в Государственном издательстве художественной литературы. Готовя книгу к печати, Шолохов восстановил все фрагменты, отвергнутые журналом «Октябрь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лько после 1933 г. у Шолохова наконец-то появляется возможность закончить четвертую книгу «Тихого Дона». Роман целиком отдельным изданием вышел в 1941 г. За этот роман  Шолохову была присуждена Сталинская премия 1 степени. Писатель перечислил свою премию в Фонд оборо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landscap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3"/>
          <p:cNvSpPr txBox="1"/>
          <p:nvPr/>
        </p:nvSpPr>
        <p:spPr>
          <a:xfrm>
            <a:off x="684360" y="549360"/>
            <a:ext cx="813564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Мысль семейна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романе "Тихий Дон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limon3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03120" y="208080"/>
            <a:ext cx="8661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.Вступл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мпозиция романа: повествование начинается и заканчивается изображением мелеховского куреня. Это центр вселенной для главного героя. История страны и история семьи. Толстовская традиция в изображении крупных исторических событий через призму семейных отнош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2.Семья Мелехов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Черты родового сходства в семейном портрете. Семья как единый организм. Крепкая дружба между членами семьи (Григорий и Петр, Григорий и Дуняшка, Дуняшка и Наталья). Значение предыстории мелеховского рода в композиции рома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Традиции и этические нормы, на которых основывается существование казачьей семьи. Культ стариков, власть отца, строгость в отношении к детям. Послушание (женитьба Григория на Наталье). Понятие семейной чести. Отношение к женщине в семь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Трудовая жизнь семьи: эпизод лугового покоса, рыбной ловли. Любовь к земле-кормилице как объединяющее начал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Отношение к государевой службе. Гордость отца за воинскую доблесть сына. Сборы на службу – дело чести всей семь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) Разрушение семьи в эпоху грозных исторических катаклиз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3. Заключ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ражданская война как разрушение семейного единства. Трагический финал романа (Григорий с сыном на пороге опустевшего мелеховского куреня), утверждающий бесчеловечность братоубийства и святость семейного род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andscap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5"/>
          <p:cNvSpPr txBox="1"/>
          <p:nvPr/>
        </p:nvSpPr>
        <p:spPr>
          <a:xfrm>
            <a:off x="900000" y="981000"/>
            <a:ext cx="7920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ригорий Мелех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limon3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Г"/>
          <p:cNvPicPr/>
          <p:nvPr/>
        </p:nvPicPr>
        <p:blipFill>
          <a:blip r:embed="rId2"/>
          <a:stretch/>
        </p:blipFill>
        <p:spPr>
          <a:xfrm>
            <a:off x="1979640" y="189000"/>
            <a:ext cx="5637240" cy="3771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0312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4292640"/>
            <a:ext cx="878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игорий Мелехов – главный герой романа. Этот образ привлекает внимание читателей чертами народности, самобытности, чуткости к новому. Но есть в нем и стихийное, что унаследовано от сре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limon36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Г"/>
          <p:cNvPicPr/>
          <p:nvPr/>
        </p:nvPicPr>
        <p:blipFill>
          <a:blip r:embed="rId2"/>
          <a:stretch/>
        </p:blipFill>
        <p:spPr>
          <a:xfrm>
            <a:off x="5003640" y="115920"/>
            <a:ext cx="3981600" cy="266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179280" y="476280"/>
            <a:ext cx="4557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</a:rPr>
              <a:t>Почему главным героем выбран Григорий Мелехов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231840" y="3017880"/>
            <a:ext cx="88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ргий – неординарная натура, яркая индивидуальность. Он искренен и честен  в мыслях и поступках. У него отзывчивое сердце, развито чувство жалости, сострадания. Григорий – человек, способный на поступ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900000" y="515772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- В каких эпизодах полнее всего раскрывается незаурядность личности Григори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4:01:47Z</dcterms:created>
  <dc:creator>Евгения</dc:creator>
  <dc:description/>
  <dc:language>en-US</dc:language>
  <cp:lastModifiedBy>User</cp:lastModifiedBy>
  <dcterms:modified xsi:type="dcterms:W3CDTF">2016-03-17T05:21:01Z</dcterms:modified>
  <cp:revision>49</cp:revision>
  <dc:subject/>
  <dc:title>Слайд 1</dc:title>
</cp:coreProperties>
</file>