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255-2A59-4A03-A754-E6284E1DFF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7A8-A0B7-411E-AE9F-7B846413374D}" type="slidenum">
              <a:rPr b="0" lang="ru-RU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189-266D-412E-8941-6D48C458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D5D-E9DA-4629-9172-04A32BB2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44A-EE29-4464-9039-8B3C1BD4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F72-E054-4367-9552-C80786BB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1B5-FBBE-4623-8745-D259EFF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256-E2E2-4521-8CB6-109019D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9DA-ED87-4629-BB63-581BE35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AE9-1F0A-402F-B2DB-D7D85CA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789-F28F-4839-AA61-3464CF0A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A0A-E4C8-4C8E-8FB8-2CEE5C4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72F-B42C-4D89-9D7E-5E37884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81C-F55A-460C-BBDB-F7D6DE4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9ABB-6AF9-4C35-86DE-75ACBA38B4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8210520" cy="7081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ек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Рисунок 16" descr=""/>
          <p:cNvPicPr/>
          <p:nvPr/>
        </p:nvPicPr>
        <p:blipFill>
          <a:blip r:embed="rId1"/>
          <a:stretch/>
        </p:blipFill>
        <p:spPr>
          <a:xfrm>
            <a:off x="3714840" y="4714920"/>
            <a:ext cx="1755720" cy="175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6516720" y="5229360"/>
            <a:ext cx="262728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Автор: учитель физики МБОУ СШ№1 г.Ярцево Девятова З.В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9440" y="188640"/>
            <a:ext cx="8404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будут оцениваться ваши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32" name="Group 5"/>
          <p:cNvGrpSpPr/>
          <p:nvPr/>
        </p:nvGrpSpPr>
        <p:grpSpPr>
          <a:xfrm>
            <a:off x="684360" y="2276640"/>
            <a:ext cx="8065800" cy="3809520"/>
            <a:chOff x="684360" y="2276640"/>
            <a:chExt cx="8065800" cy="3809520"/>
          </a:xfrm>
        </p:grpSpPr>
        <p:grpSp>
          <p:nvGrpSpPr>
            <p:cNvPr id="333" name="Group 6"/>
            <p:cNvGrpSpPr/>
            <p:nvPr/>
          </p:nvGrpSpPr>
          <p:grpSpPr>
            <a:xfrm>
              <a:off x="4940280" y="3129480"/>
              <a:ext cx="1654560" cy="2611800"/>
              <a:chOff x="4940280" y="3129480"/>
              <a:chExt cx="1654560" cy="2611800"/>
            </a:xfrm>
          </p:grpSpPr>
          <p:grpSp>
            <p:nvGrpSpPr>
              <p:cNvPr id="334" name="Group 7"/>
              <p:cNvGrpSpPr/>
              <p:nvPr/>
            </p:nvGrpSpPr>
            <p:grpSpPr>
              <a:xfrm>
                <a:off x="4940280" y="3301560"/>
                <a:ext cx="1535040" cy="2439720"/>
                <a:chOff x="4940280" y="3301560"/>
                <a:chExt cx="1535040" cy="2439720"/>
              </a:xfrm>
            </p:grpSpPr>
            <p:sp>
              <p:nvSpPr>
                <p:cNvPr id="335" name="Freeform 8"/>
                <p:cNvSpPr/>
                <p:nvPr/>
              </p:nvSpPr>
              <p:spPr>
                <a:xfrm rot="3876600">
                  <a:off x="4485240" y="425196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ccecff"/>
                      </a:solidFill>
                      <a:latin typeface="Arial"/>
                    </a:rPr>
                    <a:t>        </a:t>
                  </a:r>
                  <a:r>
                    <a:rPr b="0" lang="ru-RU" sz="1800" spc="-1" strike="noStrike">
                      <a:solidFill>
                        <a:srgbClr val="ccecff"/>
                      </a:solidFill>
                      <a:latin typeface="Arial"/>
                    </a:rPr>
                    <a:t>отметки</a:t>
                  </a: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9"/>
                <p:cNvSpPr/>
                <p:nvPr/>
              </p:nvSpPr>
              <p:spPr>
                <a:xfrm rot="3876600">
                  <a:off x="5954400" y="519732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0"/>
              <p:cNvGrpSpPr/>
              <p:nvPr/>
            </p:nvGrpSpPr>
            <p:grpSpPr>
              <a:xfrm>
                <a:off x="5417640" y="3129480"/>
                <a:ext cx="1177200" cy="1871640"/>
                <a:chOff x="5417640" y="3129480"/>
                <a:chExt cx="1177200" cy="1871640"/>
              </a:xfrm>
            </p:grpSpPr>
            <p:sp>
              <p:nvSpPr>
                <p:cNvPr id="338" name="Freeform 11"/>
                <p:cNvSpPr/>
                <p:nvPr/>
              </p:nvSpPr>
              <p:spPr>
                <a:xfrm flipV="1" rot="3876600">
                  <a:off x="5068080" y="3858480"/>
                  <a:ext cx="1875960" cy="41292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12"/>
                <p:cNvSpPr/>
                <p:nvPr/>
              </p:nvSpPr>
              <p:spPr>
                <a:xfrm flipV="1" rot="3876600">
                  <a:off x="6178680" y="4591800"/>
                  <a:ext cx="294840" cy="3376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Group 13"/>
            <p:cNvGrpSpPr/>
            <p:nvPr/>
          </p:nvGrpSpPr>
          <p:grpSpPr>
            <a:xfrm>
              <a:off x="4577040" y="2397240"/>
              <a:ext cx="1204920" cy="1066680"/>
              <a:chOff x="4577040" y="2397240"/>
              <a:chExt cx="1204920" cy="1066680"/>
            </a:xfrm>
          </p:grpSpPr>
          <p:sp>
            <p:nvSpPr>
              <p:cNvPr id="341" name="Oval 14"/>
              <p:cNvSpPr/>
              <p:nvPr/>
            </p:nvSpPr>
            <p:spPr>
              <a:xfrm>
                <a:off x="466092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2" name="Oval 15"/>
              <p:cNvSpPr/>
              <p:nvPr/>
            </p:nvSpPr>
            <p:spPr>
              <a:xfrm>
                <a:off x="466092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3" name="Oval 16"/>
              <p:cNvSpPr/>
              <p:nvPr/>
            </p:nvSpPr>
            <p:spPr>
              <a:xfrm>
                <a:off x="457704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4" name="Oval 17"/>
              <p:cNvSpPr/>
              <p:nvPr/>
            </p:nvSpPr>
            <p:spPr>
              <a:xfrm>
                <a:off x="457704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5" name="Oval 18"/>
              <p:cNvSpPr/>
              <p:nvPr/>
            </p:nvSpPr>
            <p:spPr>
              <a:xfrm>
                <a:off x="463500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46" name="Group 19"/>
              <p:cNvGrpSpPr/>
              <p:nvPr/>
            </p:nvGrpSpPr>
            <p:grpSpPr>
              <a:xfrm>
                <a:off x="4651920" y="2397240"/>
                <a:ext cx="1053000" cy="1066680"/>
                <a:chOff x="4651920" y="2397240"/>
                <a:chExt cx="1053000" cy="1066680"/>
              </a:xfrm>
            </p:grpSpPr>
            <p:sp>
              <p:nvSpPr>
                <p:cNvPr id="347" name="Oval 20"/>
                <p:cNvSpPr/>
                <p:nvPr/>
              </p:nvSpPr>
              <p:spPr>
                <a:xfrm>
                  <a:off x="465192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48" name="Oval 21"/>
                <p:cNvSpPr/>
                <p:nvPr/>
              </p:nvSpPr>
              <p:spPr>
                <a:xfrm>
                  <a:off x="466524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49" name="Oval 22"/>
                <p:cNvSpPr/>
                <p:nvPr/>
              </p:nvSpPr>
              <p:spPr>
                <a:xfrm>
                  <a:off x="467604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0" name="Oval 23"/>
                <p:cNvSpPr/>
                <p:nvPr/>
              </p:nvSpPr>
              <p:spPr>
                <a:xfrm>
                  <a:off x="473328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Group 24"/>
            <p:cNvGrpSpPr/>
            <p:nvPr/>
          </p:nvGrpSpPr>
          <p:grpSpPr>
            <a:xfrm>
              <a:off x="7095600" y="3200760"/>
              <a:ext cx="1654560" cy="2611800"/>
              <a:chOff x="7095600" y="3200760"/>
              <a:chExt cx="1654560" cy="2611800"/>
            </a:xfrm>
          </p:grpSpPr>
          <p:grpSp>
            <p:nvGrpSpPr>
              <p:cNvPr id="352" name="Group 25"/>
              <p:cNvGrpSpPr/>
              <p:nvPr/>
            </p:nvGrpSpPr>
            <p:grpSpPr>
              <a:xfrm>
                <a:off x="7095600" y="3372840"/>
                <a:ext cx="1535040" cy="2439720"/>
                <a:chOff x="7095600" y="3372840"/>
                <a:chExt cx="1535040" cy="2439720"/>
              </a:xfrm>
            </p:grpSpPr>
            <p:sp>
              <p:nvSpPr>
                <p:cNvPr id="353" name="Freeform 26"/>
                <p:cNvSpPr/>
                <p:nvPr/>
              </p:nvSpPr>
              <p:spPr>
                <a:xfrm rot="3876600">
                  <a:off x="6640560" y="4323240"/>
                  <a:ext cx="2444760" cy="538560"/>
                </a:xfrm>
                <a:prstGeom prst="pi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7"/>
                <p:cNvSpPr/>
                <p:nvPr/>
              </p:nvSpPr>
              <p:spPr>
                <a:xfrm rot="3876600">
                  <a:off x="8109720" y="526860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8"/>
              <p:cNvGrpSpPr/>
              <p:nvPr/>
            </p:nvGrpSpPr>
            <p:grpSpPr>
              <a:xfrm>
                <a:off x="7572960" y="3200760"/>
                <a:ext cx="1177200" cy="1871640"/>
                <a:chOff x="7572960" y="3200760"/>
                <a:chExt cx="1177200" cy="1871640"/>
              </a:xfrm>
            </p:grpSpPr>
            <p:sp>
              <p:nvSpPr>
                <p:cNvPr id="356" name="Freeform 29"/>
                <p:cNvSpPr/>
                <p:nvPr/>
              </p:nvSpPr>
              <p:spPr>
                <a:xfrm flipV="1" rot="3876600">
                  <a:off x="7223400" y="3929760"/>
                  <a:ext cx="1875960" cy="412920"/>
                </a:xfrm>
                <a:prstGeom prst="pi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30"/>
                <p:cNvSpPr/>
                <p:nvPr/>
              </p:nvSpPr>
              <p:spPr>
                <a:xfrm flipV="1" rot="3876600">
                  <a:off x="8334000" y="4663080"/>
                  <a:ext cx="294840" cy="3376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8" name="Oval 31"/>
            <p:cNvSpPr/>
            <p:nvPr/>
          </p:nvSpPr>
          <p:spPr>
            <a:xfrm>
              <a:off x="6646680" y="267516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59" name="Oval 32"/>
            <p:cNvSpPr/>
            <p:nvPr/>
          </p:nvSpPr>
          <p:spPr>
            <a:xfrm>
              <a:off x="6646680" y="267516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0" name="Oval 33"/>
            <p:cNvSpPr/>
            <p:nvPr/>
          </p:nvSpPr>
          <p:spPr>
            <a:xfrm>
              <a:off x="6540840" y="2673360"/>
              <a:ext cx="1450080" cy="48060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1" name="Oval 34"/>
            <p:cNvSpPr/>
            <p:nvPr/>
          </p:nvSpPr>
          <p:spPr>
            <a:xfrm>
              <a:off x="6542280" y="2676600"/>
              <a:ext cx="1450440" cy="48060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6614280" y="2673360"/>
              <a:ext cx="1304640" cy="48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363" name="Group 36"/>
            <p:cNvGrpSpPr/>
            <p:nvPr/>
          </p:nvGrpSpPr>
          <p:grpSpPr>
            <a:xfrm>
              <a:off x="6632640" y="2276640"/>
              <a:ext cx="1266480" cy="1278720"/>
              <a:chOff x="6632640" y="2276640"/>
              <a:chExt cx="1266480" cy="1278720"/>
            </a:xfrm>
          </p:grpSpPr>
          <p:sp>
            <p:nvSpPr>
              <p:cNvPr id="364" name="Oval 37"/>
              <p:cNvSpPr/>
              <p:nvPr/>
            </p:nvSpPr>
            <p:spPr>
              <a:xfrm>
                <a:off x="6632640" y="2276640"/>
                <a:ext cx="1266480" cy="1278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5" name="Oval 38"/>
              <p:cNvSpPr/>
              <p:nvPr/>
            </p:nvSpPr>
            <p:spPr>
              <a:xfrm>
                <a:off x="6648480" y="2283480"/>
                <a:ext cx="1236240" cy="1247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6" name="Oval 39"/>
              <p:cNvSpPr/>
              <p:nvPr/>
            </p:nvSpPr>
            <p:spPr>
              <a:xfrm>
                <a:off x="6661800" y="229608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7" name="Oval 40"/>
              <p:cNvSpPr/>
              <p:nvPr/>
            </p:nvSpPr>
            <p:spPr>
              <a:xfrm>
                <a:off x="6730560" y="232848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41"/>
            <p:cNvGrpSpPr/>
            <p:nvPr/>
          </p:nvGrpSpPr>
          <p:grpSpPr>
            <a:xfrm>
              <a:off x="2962080" y="3129120"/>
              <a:ext cx="1654560" cy="2612520"/>
              <a:chOff x="2962080" y="3129120"/>
              <a:chExt cx="1654560" cy="2612520"/>
            </a:xfrm>
          </p:grpSpPr>
          <p:grpSp>
            <p:nvGrpSpPr>
              <p:cNvPr id="369" name="Group 42"/>
              <p:cNvGrpSpPr/>
              <p:nvPr/>
            </p:nvGrpSpPr>
            <p:grpSpPr>
              <a:xfrm>
                <a:off x="2962080" y="3301920"/>
                <a:ext cx="1535040" cy="2439720"/>
                <a:chOff x="2962080" y="3301920"/>
                <a:chExt cx="1535040" cy="2439720"/>
              </a:xfrm>
            </p:grpSpPr>
            <p:sp>
              <p:nvSpPr>
                <p:cNvPr id="370" name="Freeform 43"/>
                <p:cNvSpPr/>
                <p:nvPr/>
              </p:nvSpPr>
              <p:spPr>
                <a:xfrm rot="3876600">
                  <a:off x="2507040" y="425232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4"/>
                <p:cNvSpPr/>
                <p:nvPr/>
              </p:nvSpPr>
              <p:spPr>
                <a:xfrm rot="3876600">
                  <a:off x="3976200" y="5197680"/>
                  <a:ext cx="384120" cy="440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45"/>
              <p:cNvGrpSpPr/>
              <p:nvPr/>
            </p:nvGrpSpPr>
            <p:grpSpPr>
              <a:xfrm>
                <a:off x="3439080" y="3129120"/>
                <a:ext cx="1177560" cy="1872000"/>
                <a:chOff x="3439080" y="3129120"/>
                <a:chExt cx="1177560" cy="1872000"/>
              </a:xfrm>
            </p:grpSpPr>
            <p:sp>
              <p:nvSpPr>
                <p:cNvPr id="373" name="Freeform 46"/>
                <p:cNvSpPr/>
                <p:nvPr/>
              </p:nvSpPr>
              <p:spPr>
                <a:xfrm flipV="1" rot="3876600">
                  <a:off x="3089880" y="3858480"/>
                  <a:ext cx="1875960" cy="4132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7"/>
                <p:cNvSpPr/>
                <p:nvPr/>
              </p:nvSpPr>
              <p:spPr>
                <a:xfrm flipV="1" rot="3876600">
                  <a:off x="4200480" y="4591080"/>
                  <a:ext cx="294840" cy="3380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48"/>
            <p:cNvGrpSpPr/>
            <p:nvPr/>
          </p:nvGrpSpPr>
          <p:grpSpPr>
            <a:xfrm>
              <a:off x="2599200" y="2397240"/>
              <a:ext cx="1204920" cy="1066680"/>
              <a:chOff x="2599200" y="2397240"/>
              <a:chExt cx="1204920" cy="1066680"/>
            </a:xfrm>
          </p:grpSpPr>
          <p:sp>
            <p:nvSpPr>
              <p:cNvPr id="376" name="Oval 49"/>
              <p:cNvSpPr/>
              <p:nvPr/>
            </p:nvSpPr>
            <p:spPr>
              <a:xfrm>
                <a:off x="268308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7" name="Oval 50"/>
              <p:cNvSpPr/>
              <p:nvPr/>
            </p:nvSpPr>
            <p:spPr>
              <a:xfrm>
                <a:off x="268308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8" name="Oval 51"/>
              <p:cNvSpPr/>
              <p:nvPr/>
            </p:nvSpPr>
            <p:spPr>
              <a:xfrm>
                <a:off x="259920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9" name="Oval 52"/>
              <p:cNvSpPr/>
              <p:nvPr/>
            </p:nvSpPr>
            <p:spPr>
              <a:xfrm>
                <a:off x="259920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80" name="Oval 53"/>
              <p:cNvSpPr/>
              <p:nvPr/>
            </p:nvSpPr>
            <p:spPr>
              <a:xfrm>
                <a:off x="265716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81" name="Group 54"/>
              <p:cNvGrpSpPr/>
              <p:nvPr/>
            </p:nvGrpSpPr>
            <p:grpSpPr>
              <a:xfrm>
                <a:off x="2674080" y="2397240"/>
                <a:ext cx="1053000" cy="1066680"/>
                <a:chOff x="2674080" y="2397240"/>
                <a:chExt cx="1053000" cy="1066680"/>
              </a:xfrm>
            </p:grpSpPr>
            <p:sp>
              <p:nvSpPr>
                <p:cNvPr id="382" name="Oval 55"/>
                <p:cNvSpPr/>
                <p:nvPr/>
              </p:nvSpPr>
              <p:spPr>
                <a:xfrm>
                  <a:off x="267408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56"/>
                <p:cNvSpPr/>
                <p:nvPr/>
              </p:nvSpPr>
              <p:spPr>
                <a:xfrm>
                  <a:off x="268740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7"/>
                <p:cNvSpPr/>
                <p:nvPr/>
              </p:nvSpPr>
              <p:spPr>
                <a:xfrm>
                  <a:off x="269820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8"/>
                <p:cNvSpPr/>
                <p:nvPr/>
              </p:nvSpPr>
              <p:spPr>
                <a:xfrm>
                  <a:off x="275544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Group 59"/>
            <p:cNvGrpSpPr/>
            <p:nvPr/>
          </p:nvGrpSpPr>
          <p:grpSpPr>
            <a:xfrm>
              <a:off x="1047240" y="3129120"/>
              <a:ext cx="1654560" cy="2612520"/>
              <a:chOff x="1047240" y="3129120"/>
              <a:chExt cx="1654560" cy="2612520"/>
            </a:xfrm>
          </p:grpSpPr>
          <p:grpSp>
            <p:nvGrpSpPr>
              <p:cNvPr id="387" name="Group 60"/>
              <p:cNvGrpSpPr/>
              <p:nvPr/>
            </p:nvGrpSpPr>
            <p:grpSpPr>
              <a:xfrm>
                <a:off x="1047240" y="3301920"/>
                <a:ext cx="1535040" cy="2439720"/>
                <a:chOff x="1047240" y="3301920"/>
                <a:chExt cx="1535040" cy="2439720"/>
              </a:xfrm>
            </p:grpSpPr>
            <p:sp>
              <p:nvSpPr>
                <p:cNvPr id="388" name="Freeform 61"/>
                <p:cNvSpPr/>
                <p:nvPr/>
              </p:nvSpPr>
              <p:spPr>
                <a:xfrm rot="3876600">
                  <a:off x="592200" y="4252320"/>
                  <a:ext cx="2444760" cy="53856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62"/>
                <p:cNvSpPr/>
                <p:nvPr/>
              </p:nvSpPr>
              <p:spPr>
                <a:xfrm rot="3876600">
                  <a:off x="2063160" y="5198040"/>
                  <a:ext cx="384120" cy="44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1524240" y="3129120"/>
                <a:ext cx="1177560" cy="1872000"/>
                <a:chOff x="1524240" y="3129120"/>
                <a:chExt cx="1177560" cy="1872000"/>
              </a:xfrm>
            </p:grpSpPr>
            <p:sp>
              <p:nvSpPr>
                <p:cNvPr id="391" name="Freeform 64"/>
                <p:cNvSpPr/>
                <p:nvPr/>
              </p:nvSpPr>
              <p:spPr>
                <a:xfrm flipV="1" rot="3876600">
                  <a:off x="1175040" y="3858480"/>
                  <a:ext cx="1875960" cy="4132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65"/>
                <p:cNvSpPr/>
                <p:nvPr/>
              </p:nvSpPr>
              <p:spPr>
                <a:xfrm flipV="1" rot="3876600">
                  <a:off x="2285640" y="4591080"/>
                  <a:ext cx="294840" cy="3380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66"/>
            <p:cNvGrpSpPr/>
            <p:nvPr/>
          </p:nvGrpSpPr>
          <p:grpSpPr>
            <a:xfrm>
              <a:off x="684360" y="2397240"/>
              <a:ext cx="1204920" cy="1066680"/>
              <a:chOff x="684360" y="2397240"/>
              <a:chExt cx="1204920" cy="1066680"/>
            </a:xfrm>
          </p:grpSpPr>
          <p:sp>
            <p:nvSpPr>
              <p:cNvPr id="394" name="Oval 67"/>
              <p:cNvSpPr/>
              <p:nvPr/>
            </p:nvSpPr>
            <p:spPr>
              <a:xfrm>
                <a:off x="76824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5" name="Oval 68"/>
              <p:cNvSpPr/>
              <p:nvPr/>
            </p:nvSpPr>
            <p:spPr>
              <a:xfrm>
                <a:off x="768240" y="26884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6" name="Oval 69"/>
              <p:cNvSpPr/>
              <p:nvPr/>
            </p:nvSpPr>
            <p:spPr>
              <a:xfrm>
                <a:off x="684360" y="268848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7" name="Oval 70"/>
              <p:cNvSpPr/>
              <p:nvPr/>
            </p:nvSpPr>
            <p:spPr>
              <a:xfrm>
                <a:off x="684360" y="2691720"/>
                <a:ext cx="1204920" cy="480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8" name="Oval 71"/>
              <p:cNvSpPr/>
              <p:nvPr/>
            </p:nvSpPr>
            <p:spPr>
              <a:xfrm>
                <a:off x="742320" y="2688480"/>
                <a:ext cx="1086840" cy="480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399" name="Group 72"/>
              <p:cNvGrpSpPr/>
              <p:nvPr/>
            </p:nvGrpSpPr>
            <p:grpSpPr>
              <a:xfrm>
                <a:off x="759240" y="2397240"/>
                <a:ext cx="1053000" cy="1066680"/>
                <a:chOff x="759240" y="2397240"/>
                <a:chExt cx="1053000" cy="1066680"/>
              </a:xfrm>
            </p:grpSpPr>
            <p:sp>
              <p:nvSpPr>
                <p:cNvPr id="400" name="Oval 73"/>
                <p:cNvSpPr/>
                <p:nvPr/>
              </p:nvSpPr>
              <p:spPr>
                <a:xfrm>
                  <a:off x="759240" y="239724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1" name="Oval 74"/>
                <p:cNvSpPr/>
                <p:nvPr/>
              </p:nvSpPr>
              <p:spPr>
                <a:xfrm>
                  <a:off x="772560" y="240300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2" name="Oval 75"/>
                <p:cNvSpPr/>
                <p:nvPr/>
              </p:nvSpPr>
              <p:spPr>
                <a:xfrm>
                  <a:off x="783360" y="241344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03" name="Oval 76"/>
                <p:cNvSpPr/>
                <p:nvPr/>
              </p:nvSpPr>
              <p:spPr>
                <a:xfrm>
                  <a:off x="840600" y="244044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4" name="Text Box 77"/>
            <p:cNvSpPr/>
            <p:nvPr/>
          </p:nvSpPr>
          <p:spPr>
            <a:xfrm rot="3925800">
              <a:off x="593280" y="4617360"/>
              <a:ext cx="270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бсуждения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Text Box 78"/>
            <p:cNvSpPr/>
            <p:nvPr/>
          </p:nvSpPr>
          <p:spPr>
            <a:xfrm rot="3925800">
              <a:off x="1353960" y="3728160"/>
              <a:ext cx="130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вместны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Text Box 79"/>
            <p:cNvSpPr/>
            <p:nvPr/>
          </p:nvSpPr>
          <p:spPr>
            <a:xfrm rot="3925800">
              <a:off x="2619000" y="4553640"/>
              <a:ext cx="251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анкетировани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Text Box 80"/>
            <p:cNvSpPr/>
            <p:nvPr/>
          </p:nvSpPr>
          <p:spPr>
            <a:xfrm rot="3925800">
              <a:off x="3123000" y="392400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амо оценивание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8" name="Text Box 83"/>
            <p:cNvSpPr/>
            <p:nvPr/>
          </p:nvSpPr>
          <p:spPr>
            <a:xfrm rot="3925800">
              <a:off x="7592400" y="4295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cxnSp>
        <p:nvCxnSpPr>
          <p:cNvPr id="409" name="AutoShape 89"/>
          <p:cNvCxnSpPr/>
          <p:nvPr/>
        </p:nvCxnSpPr>
        <p:spPr>
          <a:xfrm>
            <a:off x="2916360" y="2060640"/>
            <a:ext cx="180720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10" name="AutoShape 90"/>
          <p:cNvCxnSpPr/>
          <p:nvPr/>
        </p:nvCxnSpPr>
        <p:spPr>
          <a:xfrm flipV="1">
            <a:off x="1042920" y="2060280"/>
            <a:ext cx="1796400" cy="2304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11" name="AutoShape 91"/>
          <p:cNvCxnSpPr/>
          <p:nvPr/>
        </p:nvCxnSpPr>
        <p:spPr>
          <a:xfrm>
            <a:off x="5003640" y="2060280"/>
            <a:ext cx="1680480" cy="2772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имальный состав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3838320" y="2202120"/>
            <a:ext cx="1730520" cy="1836360"/>
            <a:chOff x="3838320" y="2202120"/>
            <a:chExt cx="1730520" cy="1836360"/>
          </a:xfrm>
        </p:grpSpPr>
        <p:sp>
          <p:nvSpPr>
            <p:cNvPr id="416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17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418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19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20" name="Text Box 14"/>
            <p:cNvSpPr/>
            <p:nvPr/>
          </p:nvSpPr>
          <p:spPr>
            <a:xfrm>
              <a:off x="3838320" y="31399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птимист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21" name="Group 15"/>
          <p:cNvGrpSpPr/>
          <p:nvPr/>
        </p:nvGrpSpPr>
        <p:grpSpPr>
          <a:xfrm>
            <a:off x="5364000" y="907920"/>
            <a:ext cx="1371240" cy="1452240"/>
            <a:chOff x="5364000" y="907920"/>
            <a:chExt cx="1371240" cy="1452240"/>
          </a:xfrm>
        </p:grpSpPr>
        <p:grpSp>
          <p:nvGrpSpPr>
            <p:cNvPr id="422" name="Group 16"/>
            <p:cNvGrpSpPr/>
            <p:nvPr/>
          </p:nvGrpSpPr>
          <p:grpSpPr>
            <a:xfrm>
              <a:off x="5364000" y="907920"/>
              <a:ext cx="1371240" cy="1452240"/>
              <a:chOff x="5364000" y="907920"/>
              <a:chExt cx="1371240" cy="1452240"/>
            </a:xfrm>
          </p:grpSpPr>
          <p:sp>
            <p:nvSpPr>
              <p:cNvPr id="423" name="Oval 17"/>
              <p:cNvSpPr/>
              <p:nvPr/>
            </p:nvSpPr>
            <p:spPr>
              <a:xfrm>
                <a:off x="5364000" y="907920"/>
                <a:ext cx="1371240" cy="14522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4" name="Freeform 18"/>
              <p:cNvSpPr/>
              <p:nvPr/>
            </p:nvSpPr>
            <p:spPr>
              <a:xfrm>
                <a:off x="5520600" y="931680"/>
                <a:ext cx="1057680" cy="54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25" name="Text Box 19"/>
            <p:cNvSpPr/>
            <p:nvPr/>
          </p:nvSpPr>
          <p:spPr>
            <a:xfrm>
              <a:off x="5467680" y="146700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пессимист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26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427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428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9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30" name="Text Box 24"/>
            <p:cNvSpPr/>
            <p:nvPr/>
          </p:nvSpPr>
          <p:spPr>
            <a:xfrm>
              <a:off x="1497240" y="3639960"/>
              <a:ext cx="162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идеолог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431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432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433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34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35" name="Text Box 29"/>
            <p:cNvSpPr/>
            <p:nvPr/>
          </p:nvSpPr>
          <p:spPr>
            <a:xfrm>
              <a:off x="5802840" y="4967280"/>
              <a:ext cx="9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актик</a:t>
              </a:r>
              <a:endParaRPr b="0" lang="en-US" sz="1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ловие успех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715000" y="34718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238400" y="347652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чител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rot="9345000">
            <a:off x="32220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12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 flipH="1">
            <a:off x="4642560" y="314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 rot="12430800">
            <a:off x="487404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124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5" name="Group 11"/>
          <p:cNvGrpSpPr/>
          <p:nvPr/>
        </p:nvGrpSpPr>
        <p:grpSpPr>
          <a:xfrm>
            <a:off x="3059280" y="1628640"/>
            <a:ext cx="2998440" cy="1601640"/>
            <a:chOff x="3059280" y="1628640"/>
            <a:chExt cx="2998440" cy="1601640"/>
          </a:xfrm>
        </p:grpSpPr>
        <p:grpSp>
          <p:nvGrpSpPr>
            <p:cNvPr id="446" name="Group 12"/>
            <p:cNvGrpSpPr/>
            <p:nvPr/>
          </p:nvGrpSpPr>
          <p:grpSpPr>
            <a:xfrm>
              <a:off x="3059280" y="1771560"/>
              <a:ext cx="2998440" cy="1458720"/>
              <a:chOff x="3059280" y="1771560"/>
              <a:chExt cx="2998440" cy="1458720"/>
            </a:xfrm>
          </p:grpSpPr>
          <p:sp>
            <p:nvSpPr>
              <p:cNvPr id="447" name="Oval 13"/>
              <p:cNvSpPr/>
              <p:nvPr/>
            </p:nvSpPr>
            <p:spPr>
              <a:xfrm>
                <a:off x="309204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305928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449" name="Oval 15"/>
            <p:cNvSpPr/>
            <p:nvPr/>
          </p:nvSpPr>
          <p:spPr>
            <a:xfrm>
              <a:off x="320076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0" name="Oval 16"/>
            <p:cNvSpPr/>
            <p:nvPr/>
          </p:nvSpPr>
          <p:spPr>
            <a:xfrm>
              <a:off x="323568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26268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339444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53" name="Text Box 19"/>
          <p:cNvSpPr/>
          <p:nvPr/>
        </p:nvSpPr>
        <p:spPr>
          <a:xfrm>
            <a:off x="3930840" y="228600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учени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4" name="Picture 21" descr="iучитель"/>
          <p:cNvPicPr/>
          <p:nvPr/>
        </p:nvPicPr>
        <p:blipFill>
          <a:blip r:embed="rId1"/>
          <a:stretch/>
        </p:blipFill>
        <p:spPr>
          <a:xfrm>
            <a:off x="1547640" y="3933720"/>
            <a:ext cx="1190880" cy="1428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ученик"/>
          <p:cNvPicPr/>
          <p:nvPr/>
        </p:nvPicPr>
        <p:blipFill>
          <a:blip r:embed="rId2"/>
          <a:stretch/>
        </p:blipFill>
        <p:spPr>
          <a:xfrm>
            <a:off x="4143240" y="1357200"/>
            <a:ext cx="811440" cy="997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родители"/>
          <p:cNvPicPr/>
          <p:nvPr/>
        </p:nvPicPr>
        <p:blipFill>
          <a:blip r:embed="rId3"/>
          <a:stretch/>
        </p:blipFill>
        <p:spPr>
          <a:xfrm>
            <a:off x="5796000" y="422100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терии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28760" y="1714680"/>
          <a:ext cx="8501040" cy="3992400"/>
        </p:xfrm>
        <a:graphic>
          <a:graphicData uri="http://schemas.openxmlformats.org/drawingml/2006/table">
            <a:tbl>
              <a:tblPr/>
              <a:tblGrid>
                <a:gridCol w="1927440"/>
                <a:gridCol w="216000"/>
                <a:gridCol w="1999080"/>
                <a:gridCol w="216000"/>
                <a:gridCol w="1999440"/>
                <a:gridCol w="216000"/>
                <a:gridCol w="192708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енгазет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Презентация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Исследовательская работ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Доклад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чество эксперимент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ение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гляд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уаль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 информац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ответствие возрастному уровню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мер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в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а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в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глядность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кость выводов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чники информации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х  открытий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Удачи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61" name="Picture 5" descr="j0299125"/>
          <p:cNvPicPr/>
          <p:nvPr/>
        </p:nvPicPr>
        <p:blipFill>
          <a:blip r:embed="rId1"/>
          <a:stretch/>
        </p:blipFill>
        <p:spPr>
          <a:xfrm>
            <a:off x="3571920" y="4572000"/>
            <a:ext cx="18190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77"/>
          <p:cNvSpPr/>
          <p:nvPr/>
        </p:nvSpPr>
        <p:spPr>
          <a:xfrm rot="5400000">
            <a:off x="-957240" y="1528560"/>
            <a:ext cx="3504960" cy="359100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5" name="AutoShape 29"/>
          <p:cNvGrpSpPr/>
          <p:nvPr/>
        </p:nvGrpSpPr>
        <p:grpSpPr>
          <a:xfrm>
            <a:off x="858960" y="1212840"/>
            <a:ext cx="2195280" cy="4444920"/>
            <a:chOff x="858960" y="1212840"/>
            <a:chExt cx="2195280" cy="4444920"/>
          </a:xfrm>
        </p:grpSpPr>
        <p:pic>
          <p:nvPicPr>
            <p:cNvPr id="96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3080" y="1212840"/>
              <a:ext cx="1721160" cy="44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5400000">
              <a:off x="-177840" y="2338560"/>
              <a:ext cx="4265640" cy="21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100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7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14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2"/>
          <p:cNvSpPr/>
          <p:nvPr/>
        </p:nvSpPr>
        <p:spPr>
          <a:xfrm>
            <a:off x="2928960" y="392904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акие созвездия начертаны на небесной карте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21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акие неведомые миры есть  во Вселенной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7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8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9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0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1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32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33" name="Text Box 66"/>
          <p:cNvSpPr/>
          <p:nvPr/>
        </p:nvSpPr>
        <p:spPr>
          <a:xfrm>
            <a:off x="-833400" y="1857240"/>
            <a:ext cx="31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2371680" y="1817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2787480" y="2562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69"/>
          <p:cNvSpPr/>
          <p:nvPr/>
        </p:nvSpPr>
        <p:spPr>
          <a:xfrm>
            <a:off x="2873520" y="3287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2330280" y="4746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Что такое  небесные  светила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3143160" y="2571840"/>
            <a:ext cx="535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Какие загадки  скрываются  в бесконечной дали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Text Box 74"/>
          <p:cNvSpPr/>
          <p:nvPr/>
        </p:nvSpPr>
        <p:spPr>
          <a:xfrm>
            <a:off x="3214800" y="3286080"/>
            <a:ext cx="478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Что будет, если долететь до солнца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396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ысячи лет  люди   вглядываются в  космическую даль  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640" y="13410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чем нам астрономия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5" descr="3к"/>
          <p:cNvPicPr/>
          <p:nvPr/>
        </p:nvPicPr>
        <p:blipFill>
          <a:blip r:embed="rId1"/>
          <a:stretch/>
        </p:blipFill>
        <p:spPr>
          <a:xfrm>
            <a:off x="826920" y="2492280"/>
            <a:ext cx="8042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146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49" name="Text Box 8"/>
            <p:cNvSpPr/>
            <p:nvPr/>
          </p:nvSpPr>
          <p:spPr>
            <a:xfrm>
              <a:off x="4231800" y="1684440"/>
              <a:ext cx="184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0" y="19288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 звёздах и чёрных дырах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153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154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5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4829760" y="2865600"/>
              <a:ext cx="185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0" y="3214800"/>
            <a:ext cx="43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 планетах и др. небесных телах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160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161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63" name="Text Box 22"/>
            <p:cNvSpPr/>
            <p:nvPr/>
          </p:nvSpPr>
          <p:spPr>
            <a:xfrm>
              <a:off x="5592240" y="386424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64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следовании космос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6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167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Freeform 27"/>
            <p:cNvSpPr/>
            <p:nvPr/>
          </p:nvSpPr>
          <p:spPr>
            <a:xfrm>
              <a:off x="5914440" y="4969800"/>
              <a:ext cx="755280" cy="3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69" name="Text Box 29"/>
          <p:cNvSpPr/>
          <p:nvPr/>
        </p:nvSpPr>
        <p:spPr>
          <a:xfrm>
            <a:off x="785880" y="528624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рии  полётов с древних времён до  наших дней     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6629400" y="78588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я над проектом, мы узнае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м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7761240" y="1785960"/>
            <a:ext cx="596880" cy="947880"/>
          </a:xfrm>
          <a:prstGeom prst="pie">
            <a:avLst/>
          </a:pr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4357800" y="1763640"/>
            <a:ext cx="5429160" cy="66528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c22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4c22"/>
                </a:solidFill>
                <a:latin typeface="Arial"/>
              </a:rPr>
              <a:t>подведём итоги работы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Freeform 5"/>
          <p:cNvSpPr/>
          <p:nvPr/>
        </p:nvSpPr>
        <p:spPr>
          <a:xfrm>
            <a:off x="7143840" y="2727360"/>
            <a:ext cx="612720" cy="974520"/>
          </a:xfrm>
          <a:prstGeom prst="pie">
            <a:avLst/>
          </a:pr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3143160" y="2727360"/>
            <a:ext cx="56437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в виде  презентаций, сообщений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58267e"/>
                </a:solidFill>
                <a:latin typeface="Arial"/>
              </a:rPr>
              <a:t>рисунков, выступлени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6524640" y="3691080"/>
            <a:ext cx="611280" cy="981000"/>
          </a:xfrm>
          <a:prstGeom prst="pie">
            <a:avLst/>
          </a:pr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910120" y="4657680"/>
            <a:ext cx="614520" cy="981000"/>
          </a:xfrm>
          <a:prstGeom prst="pie">
            <a:avLst/>
          </a:pr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1071720" y="4662360"/>
            <a:ext cx="5929200" cy="627120"/>
          </a:xfrm>
          <a:prstGeom prst="pie">
            <a:avLst/>
          </a:pr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темы, которые нам  интересно  изучить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Freeform 19"/>
          <p:cNvSpPr/>
          <p:nvPr/>
        </p:nvSpPr>
        <p:spPr>
          <a:xfrm rot="779400">
            <a:off x="1856880" y="1714320"/>
            <a:ext cx="1957680" cy="315720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4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357800" y="2428920"/>
            <a:ext cx="4500360" cy="2858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ставим  собранный материа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3214800" y="3357720"/>
            <a:ext cx="4714920" cy="28548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берём и оформим информацию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Freeform 22"/>
          <p:cNvSpPr/>
          <p:nvPr/>
        </p:nvSpPr>
        <p:spPr>
          <a:xfrm>
            <a:off x="1928880" y="3643200"/>
            <a:ext cx="585792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обы вместе  добыть побольше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ресных фактов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2000160" y="4286160"/>
            <a:ext cx="5072040" cy="3571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делимся на группы по интересам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1143000" y="5286240"/>
            <a:ext cx="5143680" cy="35748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пределим  вопросы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1152720" y="212868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Последня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1091160" y="308628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треть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1075320" y="408780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Verdana"/>
              </a:rPr>
              <a:t>втора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1141200" y="5022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Verdana"/>
              </a:rPr>
              <a:t>п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ервая неделя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953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ы будут работать над темами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857760" y="4214880"/>
            <a:ext cx="16761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429000" y="364320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356360" y="32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133880" y="373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,3,4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162320" y="4292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,6,7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85840" y="2214720"/>
            <a:ext cx="2533680" cy="3119400"/>
          </a:xfrm>
          <a:custGeom>
            <a:avLst/>
            <a:gdLst>
              <a:gd name="textAreaLeft" fmla="*/ 123480 w 2533680"/>
              <a:gd name="textAreaRight" fmla="*/ 2410200 w 2533680"/>
              <a:gd name="textAreaTop" fmla="*/ 123480 h 3119400"/>
              <a:gd name="textAreaBottom" fmla="*/ 2995920 h 3119400"/>
            </a:gdLst>
            <a:ahLst/>
            <a:rect l="textAreaLeft" t="textAreaTop" r="textAreaRight" b="textAreaBottom"/>
            <a:pathLst>
              <a:path w="21600" h="26593">
                <a:moveTo>
                  <a:pt x="3600" y="0"/>
                </a:moveTo>
                <a:arcTo wR="3600" hR="3600" stAng="16200000" swAng="-5400000"/>
                <a:lnTo>
                  <a:pt x="0" y="22993"/>
                </a:lnTo>
                <a:arcTo wR="3600" hR="3600" stAng="10800000" swAng="-5400000"/>
                <a:lnTo>
                  <a:pt x="18000" y="265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6143760" y="2143080"/>
            <a:ext cx="2643120" cy="31957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195720"/>
              <a:gd name="textAreaBottom" fmla="*/ 3066840 h 3195720"/>
            </a:gdLst>
            <a:ahLst/>
            <a:rect l="textAreaLeft" t="textAreaTop" r="textAreaRight" b="textAreaBottom"/>
            <a:pathLst>
              <a:path w="21600" h="26115">
                <a:moveTo>
                  <a:pt x="3600" y="0"/>
                </a:moveTo>
                <a:arcTo wR="3600" hR="3600" stAng="16200000" swAng="-5400000"/>
                <a:lnTo>
                  <a:pt x="0" y="22515"/>
                </a:lnTo>
                <a:arcTo wR="3600" hR="3600" stAng="10800000" swAng="-5400000"/>
                <a:lnTo>
                  <a:pt x="18000" y="26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48520" y="2438280"/>
            <a:ext cx="2395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строномия или астролог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они галактики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уна- наш естественный спутник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643720" y="3357720"/>
            <a:ext cx="52992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016080" y="183348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ё-таки она вертится?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3059280" y="5950080"/>
            <a:ext cx="304776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132000" y="607212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смология-это интересно?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3571920" y="535788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643200" y="485784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395280" y="2565360"/>
            <a:ext cx="23763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9 или 8 планет в солнечной системе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лнце – уникальная звезда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очему наша галактика называется «Млечный путь»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у вы научитесь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227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29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230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233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236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38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239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41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242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44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Group 44" descr=""/>
          <p:cNvPicPr/>
          <p:nvPr/>
        </p:nvPicPr>
        <p:blipFill>
          <a:blip r:embed="rId1"/>
          <a:stretch/>
        </p:blipFill>
        <p:spPr>
          <a:xfrm>
            <a:off x="3828960" y="2975040"/>
            <a:ext cx="1535040" cy="15364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7"/>
          <p:cNvSpPr/>
          <p:nvPr/>
        </p:nvSpPr>
        <p:spPr>
          <a:xfrm>
            <a:off x="3947400" y="347040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5717520" y="515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190800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ефлексии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5718600" y="535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5580000" y="1413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амостоятельност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0" y="350028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нимать решение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TextBox 49"/>
          <p:cNvSpPr/>
          <p:nvPr/>
        </p:nvSpPr>
        <p:spPr>
          <a:xfrm>
            <a:off x="6588000" y="3643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трудничеств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Text Box 42"/>
          <p:cNvSpPr/>
          <p:nvPr/>
        </p:nvSpPr>
        <p:spPr>
          <a:xfrm>
            <a:off x="6588000" y="37162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395280" y="1773360"/>
            <a:ext cx="29527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ботать с информацие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перспективы открывает проектная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1430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261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3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4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5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66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267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9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0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1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72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273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6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7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278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279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1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4" name="Text Box 28"/>
          <p:cNvSpPr/>
          <p:nvPr/>
        </p:nvSpPr>
        <p:spPr>
          <a:xfrm rot="21453600">
            <a:off x="2411280" y="1700280"/>
            <a:ext cx="14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ести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а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186200" y="2454120"/>
            <a:ext cx="10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оценку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1436040" y="395280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ах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3367080" y="4143240"/>
            <a:ext cx="17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Дне Науки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6300720" y="357336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представлять от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52640" y="214956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40480" y="21700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6164280" y="13572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164280" y="1357200"/>
            <a:ext cx="2160720" cy="2160720"/>
          </a:xfrm>
          <a:prstGeom prst="ellipse">
            <a:avLst/>
          </a:prstGeom>
          <a:solidFill>
            <a:srgbClr val="000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6305400" y="149868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6337440" y="1509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6407280" y="15922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692280" y="135108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692280" y="1351080"/>
            <a:ext cx="2160360" cy="21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33400" y="14922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835200" y="149544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927000" y="1585800"/>
            <a:ext cx="169092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Group 15" descr=""/>
          <p:cNvPicPr/>
          <p:nvPr/>
        </p:nvPicPr>
        <p:blipFill>
          <a:blip r:embed="rId1"/>
          <a:stretch/>
        </p:blipFill>
        <p:spPr>
          <a:xfrm>
            <a:off x="963720" y="1590840"/>
            <a:ext cx="1646280" cy="1652400"/>
          </a:xfrm>
          <a:prstGeom prst="rect">
            <a:avLst/>
          </a:prstGeom>
          <a:ln w="0">
            <a:noFill/>
          </a:ln>
        </p:spPr>
      </p:pic>
      <p:sp>
        <p:nvSpPr>
          <p:cNvPr id="303" name="Oval 20"/>
          <p:cNvSpPr/>
          <p:nvPr/>
        </p:nvSpPr>
        <p:spPr>
          <a:xfrm>
            <a:off x="3429000" y="13572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3429000" y="1357200"/>
            <a:ext cx="2160720" cy="216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2"/>
          <p:cNvSpPr/>
          <p:nvPr/>
        </p:nvSpPr>
        <p:spPr>
          <a:xfrm>
            <a:off x="3570120" y="149868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Oval 23"/>
          <p:cNvSpPr/>
          <p:nvPr/>
        </p:nvSpPr>
        <p:spPr>
          <a:xfrm>
            <a:off x="3571920" y="15019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3664080" y="15922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Group 25" descr=""/>
          <p:cNvPicPr/>
          <p:nvPr/>
        </p:nvPicPr>
        <p:blipFill>
          <a:blip r:embed="rId2"/>
          <a:stretch/>
        </p:blipFill>
        <p:spPr>
          <a:xfrm>
            <a:off x="3681360" y="1603440"/>
            <a:ext cx="1652760" cy="16524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30" descr=""/>
          <p:cNvPicPr/>
          <p:nvPr/>
        </p:nvPicPr>
        <p:blipFill>
          <a:blip r:embed="rId3"/>
          <a:stretch/>
        </p:blipFill>
        <p:spPr>
          <a:xfrm>
            <a:off x="6431040" y="1603440"/>
            <a:ext cx="1646280" cy="16524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8"/>
          <p:cNvSpPr/>
          <p:nvPr/>
        </p:nvSpPr>
        <p:spPr>
          <a:xfrm>
            <a:off x="917640" y="22161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3474000" y="22161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тельская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6842880" y="22161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клад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416800" y="210492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4232160" y="472752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2071800" y="392904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2071800" y="3929040"/>
            <a:ext cx="2160360" cy="21607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2212920" y="40705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2214720" y="4073400"/>
            <a:ext cx="1877760" cy="18781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2306520" y="416412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Group 15" descr=""/>
          <p:cNvPicPr/>
          <p:nvPr/>
        </p:nvPicPr>
        <p:blipFill>
          <a:blip r:embed="rId4"/>
          <a:stretch/>
        </p:blipFill>
        <p:spPr>
          <a:xfrm>
            <a:off x="2341440" y="4170240"/>
            <a:ext cx="1644840" cy="1650960"/>
          </a:xfrm>
          <a:prstGeom prst="rect">
            <a:avLst/>
          </a:prstGeom>
          <a:ln w="0">
            <a:noFill/>
          </a:ln>
        </p:spPr>
      </p:pic>
      <p:sp>
        <p:nvSpPr>
          <p:cNvPr id="321" name="Oval 20"/>
          <p:cNvSpPr/>
          <p:nvPr/>
        </p:nvSpPr>
        <p:spPr>
          <a:xfrm>
            <a:off x="4808520" y="39355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Oval 21"/>
          <p:cNvSpPr/>
          <p:nvPr/>
        </p:nvSpPr>
        <p:spPr>
          <a:xfrm>
            <a:off x="4808520" y="3935520"/>
            <a:ext cx="2160720" cy="2160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Oval 22"/>
          <p:cNvSpPr/>
          <p:nvPr/>
        </p:nvSpPr>
        <p:spPr>
          <a:xfrm>
            <a:off x="4950000" y="407664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Oval 23"/>
          <p:cNvSpPr/>
          <p:nvPr/>
        </p:nvSpPr>
        <p:spPr>
          <a:xfrm>
            <a:off x="4951440" y="40798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5043600" y="41702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Group 25" descr=""/>
          <p:cNvPicPr/>
          <p:nvPr/>
        </p:nvPicPr>
        <p:blipFill>
          <a:blip r:embed="rId5"/>
          <a:stretch/>
        </p:blipFill>
        <p:spPr>
          <a:xfrm>
            <a:off x="5065560" y="4181400"/>
            <a:ext cx="1646280" cy="16527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8"/>
          <p:cNvSpPr/>
          <p:nvPr/>
        </p:nvSpPr>
        <p:spPr>
          <a:xfrm>
            <a:off x="2404440" y="47941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5595120" y="4794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5:25Z</dcterms:created>
  <dc:creator>Fes</dc:creator>
  <dc:description/>
  <dc:language>en-US</dc:language>
  <cp:lastModifiedBy>fghnjrf</cp:lastModifiedBy>
  <dcterms:modified xsi:type="dcterms:W3CDTF">2019-02-27T10:21:25Z</dcterms:modified>
  <cp:revision>25</cp:revision>
  <dc:subject/>
  <dc:title>Что мы знаем о космосе</dc:title>
</cp:coreProperties>
</file>