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323-F81B-4809-B9A2-4A2241CA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B3D-7ED0-4CBC-82D8-E1CE499E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715-A6D0-4E08-A379-EF17AD5A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A8B-1710-43A6-8E46-862EFD84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D62A-1DBF-460C-A881-9611DD9C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6F1B-F3A8-48E3-803D-1791848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B30D-653E-4733-B504-3E389756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94AF-18FF-4B78-BC6A-E561930B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3430-8499-4542-BF16-11E4057C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FA8D-6996-4E5C-AB67-024B0CA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2301-E3CB-486A-9139-A3EB04E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B85-099D-41DE-87BB-19384D0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2F61-52C8-46D0-8110-7CED9F09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3820-0A7A-440D-A93B-764C3EC5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C986-9795-4037-BD03-FC3198CF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FC98-363E-4351-A079-158AB8A7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A686-42CA-4338-9A71-15FE7DD5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301A-C5F9-4AC9-9D43-815BD6B8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9942-5F3F-416D-B011-66B2BDF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7862-DB5A-4718-AA0D-01FB9F2A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FD89-2298-4DB4-955E-209371E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980F-040C-40B6-A41A-CED04136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9CB-DC24-452F-B54A-055C6A3C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9538-451E-40EA-8C97-645C565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1DAC-46AB-4D33-AACD-85F1FD58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94A4-B6C0-470C-9EEF-D95C01E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145A-9B74-42A5-8A5B-62287F7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3B16-BF1C-41AD-85CE-5B919F84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4117-4D4D-495D-AACC-41F254B6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854D-E7D1-47FF-846E-6B38F771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FA27-3D84-4B56-AD61-571ADD3B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4F34-8696-47AA-AEA0-A47CDF0A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36A4-907C-4F2F-B3E6-EC5B1AE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289-E40A-4D1D-BD66-B562F8F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1D3F-8DC0-4A51-B8CC-677BE527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1820-AD29-4F5C-BDAA-1D07399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F369-B020-474B-880C-77A1BF57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FA8C-F1C6-40DE-BF3D-7AC83E6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BBA2-1130-40E7-84A4-7700F041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E3EA-E6F5-4D1E-B4C5-321DF91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14B6-7971-4410-99CB-BA08A064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A964-9D54-4509-B8F2-8BDC5564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A265-A2A4-4631-84FC-917C23F6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CF9E-5D4F-4B27-B1A4-01A85469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31E-6194-47C4-A0CF-6FF352F5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5D1D-C8F8-4B5D-A96C-0EC64C5A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78D2D-336A-4685-91EB-CA2455B8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F688-A31A-4E13-8A50-07281FF9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84D9C-B117-4E67-AA36-2D5AC2C4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F645-F4EC-4603-B464-5F7053EE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776C0-65A2-45D3-9D01-55B69B5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F8DB-F862-4413-8016-4AC9D5C5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E2E0-5AF3-4CC3-91FB-DEC3594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A483-696C-4CE4-9987-EEB7E680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45E4-3066-4440-A5BD-9CD70D36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744-B9B9-49F5-933B-00CF790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5C16-80C7-4C15-A98B-3B48A800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3E47-2E95-4734-943B-DA0616CB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5850-224F-4270-BA45-E5D1B08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1D57-465E-4547-903C-E63D6B7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D1D1-D270-41D5-B149-3B0E8373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D410-6FD7-4673-9378-D0CF0B0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0D30F-6E03-422A-932C-E5445592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F4A67-A31C-4787-B727-A64A979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BE9C1-46BD-477F-8046-00F0F97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E3B56-6340-4C05-9C5E-FD7AB2E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2F1-0FFB-4E3E-8810-5E34AD0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AABA8-0845-4369-97FD-0BE50B51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FEA9-9683-477B-B81B-A4A1130A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0232B-4A36-4605-80B2-ABBB5688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40E9-BE7E-485A-A3B3-2BA1329A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1E60-401E-4426-8335-9638D99A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F31FD-AEFC-4163-BE05-9E1F8C33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DC66-245D-4353-ABE6-E8150BA7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33595-15F6-481D-8865-525D577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298E-1BA3-4A2F-A808-A1CE5FAB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E16FB-366E-4D0A-AD5B-86ADCA2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0BB-C452-4BD6-A0A8-D6D0999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3D3A-2521-44A1-9BE0-1A043EE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EF3B-87CE-4663-8E3C-6E72DE03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60B11-F7AD-4FCB-A297-4C94120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D1413-521E-4CCC-AE62-6B785040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92A00-BC5F-40CD-BD49-2C3F4B52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D10-9E9B-4DCA-9055-9BD55939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A92-EF0C-4541-819E-5357BF763C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E379-7D69-4457-BC5A-A0D39048047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E4BE-A954-41D4-B9BF-0426B5A20A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AA8A-5278-4A6D-9447-28B1743F59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074-BC45-42AF-A6E0-DC4EB5B86E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49FF-E5D6-4F85-A59E-5B7A67D2E0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14AF-9F15-4AFD-AAB2-2FF988F7A2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1640" y="836640"/>
            <a:ext cx="740556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«Использование программы PLICKERS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для проведения опроса на уроках географии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Таборова Наталья Владимир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географии МОУ СОШ №8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Г.о.Подольск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http://yun.moluch.ru/archive/15/1095/images/1095.005.jpg"/>
          <p:cNvPicPr/>
          <p:nvPr/>
        </p:nvPicPr>
        <p:blipFill>
          <a:blip r:embed="rId1"/>
          <a:stretch/>
        </p:blipFill>
        <p:spPr>
          <a:xfrm>
            <a:off x="324000" y="476280"/>
            <a:ext cx="8494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rcRect l="0" t="13533" r="14861" b="12638"/>
          <a:stretch/>
        </p:blipFill>
        <p:spPr>
          <a:xfrm>
            <a:off x="741240" y="692280"/>
            <a:ext cx="8402760" cy="4608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http://yun.moluch.ru/archive/15/1095/images/1095.007.png"/>
          <p:cNvPicPr/>
          <p:nvPr/>
        </p:nvPicPr>
        <p:blipFill>
          <a:blip r:embed="rId2"/>
          <a:srcRect l="4352" t="16030" r="10039" b="26911"/>
          <a:stretch/>
        </p:blipFill>
        <p:spPr>
          <a:xfrm>
            <a:off x="1258920" y="2924280"/>
            <a:ext cx="4249800" cy="144144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1042920" y="5445000"/>
            <a:ext cx="727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 вкладке Классы (Class) создаются списки тестируемых. Самый простой способ — назвать классы по их реальному названию: 7А, 7Б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rcRect l="10154" t="14523" r="14861" b="7717"/>
          <a:stretch/>
        </p:blipFill>
        <p:spPr>
          <a:xfrm>
            <a:off x="395280" y="260280"/>
            <a:ext cx="7040520" cy="4105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ttp://yun.moluch.ru/archive/15/1095/images/1095.008.png"/>
          <p:cNvPicPr/>
          <p:nvPr/>
        </p:nvPicPr>
        <p:blipFill>
          <a:blip r:embed="rId2"/>
          <a:srcRect l="0" t="63493" r="13393" b="16328"/>
          <a:stretch/>
        </p:blipFill>
        <p:spPr>
          <a:xfrm>
            <a:off x="4500720" y="2205000"/>
            <a:ext cx="4248000" cy="503280"/>
          </a:xfrm>
          <a:prstGeom prst="rect">
            <a:avLst/>
          </a:prstGeom>
          <a:ln w="0">
            <a:noFill/>
          </a:ln>
        </p:spPr>
      </p:pic>
      <p:cxnSp>
        <p:nvCxnSpPr>
          <p:cNvPr id="326" name="Скругленная соединительная линия 4"/>
          <p:cNvCxnSpPr/>
          <p:nvPr/>
        </p:nvCxnSpPr>
        <p:spPr>
          <a:xfrm rot="10800000">
            <a:off x="3131280" y="1412280"/>
            <a:ext cx="1296360" cy="108000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rcRect l="4065" t="5659" r="20115" b="35281"/>
          <a:stretch/>
        </p:blipFill>
        <p:spPr>
          <a:xfrm>
            <a:off x="1619280" y="189000"/>
            <a:ext cx="6337440" cy="4002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http://yun.moluch.ru/archive/15/1095/images/1095.009.png"/>
          <p:cNvPicPr/>
          <p:nvPr/>
        </p:nvPicPr>
        <p:blipFill>
          <a:blip r:embed="rId2"/>
          <a:srcRect l="0" t="32880" r="4363" b="31282"/>
          <a:stretch/>
        </p:blipFill>
        <p:spPr>
          <a:xfrm>
            <a:off x="468360" y="3860640"/>
            <a:ext cx="4535280" cy="863640"/>
          </a:xfrm>
          <a:prstGeom prst="rect">
            <a:avLst/>
          </a:prstGeom>
          <a:ln w="0">
            <a:noFill/>
          </a:ln>
        </p:spPr>
      </p:pic>
      <p:cxnSp>
        <p:nvCxnSpPr>
          <p:cNvPr id="329" name="Скругленная соединительная линия 4"/>
          <p:cNvCxnSpPr/>
          <p:nvPr/>
        </p:nvCxnSpPr>
        <p:spPr>
          <a:xfrm flipV="1">
            <a:off x="1619280" y="2565000"/>
            <a:ext cx="2232720" cy="1512000"/>
          </a:xfrm>
          <a:prstGeom prst="curvedConnector5">
            <a:avLst>
              <a:gd name="adj1" fmla="val 17851"/>
              <a:gd name="adj2" fmla="val 49988"/>
              <a:gd name="adj3" fmla="val 17851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rcRect l="0" t="6644" r="17348" b="8701"/>
          <a:stretch/>
        </p:blipFill>
        <p:spPr>
          <a:xfrm>
            <a:off x="1187280" y="404640"/>
            <a:ext cx="5256360" cy="302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yun.moluch.ru/archive/15/1095/images/1095.010.png"/>
          <p:cNvPicPr/>
          <p:nvPr/>
        </p:nvPicPr>
        <p:blipFill>
          <a:blip r:embed="rId2"/>
          <a:srcRect l="0" t="37651" r="20423" b="40411"/>
          <a:stretch/>
        </p:blipFill>
        <p:spPr>
          <a:xfrm>
            <a:off x="4319640" y="3573360"/>
            <a:ext cx="4645080" cy="1144800"/>
          </a:xfrm>
          <a:prstGeom prst="rect">
            <a:avLst/>
          </a:prstGeom>
          <a:ln w="0">
            <a:noFill/>
          </a:ln>
        </p:spPr>
      </p:pic>
      <p:cxnSp>
        <p:nvCxnSpPr>
          <p:cNvPr id="332" name="Скругленная соединительная линия 4"/>
          <p:cNvCxnSpPr/>
          <p:nvPr/>
        </p:nvCxnSpPr>
        <p:spPr>
          <a:xfrm rot="10800000">
            <a:off x="4571280" y="1988280"/>
            <a:ext cx="1729440" cy="1656720"/>
          </a:xfrm>
          <a:prstGeom prst="curvedConnector5">
            <a:avLst>
              <a:gd name="adj1" fmla="val 49989"/>
              <a:gd name="adj2" fmla="val 49989"/>
              <a:gd name="adj3" fmla="val 4998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C:\Users\User\Desktop\Plickers\Снимок экрана 2016-10-03 в 21.11.00 5.png"/>
          <p:cNvPicPr/>
          <p:nvPr/>
        </p:nvPicPr>
        <p:blipFill>
          <a:blip r:embed="rId1"/>
          <a:stretch/>
        </p:blipFill>
        <p:spPr>
          <a:xfrm>
            <a:off x="1403280" y="1197000"/>
            <a:ext cx="6697800" cy="31179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"/>
          <p:cNvSpPr/>
          <p:nvPr/>
        </p:nvSpPr>
        <p:spPr>
          <a:xfrm>
            <a:off x="179280" y="4132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включаем функцию «Прямая трансляц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404720" y="4096800"/>
            <a:ext cx="64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м приложение на смартфоне. Выбираем кла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нужный вопрос. Он появится на экр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имаем 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Сканируем отв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5230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верить ответы, статистику, открываем раздел «Отче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1" descr="Снимок экрана 2016-10-03 в 21.11.00 4"/>
          <p:cNvPicPr/>
          <p:nvPr/>
        </p:nvPicPr>
        <p:blipFill>
          <a:blip r:embed="rId1"/>
          <a:stretch/>
        </p:blipFill>
        <p:spPr>
          <a:xfrm>
            <a:off x="1763640" y="333360"/>
            <a:ext cx="4438800" cy="21240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9" descr=""/>
          <p:cNvPicPr/>
          <p:nvPr/>
        </p:nvPicPr>
        <p:blipFill>
          <a:blip r:embed="rId2"/>
          <a:srcRect l="0" t="4774" r="5893" b="0"/>
          <a:stretch/>
        </p:blipFill>
        <p:spPr>
          <a:xfrm>
            <a:off x="2484360" y="2924280"/>
            <a:ext cx="6010200" cy="341928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21"/>
          <p:cNvCxnSpPr/>
          <p:nvPr/>
        </p:nvCxnSpPr>
        <p:spPr>
          <a:xfrm flipV="1" rot="10800000">
            <a:off x="4210920" y="1412640"/>
            <a:ext cx="613440" cy="289440"/>
          </a:xfrm>
          <a:prstGeom prst="bentConnector3">
            <a:avLst>
              <a:gd name="adj1" fmla="val 4997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22"/>
          <p:cNvCxnSpPr/>
          <p:nvPr/>
        </p:nvCxnSpPr>
        <p:spPr>
          <a:xfrm flipV="1" rot="10800000">
            <a:off x="4210920" y="691920"/>
            <a:ext cx="613440" cy="289440"/>
          </a:xfrm>
          <a:prstGeom prst="bentConnector3">
            <a:avLst>
              <a:gd name="adj1" fmla="val 4997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AutoShape 23"/>
          <p:cNvCxnSpPr/>
          <p:nvPr/>
        </p:nvCxnSpPr>
        <p:spPr>
          <a:xfrm flipV="1" rot="10800000">
            <a:off x="4210920" y="1915920"/>
            <a:ext cx="613440" cy="289440"/>
          </a:xfrm>
          <a:prstGeom prst="bentConnector3">
            <a:avLst>
              <a:gd name="adj1" fmla="val 4997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57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572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0" y="2567160"/>
            <a:ext cx="27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статистику опр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0" y="600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30T13:04:41Z</dcterms:created>
  <dc:creator>1</dc:creator>
  <dc:description/>
  <dc:language>en-US</dc:language>
  <cp:lastModifiedBy>Наталья</cp:lastModifiedBy>
  <dcterms:modified xsi:type="dcterms:W3CDTF">2019-02-28T19:08:20Z</dcterms:modified>
  <cp:revision>4</cp:revision>
  <dc:subject/>
  <dc:title>«Использование программы PLICKERS для проведения опроса на уроках»</dc:title>
</cp:coreProperties>
</file>