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B7F1-48D4-4792-8377-0C81985F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DFD-6D6C-45FF-B072-AD0CBD18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C1F-15AB-468E-82C2-CEA94236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635-4EAC-4071-BDA6-E4D07659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91F0-DB48-414A-BD19-77C81F1C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C83E-21D5-47C1-B6CF-B4C49F68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13BD-A744-4C55-8290-E39F042F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1415-82BE-4C51-AD61-0D58ECAF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ADF8-BF85-4338-B9CF-CF2C94E8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C4DC-6826-4B28-A1B0-3FB0E5B6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7856-A9DE-456A-BCE2-E9CF8DAA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950-B83E-45E0-AC72-E5C5E728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DB05-36E3-47E1-A408-1D3A18EA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2A77-C29C-4E80-8EA7-EFDB8230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5810-383E-466F-A4E5-7FFC4D7C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BFE2-DAF1-4845-8485-53CABA15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A904-5054-41AE-85DE-08737A2D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78E4-B471-450C-9E1E-13B1EBE0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E230-5068-4A84-A4E7-2B5C3BA2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BDD86-BAD0-4AF0-95D2-30B6FCFD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43EC0-83B5-41D3-8EB1-607FADB9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089D-C381-4FFB-BBA5-1D711B7A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FE9-0995-45FE-B418-824ACA2D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845FC-3613-4F13-9F54-CE9A12CF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A03A0-E601-4EBC-B442-134B3FC1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EFB1E-79EF-437D-B91B-0C3B1E58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0EAE6-AFC0-4FCC-A149-7B7201FE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A36CB-9E41-4304-977F-002BAA0E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8EB39-F0B0-4F10-81FB-C4AE6B40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25668-7481-4F3A-9C4A-1E393ED4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9AA14-17CE-4402-939A-D37D16F3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2DFBD-0198-4CDF-BD5A-C5ECA966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C42CA-716D-423A-BDE6-FEF76633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B06-080D-4147-8EFB-0F05D027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06247-FC11-40FE-BD58-84C77574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9655C-77E0-42FE-AFA4-3AB2AAF6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52A1D-6AFA-450F-9FE1-A9C5C65F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E4F5C-5C92-4469-BE1E-F894AC28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AB296-8103-438D-BF58-A48DD591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7A4B4-6B8C-48E1-8DCB-777A323B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7163D-991E-4E1C-8440-E919FC5D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D6185-56C6-4F8C-856A-4398FD08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43A8E-3D71-44E9-80D0-31B2FCE8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AA0FB-57E7-416A-B1E1-A7538929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AEB-881A-4D4F-A6D7-7BB2121D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B7FB0-DE77-4D64-901B-4BE84512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F6BEE-06F6-401D-A71A-54B950A0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96481-B804-4953-AAA6-F46DE3E7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52A45-641B-452E-99C2-F414BED0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76725-60A5-4EF2-978B-5E7DF117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024C5-FE71-4B20-8A87-FA7F24AD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98603-75D9-4326-A98C-CD62FBDD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B3062-9D8D-4D7C-989F-55E450BC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A9C63-0BA1-4B32-B093-22532905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B162E-CF89-4ED9-80B3-F515CC75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075-1D14-437B-8B67-9A32A0E6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2D590-840E-4538-8D67-5DA2F31B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A2CB8-C9FB-4C6A-BBFB-45D2421B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3806A-0A34-4550-A07D-D40CAC37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81128-78A5-4DB1-ABE2-A617F576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35C52-1417-40FF-994C-68452E53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6FE34-D43F-43D7-8F5D-36C83051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ACFEF-CE3A-4D2D-8755-F1F0B638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31D67-748C-4541-B8CD-AF874C57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7480D-0D8F-4CE1-8D12-876B8485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8D57D-E42D-4290-9650-5CEB5518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678-5C06-451D-AB4D-14FBEA64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003E8-1C0A-4BCC-821C-1F1A1368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73856-ADB8-4B68-A53A-9D5B4F8F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10DA8-18A8-4256-BEDF-D237462E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E19BE-1F5B-4C1A-BC0F-9B6434BA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8686C-98C4-4179-AA71-DC1CAD0C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AB373-E578-42F1-A70E-D5FA7866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BD9EE-F00C-4ADF-A77A-0BB1FE7E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C8E57-AC12-453E-BBDA-0D4FD3E3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3D375-11E9-4510-A05B-6E4AEA83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41AFE-E900-4147-B73C-2DD92DA4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B93-CF00-4348-820F-F1465262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5853A-9CEA-48A5-89A9-4CCBD25E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0A2D5-DD25-4340-B61A-AF0810DB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4C979-7D4E-45E5-ABB5-85000572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75CCE-BD7B-4D8B-90F3-AD1F6118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584DA-CA91-4977-B191-D0C6B6E6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6C8-B0EF-4435-8F7C-187E6748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6220-A301-44FD-B1B6-72AA06E1BA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D6EC-7236-4881-AFAC-1D36089D8F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B7A2-53DA-4F5B-A94B-04D0BA738ED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A74F-99BA-4427-90ED-503BC98FBE6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C25D-A585-429B-A42D-B1844465D17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CA79-44BF-41D8-AB3E-A25EF22BB32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0D94-AB6C-444F-B6FD-C9492F7435E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1640" y="836640"/>
            <a:ext cx="740556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«Использование программы PLICKERS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для проведения опроса на уроках географии»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47640" y="37893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Таборова Наталья Владимировн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читель географии МОУ СОШ №8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Г.о.Подольск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http://yun.moluch.ru/archive/15/1095/images/1095.005.jpg"/>
          <p:cNvPicPr/>
          <p:nvPr/>
        </p:nvPicPr>
        <p:blipFill>
          <a:blip r:embed="rId1"/>
          <a:stretch/>
        </p:blipFill>
        <p:spPr>
          <a:xfrm>
            <a:off x="324000" y="476280"/>
            <a:ext cx="8494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rcRect l="0" t="13533" r="14861" b="12638"/>
          <a:stretch/>
        </p:blipFill>
        <p:spPr>
          <a:xfrm>
            <a:off x="741240" y="692280"/>
            <a:ext cx="8402760" cy="4608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http://yun.moluch.ru/archive/15/1095/images/1095.007.png"/>
          <p:cNvPicPr/>
          <p:nvPr/>
        </p:nvPicPr>
        <p:blipFill>
          <a:blip r:embed="rId2"/>
          <a:srcRect l="4352" t="16030" r="10039" b="26911"/>
          <a:stretch/>
        </p:blipFill>
        <p:spPr>
          <a:xfrm>
            <a:off x="1258920" y="2924280"/>
            <a:ext cx="4249800" cy="144144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3"/>
          <p:cNvSpPr/>
          <p:nvPr/>
        </p:nvSpPr>
        <p:spPr>
          <a:xfrm>
            <a:off x="1042920" y="5445000"/>
            <a:ext cx="727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 вкладке Классы (Class) создаются списки тестируемых. Самый простой способ — назвать классы по их реальному названию: 7А, 7Б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rcRect l="10154" t="14523" r="14861" b="7717"/>
          <a:stretch/>
        </p:blipFill>
        <p:spPr>
          <a:xfrm>
            <a:off x="395280" y="260280"/>
            <a:ext cx="7040520" cy="4105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http://yun.moluch.ru/archive/15/1095/images/1095.008.png"/>
          <p:cNvPicPr/>
          <p:nvPr/>
        </p:nvPicPr>
        <p:blipFill>
          <a:blip r:embed="rId2"/>
          <a:srcRect l="0" t="63493" r="13393" b="16328"/>
          <a:stretch/>
        </p:blipFill>
        <p:spPr>
          <a:xfrm>
            <a:off x="4500720" y="2205000"/>
            <a:ext cx="4248000" cy="503280"/>
          </a:xfrm>
          <a:prstGeom prst="rect">
            <a:avLst/>
          </a:prstGeom>
          <a:ln w="0">
            <a:noFill/>
          </a:ln>
        </p:spPr>
      </p:pic>
      <p:cxnSp>
        <p:nvCxnSpPr>
          <p:cNvPr id="326" name="Скругленная соединительная линия 4"/>
          <p:cNvCxnSpPr/>
          <p:nvPr/>
        </p:nvCxnSpPr>
        <p:spPr>
          <a:xfrm rot="10800000">
            <a:off x="3131280" y="1412280"/>
            <a:ext cx="1296360" cy="1080000"/>
          </a:xfrm>
          <a:prstGeom prst="curvedConnector5">
            <a:avLst>
              <a:gd name="adj1" fmla="val 50000"/>
              <a:gd name="adj2" fmla="val 49983"/>
              <a:gd name="adj3" fmla="val 50000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rcRect l="4065" t="5659" r="20115" b="35281"/>
          <a:stretch/>
        </p:blipFill>
        <p:spPr>
          <a:xfrm>
            <a:off x="1619280" y="189000"/>
            <a:ext cx="6337440" cy="40021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http://yun.moluch.ru/archive/15/1095/images/1095.009.png"/>
          <p:cNvPicPr/>
          <p:nvPr/>
        </p:nvPicPr>
        <p:blipFill>
          <a:blip r:embed="rId2"/>
          <a:srcRect l="0" t="32880" r="4363" b="31282"/>
          <a:stretch/>
        </p:blipFill>
        <p:spPr>
          <a:xfrm>
            <a:off x="468360" y="3860640"/>
            <a:ext cx="4535280" cy="863640"/>
          </a:xfrm>
          <a:prstGeom prst="rect">
            <a:avLst/>
          </a:prstGeom>
          <a:ln w="0">
            <a:noFill/>
          </a:ln>
        </p:spPr>
      </p:pic>
      <p:cxnSp>
        <p:nvCxnSpPr>
          <p:cNvPr id="329" name="Скругленная соединительная линия 4"/>
          <p:cNvCxnSpPr/>
          <p:nvPr/>
        </p:nvCxnSpPr>
        <p:spPr>
          <a:xfrm flipV="1">
            <a:off x="1619280" y="2565000"/>
            <a:ext cx="2232720" cy="1512000"/>
          </a:xfrm>
          <a:prstGeom prst="curvedConnector5">
            <a:avLst>
              <a:gd name="adj1" fmla="val 17851"/>
              <a:gd name="adj2" fmla="val 49988"/>
              <a:gd name="adj3" fmla="val 17851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rcRect l="0" t="6644" r="17348" b="8701"/>
          <a:stretch/>
        </p:blipFill>
        <p:spPr>
          <a:xfrm>
            <a:off x="1187280" y="404640"/>
            <a:ext cx="5256360" cy="302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http://yun.moluch.ru/archive/15/1095/images/1095.010.png"/>
          <p:cNvPicPr/>
          <p:nvPr/>
        </p:nvPicPr>
        <p:blipFill>
          <a:blip r:embed="rId2"/>
          <a:srcRect l="0" t="37651" r="20423" b="40411"/>
          <a:stretch/>
        </p:blipFill>
        <p:spPr>
          <a:xfrm>
            <a:off x="4319640" y="3573360"/>
            <a:ext cx="4645080" cy="1144800"/>
          </a:xfrm>
          <a:prstGeom prst="rect">
            <a:avLst/>
          </a:prstGeom>
          <a:ln w="0">
            <a:noFill/>
          </a:ln>
        </p:spPr>
      </p:pic>
      <p:cxnSp>
        <p:nvCxnSpPr>
          <p:cNvPr id="332" name="Скругленная соединительная линия 4"/>
          <p:cNvCxnSpPr/>
          <p:nvPr/>
        </p:nvCxnSpPr>
        <p:spPr>
          <a:xfrm rot="10800000">
            <a:off x="4571280" y="1988280"/>
            <a:ext cx="1729440" cy="1656720"/>
          </a:xfrm>
          <a:prstGeom prst="curvedConnector5">
            <a:avLst>
              <a:gd name="adj1" fmla="val 49989"/>
              <a:gd name="adj2" fmla="val 49989"/>
              <a:gd name="adj3" fmla="val 49989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1" descr="C:\Users\User\Desktop\Plickers\Снимок экрана 2016-10-03 в 21.11.00 5.png"/>
          <p:cNvPicPr/>
          <p:nvPr/>
        </p:nvPicPr>
        <p:blipFill>
          <a:blip r:embed="rId1"/>
          <a:stretch/>
        </p:blipFill>
        <p:spPr>
          <a:xfrm>
            <a:off x="1403280" y="1197000"/>
            <a:ext cx="6697800" cy="31179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"/>
          <p:cNvSpPr/>
          <p:nvPr/>
        </p:nvSpPr>
        <p:spPr>
          <a:xfrm>
            <a:off x="179280" y="41328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включаем функцию «Прямая трансляц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1404720" y="4096800"/>
            <a:ext cx="646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м приложение на смартфоне. Выбираем кла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ем нужный вопрос. Он появится на экра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жимаем 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Сканируем отв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5230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оверить ответы, статистику, открываем раздел «Отчет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11" descr="Снимок экрана 2016-10-03 в 21.11.00 4"/>
          <p:cNvPicPr/>
          <p:nvPr/>
        </p:nvPicPr>
        <p:blipFill>
          <a:blip r:embed="rId1"/>
          <a:stretch/>
        </p:blipFill>
        <p:spPr>
          <a:xfrm>
            <a:off x="1763640" y="333360"/>
            <a:ext cx="4438800" cy="212400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9" descr=""/>
          <p:cNvPicPr/>
          <p:nvPr/>
        </p:nvPicPr>
        <p:blipFill>
          <a:blip r:embed="rId2"/>
          <a:srcRect l="0" t="4774" r="5893" b="0"/>
          <a:stretch/>
        </p:blipFill>
        <p:spPr>
          <a:xfrm>
            <a:off x="2484360" y="2924280"/>
            <a:ext cx="6010200" cy="3419280"/>
          </a:xfrm>
          <a:prstGeom prst="rect">
            <a:avLst/>
          </a:prstGeom>
          <a:ln w="0">
            <a:noFill/>
          </a:ln>
        </p:spPr>
      </p:pic>
      <p:cxnSp>
        <p:nvCxnSpPr>
          <p:cNvPr id="339" name="AutoShape 21"/>
          <p:cNvCxnSpPr/>
          <p:nvPr/>
        </p:nvCxnSpPr>
        <p:spPr>
          <a:xfrm flipV="1" rot="10800000">
            <a:off x="4210920" y="1412640"/>
            <a:ext cx="613440" cy="289440"/>
          </a:xfrm>
          <a:prstGeom prst="bentConnector3">
            <a:avLst>
              <a:gd name="adj1" fmla="val 4997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22"/>
          <p:cNvCxnSpPr/>
          <p:nvPr/>
        </p:nvCxnSpPr>
        <p:spPr>
          <a:xfrm flipV="1" rot="10800000">
            <a:off x="4210920" y="691920"/>
            <a:ext cx="613440" cy="289440"/>
          </a:xfrm>
          <a:prstGeom prst="bentConnector3">
            <a:avLst>
              <a:gd name="adj1" fmla="val 4997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AutoShape 23"/>
          <p:cNvCxnSpPr/>
          <p:nvPr/>
        </p:nvCxnSpPr>
        <p:spPr>
          <a:xfrm flipV="1" rot="10800000">
            <a:off x="4210920" y="1915920"/>
            <a:ext cx="613440" cy="289440"/>
          </a:xfrm>
          <a:prstGeom prst="bentConnector3">
            <a:avLst>
              <a:gd name="adj1" fmla="val 4997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45720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45720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0" y="2567160"/>
            <a:ext cx="27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 статистику опр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0" y="6000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30T13:04:41Z</dcterms:created>
  <dc:creator>1</dc:creator>
  <dc:description/>
  <dc:language>en-US</dc:language>
  <cp:lastModifiedBy>Наталья</cp:lastModifiedBy>
  <dcterms:modified xsi:type="dcterms:W3CDTF">2019-02-28T19:08:20Z</dcterms:modified>
  <cp:revision>4</cp:revision>
  <dc:subject/>
  <dc:title>«Использование программы PLICKERS для проведения опроса на уроках»</dc:title>
</cp:coreProperties>
</file>