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9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8F5-5484-4E5C-9D36-FB21DD53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B96B-B20F-461F-ACB1-C4BEC920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3A2-35C3-43FE-8E84-A375CECA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4FD-81BA-4466-AA1E-C25E5283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8CE4-5C5B-498E-8868-5AE5A245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1E4E-73B3-4883-AD3F-0B84C5FC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4C3B-B133-454B-82DB-910A88E9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157B-7106-4216-9DF8-A603C14A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30F7-C3B4-4569-9723-6A14D046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1317-3185-448D-9C63-F5BB6FA2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41DE-0875-4443-A368-7103B7EE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56F-84A7-437D-BACA-3731FEEA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39DB-5C95-44D4-B6FD-BCBA8CF7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C263-DFAE-49F0-9789-AAD933B1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EDE5-41F1-4C79-8BD7-8520E141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5069-A7AF-4C47-89FF-95C4AE8E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B562-A2C0-4424-B52B-B2123517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A8C54-8913-4C79-9F86-7AA2EF1E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905C1-A25B-48CB-BD58-2E937766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6B633-BFA0-4069-8C6C-E0977CC8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BC492-4345-46DB-AFA6-AD6FA81B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2FE1A-0DA2-472C-828B-3E13A472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864-8719-4164-AB18-DA26A5BE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5A548-E2F5-40C6-973C-D87ED329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9A57A-72C3-48C4-B705-0BC5F5C1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287C-BBBD-4128-B044-28231784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5BB1-7AE2-486C-A5CD-C31ABCFC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A8E79-4F4A-4DD9-8E83-88223CD9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9780D-4AFA-4631-94A0-98B1A71F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65807-BF6A-461D-84DD-6F9BCDFB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420-9EDF-4D1F-912B-B7D6CBD4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E7F-F596-454E-81C6-CEE8F282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5B0-AD35-4941-993C-8752AD91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5FF-6834-4BA1-9DA9-C7E0030E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36A-D240-454A-A2F3-60DEF6CD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16D-54B0-4440-B399-E05704D1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2ADB-F7C8-4E2C-B3B7-78938D5523D3}" type="slidenum">
              <a:rPr b="1" lang="ru-RU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2047-1D0C-4001-96A1-D68380CB9F35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C511-2F6F-45F4-806F-01A438A03BA8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рямоугольник 1" descr=""/>
          <p:cNvPicPr/>
          <p:nvPr/>
        </p:nvPicPr>
        <p:blipFill>
          <a:blip r:embed="rId1"/>
          <a:stretch/>
        </p:blipFill>
        <p:spPr>
          <a:xfrm>
            <a:off x="231840" y="841320"/>
            <a:ext cx="8667720" cy="1646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Users\Риточка\Desktop\4406774592_6d0cce9955.jpg"/>
          <p:cNvPicPr/>
          <p:nvPr/>
        </p:nvPicPr>
        <p:blipFill>
          <a:blip r:embed="rId2"/>
          <a:stretch/>
        </p:blipFill>
        <p:spPr>
          <a:xfrm>
            <a:off x="2057400" y="339408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268200" y="457200"/>
            <a:ext cx="8875800" cy="1189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4483080" cy="3786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28600" y="1599840"/>
            <a:ext cx="3857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ыжи появились в глубокой древности, еще в каменном веке. Первые лыжи были короткими и широкими, и охотники могли на них только ходить по снегу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6" descr=""/>
          <p:cNvPicPr/>
          <p:nvPr/>
        </p:nvPicPr>
        <p:blipFill>
          <a:blip r:embed="rId1"/>
          <a:stretch/>
        </p:blipFill>
        <p:spPr>
          <a:xfrm>
            <a:off x="1060560" y="-19080"/>
            <a:ext cx="6181560" cy="1146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52280" y="4266720"/>
            <a:ext cx="876312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дьба на лыжах очень популярна в нашей стране и является доступным, увлекательным и полезным занятием, прекрасным средством укрепления здоровья, закаливания, развития выносливости. Лыжные прогулки придают бодрость, повышают работоспособность, создают хорошее настрое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C:\Users\Риточка\Desktop\Лыжи.jpg"/>
          <p:cNvPicPr/>
          <p:nvPr/>
        </p:nvPicPr>
        <p:blipFill>
          <a:blip r:embed="rId2"/>
          <a:stretch/>
        </p:blipFill>
        <p:spPr>
          <a:xfrm>
            <a:off x="1676520" y="870120"/>
            <a:ext cx="494640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1752480" y="0"/>
            <a:ext cx="8894880" cy="115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-360" y="1599840"/>
            <a:ext cx="44197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ыжный спорт — популярный и массовый вид зимнего спорта, включающий гонки, прыжки с трамплина, биатлон, слалом, горные лыжи и скоростной спуск, северное двоеборье (гонки и прыжки с трамплина), фристайл (балет, акробатика, могул), а также лыжную подготовку как первую ступень занятий лыжным спортом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:\Users\Риточка\Desktop\13170921.jpg"/>
          <p:cNvPicPr/>
          <p:nvPr/>
        </p:nvPicPr>
        <p:blipFill>
          <a:blip r:embed="rId2"/>
          <a:stretch/>
        </p:blipFill>
        <p:spPr>
          <a:xfrm>
            <a:off x="4419720" y="3124080"/>
            <a:ext cx="436860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285840" y="304920"/>
            <a:ext cx="8877240" cy="1189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304920" y="15238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ходьбе на лыжах в работу вовлекается наибольшее, по сравнению с другими видами упражнений, число мышц, основательно нагружаются мышцы ног, рук, спины, живота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цессе занятий совершенствуются жизненно важные качества - воля, смелость, выносливость, скоростно-силовые способн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:\Users\Риточка\Desktop\209739617.jpg"/>
          <p:cNvPicPr/>
          <p:nvPr/>
        </p:nvPicPr>
        <p:blipFill>
          <a:blip r:embed="rId2"/>
          <a:stretch/>
        </p:blipFill>
        <p:spPr>
          <a:xfrm>
            <a:off x="5029200" y="1447920"/>
            <a:ext cx="34545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3" descr=""/>
          <p:cNvPicPr/>
          <p:nvPr/>
        </p:nvPicPr>
        <p:blipFill>
          <a:blip r:embed="rId1"/>
          <a:stretch/>
        </p:blipFill>
        <p:spPr>
          <a:xfrm>
            <a:off x="371520" y="304920"/>
            <a:ext cx="8467560" cy="1444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768480" y="1571760"/>
            <a:ext cx="5105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занятий лыжным спортом желательно на спортивный костюм надеть легкую спортивную куртку для защиты от ветр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ыжная шапочка должна прикрывать лоб, а на руки лучше надеть варежки или перчатк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ыжные ботинки должны свободно надеваться на две пары носков (одни хлопчатобумажные, другие шерстяные).  Для того чтобы ботинки стали эластичными и  непромокаемыми, их следует пропитать рыбьим жиром или олифой, а через 1—2 ч натереть хозяйственным мыло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C:\Users\Риточка\Desktop\2.jpg"/>
          <p:cNvPicPr/>
          <p:nvPr/>
        </p:nvPicPr>
        <p:blipFill>
          <a:blip r:embed="rId2"/>
          <a:stretch/>
        </p:blipFill>
        <p:spPr>
          <a:xfrm>
            <a:off x="152280" y="2209680"/>
            <a:ext cx="3519720" cy="3327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328680" y="0"/>
            <a:ext cx="8815320" cy="1298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228240" y="1357200"/>
            <a:ext cx="616572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ыжи и палки подбираются по росту. Длина лыж для классических ходов – кончик лыж касается вашей ладони, рука поднята вертикально вверх.  Высота палок должна быть чуть выше подмышек или по плечо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ля конькового хода лыжи короче, а палки выше обычных на 10-12 см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6394320" y="1295280"/>
            <a:ext cx="2490840" cy="25005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"/>
          <p:cNvPicPr/>
          <p:nvPr/>
        </p:nvPicPr>
        <p:blipFill>
          <a:blip r:embed="rId3"/>
          <a:stretch/>
        </p:blipFill>
        <p:spPr>
          <a:xfrm>
            <a:off x="500040" y="4357800"/>
            <a:ext cx="3071880" cy="168408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8"/>
          <p:cNvSpPr/>
          <p:nvPr/>
        </p:nvSpPr>
        <p:spPr>
          <a:xfrm>
            <a:off x="3643200" y="4429080"/>
            <a:ext cx="521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еред началом занятий лыжи натирают мазью для лучшего скольжения. Мазь выбирают в зависимости от температуры воздух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ля хранения и переноски используются специальные коло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766360" cy="1444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0" y="1428840"/>
            <a:ext cx="884880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людать дисциплину, всегда видеть и слышать учителя, так как подача команд, указаний и распоряжений производится при низкой температуре и их повторения должны быть сведены до минимум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едуя по лыжне за товарищем, сохраняйте интервал 3-4 м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ри спуске с горы не менее 30 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спуске с горы не выставляйте палки перед собой, инач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лучае падения можно на них наткнутьс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спуске с горы не останавливайтесь у ее подножия, та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на вас может наехать спускающийся следом лыжни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о время занятий, коллективной прогулки, похода вы п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й-либо причине сошли с дистанции, то обязательно   предупредите об этом товарищ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переходе через проезжую дорогу обязательно снимайт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ыж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когда не растирайте обмороженные участки тела снего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занятий снять лыжи и очистить их от снег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C:\Users\Риточка\Desktop\original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 PC</cp:lastModifiedBy>
  <dcterms:modified xsi:type="dcterms:W3CDTF">2019-02-28T15:48:02Z</dcterms:modified>
  <cp:revision>11</cp:revision>
  <dc:subject/>
  <dc:title>Лыжная подгото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00000000000010243000207f6000400038000</vt:lpwstr>
  </property>
  <property fmtid="{D5CDD505-2E9C-101B-9397-08002B2CF9AE}" pid="3" name="Version">
    <vt:r8>1</vt:r8>
  </property>
</Properties>
</file>