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9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36E-2AF7-473F-AA0B-9726F5E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194-C80B-40D1-9DC3-A957A5C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7E2-2620-4C59-87AB-E917137C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0A9-6846-4922-99FB-C2F5B070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401A-1BA9-4546-B778-9C9BCAA6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FC73-F19F-453D-8E7A-5F7C697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C3D-88DD-4F46-A6AB-BAD0FB34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1150-7CF2-4605-BC11-4221D57E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1B7-7D2D-4AD7-B152-E61392D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D0C-DDDD-4537-B878-3AA80D8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743-3E1B-427D-A9EB-FD48F6B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D37-E81A-44CB-AD0E-5705D80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7E0-B7F8-4D89-AA39-84611C2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8B14-C1B0-4FB8-949B-0F6366F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BD00-24B2-41AB-A770-597BD6E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66C-AA66-4070-9C5B-228ABD0A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27B-02A1-494E-A6BB-DA256102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F487-B642-47AF-8ED1-DD0803E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E09C-F5BE-4B8A-A107-A8D2EF8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6283-14B3-44BB-8358-A96542E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5998-4191-4ACA-954C-FBFD9CB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7208-BC1D-4721-9B9D-F7E81D3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023-1D8C-40DF-B53C-BF3A671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AA14-78DE-452C-BEEF-231931BE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41AB-CB6C-484F-A834-23C445B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329F-2AFC-432A-86C6-5B2942C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DC1B-DAD6-42AE-B34F-D897E1F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9305-E34B-4DBE-922C-DD59F4C1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012C-9C77-4F81-B022-1E45C67C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4142-B4B3-44FE-BD11-9A574551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FDF-97E0-488A-84EA-BA1C330F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427-DEA3-4054-B597-6271AE5B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0CD-595F-4686-933A-43D5E05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EA5-FF92-4BFF-9C5C-B89CFB7F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680-17C2-4845-813E-ADD7F0F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C3B-6C0F-4100-9804-61ED0FF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C078-5E82-49E4-8E9D-4ABF985E2EFF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F1B-A589-42AA-8808-C88FAEF2879C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1A00-E393-4947-B3CB-09B34D288F4E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841320"/>
            <a:ext cx="866772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Риточка\Desktop\4406774592_6d0cce9955.jpg"/>
          <p:cNvPicPr/>
          <p:nvPr/>
        </p:nvPicPr>
        <p:blipFill>
          <a:blip r:embed="rId2"/>
          <a:stretch/>
        </p:blipFill>
        <p:spPr>
          <a:xfrm>
            <a:off x="2057400" y="33940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268200" y="457200"/>
            <a:ext cx="8875800" cy="118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483080" cy="3786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8600" y="1599840"/>
            <a:ext cx="3857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ыжи появились в глубокой древности, еще в каменном веке. Первые лыжи были короткими и широкими, и охотники могли на них только ходить по снег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6" descr=""/>
          <p:cNvPicPr/>
          <p:nvPr/>
        </p:nvPicPr>
        <p:blipFill>
          <a:blip r:embed="rId1"/>
          <a:stretch/>
        </p:blipFill>
        <p:spPr>
          <a:xfrm>
            <a:off x="1060560" y="-19080"/>
            <a:ext cx="6181560" cy="114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52280" y="4266720"/>
            <a:ext cx="87631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ьба на лыжах очень популярна в нашей стране и является доступным, увлекательным и полезным занятием, прекрасным средством укрепления здоровья, закаливания, развития выносливости. Лыжные прогулки придают бодрость, повышают работоспособность, создают хорошее настро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Users\Риточка\Desktop\Лыжи.jpg"/>
          <p:cNvPicPr/>
          <p:nvPr/>
        </p:nvPicPr>
        <p:blipFill>
          <a:blip r:embed="rId2"/>
          <a:stretch/>
        </p:blipFill>
        <p:spPr>
          <a:xfrm>
            <a:off x="1676520" y="870120"/>
            <a:ext cx="494640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752480" y="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-360" y="1599840"/>
            <a:ext cx="4419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ыжный спорт — популярный и массовый вид зимнего спорта, включающий гонки, прыжки с трамплина, биатлон, слалом, горные лыжи и скоростной спуск, северное двоеборье (гонки и прыжки с трамплина), фристайл (балет, акробатика, могул), а также лыжную подготовку как первую ступень занятий лыжным спортом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Риточка\Desktop\13170921.jpg"/>
          <p:cNvPicPr/>
          <p:nvPr/>
        </p:nvPicPr>
        <p:blipFill>
          <a:blip r:embed="rId2"/>
          <a:stretch/>
        </p:blipFill>
        <p:spPr>
          <a:xfrm>
            <a:off x="4419720" y="312408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877240" cy="118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04920" y="15238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ходьбе на лыжах в работу вовлекается наибольшее, по сравнению с другими видами упражнений, число мышц, основательно нагружаются мышцы ног, рук, спины, живот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занятий совершенствуются жизненно важные качества - воля, смелость, выносливость, скоростно-силовые способ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Users\Риточка\Desktop\209739617.jpg"/>
          <p:cNvPicPr/>
          <p:nvPr/>
        </p:nvPicPr>
        <p:blipFill>
          <a:blip r:embed="rId2"/>
          <a:stretch/>
        </p:blipFill>
        <p:spPr>
          <a:xfrm>
            <a:off x="5029200" y="1447920"/>
            <a:ext cx="34545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3" descr=""/>
          <p:cNvPicPr/>
          <p:nvPr/>
        </p:nvPicPr>
        <p:blipFill>
          <a:blip r:embed="rId1"/>
          <a:stretch/>
        </p:blipFill>
        <p:spPr>
          <a:xfrm>
            <a:off x="371520" y="304920"/>
            <a:ext cx="8467560" cy="1444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768480" y="1571760"/>
            <a:ext cx="5105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занятий лыжным спортом желательно на спортивный костюм надеть легкую спортивную куртку для защиты от ветр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ная шапочка должна прикрывать лоб, а на руки лучше надеть варежки или перчатк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ные ботинки должны свободно надеваться на две пары носков (одни хлопчатобумажные, другие шерстяные).  Для того чтобы ботинки стали эластичными и  непромокаемыми, их следует пропитать рыбьим жиром или олифой, а через 1—2 ч натереть хозяйственным мыл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:\Users\Риточка\Desktop\2.jpg"/>
          <p:cNvPicPr/>
          <p:nvPr/>
        </p:nvPicPr>
        <p:blipFill>
          <a:blip r:embed="rId2"/>
          <a:stretch/>
        </p:blipFill>
        <p:spPr>
          <a:xfrm>
            <a:off x="152280" y="2209680"/>
            <a:ext cx="351972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328680" y="0"/>
            <a:ext cx="8815320" cy="129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28240" y="1357200"/>
            <a:ext cx="616572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ыжи и палки подбираются по росту. Длина лыж для классических ходов – кончик лыж касается вашей ладони, рука поднята вертикально вверх.  Высота палок должна быть чуть выше подмышек или по плечо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конькового хода лыжи короче, а палки выше обычных на 10-12 с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6394320" y="1295280"/>
            <a:ext cx="2490840" cy="2500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3"/>
          <a:stretch/>
        </p:blipFill>
        <p:spPr>
          <a:xfrm>
            <a:off x="500040" y="4357800"/>
            <a:ext cx="3071880" cy="16840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3643200" y="4429080"/>
            <a:ext cx="52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ред началом занятий лыжи натирают мазью для лучшего скольжения. Мазь выбирают в зависимости от температуры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хранения и переноски используются специальные ко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766360" cy="144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0" y="1428840"/>
            <a:ext cx="88488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дисциплину, всегда видеть и слышать учителя, так как подача команд, указаний и распоряжений производится при низкой температуре и их повторения должны быть сведены до миним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уя по лыжне за товарищем, сохраняйте интервал 3-4 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ри спуске с горы не менее 30 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пуске с горы не выставляйте палки перед собой, инач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падения можно на них наткнуть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пуске с горы не останавливайтесь у ее подножия, т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 вас может наехать спускающийся следом лыжни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о время занятий, коллективной прогулки, похода вы п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-либо причине сошли с дистанции, то обязательно   предупредите об этом товарищ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ереходе через проезжую дорогу обязательно снимай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гда не растирайте обмороженные участки тела снег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занятий снять лыжи и очистить их от сне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Users\Риточка\Desktop\origina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 PC</cp:lastModifiedBy>
  <dcterms:modified xsi:type="dcterms:W3CDTF">2019-02-28T15:48:02Z</dcterms:modified>
  <cp:revision>11</cp:revision>
  <dc:subject/>
  <dc:title>Лыжная подгото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00000000000010243000207f6000400038000</vt:lpwstr>
  </property>
  <property fmtid="{D5CDD505-2E9C-101B-9397-08002B2CF9AE}" pid="3" name="Version">
    <vt:r8>1</vt:r8>
  </property>
</Properties>
</file>