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53E-B8B9-43B2-8524-7061651B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7D7-5E1B-46AA-987C-AABA1F81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773-7CBD-4050-820D-800A5D2C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2AA-DCC0-4C48-BE30-B64D14F2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60E-83A2-4C8D-9755-901F451A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98C-02D6-4DA7-A2FC-A36435DE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CB3-1DB3-4CE5-A637-420C670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060-695F-4CAA-9C35-ED7901D4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073-FC1F-4EB9-B523-813F7D91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869-00AC-4C03-B5EA-01B2D58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4C-0DF0-47DE-A50B-956BD84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2A2-1DE0-49D8-B008-D01143AE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8BB-CF6E-4129-9154-972BDFC37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C:\Users\002\Desktop\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84360" y="692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о о слож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TextBox 4"/>
          <p:cNvGrpSpPr/>
          <p:nvPr/>
        </p:nvGrpSpPr>
        <p:grpSpPr>
          <a:xfrm>
            <a:off x="49320" y="208080"/>
            <a:ext cx="8899560" cy="1206360"/>
            <a:chOff x="49320" y="208080"/>
            <a:chExt cx="8899560" cy="1206360"/>
          </a:xfrm>
        </p:grpSpPr>
        <p:pic>
          <p:nvPicPr>
            <p:cNvPr id="46" name="TextBox 4" descr=""/>
            <p:cNvPicPr/>
            <p:nvPr/>
          </p:nvPicPr>
          <p:blipFill>
            <a:blip r:embed="rId2"/>
            <a:stretch/>
          </p:blipFill>
          <p:spPr>
            <a:xfrm>
              <a:off x="49320" y="208080"/>
              <a:ext cx="8899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8000" y="41760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Times New Roman"/>
                </a:rPr>
                <a:t>Просто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TextBox 2"/>
          <p:cNvGrpSpPr/>
          <p:nvPr/>
        </p:nvGrpSpPr>
        <p:grpSpPr>
          <a:xfrm>
            <a:off x="189000" y="4095720"/>
            <a:ext cx="8899560" cy="1208160"/>
            <a:chOff x="189000" y="4095720"/>
            <a:chExt cx="8899560" cy="1208160"/>
          </a:xfrm>
        </p:grpSpPr>
        <p:pic>
          <p:nvPicPr>
            <p:cNvPr id="49" name="TextBox 2" descr=""/>
            <p:cNvPicPr/>
            <p:nvPr/>
          </p:nvPicPr>
          <p:blipFill>
            <a:blip r:embed="rId3"/>
            <a:stretch/>
          </p:blipFill>
          <p:spPr>
            <a:xfrm>
              <a:off x="189000" y="4095720"/>
              <a:ext cx="88995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47680" y="4305240"/>
              <a:ext cx="878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Times New Roman"/>
                </a:rPr>
                <a:t>о сложно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8" descr="C:\Users\002\Desktop\Рисунок1.jpg"/>
          <p:cNvPicPr/>
          <p:nvPr/>
        </p:nvPicPr>
        <p:blipFill>
          <a:blip r:embed="rId4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: сформировать представление о ВИЧ инфекции и СПИДе как реальной угрозе жизни человека, познакомить с основными мерами профилактики СП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Ч. СТРАШНЫЕ ЦИФРЫ 2017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5"/>
          <p:cNvSpPr/>
          <p:nvPr/>
        </p:nvSpPr>
        <p:spPr>
          <a:xfrm>
            <a:off x="4602240" y="1773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2708280"/>
            <a:ext cx="30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число россиян, инфицированных ВИЧ, зарегистр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Ф на 01.11.201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703840" y="1413000"/>
            <a:ext cx="210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006 388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9" descr=""/>
          <p:cNvPicPr/>
          <p:nvPr/>
        </p:nvPicPr>
        <p:blipFill>
          <a:blip r:embed="rId1"/>
          <a:stretch/>
        </p:blipFill>
        <p:spPr>
          <a:xfrm>
            <a:off x="1616040" y="4071960"/>
            <a:ext cx="4997520" cy="1963800"/>
          </a:xfrm>
          <a:prstGeom prst="rect">
            <a:avLst/>
          </a:prstGeom>
          <a:ln w="0">
            <a:noFill/>
          </a:ln>
        </p:spPr>
      </p:pic>
      <p:sp>
        <p:nvSpPr>
          <p:cNvPr id="59" name="Выгнутая влево стрелка 11"/>
          <p:cNvSpPr/>
          <p:nvPr/>
        </p:nvSpPr>
        <p:spPr>
          <a:xfrm>
            <a:off x="247680" y="2997360"/>
            <a:ext cx="723960" cy="1655640"/>
          </a:xfrm>
          <a:custGeom>
            <a:avLst/>
            <a:gdLst>
              <a:gd name="textAreaLeft" fmla="*/ 96840 w 723960"/>
              <a:gd name="textAreaRight" fmla="*/ 627120 w 723960"/>
              <a:gd name="textAreaTop" fmla="*/ 345960 h 1655640"/>
              <a:gd name="textAreaBottom" fmla="*/ 12193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0" stAng="-5400000" swAng="-5400000"/>
                <a:lnTo>
                  <a:pt x="0" y="11390"/>
                </a:lnTo>
                <a:arcTo wR="21600" hR="9030" stAng="10800000" swAng="-3497900"/>
                <a:lnTo>
                  <a:pt x="16200" y="21313"/>
                </a:lnTo>
                <a:lnTo>
                  <a:pt x="21600" y="19239"/>
                </a:lnTo>
                <a:lnTo>
                  <a:pt x="16200" y="16591"/>
                </a:lnTo>
                <a:lnTo>
                  <a:pt x="16200" y="17772"/>
                </a:lnTo>
                <a:arcTo wR="21600" hR="9030" stAng="7302100" swAng="3308664"/>
                <a:lnTo>
                  <a:pt x="185" y="10210"/>
                </a:lnTo>
                <a:arcTo wR="21600" hR="9030" stAng="-10610764" swAng="5210764"/>
                <a:close/>
              </a:path>
              <a:path fill="darkenLess" w="21600" h="21600">
                <a:moveTo>
                  <a:pt x="21600" y="0"/>
                </a:moveTo>
                <a:arcTo wR="21600" hR="9030" stAng="-5400000" swAng="-5400000"/>
                <a:lnTo>
                  <a:pt x="0" y="9030"/>
                </a:lnTo>
                <a:arcTo wR="21600" hR="9030" stAng="10800000" swAng="-189236"/>
                <a:lnTo>
                  <a:pt x="185" y="10210"/>
                </a:lnTo>
                <a:arcTo wR="21600" hR="9030" stAng="-10610764" swAng="521076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верх стрелка 12"/>
          <p:cNvSpPr/>
          <p:nvPr/>
        </p:nvSpPr>
        <p:spPr>
          <a:xfrm>
            <a:off x="3851280" y="3246480"/>
            <a:ext cx="1971720" cy="662040"/>
          </a:xfrm>
          <a:custGeom>
            <a:avLst/>
            <a:gdLst>
              <a:gd name="textAreaLeft" fmla="*/ 430920 w 1971720"/>
              <a:gd name="textAreaRight" fmla="*/ 1458360 w 197172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4" y="0"/>
                </a:lnTo>
                <a:arcTo wR="9440" hR="21600" stAng="-5400000" swAng="3565539"/>
                <a:lnTo>
                  <a:pt x="21300" y="16200"/>
                </a:lnTo>
                <a:lnTo>
                  <a:pt x="19787" y="21600"/>
                </a:lnTo>
                <a:lnTo>
                  <a:pt x="17674" y="16200"/>
                </a:lnTo>
                <a:lnTo>
                  <a:pt x="18580" y="16200"/>
                </a:lnTo>
                <a:arcTo wR="9440" hR="21600" stAng="-1834461" swAng="-3420601"/>
                <a:lnTo>
                  <a:pt x="10347" y="100"/>
                </a:lnTo>
                <a:arcTo wR="9440" hR="21600" stAng="-5544939" swAng="-5255061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939"/>
                <a:lnTo>
                  <a:pt x="10347" y="100"/>
                </a:lnTo>
                <a:arcTo wR="9440" hR="21600" stAng="-5544939" swAng="-525506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3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809640" cy="2679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5940360" y="2997360"/>
            <a:ext cx="3095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.11.2015 в России зарегистрировано более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64 000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нфиц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ИЧ женщин, которые преимущественно инфицирова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и половых контак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 мужчи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878040" y="890640"/>
            <a:ext cx="3262320" cy="1746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4"/>
          <a:stretch/>
        </p:blipFill>
        <p:spPr>
          <a:xfrm>
            <a:off x="0" y="4135320"/>
            <a:ext cx="2736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002\Desktop\n2017 5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Скругленный прямоугольник 2"/>
          <p:cNvSpPr/>
          <p:nvPr/>
        </p:nvSpPr>
        <p:spPr>
          <a:xfrm>
            <a:off x="414360" y="115920"/>
            <a:ext cx="8351640" cy="93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И ПЕРЕДАЧИ ВИРУ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4"/>
          <p:cNvSpPr/>
          <p:nvPr/>
        </p:nvSpPr>
        <p:spPr>
          <a:xfrm rot="5400000">
            <a:off x="4199760" y="1343880"/>
            <a:ext cx="488880" cy="318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5"/>
          <p:cNvSpPr/>
          <p:nvPr/>
        </p:nvSpPr>
        <p:spPr>
          <a:xfrm rot="8529000">
            <a:off x="2181960" y="1343160"/>
            <a:ext cx="489240" cy="32040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6"/>
          <p:cNvSpPr/>
          <p:nvPr/>
        </p:nvSpPr>
        <p:spPr>
          <a:xfrm rot="2232600">
            <a:off x="6276600" y="1312920"/>
            <a:ext cx="488880" cy="318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468360" y="1773360"/>
            <a:ext cx="2448000" cy="9349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3203640" y="1835280"/>
            <a:ext cx="2635200" cy="9349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9"/>
          <p:cNvSpPr/>
          <p:nvPr/>
        </p:nvSpPr>
        <p:spPr>
          <a:xfrm>
            <a:off x="6012000" y="1762200"/>
            <a:ext cx="2592360" cy="936720"/>
          </a:xfrm>
          <a:prstGeom prst="ellipse">
            <a:avLst/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МАТЕ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Л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0"/>
          <p:cNvSpPr/>
          <p:nvPr/>
        </p:nvSpPr>
        <p:spPr>
          <a:xfrm>
            <a:off x="900000" y="5805360"/>
            <a:ext cx="4103640" cy="936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ЧАСТО ИНФИЦИРУЮТСЯ НАРКОМАНЫ, ВВОДЯЩИЕ НАРКОТИКИ ЗАГРЯЗНЁННЫМИ ШПР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ИГ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2"/>
          <p:cNvSpPr/>
          <p:nvPr/>
        </p:nvSpPr>
        <p:spPr>
          <a:xfrm>
            <a:off x="182520" y="3573360"/>
            <a:ext cx="2733840" cy="10429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ВОЙ КОНТ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ИСПОЛЬЗОВА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Я ПРЕЗЕРВАТИ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3089160" y="3500280"/>
            <a:ext cx="2778120" cy="223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 ПЕРЕЛИВАНИ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ИЦИРОВАНН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В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 ТРАНСПЛА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ОВ И ТКА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ЕРЕЗ МЕДИЦИН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ТРУ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6027840" y="3500280"/>
            <a:ext cx="2792160" cy="13590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О, ВО ВРЕМЯ И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 ВРЕМЯ КОРМ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ЁНКА ГРУД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6"/>
          <p:cNvSpPr/>
          <p:nvPr/>
        </p:nvSpPr>
        <p:spPr>
          <a:xfrm rot="5400000">
            <a:off x="1247400" y="3081240"/>
            <a:ext cx="488880" cy="320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7"/>
          <p:cNvSpPr/>
          <p:nvPr/>
        </p:nvSpPr>
        <p:spPr>
          <a:xfrm rot="5400000">
            <a:off x="7040880" y="3008880"/>
            <a:ext cx="490320" cy="3207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8"/>
          <p:cNvSpPr/>
          <p:nvPr/>
        </p:nvSpPr>
        <p:spPr>
          <a:xfrm rot="5400000">
            <a:off x="4281120" y="3009600"/>
            <a:ext cx="490320" cy="31932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4ac"/>
                </a:solidFill>
                <a:latin typeface="Calibri"/>
              </a:rPr>
              <a:t>3 ступ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99760" y="999720"/>
            <a:ext cx="5607000" cy="71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ЫСОКИЙ     РИС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14680" y="4929120"/>
            <a:ext cx="5929200" cy="571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ИСК        ОТСУТСТВУ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олния 3">
            <a:hlinkClick r:id="rId1" action="ppaction://hlinksldjump"/>
          </p:cNvPr>
          <p:cNvSpPr/>
          <p:nvPr/>
        </p:nvSpPr>
        <p:spPr>
          <a:xfrm>
            <a:off x="7429680" y="428760"/>
            <a:ext cx="1285560" cy="78552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85840" y="35712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«Степень рис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1"/>
          <p:cNvSpPr/>
          <p:nvPr/>
        </p:nvSpPr>
        <p:spPr>
          <a:xfrm flipH="1">
            <a:off x="3785760" y="1714680"/>
            <a:ext cx="1800" cy="5143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1571760" y="3000240"/>
            <a:ext cx="578628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РИСК ПРИСУ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3929040" y="5500800"/>
            <a:ext cx="50720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ятия с ВИЧ-инфецирова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ход за больным с ВИЧ инфекци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живание в одной комн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857760" y="171468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ъекция (не  в лечебном учрежден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калывание уш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потребление  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5712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ереливание кро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несение татуир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езащищенный половой контакт; беспорядочные полов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3857760" y="3714840"/>
            <a:ext cx="5000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льзование чужой зубной щеткой, брит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214200" y="5643720"/>
            <a:ext cx="3786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авание в бассей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целуй в щ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285840" y="37861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целу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ериод ок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760" y="1785960"/>
            <a:ext cx="821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заражения ВИЧ организму человека требуется от 4 до 6 месяцев, чтобы выработать антитела в количестве, достаточном для из обнаружения тест-системой. Этот отрезок времени получил название «периода окна». Тестирование в этот период может дать отрицательный результат. В «период окна» кровь, сперма, вагинальные выделения и грудное молоко инфицированного человека уже содержат достаточное количество вируса для заражения других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предупреждения ВИЧ-инфицирования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1.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ответственны в отношении своего здоровья и сво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употребление или полный отказ от наркот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правила безопасного сексуального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Вести здоровый образ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Ё  В  ТВОИХ  РУКАХ!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6:17:19Z</dcterms:created>
  <dc:creator>User</dc:creator>
  <dc:description/>
  <dc:language>en-US</dc:language>
  <cp:lastModifiedBy>002</cp:lastModifiedBy>
  <dcterms:modified xsi:type="dcterms:W3CDTF">2019-02-28T06:31:29Z</dcterms:modified>
  <cp:revision>98</cp:revision>
  <dc:subject/>
  <dc:title>Презентация PowerPoint</dc:title>
</cp:coreProperties>
</file>