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817A3-CD75-40CC-9372-80C318278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F630D-BC5F-41B4-9D9C-E4E955AED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A46A9-B072-4866-BBDB-226A084CA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3D0DB-CAC5-40C0-BA89-87017ED76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62FCF-E134-451A-90D2-2092B1E15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A2782-F9A9-4B06-8385-1E8EBE26E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C1AD8-A26E-4331-B4EA-4B08FFF6E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F8789-1D53-4E29-9FB0-E69EF97E1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BD97F-766D-4699-B401-0A7797CF7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3BC93-BC2F-492D-B577-26C0FD03D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88CCD-1D5C-4934-8C12-DB2124CE7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8482D-925A-49F9-B531-E947E401D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03684-2405-4879-AD0F-B3AA4ED4FCA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8" descr="C:\Users\002\Desktop\Рисунок1.jpg"/>
          <p:cNvPicPr/>
          <p:nvPr/>
        </p:nvPicPr>
        <p:blipFill>
          <a:blip r:embed="rId1"/>
          <a:stretch/>
        </p:blipFill>
        <p:spPr>
          <a:xfrm>
            <a:off x="1440" y="0"/>
            <a:ext cx="914112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Прямоугольник 4"/>
          <p:cNvSpPr/>
          <p:nvPr/>
        </p:nvSpPr>
        <p:spPr>
          <a:xfrm>
            <a:off x="684360" y="692280"/>
            <a:ext cx="741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осто о сложном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TextBox 4"/>
          <p:cNvGrpSpPr/>
          <p:nvPr/>
        </p:nvGrpSpPr>
        <p:grpSpPr>
          <a:xfrm>
            <a:off x="49320" y="208080"/>
            <a:ext cx="8899560" cy="1206360"/>
            <a:chOff x="49320" y="208080"/>
            <a:chExt cx="8899560" cy="1206360"/>
          </a:xfrm>
        </p:grpSpPr>
        <p:pic>
          <p:nvPicPr>
            <p:cNvPr id="46" name="TextBox 4" descr=""/>
            <p:cNvPicPr/>
            <p:nvPr/>
          </p:nvPicPr>
          <p:blipFill>
            <a:blip r:embed="rId2"/>
            <a:stretch/>
          </p:blipFill>
          <p:spPr>
            <a:xfrm>
              <a:off x="49320" y="208080"/>
              <a:ext cx="8899560" cy="120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"/>
            <p:cNvSpPr/>
            <p:nvPr/>
          </p:nvSpPr>
          <p:spPr>
            <a:xfrm>
              <a:off x="108000" y="417600"/>
              <a:ext cx="8785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400" spc="-1" strike="noStrike">
                  <a:solidFill>
                    <a:srgbClr val="ffffff"/>
                  </a:solidFill>
                  <a:latin typeface="Times New Roman"/>
                </a:rPr>
                <a:t>Просто  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" name="TextBox 2"/>
          <p:cNvGrpSpPr/>
          <p:nvPr/>
        </p:nvGrpSpPr>
        <p:grpSpPr>
          <a:xfrm>
            <a:off x="189000" y="4095720"/>
            <a:ext cx="8899560" cy="1208160"/>
            <a:chOff x="189000" y="4095720"/>
            <a:chExt cx="8899560" cy="1208160"/>
          </a:xfrm>
        </p:grpSpPr>
        <p:pic>
          <p:nvPicPr>
            <p:cNvPr id="49" name="TextBox 2" descr=""/>
            <p:cNvPicPr/>
            <p:nvPr/>
          </p:nvPicPr>
          <p:blipFill>
            <a:blip r:embed="rId3"/>
            <a:stretch/>
          </p:blipFill>
          <p:spPr>
            <a:xfrm>
              <a:off x="189000" y="4095720"/>
              <a:ext cx="8899560" cy="120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247680" y="4305240"/>
              <a:ext cx="8785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400" spc="-1" strike="noStrike">
                  <a:solidFill>
                    <a:srgbClr val="ffffff"/>
                  </a:solidFill>
                  <a:latin typeface="Times New Roman"/>
                </a:rPr>
                <a:t>о сложном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1" name="Picture 8" descr="C:\Users\002\Desktop\Рисунок1.jpg"/>
          <p:cNvPicPr/>
          <p:nvPr/>
        </p:nvPicPr>
        <p:blipFill>
          <a:blip r:embed="rId4"/>
          <a:stretch/>
        </p:blipFill>
        <p:spPr>
          <a:xfrm>
            <a:off x="1440" y="0"/>
            <a:ext cx="914112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    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Цель: сформировать представление о ВИЧ инфекции и СПИДе как реальной угрозе жизни человека, познакомить с основными мерами профилактики СПИД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54000"/>
            <a:ext cx="9144000" cy="78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ИЧ. СТРАШНЫЕ ЦИФРЫ 2017 год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Стрелка вправо 5"/>
          <p:cNvSpPr/>
          <p:nvPr/>
        </p:nvSpPr>
        <p:spPr>
          <a:xfrm>
            <a:off x="4602240" y="1773360"/>
            <a:ext cx="977760" cy="484200"/>
          </a:xfrm>
          <a:prstGeom prst="rightArrow">
            <a:avLst>
              <a:gd name="adj1" fmla="val 50000"/>
              <a:gd name="adj2" fmla="val 49988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6"/>
          <p:cNvSpPr/>
          <p:nvPr/>
        </p:nvSpPr>
        <p:spPr>
          <a:xfrm>
            <a:off x="971640" y="2708280"/>
            <a:ext cx="3024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бщее число россиян, инфицированных ВИЧ, зарегистрированны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РФ на 01.11.2017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7"/>
          <p:cNvSpPr/>
          <p:nvPr/>
        </p:nvSpPr>
        <p:spPr>
          <a:xfrm>
            <a:off x="5703840" y="1413000"/>
            <a:ext cx="2108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1 006 388</a:t>
            </a:r>
            <a:br>
              <a:rPr sz="3600"/>
            </a:b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челове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TextBox 9" descr=""/>
          <p:cNvPicPr/>
          <p:nvPr/>
        </p:nvPicPr>
        <p:blipFill>
          <a:blip r:embed="rId1"/>
          <a:stretch/>
        </p:blipFill>
        <p:spPr>
          <a:xfrm>
            <a:off x="1616040" y="4071960"/>
            <a:ext cx="4997520" cy="1963800"/>
          </a:xfrm>
          <a:prstGeom prst="rect">
            <a:avLst/>
          </a:prstGeom>
          <a:ln w="0">
            <a:noFill/>
          </a:ln>
        </p:spPr>
      </p:pic>
      <p:sp>
        <p:nvSpPr>
          <p:cNvPr id="59" name="Выгнутая влево стрелка 11"/>
          <p:cNvSpPr/>
          <p:nvPr/>
        </p:nvSpPr>
        <p:spPr>
          <a:xfrm>
            <a:off x="247680" y="2997360"/>
            <a:ext cx="723960" cy="1655640"/>
          </a:xfrm>
          <a:custGeom>
            <a:avLst/>
            <a:gdLst>
              <a:gd name="textAreaLeft" fmla="*/ 96840 w 723960"/>
              <a:gd name="textAreaRight" fmla="*/ 627120 w 723960"/>
              <a:gd name="textAreaTop" fmla="*/ 345960 h 1655640"/>
              <a:gd name="textAreaBottom" fmla="*/ 1219320 h 165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030" stAng="-5400000" swAng="-5400000"/>
                <a:lnTo>
                  <a:pt x="0" y="11390"/>
                </a:lnTo>
                <a:arcTo wR="21600" hR="9030" stAng="10800000" swAng="-3497900"/>
                <a:lnTo>
                  <a:pt x="16200" y="21313"/>
                </a:lnTo>
                <a:lnTo>
                  <a:pt x="21600" y="19239"/>
                </a:lnTo>
                <a:lnTo>
                  <a:pt x="16200" y="16591"/>
                </a:lnTo>
                <a:lnTo>
                  <a:pt x="16200" y="17772"/>
                </a:lnTo>
                <a:arcTo wR="21600" hR="9030" stAng="7302100" swAng="3308664"/>
                <a:lnTo>
                  <a:pt x="185" y="10210"/>
                </a:lnTo>
                <a:arcTo wR="21600" hR="9030" stAng="-10610764" swAng="5210764"/>
                <a:close/>
              </a:path>
              <a:path fill="darkenLess" w="21600" h="21600">
                <a:moveTo>
                  <a:pt x="21600" y="0"/>
                </a:moveTo>
                <a:arcTo wR="21600" hR="9030" stAng="-5400000" swAng="-5400000"/>
                <a:lnTo>
                  <a:pt x="0" y="9030"/>
                </a:lnTo>
                <a:arcTo wR="21600" hR="9030" stAng="10800000" swAng="-189236"/>
                <a:lnTo>
                  <a:pt x="185" y="10210"/>
                </a:lnTo>
                <a:arcTo wR="21600" hR="9030" stAng="-10610764" swAng="5210764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Выгнутая вверх стрелка 12"/>
          <p:cNvSpPr/>
          <p:nvPr/>
        </p:nvSpPr>
        <p:spPr>
          <a:xfrm>
            <a:off x="3851280" y="3246480"/>
            <a:ext cx="1971720" cy="662040"/>
          </a:xfrm>
          <a:custGeom>
            <a:avLst/>
            <a:gdLst>
              <a:gd name="textAreaLeft" fmla="*/ 430920 w 1971720"/>
              <a:gd name="textAreaRight" fmla="*/ 1458360 w 1971720"/>
              <a:gd name="textAreaTop" fmla="*/ 88560 h 662040"/>
              <a:gd name="textAreaBottom" fmla="*/ 573480 h 6620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440" hR="21600" stAng="10800000" swAng="5400000"/>
                <a:lnTo>
                  <a:pt x="11254" y="0"/>
                </a:lnTo>
                <a:arcTo wR="9440" hR="21600" stAng="-5400000" swAng="3565539"/>
                <a:lnTo>
                  <a:pt x="21300" y="16200"/>
                </a:lnTo>
                <a:lnTo>
                  <a:pt x="19787" y="21600"/>
                </a:lnTo>
                <a:lnTo>
                  <a:pt x="17674" y="16200"/>
                </a:lnTo>
                <a:lnTo>
                  <a:pt x="18580" y="16200"/>
                </a:lnTo>
                <a:arcTo wR="9440" hR="21600" stAng="-1834461" swAng="-3420601"/>
                <a:lnTo>
                  <a:pt x="10347" y="100"/>
                </a:lnTo>
                <a:arcTo wR="9440" hR="21600" stAng="-5544939" swAng="-5255061"/>
                <a:close/>
              </a:path>
              <a:path fill="darkenLess" w="21600" h="21600">
                <a:moveTo>
                  <a:pt x="0" y="21600"/>
                </a:moveTo>
                <a:arcTo wR="9440" hR="21600" stAng="10800000" swAng="5400000"/>
                <a:lnTo>
                  <a:pt x="9440" y="0"/>
                </a:lnTo>
                <a:arcTo wR="9440" hR="21600" stAng="-5400000" swAng="144939"/>
                <a:lnTo>
                  <a:pt x="10347" y="100"/>
                </a:lnTo>
                <a:arcTo wR="9440" hR="21600" stAng="-5544939" swAng="-5255061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Рисунок 13" descr=""/>
          <p:cNvPicPr/>
          <p:nvPr/>
        </p:nvPicPr>
        <p:blipFill>
          <a:blip r:embed="rId2"/>
          <a:stretch/>
        </p:blipFill>
        <p:spPr>
          <a:xfrm>
            <a:off x="5435640" y="2781360"/>
            <a:ext cx="809640" cy="2679480"/>
          </a:xfrm>
          <a:prstGeom prst="rect">
            <a:avLst/>
          </a:prstGeom>
          <a:ln w="0">
            <a:noFill/>
          </a:ln>
        </p:spPr>
      </p:pic>
      <p:sp>
        <p:nvSpPr>
          <p:cNvPr id="62" name="TextBox 14"/>
          <p:cNvSpPr/>
          <p:nvPr/>
        </p:nvSpPr>
        <p:spPr>
          <a:xfrm>
            <a:off x="5940360" y="2997360"/>
            <a:ext cx="3095640" cy="29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</a:rPr>
              <a:t>К </a:t>
            </a:r>
            <a:r>
              <a:rPr b="1" lang="en-US" sz="2000" spc="-1" strike="noStrike">
                <a:solidFill>
                  <a:srgbClr val="002060"/>
                </a:solidFill>
                <a:latin typeface="Times New Roman"/>
              </a:rPr>
              <a:t>0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</a:rPr>
              <a:t>1.11.2015 в России зарегистрировано более 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364 000 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</a:rPr>
              <a:t>инфицированны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</a:rPr>
              <a:t>ВИЧ женщин, которые преимущественно инфицировалис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</a:rPr>
              <a:t>при половых контакта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</a:rPr>
              <a:t>с мужчинам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Рисунок 3" descr=""/>
          <p:cNvPicPr/>
          <p:nvPr/>
        </p:nvPicPr>
        <p:blipFill>
          <a:blip r:embed="rId3"/>
          <a:stretch/>
        </p:blipFill>
        <p:spPr>
          <a:xfrm>
            <a:off x="878040" y="890640"/>
            <a:ext cx="3262320" cy="174636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4" descr=""/>
          <p:cNvPicPr/>
          <p:nvPr/>
        </p:nvPicPr>
        <p:blipFill>
          <a:blip r:embed="rId4"/>
          <a:stretch/>
        </p:blipFill>
        <p:spPr>
          <a:xfrm>
            <a:off x="0" y="4135320"/>
            <a:ext cx="2736720" cy="27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2" descr="C:\Users\002\Desktop\n2017 5.jpg"/>
          <p:cNvPicPr/>
          <p:nvPr/>
        </p:nvPicPr>
        <p:blipFill>
          <a:blip r:embed="rId1"/>
          <a:stretch/>
        </p:blipFill>
        <p:spPr>
          <a:xfrm>
            <a:off x="-11160" y="0"/>
            <a:ext cx="9155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Скругленный прямоугольник 2"/>
          <p:cNvSpPr/>
          <p:nvPr/>
        </p:nvSpPr>
        <p:spPr>
          <a:xfrm>
            <a:off x="414360" y="115920"/>
            <a:ext cx="8351640" cy="9367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УТИ ПЕРЕДАЧИ ВИРУС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Стрелка вправо 4"/>
          <p:cNvSpPr/>
          <p:nvPr/>
        </p:nvSpPr>
        <p:spPr>
          <a:xfrm rot="5400000">
            <a:off x="4199760" y="1343880"/>
            <a:ext cx="488880" cy="318960"/>
          </a:xfrm>
          <a:prstGeom prst="rightArrow">
            <a:avLst>
              <a:gd name="adj1" fmla="val 50000"/>
              <a:gd name="adj2" fmla="val 50012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Стрелка вправо 5"/>
          <p:cNvSpPr/>
          <p:nvPr/>
        </p:nvSpPr>
        <p:spPr>
          <a:xfrm rot="8529000">
            <a:off x="2181960" y="1343160"/>
            <a:ext cx="489240" cy="320400"/>
          </a:xfrm>
          <a:prstGeom prst="rightArrow">
            <a:avLst>
              <a:gd name="adj1" fmla="val 50000"/>
              <a:gd name="adj2" fmla="val 50072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Стрелка вправо 6"/>
          <p:cNvSpPr/>
          <p:nvPr/>
        </p:nvSpPr>
        <p:spPr>
          <a:xfrm rot="2232600">
            <a:off x="6276600" y="1312920"/>
            <a:ext cx="488880" cy="318960"/>
          </a:xfrm>
          <a:prstGeom prst="rightArrow">
            <a:avLst>
              <a:gd name="adj1" fmla="val 50000"/>
              <a:gd name="adj2" fmla="val 50012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Овал 7"/>
          <p:cNvSpPr/>
          <p:nvPr/>
        </p:nvSpPr>
        <p:spPr>
          <a:xfrm>
            <a:off x="468360" y="1773360"/>
            <a:ext cx="2448000" cy="934920"/>
          </a:xfrm>
          <a:prstGeom prst="ellipse">
            <a:avLst/>
          </a:prstGeom>
          <a:solidFill>
            <a:srgbClr val="c6d9f1"/>
          </a:soli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ЛОВ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Овал 8"/>
          <p:cNvSpPr/>
          <p:nvPr/>
        </p:nvSpPr>
        <p:spPr>
          <a:xfrm>
            <a:off x="3203640" y="1835280"/>
            <a:ext cx="2635200" cy="934920"/>
          </a:xfrm>
          <a:prstGeom prst="ellipse">
            <a:avLst/>
          </a:prstGeom>
          <a:solidFill>
            <a:srgbClr val="c6d9f1"/>
          </a:soli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ЧЕРЕЗ КРОВ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Овал 9"/>
          <p:cNvSpPr/>
          <p:nvPr/>
        </p:nvSpPr>
        <p:spPr>
          <a:xfrm>
            <a:off x="6012000" y="1762200"/>
            <a:ext cx="2592360" cy="936720"/>
          </a:xfrm>
          <a:prstGeom prst="ellipse">
            <a:avLst/>
          </a:prstGeom>
          <a:solidFill>
            <a:srgbClr val="c6d9f1"/>
          </a:soli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Т МАТЕР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 ПЛОД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Скругленный прямоугольник 10"/>
          <p:cNvSpPr/>
          <p:nvPr/>
        </p:nvSpPr>
        <p:spPr>
          <a:xfrm>
            <a:off x="900000" y="5805360"/>
            <a:ext cx="4103640" cy="936720"/>
          </a:xfrm>
          <a:prstGeom prst="roundRect">
            <a:avLst>
              <a:gd name="adj" fmla="val 16667"/>
            </a:avLst>
          </a:prstGeom>
          <a:solidFill>
            <a:srgbClr val="c6d9f1"/>
          </a:soli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ЧЕНЬ ЧАСТО ИНФИЦИРУЮТСЯ НАРКОМАНЫ, ВВОДЯЩИЕ НАРКОТИКИ ЗАГРЯЗНЁННЫМИ ШПРИЦАМ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 ИГЛАМ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Скругленный прямоугольник 12"/>
          <p:cNvSpPr/>
          <p:nvPr/>
        </p:nvSpPr>
        <p:spPr>
          <a:xfrm>
            <a:off x="182520" y="3573360"/>
            <a:ext cx="2733840" cy="1042920"/>
          </a:xfrm>
          <a:prstGeom prst="roundRect">
            <a:avLst>
              <a:gd name="adj" fmla="val 16667"/>
            </a:avLst>
          </a:prstGeom>
          <a:solidFill>
            <a:srgbClr val="c6d9f1"/>
          </a:soli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ЛОВОЙ КОНТАК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ЕЗ ИСПОЛЬЗОВА 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ИЯ ПРЕЗЕРВАТИВ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Скругленный прямоугольник 13"/>
          <p:cNvSpPr/>
          <p:nvPr/>
        </p:nvSpPr>
        <p:spPr>
          <a:xfrm>
            <a:off x="3089160" y="3500280"/>
            <a:ext cx="2778120" cy="2232360"/>
          </a:xfrm>
          <a:prstGeom prst="roundRect">
            <a:avLst>
              <a:gd name="adj" fmla="val 16667"/>
            </a:avLst>
          </a:prstGeom>
          <a:solidFill>
            <a:srgbClr val="c6d9f1"/>
          </a:soli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ПРИ ПЕРЕЛИВАНИИ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</a:t>
            </a: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НФИЦИРОВАННОЙ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</a:t>
            </a: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РОВ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ПРИ ТРАНСПЛАНТАЦ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</a:t>
            </a: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РГАНОВ И ТКАНЕЙ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ЧЕРЕЗ МЕДИЦИНСК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</a:t>
            </a: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НСТРУМЕНТЫ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Скругленный прямоугольник 14"/>
          <p:cNvSpPr/>
          <p:nvPr/>
        </p:nvSpPr>
        <p:spPr>
          <a:xfrm>
            <a:off x="6027840" y="3500280"/>
            <a:ext cx="2792160" cy="1359000"/>
          </a:xfrm>
          <a:prstGeom prst="roundRect">
            <a:avLst>
              <a:gd name="adj" fmla="val 16667"/>
            </a:avLst>
          </a:prstGeom>
          <a:solidFill>
            <a:srgbClr val="c6d9f1"/>
          </a:soli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ДО, ВО ВРЕМЯ И ПОСЛ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</a:t>
            </a: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ОДОВ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ВО ВРЕМЯ КОРМЛЕНИ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</a:t>
            </a: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ЕБЁНКА ГРУДЬ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Стрелка вправо 16"/>
          <p:cNvSpPr/>
          <p:nvPr/>
        </p:nvSpPr>
        <p:spPr>
          <a:xfrm rot="5400000">
            <a:off x="1247400" y="3081240"/>
            <a:ext cx="488880" cy="320760"/>
          </a:xfrm>
          <a:prstGeom prst="rightArrow">
            <a:avLst>
              <a:gd name="adj1" fmla="val 50000"/>
              <a:gd name="adj2" fmla="val 49979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Стрелка вправо 17"/>
          <p:cNvSpPr/>
          <p:nvPr/>
        </p:nvSpPr>
        <p:spPr>
          <a:xfrm rot="5400000">
            <a:off x="7040880" y="3008880"/>
            <a:ext cx="490320" cy="320760"/>
          </a:xfrm>
          <a:prstGeom prst="rightArrow">
            <a:avLst>
              <a:gd name="adj1" fmla="val 50000"/>
              <a:gd name="adj2" fmla="val 49963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Стрелка вправо 18"/>
          <p:cNvSpPr/>
          <p:nvPr/>
        </p:nvSpPr>
        <p:spPr>
          <a:xfrm rot="5400000">
            <a:off x="4281120" y="3009600"/>
            <a:ext cx="490320" cy="319320"/>
          </a:xfrm>
          <a:prstGeom prst="rightArrow">
            <a:avLst>
              <a:gd name="adj1" fmla="val 50000"/>
              <a:gd name="adj2" fmla="val 49940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4200" y="-3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44ac"/>
                </a:solidFill>
                <a:latin typeface="Calibri"/>
              </a:rPr>
              <a:t>3 ступен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1499760" y="999720"/>
            <a:ext cx="5607000" cy="7146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ВЫСОКИЙ     РИСК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1714680" y="4929120"/>
            <a:ext cx="5929200" cy="5716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   </a:t>
            </a: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РИСК        ОТСУТСТВУЕ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Молния 3">
            <a:hlinkClick r:id="rId1" action="ppaction://hlinksldjump"/>
          </p:cNvPr>
          <p:cNvSpPr/>
          <p:nvPr/>
        </p:nvSpPr>
        <p:spPr>
          <a:xfrm>
            <a:off x="7429680" y="428760"/>
            <a:ext cx="1285560" cy="785520"/>
          </a:xfrm>
          <a:prstGeom prst="lightningBol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Заголовок 1"/>
          <p:cNvSpPr/>
          <p:nvPr/>
        </p:nvSpPr>
        <p:spPr>
          <a:xfrm>
            <a:off x="285840" y="357120"/>
            <a:ext cx="822960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orbel"/>
              </a:rPr>
              <a:t>«Степень риска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рямая соединительная линия 11"/>
          <p:cNvSpPr/>
          <p:nvPr/>
        </p:nvSpPr>
        <p:spPr>
          <a:xfrm flipH="1">
            <a:off x="3785760" y="1714680"/>
            <a:ext cx="1800" cy="514332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18"/>
          <p:cNvSpPr/>
          <p:nvPr/>
        </p:nvSpPr>
        <p:spPr>
          <a:xfrm>
            <a:off x="1571760" y="3000240"/>
            <a:ext cx="5786280" cy="6426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orbel"/>
              </a:rPr>
              <a:t>РИСК ПРИСУТСТВУ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20"/>
          <p:cNvSpPr/>
          <p:nvPr/>
        </p:nvSpPr>
        <p:spPr>
          <a:xfrm>
            <a:off x="3929040" y="5500800"/>
            <a:ext cx="5072040" cy="18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объятия с ВИЧ-инфецированны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уход за больным с ВИЧ инфекцией 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проживание в одной комнат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21"/>
          <p:cNvSpPr/>
          <p:nvPr/>
        </p:nvSpPr>
        <p:spPr>
          <a:xfrm>
            <a:off x="3857760" y="1714680"/>
            <a:ext cx="5072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Инъекция (не  в лечебном учреждении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прокалывание уше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употребление   наркоти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22"/>
          <p:cNvSpPr/>
          <p:nvPr/>
        </p:nvSpPr>
        <p:spPr>
          <a:xfrm>
            <a:off x="357120" y="1714680"/>
            <a:ext cx="3429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переливание кров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нанесение татуировк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незащищенный половой контакт; беспорядочные половые связ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23"/>
          <p:cNvSpPr/>
          <p:nvPr/>
        </p:nvSpPr>
        <p:spPr>
          <a:xfrm>
            <a:off x="3857760" y="3714840"/>
            <a:ext cx="5000400" cy="164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пользование чужой зубной щеткой, бритвой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24"/>
          <p:cNvSpPr/>
          <p:nvPr/>
        </p:nvSpPr>
        <p:spPr>
          <a:xfrm>
            <a:off x="214200" y="5643720"/>
            <a:ext cx="378648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плавание в бассейн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поцелуй в щек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25"/>
          <p:cNvSpPr/>
          <p:nvPr/>
        </p:nvSpPr>
        <p:spPr>
          <a:xfrm>
            <a:off x="285840" y="3786120"/>
            <a:ext cx="350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поцелу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Calibri"/>
              </a:rPr>
              <a:t>Период окна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356760" y="1785960"/>
            <a:ext cx="8215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осле заражения ВИЧ организму человека требуется от 4 до 6 месяцев, чтобы выработать антитела в количестве, достаточном для из обнаружения тест-системой. Этот отрезок времени получил название «периода окна». Тестирование в этот период может дать отрицательный результат. В «период окна» кровь, сперма, вагинальные выделения и грудное молоко инфицированного человека уже содержат достаточное количество вируса для заражения других люде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Правила предупреждения ВИЧ-инфицирования</a:t>
            </a: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равило № 1. 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удьте ответственны в отношении своего здоровья и своей жизн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равило № 2.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Неупотребление или полный отказ от наркотико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равило № 3.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облюдайте правила безопасного сексуального поведен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равило № 4.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Вести здоровый образ жизн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СЁ  В  ТВОИХ  РУКАХ!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01T06:17:19Z</dcterms:created>
  <dc:creator>User</dc:creator>
  <dc:description/>
  <dc:language>en-US</dc:language>
  <cp:lastModifiedBy>002</cp:lastModifiedBy>
  <dcterms:modified xsi:type="dcterms:W3CDTF">2019-02-28T06:31:29Z</dcterms:modified>
  <cp:revision>98</cp:revision>
  <dc:subject/>
  <dc:title>Презентация PowerPoint</dc:title>
</cp:coreProperties>
</file>