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6.png" ContentType="image/png"/>
  <Override PartName="/ppt/media/image28.jpeg" ContentType="image/jpeg"/>
  <Override PartName="/ppt/media/image40.png" ContentType="image/png"/>
  <Override PartName="/ppt/media/image11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55.png" ContentType="image/png"/>
  <Override PartName="/ppt/media/image37.png" ContentType="image/png"/>
  <Override PartName="/ppt/media/image34.jpeg" ContentType="image/jpeg"/>
  <Override PartName="/ppt/media/image47.jpeg" ContentType="image/jpeg"/>
  <Override PartName="/ppt/media/image50.png" ContentType="image/png"/>
  <Override PartName="/ppt/media/image9.jpeg" ContentType="image/jpeg"/>
  <Override PartName="/ppt/media/image48.png" ContentType="image/png"/>
  <Override PartName="/ppt/media/image49.jpeg" ContentType="image/jpeg"/>
  <Override PartName="/ppt/media/image51.png" ContentType="image/png"/>
  <Override PartName="/ppt/media/image41.png" ContentType="image/png"/>
  <Override PartName="/ppt/media/image53.jpeg" ContentType="image/jpeg"/>
  <Override PartName="/ppt/media/image46.png" ContentType="image/png"/>
  <Override PartName="/ppt/media/image5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83D-FCF6-4C90-963F-1F76E1EC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488-09C6-4967-90BB-E553F55C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EE7-3949-44B0-9EC1-E62C7933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AE0-24F0-45AB-A7BF-F7742317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01F4-24FC-4E11-ADB8-79480BAF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2827-5A2B-471C-B147-F4BC0131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8EA0-CAE5-487A-9D79-D21BE871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3451-5E55-4B9D-A2D9-F5ACD2EF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B6F4-1F3D-4191-BC49-9BEDA401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DC95-632A-4117-B5CB-32B092FA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5542-BE25-4545-957F-99781254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1E4-9DB7-45E1-84BC-495E2689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4E05-AAB0-4504-940C-DDB4E3F6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1AEC-A0CB-4327-ADBA-AD34F9C3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B501-826D-4FA2-8A50-AF055C8C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E56E-2F9A-481D-8FB8-19894B6E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A18E-E866-4131-BFE3-66E99BC9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DA33A-8EC4-492A-B832-82497F8C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A616-3852-4C81-8F0C-05093745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E73F-DEA4-417D-A863-081944EE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14632-EA27-4823-A1BE-AF22D6D2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CB1D2-6036-4AE8-BF77-1B9D93B5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FE6-E721-44D4-9F96-97E3FAD7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82350-75CF-43A1-BE65-AD949DA0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C7E91-9B7F-47FF-B214-CC4830B7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18DB-FDCC-4035-8221-DB1FA825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D40D1-6A9E-4CC6-ADDF-B7A97AE3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5EC8-9D9C-40F7-8C08-F9DBA29F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71E65-4781-4479-97D6-86A7A4C9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BA95-C6B8-4942-AA9F-EE531B44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7471D-1E64-47DB-B07B-D8D96F7F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DD5CB-CFBC-4566-AB51-29B14667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A6D09-126F-42EA-BA92-C406EF14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B8F-EA7F-455F-A9FD-973C85DF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4BE96-740C-429B-9E5D-A65383ED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1542C-C882-4117-B84F-7BA99B58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214BE-FD7D-42D0-986F-FEEDAD07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EE89F-EBE6-4704-81B3-953FBE56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F0F76-97C6-4132-A1E4-AEEDC303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6F5B-2FB9-4C06-BCD6-861B85E0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45150-048F-4F2D-A65D-9189EF65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FA8A5-8BB1-4415-A8CF-05B87DC0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67C1E-A2CA-4BE5-BB6E-E687A090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90C-B7DD-4F93-820B-CA9CC907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BF6-CF98-418A-B163-938923B2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97C7-47D6-4CAE-B335-940866DB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710-73DE-4E5F-925C-5008FE0F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CE2-E7BA-4804-A3CB-669E4337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b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CFF9-E603-4337-8FAD-50C7320D4D48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b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10FB-355C-4BD1-8A4D-A80870BE4D84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F849-DE6E-4A50-8C86-4F148CA9B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5B82-372B-4DEE-89BF-38F691FA2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8b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80520" y="1412640"/>
            <a:ext cx="84582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urier New"/>
                <a:ea typeface="Courier New"/>
              </a:rPr>
              <a:t>«Садовые цветы»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250920" y="6093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Воспитатель: Смирнова Н.Н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990720" y="304920"/>
            <a:ext cx="6429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e103"/>
                  </a:solidFill>
                  <a:miter/>
                </a:ln>
                <a:solidFill>
                  <a:srgbClr val="af273e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тний проект работы с детьми</a:t>
            </a:r>
            <a:endParaRPr b="0" lang="en-US" sz="1800" spc="1" strike="noStrike">
              <a:ln w="9360">
                <a:solidFill>
                  <a:srgbClr val="ffe103"/>
                </a:solidFill>
                <a:miter/>
              </a:ln>
              <a:solidFill>
                <a:srgbClr val="af273e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e103"/>
                  </a:solidFill>
                  <a:miter/>
                </a:ln>
                <a:solidFill>
                  <a:srgbClr val="af273e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мл. группа "Непоседы" 2016 год</a:t>
            </a:r>
            <a:endParaRPr b="0" lang="en-US" sz="1800" spc="1" strike="noStrike">
              <a:ln w="9360">
                <a:solidFill>
                  <a:srgbClr val="ffe103"/>
                </a:solidFill>
                <a:miter/>
              </a:ln>
              <a:solidFill>
                <a:srgbClr val="af273e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154160" y="1981080"/>
            <a:ext cx="3379680" cy="39625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171600" cy="39625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Заголовок 1" descr=""/>
          <p:cNvPicPr/>
          <p:nvPr/>
        </p:nvPicPr>
        <p:blipFill>
          <a:blip r:embed="rId1"/>
          <a:stretch/>
        </p:blipFill>
        <p:spPr>
          <a:xfrm>
            <a:off x="298440" y="109440"/>
            <a:ext cx="8699400" cy="8841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8686800" y="6552720"/>
            <a:ext cx="457200" cy="3049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6"/>
          <p:cNvSpPr/>
          <p:nvPr/>
        </p:nvSpPr>
        <p:spPr>
          <a:xfrm>
            <a:off x="179280" y="907920"/>
            <a:ext cx="34560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Ромашки» В. Мирясов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Ромашки я не стану рвать!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Ромашки буду рисовать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Приду домой с цветами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И подарю их маме!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1" name="TextBox 7"/>
          <p:cNvSpPr/>
          <p:nvPr/>
        </p:nvSpPr>
        <p:spPr>
          <a:xfrm>
            <a:off x="250920" y="2708280"/>
            <a:ext cx="324144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Львиный зев» В. Мирясов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Мы знаем, как зевает лев,-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И это очень жутко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Но вот цветочек «львиный зев»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Прозвали, видно, в шутку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Его зевающие рты –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Такие сладкие цветы!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2" name="TextBox 6"/>
          <p:cNvSpPr/>
          <p:nvPr/>
        </p:nvSpPr>
        <p:spPr>
          <a:xfrm>
            <a:off x="304920" y="4876920"/>
            <a:ext cx="51130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Клумба» В. Мирясов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Над клумбой бабочка кружит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Куда же сесть? Всё не решит: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Цветочек каждый так хорош!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Какой красивый – не поймёшь!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4191120" cy="3314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2009880" cy="30477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2514600" y="533520"/>
            <a:ext cx="3886200" cy="33620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6553080" y="685800"/>
            <a:ext cx="2143080" cy="3124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4191120" cy="23144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228600" y="4038480"/>
            <a:ext cx="2971800" cy="20955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5791320" y="4038480"/>
            <a:ext cx="3047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Заголовок 1" descr=""/>
          <p:cNvPicPr/>
          <p:nvPr/>
        </p:nvPicPr>
        <p:blipFill>
          <a:blip r:embed="rId1"/>
          <a:stretch/>
        </p:blipFill>
        <p:spPr>
          <a:xfrm>
            <a:off x="298440" y="158760"/>
            <a:ext cx="8699400" cy="871560"/>
          </a:xfrm>
          <a:prstGeom prst="rect">
            <a:avLst/>
          </a:prstGeom>
          <a:ln w="0">
            <a:noFill/>
          </a:ln>
        </p:spPr>
      </p:pic>
      <p:sp>
        <p:nvSpPr>
          <p:cNvPr id="522" name="TextBox 4"/>
          <p:cNvSpPr/>
          <p:nvPr/>
        </p:nvSpPr>
        <p:spPr>
          <a:xfrm>
            <a:off x="5105520" y="1143000"/>
            <a:ext cx="309708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«Одуванчик» Е. Серов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Носит одуванчик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Желтый сарафанчик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Подрастёт – нарядится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В беленькое платьице: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Лёгкое, воздушное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Ветерку послушное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3" name="TextBox 6"/>
          <p:cNvSpPr/>
          <p:nvPr/>
        </p:nvSpPr>
        <p:spPr>
          <a:xfrm>
            <a:off x="685800" y="5442120"/>
            <a:ext cx="3384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«Одуванчик» С. Пшеничных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Был я солнышком лучистым,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Стал я облачком пушистым!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350532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Times New Roman"/>
              </a:rPr>
              <a:t>«Загадка»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Times New Roman"/>
              </a:rPr>
              <a:t>Белым шариком пушистым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Times New Roman"/>
              </a:rPr>
              <a:t>Я красуюсь в поле чистом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Times New Roman"/>
              </a:rPr>
              <a:t>Дунул лёгкий ветерок –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Times New Roman"/>
              </a:rPr>
              <a:t>И остался стебелёк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Times New Roman"/>
              </a:rPr>
              <a:t>(Одуванчик)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3181320" cy="4419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Заголовок 1" descr=""/>
          <p:cNvPicPr/>
          <p:nvPr/>
        </p:nvPicPr>
        <p:blipFill>
          <a:blip r:embed="rId1"/>
          <a:stretch/>
        </p:blipFill>
        <p:spPr>
          <a:xfrm>
            <a:off x="298440" y="158760"/>
            <a:ext cx="8699400" cy="871560"/>
          </a:xfrm>
          <a:prstGeom prst="rect">
            <a:avLst/>
          </a:prstGeom>
          <a:ln w="0">
            <a:noFill/>
          </a:ln>
        </p:spPr>
      </p:pic>
      <p:sp>
        <p:nvSpPr>
          <p:cNvPr id="527" name="TextBox 3"/>
          <p:cNvSpPr/>
          <p:nvPr/>
        </p:nvSpPr>
        <p:spPr>
          <a:xfrm>
            <a:off x="2819520" y="914400"/>
            <a:ext cx="35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Стихи о цветах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8" name="TextBox 5"/>
          <p:cNvSpPr/>
          <p:nvPr/>
        </p:nvSpPr>
        <p:spPr>
          <a:xfrm>
            <a:off x="228600" y="1371600"/>
            <a:ext cx="38876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«Лилия» С. Васильев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Белая лилия – нежный цветок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Красиво изогнут её лепесток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Как колокольчик, раскрылся бутон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Вот-вот раздастся серебряный звон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Приятен и стоек её аромат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На листьях росинки искрятся, блестят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9" name="TextBox 6"/>
          <p:cNvSpPr/>
          <p:nvPr/>
        </p:nvSpPr>
        <p:spPr>
          <a:xfrm>
            <a:off x="2514600" y="3276720"/>
            <a:ext cx="403236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Василёк» В. Мирясов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Горюет синий василёк во ржи: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Со мной не хочет колосок дружить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Гордиться он высоким назначеньем –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Душистым хлебом станет и печеньем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Не зазнавайся, колосок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Во ржи простой я сорнячок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А возле дома, под любым окном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Культурным стать и я могу цветком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Открою вам я свой секрет сейчас –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Могу лекарством быть для вас!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14040" y="1447920"/>
            <a:ext cx="295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В модной шляпке голубой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Колокольчик озорно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С кем ни повстречается-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До земли склоняется!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1981080" cy="31244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6248520" y="3200400"/>
            <a:ext cx="2266920" cy="335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Заголовок 1" descr=""/>
          <p:cNvPicPr/>
          <p:nvPr/>
        </p:nvPicPr>
        <p:blipFill>
          <a:blip r:embed="rId1"/>
          <a:stretch/>
        </p:blipFill>
        <p:spPr>
          <a:xfrm>
            <a:off x="317520" y="109440"/>
            <a:ext cx="8697960" cy="8841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380520" y="837720"/>
            <a:ext cx="30481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«Роза» В. Мирясо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В саду благоухаю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оняю лепестк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Я красотой сияю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о остры когот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Дала я имя цвет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За тёплый солнца свет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Я благодарна лету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Цветка нарядней нет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Box 3"/>
          <p:cNvSpPr/>
          <p:nvPr/>
        </p:nvSpPr>
        <p:spPr>
          <a:xfrm>
            <a:off x="5562720" y="990720"/>
            <a:ext cx="331308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Нарцисс» В. Мирясов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Я цветочек не парадный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Но весёлый и нарядный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Жёлтый или белый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Как подснежник, смелый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Я мороза не боюсь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И на клумбе появлюсь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Будет вам весною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Веселей со мною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2843280" y="3429000"/>
            <a:ext cx="37098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Незабудки» С. Поверков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Я иду, иду лугами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Незабудки под ногами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Посмотрите, сколько их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Бирюзово - голубых!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Словно небо красил кто-то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Вот весёлая работа! –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И оттуда, с высоты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Краской брызнул на цветы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Если летом на болоте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Нежные цветы найдёте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Не теряйте ни минутки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Собирайте незабудки!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Заголовок 1" descr=""/>
          <p:cNvPicPr/>
          <p:nvPr/>
        </p:nvPicPr>
        <p:blipFill>
          <a:blip r:embed="rId1"/>
          <a:stretch/>
        </p:blipFill>
        <p:spPr>
          <a:xfrm>
            <a:off x="298440" y="109440"/>
            <a:ext cx="8699400" cy="8841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 txBox="1"/>
          <p:nvPr/>
        </p:nvSpPr>
        <p:spPr>
          <a:xfrm>
            <a:off x="304560" y="1125000"/>
            <a:ext cx="373356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«Загадк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Шёл я лугом по тропинке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Видел солнце на травинк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Но совсем не горяч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Солнца белые луч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(Ромашк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Box 3"/>
          <p:cNvSpPr/>
          <p:nvPr/>
        </p:nvSpPr>
        <p:spPr>
          <a:xfrm>
            <a:off x="4788000" y="1125360"/>
            <a:ext cx="30240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«Загадка»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На кустах, в саду растёт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Запах сладкий, словно мёд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Но нередко льются слёзы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Тех, кто рвёт руками …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                                    </a:t>
            </a: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(Розы)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0" name="TextBox 4"/>
          <p:cNvSpPr/>
          <p:nvPr/>
        </p:nvSpPr>
        <p:spPr>
          <a:xfrm>
            <a:off x="5257800" y="3657600"/>
            <a:ext cx="280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«Загадка»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Синенький звонок висит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Никогда он не звенит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                      </a:t>
            </a:r>
            <a:r>
              <a:rPr b="0" lang="en-US" sz="1600" spc="-1" strike="noStrike">
                <a:solidFill>
                  <a:srgbClr val="7030a0"/>
                </a:solidFill>
                <a:latin typeface="Arial"/>
                <a:ea typeface="Arial"/>
              </a:rPr>
              <a:t>(Колокольчик)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1" name="TextBox 4"/>
          <p:cNvSpPr/>
          <p:nvPr/>
        </p:nvSpPr>
        <p:spPr>
          <a:xfrm>
            <a:off x="533520" y="3505320"/>
            <a:ext cx="31683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Ромашка» М. Познанская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На лугу, у той дорожки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Что бежит к нам прямо в дом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Рос цветок на длинной ножке -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Белый с жёлтеньким глазком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Я цветок сорвать хотела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Поднесла к нему ладонь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А пчела с цветка слетела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И жужжит, жужжит:«Не тронь!»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Развлечение для дет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505320" cy="21369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4495680" y="4017960"/>
            <a:ext cx="38102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Заголовок 1" descr=""/>
          <p:cNvPicPr/>
          <p:nvPr/>
        </p:nvPicPr>
        <p:blipFill>
          <a:blip r:embed="rId1"/>
          <a:stretch/>
        </p:blipFill>
        <p:spPr>
          <a:xfrm>
            <a:off x="298440" y="195120"/>
            <a:ext cx="8699400" cy="87156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457200" y="11430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«Найди такой же цветок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«Угадай и назови цветок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«Выложи цветок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«Отгадай загадку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«Найди и назови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«Там и тут, там и тут одуванчики цветут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«Понюхай и назови цветок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«Поищи такой же цветок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6553080" y="1295280"/>
            <a:ext cx="2181240" cy="388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Заголовок 1" descr=""/>
          <p:cNvPicPr/>
          <p:nvPr/>
        </p:nvPicPr>
        <p:blipFill>
          <a:blip r:embed="rId1"/>
          <a:stretch/>
        </p:blipFill>
        <p:spPr>
          <a:xfrm>
            <a:off x="298440" y="158760"/>
            <a:ext cx="8699400" cy="8715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304920" y="1125000"/>
            <a:ext cx="86868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Обследование одуванчика, его строение: стебель, лепестки, цветок. После цветения цветка появляются пушинки – семена одуванч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На семена-пушинки можно подуть и они разлетятся в разные стороны и т.д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Выкопать цветы одуванчика и пересадить на клумбу нашего участка. Наблюдать с детьми и отмечать, как цветы приживаются. Обратить внимание детей на то, какие цветы быстрее будут расти, какие зацвету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Посеять семена цветов на клумбы и наблюдать в течение лета за ростом и цветением. Беседовать с детьми об изменен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3095640" y="2324160"/>
            <a:ext cx="2952720" cy="2209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298440" y="182520"/>
            <a:ext cx="8699400" cy="95724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304920" y="11970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</a:rPr>
              <a:t>«Утренняя гимнастика» :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 «Лютики - ромашки», «Колокольчики звенят», «Одуванчики летят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</a:rPr>
              <a:t>«Дыхательная гимнастика» : 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«Василёк», «Понюхаем цветочек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«Подуем на одуванчик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</a:rPr>
              <a:t>«Пальчиковые игры» : 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«Цветок», «Бабочка», «Раскройся цветок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</a:rPr>
              <a:t>«Подвижные игры» : 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«Цветочная полянка», «Кружит, кружит ветерок с одуванчиков пушок!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250560" y="54936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 Black"/>
              </a:rPr>
              <a:t>Цели:</a:t>
            </a:r>
            <a:r>
              <a:rPr b="0" lang="en-US" sz="4200" spc="-1" strike="noStrike">
                <a:solidFill>
                  <a:srgbClr val="9900ff"/>
                </a:solidFill>
                <a:latin typeface="Arial Black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Franklin Gothic Medium"/>
                <a:ea typeface="Aharoni"/>
              </a:rPr>
              <a:t>Содействовать интересу детей к объектам природ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Franklin Gothic Medium"/>
                <a:ea typeface="Aharoni"/>
              </a:rPr>
              <a:t>Формировать элементарные представления о растениях нашего кр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Franklin Gothic Medium"/>
                <a:ea typeface="Aharoni"/>
              </a:rPr>
              <a:t>Воспитывать доброжелательное отношение к живым объектам природы и эмоциональную отзывчивость детей на общение с ни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 Black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Franklin Gothic Medium"/>
              </a:rPr>
              <a:t>Обучение основам взаимодействия с природой (рассматривать растения не причиняя им вред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Franklin Gothic Medium"/>
              </a:rPr>
              <a:t>Формирование  чувства прекрасного (замечать красоту природы и сезонные изменения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Franklin Gothic Medium"/>
              </a:rPr>
              <a:t>Воспитание бережного отношения к приро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9150480" cy="122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Заголовок 1" descr=""/>
          <p:cNvPicPr/>
          <p:nvPr/>
        </p:nvPicPr>
        <p:blipFill>
          <a:blip r:embed="rId1"/>
          <a:stretch/>
        </p:blipFill>
        <p:spPr>
          <a:xfrm>
            <a:off x="298440" y="-23760"/>
            <a:ext cx="8699400" cy="16938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514760" cy="37432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419720" y="2895480"/>
            <a:ext cx="419076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99400" cy="184788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3124080" y="5106960"/>
            <a:ext cx="3265560" cy="14889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2133720" y="2362320"/>
            <a:ext cx="4705200" cy="3324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1" descr=""/>
          <p:cNvPicPr/>
          <p:nvPr/>
        </p:nvPicPr>
        <p:blipFill>
          <a:blip r:embed="rId1"/>
          <a:stretch/>
        </p:blipFill>
        <p:spPr>
          <a:xfrm>
            <a:off x="444600" y="0"/>
            <a:ext cx="8699400" cy="907920"/>
          </a:xfrm>
          <a:prstGeom prst="rect">
            <a:avLst/>
          </a:prstGeom>
          <a:ln w="0">
            <a:noFill/>
          </a:ln>
        </p:spPr>
      </p:pic>
      <p:pic>
        <p:nvPicPr>
          <p:cNvPr id="476" name="Содержимое 4" descr=""/>
          <p:cNvPicPr/>
          <p:nvPr/>
        </p:nvPicPr>
        <p:blipFill>
          <a:blip r:embed="rId2"/>
          <a:stretch/>
        </p:blipFill>
        <p:spPr>
          <a:xfrm>
            <a:off x="122400" y="738360"/>
            <a:ext cx="9021600" cy="6119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971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Наблюдени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Прогулки и экскурси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Беседы и рассказывани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Опытническая деятельност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Чтение художественной литератур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Разучивание стих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Развлечение для детей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Конкурс букет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Продуктивная деятельность дет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imes New Roman"/>
              </a:rPr>
              <a:t>Наблюдени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572000" cy="25714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3733920" y="2514600"/>
            <a:ext cx="4952880" cy="2781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57200" y="4114800"/>
            <a:ext cx="42670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Прогулки и экскурс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124080" cy="17528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3124080" y="1371600"/>
            <a:ext cx="3200400" cy="21812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6248520" y="1600200"/>
            <a:ext cx="2743200" cy="1542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685800" y="3429000"/>
            <a:ext cx="1800360" cy="32004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3581280" y="3733920"/>
            <a:ext cx="2133720" cy="11998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3276720" y="5105520"/>
            <a:ext cx="2590560" cy="145728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7"/>
          <a:stretch/>
        </p:blipFill>
        <p:spPr>
          <a:xfrm>
            <a:off x="6629400" y="3276720"/>
            <a:ext cx="1800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Опытническая деятельн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953160" cy="22190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685800" y="4081320"/>
            <a:ext cx="3962520" cy="22240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5562720" y="1523880"/>
            <a:ext cx="26287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Times New Roman"/>
              </a:rPr>
              <a:t>Тру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895120" y="1371240"/>
            <a:ext cx="3048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9900ff"/>
                </a:solidFill>
                <a:latin typeface="Times New Roman"/>
              </a:rPr>
              <a:t>Катя леечку взяла,</a:t>
            </a:r>
            <a:br>
              <a:rPr sz="2000"/>
            </a:br>
            <a:r>
              <a:rPr b="0" lang="ru-RU" sz="2000" spc="-1" strike="noStrike">
                <a:solidFill>
                  <a:srgbClr val="9900ff"/>
                </a:solidFill>
                <a:latin typeface="Times New Roman"/>
              </a:rPr>
              <a:t>Все цветочки полила.</a:t>
            </a:r>
            <a:br>
              <a:rPr sz="2000"/>
            </a:br>
            <a:r>
              <a:rPr b="0" lang="ru-RU" sz="2000" spc="-1" strike="noStrike">
                <a:solidFill>
                  <a:srgbClr val="9900ff"/>
                </a:solidFill>
                <a:latin typeface="Times New Roman"/>
              </a:rPr>
              <a:t>Пусть попьют водички</a:t>
            </a:r>
            <a:br>
              <a:rPr sz="2000"/>
            </a:br>
            <a:r>
              <a:rPr b="0" lang="ru-RU" sz="2000" spc="-1" strike="noStrike">
                <a:solidFill>
                  <a:srgbClr val="9900ff"/>
                </a:solidFill>
                <a:latin typeface="Times New Roman"/>
              </a:rPr>
              <a:t>Цветочки-невелич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9900ff"/>
                </a:solidFill>
                <a:latin typeface="Times New Roman"/>
              </a:rPr>
              <a:t>Н. Нищев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502920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Отчего зацвел цветок?" -</a:t>
            </a:r>
            <a:br>
              <a:rPr sz="1800"/>
            </a:b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Мальчик спрашивает мать.</a:t>
            </a:r>
            <a:br>
              <a:rPr sz="1800"/>
            </a:b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- Оттого, что мы цветок</a:t>
            </a:r>
            <a:br>
              <a:rPr sz="1800"/>
            </a:b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Не ленились поливать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Ф. Троицкий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886200" cy="21812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2438640" cy="403848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6095880" y="190512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298440" y="109440"/>
            <a:ext cx="8699400" cy="8841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10840" y="5089680"/>
            <a:ext cx="37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 Black"/>
              </a:rPr>
              <a:t>Василёк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Колосится в поле рожь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Там во ржи цветок найдёш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Ярко-синий и пушистый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Только жаль, что не душисты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220280" y="762120"/>
            <a:ext cx="27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 Black"/>
              </a:rPr>
              <a:t>Василёк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Цветок василёк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Резной лепесток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В прятки играет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В рожь убегает!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               </a:t>
            </a: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(</a:t>
            </a:r>
            <a:r>
              <a:rPr b="0" i="1" lang="en-US" sz="1800" spc="-1" strike="noStrike">
                <a:solidFill>
                  <a:srgbClr val="9900ff"/>
                </a:solidFill>
                <a:latin typeface="Arial Black"/>
              </a:rPr>
              <a:t>Л. Герасимова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3295800" cy="41148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5029200" y="2590920"/>
            <a:ext cx="2981160" cy="39621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7086600" y="838080"/>
            <a:ext cx="1828800" cy="1311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9-02-28T18:04:2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