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6.png" ContentType="image/png"/>
  <Override PartName="/ppt/media/image28.jpeg" ContentType="image/jpeg"/>
  <Override PartName="/ppt/media/image40.png" ContentType="image/png"/>
  <Override PartName="/ppt/media/image11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55.png" ContentType="image/png"/>
  <Override PartName="/ppt/media/image37.png" ContentType="image/png"/>
  <Override PartName="/ppt/media/image34.jpeg" ContentType="image/jpeg"/>
  <Override PartName="/ppt/media/image47.jpeg" ContentType="image/jpeg"/>
  <Override PartName="/ppt/media/image50.png" ContentType="image/png"/>
  <Override PartName="/ppt/media/image9.jpeg" ContentType="image/jpeg"/>
  <Override PartName="/ppt/media/image48.png" ContentType="image/png"/>
  <Override PartName="/ppt/media/image49.jpeg" ContentType="image/jpeg"/>
  <Override PartName="/ppt/media/image51.png" ContentType="image/png"/>
  <Override PartName="/ppt/media/image41.png" ContentType="image/png"/>
  <Override PartName="/ppt/media/image53.jpeg" ContentType="image/jpeg"/>
  <Override PartName="/ppt/media/image46.png" ContentType="image/png"/>
  <Override PartName="/ppt/media/image5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CF8-38F4-4DAA-AE4F-3971977E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C2D-596E-4818-A5A4-94BB72B0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60F-0EDA-4BB2-A22A-5A2A3A16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3E2-3FAC-4A06-AC97-BC06509C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DEE2-5AF7-4765-B839-DAA4CDA2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5E2E-FF0B-4DC4-A5EE-A6CE2DE3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6D18-1F85-45CF-8B4D-6CC35E56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5789-FE8A-4B14-9096-0AA1A93E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1B7D-63FB-4E58-901B-6BA70AAF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7AD0-B951-483E-8129-4403D3C6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1173-086D-4FC8-A3A4-D92E6F63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B80-F06D-4B2C-AA2A-70BC52F2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431D-9237-4771-B1AB-3D93CBD8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5203-0B3D-4304-94B1-7FC877C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12D2-1CAD-4ED7-B1F1-BCF4838D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C066-FBB7-488A-87DF-1B985E4B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4B0F-BD05-48CD-B9F5-65DBBB75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C683E-B075-4D2C-BF44-DC3DE0FE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E31F0-D98E-4D7B-9337-A6D9A90D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A4332-07F3-4DD1-A085-7F1B1446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D2DCB-FD78-4B54-9439-D31389BD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2CA1-0387-4FB1-96F0-9ECF1FB9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AC4-86F4-4BED-8236-9C4E1CD2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A0B0-94D9-450C-8CFA-1E9F757C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68D86-2028-4B50-9F07-F0C71B88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54BF3-8F23-4678-AAC6-A9D8C91A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59D8A-BDFF-418C-8343-DEAC47AB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232EF-23E5-4B92-8D62-5684F97D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0F9AA-1A45-4BB2-ADBE-6747495A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1266E-47C6-4010-9B71-23DE167B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D3EFD-3019-4D0B-A565-147771F6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20B03-1833-404C-BC77-01FE623A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3A165-D944-48D5-B86F-C03380D3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4A7-ADE8-45B8-A82B-03D26C9F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5712B-6053-430B-A213-8B6716B3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C4A00-ED2E-4140-9700-1C681FE2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607F0-047D-41DB-A52D-76B7C15D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4E751-9911-4A62-BAC8-645BCDF8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95961-B518-4061-8594-4F96C840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9C02C-44F5-46EF-B8FC-E41612E1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9D798-8CBE-43A6-BF03-472E1869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DA5F1-A16E-42F8-9699-91808254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73A02-E40E-4240-BDE2-B4DBF587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580C-4DD3-4537-AF74-E2FD70CE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7BBA-51DC-4EA8-96BF-183363EC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6E6-D4AD-4403-9AED-8BD21F27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FA7-2FCE-44EE-9E8F-383C0BEC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8F1-84DB-4C52-BEFE-E1611314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b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A32A-3FB7-494D-B5BA-4CC827E534B1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b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423E-1536-4200-85F6-37A1E630655F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0790-E336-4944-88F9-48C6F800B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1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C1CC-2550-4613-880A-B1221766C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8b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80520" y="1412640"/>
            <a:ext cx="84582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urier New"/>
                <a:ea typeface="Courier New"/>
              </a:rPr>
              <a:t>«Садовые цветы»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250920" y="60930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Воспитатель: Смирнова Н.Н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990720" y="304920"/>
            <a:ext cx="6429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e103"/>
                  </a:solidFill>
                  <a:miter/>
                </a:ln>
                <a:solidFill>
                  <a:srgbClr val="af273e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тний проект работы с детьми</a:t>
            </a:r>
            <a:endParaRPr b="0" lang="en-US" sz="1800" spc="1" strike="noStrike">
              <a:ln w="9360">
                <a:solidFill>
                  <a:srgbClr val="ffe103"/>
                </a:solidFill>
                <a:miter/>
              </a:ln>
              <a:solidFill>
                <a:srgbClr val="af273e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e103"/>
                  </a:solidFill>
                  <a:miter/>
                </a:ln>
                <a:solidFill>
                  <a:srgbClr val="af273e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мл. группа "Непоседы" 2016 год</a:t>
            </a:r>
            <a:endParaRPr b="0" lang="en-US" sz="1800" spc="1" strike="noStrike">
              <a:ln w="9360">
                <a:solidFill>
                  <a:srgbClr val="ffe103"/>
                </a:solidFill>
                <a:miter/>
              </a:ln>
              <a:solidFill>
                <a:srgbClr val="af273e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154160" y="1981080"/>
            <a:ext cx="3379680" cy="39625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3171600" cy="39625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Заголовок 1" descr=""/>
          <p:cNvPicPr/>
          <p:nvPr/>
        </p:nvPicPr>
        <p:blipFill>
          <a:blip r:embed="rId1"/>
          <a:stretch/>
        </p:blipFill>
        <p:spPr>
          <a:xfrm>
            <a:off x="298440" y="109440"/>
            <a:ext cx="8699400" cy="8841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8686800" y="6552720"/>
            <a:ext cx="457200" cy="3049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6"/>
          <p:cNvSpPr/>
          <p:nvPr/>
        </p:nvSpPr>
        <p:spPr>
          <a:xfrm>
            <a:off x="179280" y="907920"/>
            <a:ext cx="34560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Ромашки» В. Мирясов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Ромашки я не стану рвать!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Ромашки буду рисовать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Приду домой с цветами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И подарю их маме!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1" name="TextBox 7"/>
          <p:cNvSpPr/>
          <p:nvPr/>
        </p:nvSpPr>
        <p:spPr>
          <a:xfrm>
            <a:off x="250920" y="2708280"/>
            <a:ext cx="324144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Львиный зев» В. Мирясов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Мы знаем, как зевает лев,-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И это очень жутко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Но вот цветочек «львиный зев»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Прозвали, видно, в шутку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Его зевающие рты –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Такие сладкие цветы!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2" name="TextBox 6"/>
          <p:cNvSpPr/>
          <p:nvPr/>
        </p:nvSpPr>
        <p:spPr>
          <a:xfrm>
            <a:off x="304920" y="4876920"/>
            <a:ext cx="51130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Клумба» В. Мирясов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Над клумбой бабочка кружит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Куда же сесть? Всё не решит: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Цветочек каждый так хорош!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Какой красивый – не поймёшь!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4191120" cy="3314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2009880" cy="30477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2514600" y="533520"/>
            <a:ext cx="3886200" cy="33620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6553080" y="685800"/>
            <a:ext cx="2143080" cy="31240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4191120" cy="23144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228600" y="4038480"/>
            <a:ext cx="2971800" cy="20955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5791320" y="4038480"/>
            <a:ext cx="30477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Заголовок 1" descr=""/>
          <p:cNvPicPr/>
          <p:nvPr/>
        </p:nvPicPr>
        <p:blipFill>
          <a:blip r:embed="rId1"/>
          <a:stretch/>
        </p:blipFill>
        <p:spPr>
          <a:xfrm>
            <a:off x="298440" y="158760"/>
            <a:ext cx="8699400" cy="871560"/>
          </a:xfrm>
          <a:prstGeom prst="rect">
            <a:avLst/>
          </a:prstGeom>
          <a:ln w="0">
            <a:noFill/>
          </a:ln>
        </p:spPr>
      </p:pic>
      <p:sp>
        <p:nvSpPr>
          <p:cNvPr id="522" name="TextBox 4"/>
          <p:cNvSpPr/>
          <p:nvPr/>
        </p:nvSpPr>
        <p:spPr>
          <a:xfrm>
            <a:off x="5105520" y="1143000"/>
            <a:ext cx="309708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«Одуванчик» Е. Серов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Носит одуванчик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Желтый сарафанчик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Подрастёт – нарядится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В беленькое платьице: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Лёгкое, воздушное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Ветерку послушное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3" name="TextBox 6"/>
          <p:cNvSpPr/>
          <p:nvPr/>
        </p:nvSpPr>
        <p:spPr>
          <a:xfrm>
            <a:off x="685800" y="5442120"/>
            <a:ext cx="33847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«Одуванчик» С. Пшеничных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Был я солнышком лучистым,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Стал я облачком пушистым!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350532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Times New Roman"/>
              </a:rPr>
              <a:t>«Загадка»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Times New Roman"/>
              </a:rPr>
              <a:t>Белым шариком пушистым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Times New Roman"/>
              </a:rPr>
              <a:t>Я красуюсь в поле чистом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Times New Roman"/>
              </a:rPr>
              <a:t>Дунул лёгкий ветерок –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Times New Roman"/>
              </a:rPr>
              <a:t>И остался стебелёк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Times New Roman"/>
              </a:rPr>
              <a:t>(Одуванчик)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3181320" cy="4419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Заголовок 1" descr=""/>
          <p:cNvPicPr/>
          <p:nvPr/>
        </p:nvPicPr>
        <p:blipFill>
          <a:blip r:embed="rId1"/>
          <a:stretch/>
        </p:blipFill>
        <p:spPr>
          <a:xfrm>
            <a:off x="298440" y="158760"/>
            <a:ext cx="8699400" cy="871560"/>
          </a:xfrm>
          <a:prstGeom prst="rect">
            <a:avLst/>
          </a:prstGeom>
          <a:ln w="0">
            <a:noFill/>
          </a:ln>
        </p:spPr>
      </p:pic>
      <p:sp>
        <p:nvSpPr>
          <p:cNvPr id="527" name="TextBox 3"/>
          <p:cNvSpPr/>
          <p:nvPr/>
        </p:nvSpPr>
        <p:spPr>
          <a:xfrm>
            <a:off x="2819520" y="914400"/>
            <a:ext cx="35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Стихи о цветах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8" name="TextBox 5"/>
          <p:cNvSpPr/>
          <p:nvPr/>
        </p:nvSpPr>
        <p:spPr>
          <a:xfrm>
            <a:off x="228600" y="1371600"/>
            <a:ext cx="38876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«Лилия» С. Васильев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Белая лилия – нежный цветок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Красиво изогнут её лепесток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Как колокольчик, раскрылся бутон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Вот-вот раздастся серебряный звон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Приятен и стоек её аромат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На листьях росинки искрятся, блестят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9" name="TextBox 6"/>
          <p:cNvSpPr/>
          <p:nvPr/>
        </p:nvSpPr>
        <p:spPr>
          <a:xfrm>
            <a:off x="2514600" y="3276720"/>
            <a:ext cx="403236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Василёк» В. Мирясов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Горюет синий василёк во ржи: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Со мной не хочет колосок дружить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Гордиться он высоким назначеньем –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Душистым хлебом станет и печеньем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Не зазнавайся, колосок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Во ржи простой я сорнячок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А возле дома, под любым окном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Культурным стать и я могу цветком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Открою вам я свой секрет сейчас –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Могу лекарством быть для вас!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14040" y="1447920"/>
            <a:ext cx="295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В модной шляпке голубой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Колокольчик озорно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С кем ни повстречается-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До земли склоняется!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1981080" cy="31244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6248520" y="3200400"/>
            <a:ext cx="2266920" cy="335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Заголовок 1" descr=""/>
          <p:cNvPicPr/>
          <p:nvPr/>
        </p:nvPicPr>
        <p:blipFill>
          <a:blip r:embed="rId1"/>
          <a:stretch/>
        </p:blipFill>
        <p:spPr>
          <a:xfrm>
            <a:off x="317520" y="109440"/>
            <a:ext cx="8697960" cy="8841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380520" y="837720"/>
            <a:ext cx="30481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«Роза» В. Мирясо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В саду благоухаю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оняю лепестк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Я красотой сияю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о остры когот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Дала я имя цвет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За тёплый солнца свет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Я благодарна лету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Цветка нарядней нет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Box 3"/>
          <p:cNvSpPr/>
          <p:nvPr/>
        </p:nvSpPr>
        <p:spPr>
          <a:xfrm>
            <a:off x="5562720" y="990720"/>
            <a:ext cx="331308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Нарцисс» В. Мирясов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Я цветочек не парадный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Но весёлый и нарядный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Жёлтый или белый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Как подснежник, смелый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Я мороза не боюсь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И на клумбе появлюсь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Будет вам весною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Веселей со мною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6" name="TextBox 4"/>
          <p:cNvSpPr/>
          <p:nvPr/>
        </p:nvSpPr>
        <p:spPr>
          <a:xfrm>
            <a:off x="2843280" y="3429000"/>
            <a:ext cx="37098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Незабудки» С. Поверков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Я иду, иду лугами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Незабудки под ногами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Посмотрите, сколько их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Бирюзово - голубых!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Словно небо красил кто-то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Вот весёлая работа! –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И оттуда, с высоты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Краской брызнул на цветы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Если летом на болоте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Нежные цветы найдёте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Не теряйте ни минутки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Собирайте незабудки!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Заголовок 1" descr=""/>
          <p:cNvPicPr/>
          <p:nvPr/>
        </p:nvPicPr>
        <p:blipFill>
          <a:blip r:embed="rId1"/>
          <a:stretch/>
        </p:blipFill>
        <p:spPr>
          <a:xfrm>
            <a:off x="298440" y="109440"/>
            <a:ext cx="8699400" cy="8841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 txBox="1"/>
          <p:nvPr/>
        </p:nvSpPr>
        <p:spPr>
          <a:xfrm>
            <a:off x="304560" y="1125000"/>
            <a:ext cx="373356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«Загадк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Шёл я лугом по тропинке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Видел солнце на травинк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Но совсем не горяч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Солнца белые луч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(Ромашк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Box 3"/>
          <p:cNvSpPr/>
          <p:nvPr/>
        </p:nvSpPr>
        <p:spPr>
          <a:xfrm>
            <a:off x="4788000" y="1125360"/>
            <a:ext cx="30240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«Загадка»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На кустах, в саду растёт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Запах сладкий, словно мёд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Но нередко льются слёзы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Тех, кто рвёт руками …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                                    </a:t>
            </a: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(Розы)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0" name="TextBox 4"/>
          <p:cNvSpPr/>
          <p:nvPr/>
        </p:nvSpPr>
        <p:spPr>
          <a:xfrm>
            <a:off x="5257800" y="3657600"/>
            <a:ext cx="280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«Загадка»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Синенький звонок висит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Никогда он не звенит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                      </a:t>
            </a: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(Колокольчик)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1" name="TextBox 4"/>
          <p:cNvSpPr/>
          <p:nvPr/>
        </p:nvSpPr>
        <p:spPr>
          <a:xfrm>
            <a:off x="533520" y="3505320"/>
            <a:ext cx="31683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Ромашка» М. Познанская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На лугу, у той дорожки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Что бежит к нам прямо в дом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Рос цветок на длинной ножке -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Белый с жёлтеньким глазком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Я цветок сорвать хотела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Поднесла к нему ладонь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А пчела с цветка слетела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И жужжит, жужжит:«Не тронь!»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Развлечение для дет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3505320" cy="21369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4495680" y="4017960"/>
            <a:ext cx="38102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Заголовок 1" descr=""/>
          <p:cNvPicPr/>
          <p:nvPr/>
        </p:nvPicPr>
        <p:blipFill>
          <a:blip r:embed="rId1"/>
          <a:stretch/>
        </p:blipFill>
        <p:spPr>
          <a:xfrm>
            <a:off x="298440" y="195120"/>
            <a:ext cx="8699400" cy="87156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457200" y="11430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«Найди такой же цветок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«Угадай и назови цветок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«Выложи цветок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«Отгадай загадку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«Найди и назови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«Там и тут, там и тут одуванчики цветут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«Понюхай и назови цветок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«Поищи такой же цветок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6553080" y="1295280"/>
            <a:ext cx="2181240" cy="388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Заголовок 1" descr=""/>
          <p:cNvPicPr/>
          <p:nvPr/>
        </p:nvPicPr>
        <p:blipFill>
          <a:blip r:embed="rId1"/>
          <a:stretch/>
        </p:blipFill>
        <p:spPr>
          <a:xfrm>
            <a:off x="298440" y="158760"/>
            <a:ext cx="8699400" cy="8715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304920" y="1125000"/>
            <a:ext cx="86868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Обследование одуванчика, его строение: стебель, лепестки, цветок. После цветения цветка появляются пушинки – семена одуванч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На семена-пушинки можно подуть и они разлетятся в разные стороны и т.д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Выкопать цветы одуванчика и пересадить на клумбу нашего участка. Наблюдать с детьми и отмечать, как цветы приживаются. Обратить внимание детей на то, какие цветы быстрее будут расти, какие зацвету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Посеять семена цветов на клумбы и наблюдать в течение лета за ростом и цветением. Беседовать с детьми об изменения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3095640" y="2324160"/>
            <a:ext cx="2952720" cy="2209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1" descr=""/>
          <p:cNvPicPr/>
          <p:nvPr/>
        </p:nvPicPr>
        <p:blipFill>
          <a:blip r:embed="rId1"/>
          <a:stretch/>
        </p:blipFill>
        <p:spPr>
          <a:xfrm>
            <a:off x="298440" y="182520"/>
            <a:ext cx="8699400" cy="95724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304920" y="11970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</a:rPr>
              <a:t>«Утренняя гимнастика» :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 «Лютики - ромашки», «Колокольчики звенят», «Одуванчики летят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</a:rPr>
              <a:t>«Дыхательная гимнастика» : 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«Василёк», «Понюхаем цветочек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«Подуем на одуванчик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</a:rPr>
              <a:t>«Пальчиковые игры» : 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«Цветок», «Бабочка», «Раскройся цветок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</a:rPr>
              <a:t>«Подвижные игры» : 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«Цветочная полянка», «Кружит, кружит ветерок с одуванчиков пушок!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250560" y="54936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 Black"/>
              </a:rPr>
              <a:t>Цели:</a:t>
            </a:r>
            <a:r>
              <a:rPr b="0" lang="en-US" sz="4200" spc="-1" strike="noStrike">
                <a:solidFill>
                  <a:srgbClr val="9900ff"/>
                </a:solidFill>
                <a:latin typeface="Arial Black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Franklin Gothic Medium"/>
                <a:ea typeface="Aharoni"/>
              </a:rPr>
              <a:t>Содействовать интересу детей к объектам природ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Franklin Gothic Medium"/>
                <a:ea typeface="Aharoni"/>
              </a:rPr>
              <a:t>Формировать элементарные представления о растениях нашего кра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Franklin Gothic Medium"/>
                <a:ea typeface="Aharoni"/>
              </a:rPr>
              <a:t>Воспитывать доброжелательное отношение к живым объектам природы и эмоциональную отзывчивость детей на общение с ни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 Black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Franklin Gothic Medium"/>
              </a:rPr>
              <a:t>Обучение основам взаимодействия с природой (рассматривать растения не причиняя им вред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Franklin Gothic Medium"/>
              </a:rPr>
              <a:t>Формирование  чувства прекрасного (замечать красоту природы и сезонные изменения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Franklin Gothic Medium"/>
              </a:rPr>
              <a:t>Воспитание бережного отношения к приро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9150480" cy="122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Заголовок 1" descr=""/>
          <p:cNvPicPr/>
          <p:nvPr/>
        </p:nvPicPr>
        <p:blipFill>
          <a:blip r:embed="rId1"/>
          <a:stretch/>
        </p:blipFill>
        <p:spPr>
          <a:xfrm>
            <a:off x="298440" y="-23760"/>
            <a:ext cx="8699400" cy="16938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4514760" cy="37432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419720" y="2895480"/>
            <a:ext cx="419076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99400" cy="184788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3124080" y="5106960"/>
            <a:ext cx="3265560" cy="14889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2133720" y="2362320"/>
            <a:ext cx="4705200" cy="3324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Заголовок 1" descr=""/>
          <p:cNvPicPr/>
          <p:nvPr/>
        </p:nvPicPr>
        <p:blipFill>
          <a:blip r:embed="rId1"/>
          <a:stretch/>
        </p:blipFill>
        <p:spPr>
          <a:xfrm>
            <a:off x="444600" y="0"/>
            <a:ext cx="8699400" cy="907920"/>
          </a:xfrm>
          <a:prstGeom prst="rect">
            <a:avLst/>
          </a:prstGeom>
          <a:ln w="0">
            <a:noFill/>
          </a:ln>
        </p:spPr>
      </p:pic>
      <p:pic>
        <p:nvPicPr>
          <p:cNvPr id="476" name="Содержимое 4" descr=""/>
          <p:cNvPicPr/>
          <p:nvPr/>
        </p:nvPicPr>
        <p:blipFill>
          <a:blip r:embed="rId2"/>
          <a:stretch/>
        </p:blipFill>
        <p:spPr>
          <a:xfrm>
            <a:off x="122400" y="738360"/>
            <a:ext cx="9021600" cy="6119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971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Наблюдени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Прогулки и экскурси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Беседы и рассказывани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Опытническая деятельность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Чтение художественной литератур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Разучивание стих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Развлечение для детей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Конкурс букет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Продуктивная деятельность дет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imes New Roman"/>
              </a:rPr>
              <a:t>Наблюдени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572000" cy="25714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3733920" y="2514600"/>
            <a:ext cx="4952880" cy="2781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57200" y="4114800"/>
            <a:ext cx="42670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Прогулки и экскурс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124080" cy="17528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3124080" y="1371600"/>
            <a:ext cx="3200400" cy="21812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6248520" y="1600200"/>
            <a:ext cx="2743200" cy="1542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685800" y="3429000"/>
            <a:ext cx="1800360" cy="32004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3581280" y="3733920"/>
            <a:ext cx="2133720" cy="11998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3276720" y="5105520"/>
            <a:ext cx="2590560" cy="145728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7"/>
          <a:stretch/>
        </p:blipFill>
        <p:spPr>
          <a:xfrm>
            <a:off x="6629400" y="3276720"/>
            <a:ext cx="1800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Опытническая деятельно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953160" cy="22190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685800" y="4081320"/>
            <a:ext cx="3962520" cy="22240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5562720" y="1523880"/>
            <a:ext cx="26287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Times New Roman"/>
              </a:rPr>
              <a:t>Тру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895120" y="1371240"/>
            <a:ext cx="3048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9900ff"/>
                </a:solidFill>
                <a:latin typeface="Times New Roman"/>
              </a:rPr>
              <a:t>Катя леечку взяла,</a:t>
            </a:r>
            <a:br>
              <a:rPr sz="2000"/>
            </a:br>
            <a:r>
              <a:rPr b="0" lang="ru-RU" sz="2000" spc="-1" strike="noStrike">
                <a:solidFill>
                  <a:srgbClr val="9900ff"/>
                </a:solidFill>
                <a:latin typeface="Times New Roman"/>
              </a:rPr>
              <a:t>Все цветочки полила.</a:t>
            </a:r>
            <a:br>
              <a:rPr sz="2000"/>
            </a:br>
            <a:r>
              <a:rPr b="0" lang="ru-RU" sz="2000" spc="-1" strike="noStrike">
                <a:solidFill>
                  <a:srgbClr val="9900ff"/>
                </a:solidFill>
                <a:latin typeface="Times New Roman"/>
              </a:rPr>
              <a:t>Пусть попьют водички</a:t>
            </a:r>
            <a:br>
              <a:rPr sz="2000"/>
            </a:br>
            <a:r>
              <a:rPr b="0" lang="ru-RU" sz="2000" spc="-1" strike="noStrike">
                <a:solidFill>
                  <a:srgbClr val="9900ff"/>
                </a:solidFill>
                <a:latin typeface="Times New Roman"/>
              </a:rPr>
              <a:t>Цветочки-невелич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9900ff"/>
                </a:solidFill>
                <a:latin typeface="Times New Roman"/>
              </a:rPr>
              <a:t>Н. Нищев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502920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Отчего зацвел цветок?" -</a:t>
            </a:r>
            <a:br>
              <a:rPr sz="1800"/>
            </a:b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Мальчик спрашивает мать.</a:t>
            </a:r>
            <a:br>
              <a:rPr sz="1800"/>
            </a:b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- Оттого, что мы цветок</a:t>
            </a:r>
            <a:br>
              <a:rPr sz="1800"/>
            </a:b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Не ленились поливать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Ф. Троицкий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886200" cy="21812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2438640" cy="403848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6095880" y="190512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298440" y="109440"/>
            <a:ext cx="8699400" cy="8841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510840" y="5089680"/>
            <a:ext cx="37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 Black"/>
              </a:rPr>
              <a:t>Василёк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Колосится в поле рожь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Там во ржи цветок найдёш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Ярко-синий и пушистый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Только жаль, что не душисты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220280" y="762120"/>
            <a:ext cx="27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 Black"/>
              </a:rPr>
              <a:t>Василёк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Цветок василёк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Резной лепесток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В прятки играет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В рожь убегает!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               </a:t>
            </a: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(</a:t>
            </a:r>
            <a:r>
              <a:rPr b="0" i="1" lang="en-US" sz="1800" spc="-1" strike="noStrike">
                <a:solidFill>
                  <a:srgbClr val="9900ff"/>
                </a:solidFill>
                <a:latin typeface="Arial Black"/>
              </a:rPr>
              <a:t>Л. Герасимова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3295800" cy="41148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5029200" y="2590920"/>
            <a:ext cx="2981160" cy="39621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7086600" y="838080"/>
            <a:ext cx="1828800" cy="1311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9-02-28T18:04:2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