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7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043-159A-4CFD-99CB-4C3435D8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489-CD3B-42B0-8DDA-B6350E5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BAC-5016-4662-8BCB-E2BB43AA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E75-07F9-4393-84A0-7A067A68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579C-53AE-4E5C-90D5-2ECF8CE7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3D7-37B5-4F7F-BD1F-4318C7D8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4AB7-86CF-4AC8-BFB3-29A1EDD9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E1ED-C542-46E2-B527-B1C91C6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5ED8-F8C0-4F0D-A212-42A963C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1607-1EA0-456F-9415-FF6A795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B2F4-36C3-4EA5-9E2E-8DA7AD5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2C9-6BDD-42E2-9515-9771F808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1B8-FCFB-41C3-82DB-71ED2F70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E53-A874-47C4-BFD5-9F06F3E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1524-988D-414B-9646-13FCC929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081F-F2B1-427A-896E-15CEC7F3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615D-0920-4D96-BED3-92ED67F4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BF2-BD3D-4D19-93EB-358FE492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4A0-8DCF-4798-930A-DC04EC93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0FC-53B9-4063-8E64-DD498080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D01-4E0F-4FE5-AEEE-716ECD97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3B1-3627-491F-ADD7-B0ED7B8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456-7EE8-45BB-BEFE-188DFA3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0FF-C2F5-4673-81D6-3C6BD13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F5FC-6949-4B52-88EA-B38F71B25A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362C-66F6-4529-8B9E-CBF8FDD473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КРЕСТЬЯНСКИЕ ХОРОМЫ,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РУССКАЯ ИЗБА</a:t>
            </a:r>
            <a:br>
              <a:rPr sz="5400"/>
            </a:b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ИСТОКИ 5 КЛАСС</a:t>
            </a:r>
            <a:br>
              <a:rPr sz="3200"/>
            </a:b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автор: Дитятьева О.С., учитель истории</a:t>
            </a:r>
            <a:br>
              <a:rPr sz="1800"/>
            </a:b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МБОУ «Тотемская СОш №3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Наличники и ставн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24360" cy="482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49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Дымники  и коньки крыш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762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5164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каждого дела с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81800" cy="417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Почему крестьянское жилище может быть отнесено к чудесам России?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33"/>
                </a:solidFill>
                <a:latin typeface="Arial"/>
              </a:rPr>
              <a:t>Презентация к урокам по истокам в 5 классе на тему «Крестьянские хоромы»: можно использовать на первых двух уроках из четырех по данной теме.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СОСТАВ КРЕСТЬЯНСКИХ ХОРОМ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 (жилая ч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ворки, двор (хоз. помещ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и (помещение перед входом в из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ет (холодное помещение для хранения продук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в (помещение для ск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ть (помещение для хранения хоз.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овал ( помещение для хранения с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вка (помещение, в котором жили в холодное время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Дом Терентьева, 19 век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Arial"/>
              </a:rPr>
              <a:t>Изба в нижегородской губернии, 19 век.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4836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Arial"/>
              </a:rPr>
              <a:t>Сарай и дом, 19 век</a:t>
            </a:r>
            <a:endParaRPr b="0" lang="en-US" sz="3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Погодинская изб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Arial"/>
              </a:rPr>
              <a:t>Из чего и как строили хоромы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 – дерево (ель, сосна, д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отавливали лес 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тники собирали с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ушка 1-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опатили (мох, лен, пак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угол – символический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деньги, шерсть, лад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Красота крестьянского дом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сад: окна, наличники, ста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ьки кр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оры и причелины (украшенные резьбой дос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м было чувство 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05:29Z</dcterms:created>
  <dc:creator>1</dc:creator>
  <dc:description/>
  <dc:language>en-US</dc:language>
  <cp:lastModifiedBy>1</cp:lastModifiedBy>
  <dcterms:modified xsi:type="dcterms:W3CDTF">2011-10-27T17:07:07Z</dcterms:modified>
  <cp:revision>4</cp:revision>
  <dc:subject/>
  <dc:title>КРЕСТЬЯНСКИЕ ХОРОМЫ, РУССКАЯ ИЗБА ИСТОКИ 5 КЛАСС</dc:title>
</cp:coreProperties>
</file>