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ind.wav" ContentType="audio/x-wav"/>
  <Override PartName="/ppt/media/image7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A55-66C5-467A-84EB-091A94E8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EBD-A58C-4B39-9C4A-C8BFD724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5372-7258-4660-9402-0232DC22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00DD-1550-4BE8-AA6A-6D552EDC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D8E4-21E1-4470-A000-CAE4AB46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453C-A3A2-444B-BFDF-675E559E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3857-8852-46FB-BEC5-176961AD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DA68-8E93-4679-810F-9D2134FB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FB75-7AC0-4499-B54C-562A58EC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50B8-6425-4C75-9E21-B073AE7E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1F06-9DA6-491A-A0F2-818CC766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AB7-9BED-4668-8286-FC3286E2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7816-0398-4E6B-B401-DCE4A30D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FA62-8902-4410-B20D-D778FF19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6513-C155-4334-BC14-0F0624AC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CBA3-2F7C-44DA-B19F-78BB11B0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C640-7826-4785-8E03-A90FF463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D5E-C250-4F28-B7AC-AC447DAB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222F-F508-4639-BE75-5E85DC48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6E0-650C-4728-91AF-6DD8D1DF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5C0-0A98-4B22-98A3-1882CF80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DB60-D666-4EDE-9FD7-3C4E219F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F051-7BC6-4CB0-AA1C-EED8868E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DADA-536D-41B6-8041-A156D88B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7547-9872-4230-85DF-CD357FDE6B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720A-34F9-4E7B-AF89-8B2C43A111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33"/>
                </a:solidFill>
                <a:latin typeface="Arial"/>
              </a:rPr>
              <a:t>КРЕСТЬЯНСКИЕ ХОРОМЫ,</a:t>
            </a:r>
            <a:br>
              <a:rPr sz="5400"/>
            </a:br>
            <a:r>
              <a:rPr b="1" lang="ru-RU" sz="5400" spc="-1" strike="noStrike">
                <a:solidFill>
                  <a:srgbClr val="666633"/>
                </a:solidFill>
                <a:latin typeface="Arial"/>
              </a:rPr>
              <a:t>РУССКАЯ ИЗБА</a:t>
            </a:r>
            <a:br>
              <a:rPr sz="5400"/>
            </a:br>
            <a:r>
              <a:rPr b="1" lang="ru-RU" sz="3200" spc="-1" strike="noStrike">
                <a:solidFill>
                  <a:srgbClr val="666633"/>
                </a:solidFill>
                <a:latin typeface="Arial"/>
              </a:rPr>
              <a:t>ИСТОКИ 5 КЛАСС</a:t>
            </a:r>
            <a:br>
              <a:rPr sz="3200"/>
            </a:br>
            <a:r>
              <a:rPr b="1" lang="ru-RU" sz="1800" spc="-1" strike="noStrike">
                <a:solidFill>
                  <a:srgbClr val="666633"/>
                </a:solidFill>
                <a:latin typeface="Arial"/>
              </a:rPr>
              <a:t>автор: Дитятьева О.С., учитель истории</a:t>
            </a:r>
            <a:br>
              <a:rPr sz="1800"/>
            </a:br>
            <a:r>
              <a:rPr b="1" lang="ru-RU" sz="1800" spc="-1" strike="noStrike">
                <a:solidFill>
                  <a:srgbClr val="666633"/>
                </a:solidFill>
                <a:latin typeface="Arial"/>
              </a:rPr>
              <a:t>МБОУ «Тотемская СОш №3)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Наличники и ставни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924360" cy="4824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17492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3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6633"/>
                </a:solidFill>
                <a:latin typeface="Arial"/>
              </a:rPr>
              <a:t>Дымники  и коньки крыш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103640" cy="4762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17672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3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Изба изнутри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51640" cy="5183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Изба изнутри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я каждого дела св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281800" cy="417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Почему крестьянское жилище может быть отнесено к чудесам России?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33"/>
                </a:solidFill>
                <a:latin typeface="Arial"/>
              </a:rPr>
              <a:t>Презентация к урокам по истокам в 5 классе на тему «Крестьянские хоромы»: можно использовать на первых двух уроках из четырех по данной теме.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СОСТАВ КРЕСТЬЯНСКИХ ХОРОМ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а (жилая ча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ворки, двор (хоз. помещ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ни (помещение перед входом в изб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клет (холодное помещение для хранения продук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ев (помещение для ско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ть (помещение для хранения хоз. принадлежност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новал ( помещение для хранения с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вка (помещение, в котором жили в холодное время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6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Дом Терентьева, 19 век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26436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6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Arial"/>
              </a:rPr>
              <a:t>Изба в нижегородской губернии, 19 век.</a:t>
            </a:r>
            <a:endParaRPr b="0" lang="en-US" sz="32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248360" cy="44654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6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Arial"/>
              </a:rPr>
              <a:t>Сарай и дом, 19 век</a:t>
            </a:r>
            <a:endParaRPr b="0" lang="en-US" sz="36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704000" cy="4753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Погодинская изба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11344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6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Arial"/>
              </a:rPr>
              <a:t>Из чего и как строили хоромы</a:t>
            </a:r>
            <a:endParaRPr b="0" lang="en-US" sz="32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риал – дерево (ель, сосна, ду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готавливали лес зи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отники собирали ср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ушка 1-2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опатили (мох, лен, пак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 угол – символический пред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деньги, шерсть, лада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6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Красота крестьянского дома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сад: окна, наличники, став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ьки кры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зоры и причелины (украшенные резьбой дос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м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сем было чувство м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6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6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7:05:29Z</dcterms:created>
  <dc:creator>1</dc:creator>
  <dc:description/>
  <dc:language>en-US</dc:language>
  <cp:lastModifiedBy>1</cp:lastModifiedBy>
  <dcterms:modified xsi:type="dcterms:W3CDTF">2011-10-27T17:07:07Z</dcterms:modified>
  <cp:revision>4</cp:revision>
  <dc:subject/>
  <dc:title>КРЕСТЬЯНСКИЕ ХОРОМЫ, РУССКАЯ ИЗБА ИСТОКИ 5 КЛАСС</dc:title>
</cp:coreProperties>
</file>