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D64-10E8-422C-A7D1-FF3E77FC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34A-4AF8-48FB-AB58-6C67C26D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FE6-D11E-4315-B7A4-2A39AE02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4A6-7C10-4F33-9B5E-0F09FBDF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7090-72B2-40A2-B3C9-21263B50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784-7E05-4E20-B383-0E4197D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F84D-F066-4640-A0AE-7D1ABFF3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D85B-DC1A-4BD3-B487-7E2B9ED7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978C-F806-434E-908C-5D61F1E9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9838-0AEF-47D2-B36D-83081422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8CE0-38F0-4106-ADFB-7CB3DFE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2E3-DED3-4B82-8BAD-988D9FEA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7750-2004-466F-AD7D-C634D9F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9C96-D121-4C87-9ACF-692628FB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B22-4634-4817-9A6D-B860CB6F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6EF2-1614-4508-BD2A-FFA299C1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2B3F-CFFB-485D-AD9F-4CE56BD3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AD3-7DF2-4CE6-99AB-4843C84E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665-90AC-41D6-ADC1-4915066D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779-12E9-4120-B71D-825F9DAB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6A8-90D6-492B-8A73-63DE9D04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288-975C-495A-AAA8-B21F7192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5F5-80F1-4E03-865C-86E0E82D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C62-9238-404C-A6EE-82803BE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0BF-9022-44A8-916B-8F6EAB8F82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BA2-1165-4C7F-B683-6008200258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dbbd71"/>
                </a:solidFill>
                <a:latin typeface="Arial"/>
              </a:rPr>
              <a:t>Урок-викторина по избирательному праву</a:t>
            </a:r>
            <a:br>
              <a:rPr sz="6000"/>
            </a:br>
            <a:br>
              <a:rPr sz="60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Разработала и провела 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учитель по обществознанию: </a:t>
            </a:r>
            <a:br>
              <a:rPr sz="2400"/>
            </a:b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Астайкина Л.Д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3640" y="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МБОУ «Шугуровская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50"/>
                </a:solidFill>
                <a:latin typeface="Arial"/>
              </a:rPr>
              <a:t>В Российской Федерации: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бирать имеют право лица, достигшие 18-летнего возра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18-летнего возраста можно избираться депутатом местного 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21 года – депутатом Государственной Ду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35 – президентом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Некоторые ограничены в праве избирать и  быть избранными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ца, признанные судом недееспособны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ца, содержащиеся по приговору суда в местах лишения своб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03640" y="3213000"/>
            <a:ext cx="5940360" cy="364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ространение знаний в области избирательных прав граждан в ученической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у учащихся активной жизненной пози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ие значимости выборов в глазах будущих избира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Monotype Corsiva"/>
              </a:rPr>
              <a:t>Выборы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 -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органов государственной власти и наделение полномочиями должностного лица посредством волеизъявления граждан. Выборы проводятся для осуществления законного утверждения в должности руководителя административного органа управления или представителя от лица участвующих в выборах лиц (электората) в составе законодательного органа управления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4520"/>
            <a:ext cx="864216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опросы викторин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конодательный орган страны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ть ли в нашей стране имущественный ценз для избирателе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ет ли избиратель быть внесен в списки избирателей сразу на нескольких избирательных участк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рок полномочий избирательных комиссий РФ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часто проводятся выборы президента, парламента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де вы должны заполнить свой избирательный бюллетень, в соответствии с законом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делать, если вы испортили бюллетень для голосования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какого возраста можно баллотироваться  в президенты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какого возраста начинается гражданская зрелость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необходимо иметь при себе для получения избирательного бюллетен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ли голосовать досрочно в федеральные органы власти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ли голосовать за больного родственника по его просьбе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начинается агитационный период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прекращается агитационный период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ли проводить в день выборов социологические опросы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b050"/>
                </a:solidFill>
                <a:latin typeface="Arial"/>
              </a:rPr>
              <a:t>Избирательное право</a:t>
            </a:r>
            <a:r>
              <a:rPr b="0" lang="en-US" sz="5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–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это право граждан избирать и быть избранным в государственные орган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4516560"/>
            <a:ext cx="414036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ahoma"/>
              </a:rPr>
              <a:t>Активное право -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во выбирать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зывать депутатов, участвов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лебисцитах, референдум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716360" y="4581360"/>
            <a:ext cx="44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ahoma"/>
              </a:rPr>
              <a:t>Пассивное право</a:t>
            </a:r>
            <a:r>
              <a:rPr b="0" lang="en-US" sz="2000" spc="-1" strike="noStrike">
                <a:solidFill>
                  <a:srgbClr val="00b050"/>
                </a:solidFill>
                <a:latin typeface="Tahoma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пускает, что гражданин может быть выбран депутатом или главой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3500280"/>
            <a:ext cx="108108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3573360"/>
            <a:ext cx="108108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b050"/>
                </a:solidFill>
                <a:latin typeface="Arial"/>
              </a:rPr>
              <a:t>Цензы (ограничения)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жданства, т.е. принимать участие в выборах могут только граждане государ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едлости, т.е. голосовать могут только те, кто прожил в государстве определенное 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ущественные – запрет на участие в выборах тех, кто обанкротил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альный – запрет на участие в выборах лиц, которые лишены свободы за совершение преступ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азовательный – требование кандидатам иметь соответствующий уровень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4:24:01Z</dcterms:created>
  <dc:creator>User</dc:creator>
  <dc:description/>
  <dc:language>en-US</dc:language>
  <cp:lastModifiedBy>User</cp:lastModifiedBy>
  <dcterms:modified xsi:type="dcterms:W3CDTF">2013-03-23T19:48:09Z</dcterms:modified>
  <cp:revision>4</cp:revision>
  <dc:subject/>
  <dc:title>Слайд 1</dc:title>
</cp:coreProperties>
</file>