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5B3-A6A4-4655-B958-94AD46B1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B53-19C7-4D42-9AF6-1FFB50FE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8C7-7A8B-4A7E-945C-3845F8CD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AB3-A8C1-45BF-B152-E874DF6A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8F27-1A26-4881-A6F3-3AC7004B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0D2B-8402-42D6-9224-BCBC53B3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48A0-853E-4F36-A04C-D38C0EF9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4209-FE13-4D1A-8A3F-77D0F6A3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F9DE-D734-45D0-A6FA-0FC0DB89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687A-020D-4686-976B-08F9F70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D390-FB0C-49C8-9E31-1BBB643F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944-204B-49CB-AF0D-533D790B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1B08-418C-453F-8352-6292C74A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7A3F-2A84-45C0-B634-B61A3103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258C-6082-44DD-BF65-EAA8C482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ECBC-BB36-4C35-B836-06040ADF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58E2-D844-4213-BE1D-F2641204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A89-41F4-4EAE-8BD3-8DE28218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255-D919-4A28-968C-CDD28CBC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5F9-D5A1-4E50-BF11-05BFB48F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871-7F9C-470B-8DA3-A83BBDD2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97D-1143-431D-B36A-8888A757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09F-D045-43BD-A38C-681BFB45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157-940F-473D-92AF-88C3B88B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32AB-FA46-40CC-9037-31B0739ED0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1D67-5090-4E4A-A810-1413163E92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dbbd71"/>
                </a:solidFill>
                <a:latin typeface="Arial"/>
              </a:rPr>
              <a:t>Урок-викторина по избирательному праву</a:t>
            </a:r>
            <a:br>
              <a:rPr sz="6000"/>
            </a:br>
            <a:br>
              <a:rPr sz="6000"/>
            </a:b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Разработала и провела </a:t>
            </a:r>
            <a:br>
              <a:rPr sz="2400"/>
            </a:b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учитель по обществознанию: </a:t>
            </a:r>
            <a:br>
              <a:rPr sz="2400"/>
            </a:b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Астайкина Л.Д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3640" y="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МБОУ «Шугуровская средняя общеобразовательная школ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b050"/>
                </a:solidFill>
                <a:latin typeface="Arial"/>
              </a:rPr>
              <a:t>В Российской Федерации: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бирать имеют право лица, достигшие 18-летнего возра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18-летнего возраста можно избираться депутатом местного со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21 года – депутатом Государственной Ду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35 – президентом стр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Некоторые ограничены в праве избирать и  быть избранными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ица, признанные судом недееспособны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ица, содержащиеся по приговору суда в местах лишения своб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03640" y="3213000"/>
            <a:ext cx="5940360" cy="3645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196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ли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пространение знаний в области избирательных прав граждан в ученической сре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ирование у учащихся активной жизненной пози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шение значимости выборов в глазах будущих избира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Monotype Corsiva"/>
              </a:rPr>
              <a:t>Выборы</a:t>
            </a: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 -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ормирование органов государственной власти и наделение полномочиями должностного лица посредством волеизъявления граждан. Выборы проводятся для осуществления законного утверждения в должности руководителя административного органа управления или представителя от лица участвующих в выборах лиц (электората) в составе законодательного органа управления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74520"/>
            <a:ext cx="864216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Вопросы викторин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конодательный орган страны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ть ли в нашей стране имущественный ценз для избирателе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жет ли избиратель быть внесен в списки избирателей сразу на нескольких избирательных участк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рок полномочий избирательных комиссий РФ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часто проводятся выборы президента, парламента?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де вы должны заполнить свой избирательный бюллетень, в соответствии с законом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 делать, если вы испортили бюллетень для голосования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какого возраста можно баллотироваться  в президенты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какого возраста начинается гражданская зрелость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 необходимо иметь при себе для получения избирательного бюллетеня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жно ли голосовать досрочно в федеральные органы власти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жно ли голосовать за больного родственника по его просьбе?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гда начинается агитационный период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гда прекращается агитационный период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жно ли проводить в день выборов социологические опросы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00b050"/>
                </a:solidFill>
                <a:latin typeface="Arial"/>
              </a:rPr>
              <a:t>Избирательное право</a:t>
            </a:r>
            <a:r>
              <a:rPr b="0" lang="en-US" sz="5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–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это право граждан избирать и быть избранным в государственные орган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4516560"/>
            <a:ext cx="414036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ahoma"/>
              </a:rPr>
              <a:t>Активное право -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во выбирать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зывать депутатов, участвов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плебисцитах, референдум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716360" y="4581360"/>
            <a:ext cx="44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ahoma"/>
              </a:rPr>
              <a:t>Пассивное право</a:t>
            </a:r>
            <a:r>
              <a:rPr b="0" lang="en-US" sz="2000" spc="-1" strike="noStrike">
                <a:solidFill>
                  <a:srgbClr val="00b050"/>
                </a:solidFill>
                <a:latin typeface="Tahoma"/>
              </a:rPr>
              <a:t>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пускает, что гражданин может быть выбран депутатом или главой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3500280"/>
            <a:ext cx="1081080" cy="86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3573360"/>
            <a:ext cx="1081080" cy="86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b050"/>
                </a:solidFill>
                <a:latin typeface="Arial"/>
              </a:rPr>
              <a:t>Цензы (ограничения):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ажданства, т.е. принимать участие в выборах могут только граждане государ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едлости, т.е. голосовать могут только те, кто прожил в государстве определенное врем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мущественные – запрет на участие в выборах тех, кто обанкротил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альный – запрет на участие в выборах лиц, которые лишены свободы за совершение преступ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разовательный – требование кандидатам иметь соответствующий уровень обра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14:24:01Z</dcterms:created>
  <dc:creator>User</dc:creator>
  <dc:description/>
  <dc:language>en-US</dc:language>
  <cp:lastModifiedBy>User</cp:lastModifiedBy>
  <dcterms:modified xsi:type="dcterms:W3CDTF">2013-03-23T19:48:09Z</dcterms:modified>
  <cp:revision>4</cp:revision>
  <dc:subject/>
  <dc:title>Слайд 1</dc:title>
</cp:coreProperties>
</file>