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037B5-A454-48B5-A5AA-03C3B452C04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10E97-3D2F-4C80-ACED-488F0B1889D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D9C1-FCCD-427E-B55B-EC8A0ED3D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90C7-00C5-441A-8F3B-6284CB483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8BEE-5C25-49E0-A19B-3C80C44DD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F9B5-8615-425A-8A76-1B57CD63E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B4C97-B2D9-4DD5-93EC-67896A244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76E91-7C9B-4968-A943-82B69E186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05175-95B4-40E7-BA6B-0E22AC0AC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E316B-E042-4AA0-A6C4-56BA9EF8A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F0EA4-18E7-4235-95A2-AB41EE565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AC28A-97CE-4751-A650-909866ED2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B2DA5-3B94-4CD3-9143-9F42FB53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F8EC-EB9A-4F45-996B-6011A956D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7B317-A2F9-4E0E-9C8A-2446F8C4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23F2D-8D8A-42E8-93DD-AFD82AC3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A6FF4-01DA-487F-B227-A2BC58EC4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7E3C4-E48B-47CB-B02B-B7EC04F86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86FE0-C6A1-42F9-8A66-D4C2037E0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5104-8C99-4659-B112-F401332BF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BF86-DCB8-47B6-AA04-071439939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4037-6906-45B9-B424-F709E01AF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460E-8FBE-4E70-8701-D43F019E4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04B1-606B-4563-8930-F98AFABE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E36E-CF32-4116-A248-221958EB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7F55-EC0A-40D2-A2ED-F1B40A10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A393-7532-4941-AAC4-99547679994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43365-9DF3-4D93-9EB0-56D4F2247B2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333360"/>
            <a:ext cx="77724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МБОУ «Горхонская средняя</a:t>
            </a: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 общеобразовательная школа № 73»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Научно исследовательская работа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68000" y="3213000"/>
            <a:ext cx="828036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Исследование феномена улыбки в современной жиз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Выполнил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ученица 5 класса Кравец Еле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Руководитель проект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учитель обществозн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Сураева М.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95640" y="1341000"/>
            <a:ext cx="5004000" cy="43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Появилась новая медицинская наука благодаря инициативе индийского врача Мадана Катарьи – смехология (или смехотерапия), лечение смехом. </a:t>
            </a:r>
            <a:br>
              <a:rPr sz="36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327024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   </a:t>
            </a:r>
            <a:r>
              <a:rPr b="0" i="1" lang="ru-RU" sz="2400" spc="-1" strike="noStrike">
                <a:solidFill>
                  <a:srgbClr val="ffff4a"/>
                </a:solidFill>
                <a:latin typeface="Arial Black"/>
              </a:rPr>
              <a:t>Влияние улыбки на эмоционально-психологическое состояние человека</a:t>
            </a: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Мы считаем, что улыбка  - это показатель не только физического, но и психического, эмоционального здоровья человека. В последнее время психофизическое напряжение стало для многих людей привычным состоянием. Эмоциональные расстройства подрывают психическое здоровье человека, а также понижают сопротивляемость организма, снижают продолжительность жизни. Мы предложили тесты учащимся нашей школы «Ваша психическая устойчивость»   </a:t>
            </a:r>
            <a:br>
              <a:rPr sz="2400"/>
            </a:b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8424720" cy="60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пилка практических рекомендаций и советов.</a:t>
            </a: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Мы систематизировали несколько игровых упражнений и сформулировали рекомендации, позволяющие преодолеть негативное восприятие действительности, рождающие чувство уверенности в себе, психологически настраивающие человека на позитивное отношение к себе, людям, ситуациям.  </a:t>
            </a:r>
            <a:br>
              <a:rPr sz="4000"/>
            </a:b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гра «Я хороший»: </a:t>
            </a:r>
            <a:r>
              <a:rPr b="1" lang="ru-RU" sz="2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вы даете себе или близким слово определенное время (например, начните с 1-2 часов) реагировать на любую неприятную ситуацию с улыбкой. Для  улучшения настроения достаточно некоторое время посидеть с "искусственной", вынужденной улыбкой на лице, даже если у вас в данный момент плохое настроение и улыбаться совсем не хочется.</a:t>
            </a: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этому старайтесь чаще быть на солнце, попробуйте пораньше вставать</a:t>
            </a:r>
            <a:r>
              <a:rPr b="1" lang="ru-RU" sz="2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 (и соответственно ложиться), чтобы за день подарить организму, побольше солнышка. Никогда не переставайте улыбаться! Начинайте день с улыбки перед зеркалом. Делайте физкультминутки под музыку. Больше читайте смешных, юмористических рассказов. 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лыбающийся архипелаг в лазурном море. Эти изумрудные островки радуют глаз с высоты птичьего полета, и дают пристанище всем пернаты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7" descr="priroda-45"/>
          <p:cNvPicPr/>
          <p:nvPr/>
        </p:nvPicPr>
        <p:blipFill>
          <a:blip r:embed="rId1"/>
          <a:stretch/>
        </p:blipFill>
        <p:spPr>
          <a:xfrm>
            <a:off x="4788000" y="836640"/>
            <a:ext cx="4356000" cy="573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280" y="1974600"/>
            <a:ext cx="422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и красочные рыбки –желтые, розовые, синие, зеленые, фиолетовые, специально под любое настроение, что-бы сбывались задуманные мечты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7" descr="priroda-35"/>
          <p:cNvPicPr/>
          <p:nvPr/>
        </p:nvPicPr>
        <p:blipFill>
          <a:blip r:embed="rId1"/>
          <a:stretch/>
        </p:blipFill>
        <p:spPr>
          <a:xfrm>
            <a:off x="4637160" y="0"/>
            <a:ext cx="450684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Заключение!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341000"/>
            <a:ext cx="8007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ким образом, улыбка не только служит средством выражения хорошего физического и эмоционального самочувствия, радостных эмоций, но имеет большое значение для  формирования положительного отношения человека к окружающей действительности,  для установления гармоничных межличностных отношений с людьми, служащих основой для личностно-профессиональной реализации личности. Улыбка является важным фактором, способствующим проявлению в людях таких качеств, как  доброта, стремление к участию в судьбе другого человек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СПАСИБО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ЗА ВНИМАНИ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125000"/>
            <a:ext cx="80074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Гипотеза исследования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ы предполагаем, что улыбка является выражением физического здоровья человека  и его эмоционального самочувствия, а также способна помочь человеку улучшить физическое и психическое здоровье, установить межличностные контакты, способствовать формированию духовно-нравственных отношений людей в обществ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Цель исследования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Выявить зависимость физического и эмоционального здоровья человека от такого фактора, как улыбк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Исследовать  роль улыбки в межличностном общении и духовно-нравственном оздоровлении обще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7720" y="260280"/>
            <a:ext cx="800748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В соответствии с поставленной целью были определены задач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) рассмотреть историю возникновения и развития улыбки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) выявить роль улыбки в современной жизни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) Доказать взаимосвязь улыбки  и физического здоровья, эмоционального самочувствия человек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) раскрыть взаимосвязи улыбки и взаимоотношений людей в обществе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) Провести анкетирование среди учащихся 5 класса МБОУ «Горхонская СОШ № 73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) составить рекомендации и советы, направленые на формирование положительного отношения человека к себе и окружающим, которое выражается с помощью улыб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Объект исследования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физическое, психическое здоровье и  духовно-нравственные отношения учащих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Предмет исследования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улыбка человека как способ выражения и фактор сохранения здоровья человека, как средство установления доброжелательных взаимоотношений между людьми в обществе, способствующих развитию в людях чувства гуманности, взаимопомощи, милосерд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Научные исследования возникновения улыбки. </a:t>
            </a:r>
            <a:br>
              <a:rPr sz="2800"/>
            </a:b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Пол Экман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2017800"/>
            <a:ext cx="4818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мериканский ученый Пол Экман развивая идеи Дарвина считает что Эмоции совершенно одинаково проявляются на лицах людей  в любой точке земного шара. Не зависимо от роста, возраста, воспитания. Все люди на земле умеют улыбатьс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0" descr="Paul-Ekman-biography"/>
          <p:cNvPicPr/>
          <p:nvPr/>
        </p:nvPicPr>
        <p:blipFill>
          <a:blip r:embed="rId1"/>
          <a:stretch/>
        </p:blipFill>
        <p:spPr>
          <a:xfrm>
            <a:off x="5076720" y="1341360"/>
            <a:ext cx="4067280" cy="551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Улыбка в современной жизни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4895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е люди на земле умеют улыбаться и смеяться, так как эмоции генетически заданы, что основательно доказал в своих исследованиях К. Изард </a:t>
            </a: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Улыбка-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 в первую очередь мозговой процесс который обеспечивает врожденными нейронами программ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ким образом, улыбка является врожденной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7" descr="ljudi-93"/>
          <p:cNvPicPr/>
          <p:nvPr/>
        </p:nvPicPr>
        <p:blipFill>
          <a:blip r:embed="rId1"/>
          <a:stretch/>
        </p:blipFill>
        <p:spPr>
          <a:xfrm>
            <a:off x="5438880" y="1700280"/>
            <a:ext cx="3705120" cy="515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Улыбка в современной жизни. </a:t>
            </a:r>
            <a:br>
              <a:rPr sz="3200"/>
            </a:b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Анкета. 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7" descr="ljudi-134"/>
          <p:cNvPicPr/>
          <p:nvPr/>
        </p:nvPicPr>
        <p:blipFill>
          <a:blip r:embed="rId1"/>
          <a:stretch/>
        </p:blipFill>
        <p:spPr>
          <a:xfrm>
            <a:off x="250920" y="1557360"/>
            <a:ext cx="8713800" cy="5040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1280" y="244080"/>
            <a:ext cx="823104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Результаты исследования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44956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324000" y="988920"/>
            <a:ext cx="8208720" cy="560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536400" y="857160"/>
            <a:ext cx="7850520" cy="54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604880" y="446040"/>
            <a:ext cx="5934240" cy="59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4T09:55:33Z</dcterms:created>
  <dc:creator>Admin</dc:creator>
  <dc:description/>
  <dc:language>en-US</dc:language>
  <cp:lastModifiedBy>1</cp:lastModifiedBy>
  <cp:lastPrinted>2016-04-27T08:41:28Z</cp:lastPrinted>
  <dcterms:modified xsi:type="dcterms:W3CDTF">2016-04-28T04:19:20Z</dcterms:modified>
  <cp:revision>24</cp:revision>
  <dc:subject/>
  <dc:title>Тема</dc:title>
</cp:coreProperties>
</file>