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BBA9-80DD-4B51-89F2-AE270A64F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F02-04F4-44D1-ACF9-05D4E2815B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B7A-09B3-452C-A71E-95465CC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FAA-1E39-41F0-B5C6-4A86052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08C-8114-40F4-BE95-D66CB653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91E-744C-47BD-8BF4-CD03769D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55D5-7576-493C-B8E3-950D8E06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099E-6F77-4E73-86C3-AA86D6A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8941-0C87-4210-8A79-B5A0D6E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2EE-673E-408F-9573-DF5F87D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86C0-BB86-405E-BE34-3421B63D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D282-8175-46FA-A794-DE525A2C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4EA-1190-4BB6-918F-72C6635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C48-C919-40EA-B8B5-081B843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2ED8-7D94-47EE-B9BF-5199E5C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67FD-DC16-47CA-B6B0-0898898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BED-426B-448E-8EF7-14589CD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D1FF-3958-41A7-B022-484E9AE5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558E-973E-420C-AE6E-2214D5AF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053-DE3E-44CB-A594-874E2DA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FFE-9A19-4729-909A-B7D40BA1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D87-4E6D-4E1C-A958-35400EA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DD0-8458-4B16-9670-F9775E7F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BFF-9790-4BEA-A93A-D64C9BB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A8B-98B9-4D98-86C7-B4366BF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523-190D-4D1A-98D4-C914084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8AD-56B3-4C8F-85CF-FE232B8AE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BB28-DCBC-4728-BEF7-278D20D9F0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БОУ «Горхонская средняя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общеобразовательная школа № 73»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аучно исследовательская работ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280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Исследование феномена улыбки в современ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ченица 5 класса Кравец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читель 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ураева М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5640" y="1341000"/>
            <a:ext cx="50040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явилась новая медицинская наука благодаря инициативе индийского врача Мадана Катарьи – смехология (или смехотерапия), лечение смехом. 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2702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ff4a"/>
                </a:solidFill>
                <a:latin typeface="Arial Black"/>
              </a:rPr>
              <a:t>Влияние улыбки на эмоционально-психологическое состояние человек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ы считаем, что улыбка  - это показатель не только физического, но и психического, эмоционального здоровья человека. В последнее время психофизическое напряжение стало для многих людей привычным состоянием. Эмоциональные расстройства подрывают психическое здоровье человека, а также понижают сопротивляемость организма, снижают продолжительность жизни. Мы предложили тесты учащимся нашей школы «Ваша психическая устойчивость»  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пилка практических рекомендаций и советов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Мы систематизировали несколько игровых упражнений и сформулировали рекомендации, позволяющие преодолеть негативное восприятие действительности, рождающие чувство уверенности в себе, психологически настраивающие человека на позитивное отношение к себе, людям, ситуациям.  </a:t>
            </a:r>
            <a:br>
              <a:rPr sz="40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Я хороший»: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ы даете себе или близким слово определенное время (например, начните с 1-2 часов) реагировать на любую неприятную ситуацию с улыбкой. Для  улучшения настроения достаточно некоторое время посидеть с "искусственной", вынужденной улыбкой на лице, даже если у вас в данный момент плохое настроение и улыбаться совсем не хочется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 старайтесь чаще быть на солнце, попробуйте пораньше вставать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(и соответственно ложиться), чтобы за день подарить организму, побольше солнышка. Никогда не переставайте улыбаться! Начинайте день с улыбки перед зеркалом. Делайте физкультминутки под музыку. Больше читайте смешных, юмористических рассказов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ыбающийся архипелаг в лазурном море. Эти изумрудные островки радуют глаз с высоты птичьего полета, и дают пристанище всем пернат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priroda-45"/>
          <p:cNvPicPr/>
          <p:nvPr/>
        </p:nvPicPr>
        <p:blipFill>
          <a:blip r:embed="rId1"/>
          <a:stretch/>
        </p:blipFill>
        <p:spPr>
          <a:xfrm>
            <a:off x="4788000" y="836640"/>
            <a:ext cx="4356000" cy="57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74600"/>
            <a:ext cx="422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красочные рыбки –желтые, розовые, синие, зеленые, фиолетовые, специально под любое настроение, что-бы сбывались задуманные меч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priroda-35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ключение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 улыбка не только служит средством выражения хорошего физического и эмоционального самочувствия, радостных эмоций, но имеет большое значение для  формирования положительного отношения человека к окружающей действительности,  для установления гармоничных межличностных отношений с людьми, служащих основой для личностно-профессиональной реализации личности. Улыбка является важным фактором, способствующим проявлению в людях таких качеств, как  доброта, стремление к участию в судьбе другого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ипотеза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предполагаем, что улыбка является выражением физического здоровья человека  и его эмоционального самочувствия, а также способна помочь человеку улучшить физическое и психическое здоровье, установить межличностные контакты, способствовать формированию духовно-нравственных отношений людей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явить зависимость физического и эмоционального здоровья человека от такого фактора, как улыб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следовать  роль улыбки в межличностном общении и духовно-нравственном оздоровлении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оответствии с поставленной целью были определены 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рассмотреть историю возникновения и развития улыб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выявить роль улыбки в современной жизн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Доказать взаимосвязь улыбки  и физического здоровья, эмоционального самочувствия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раскрыть взаимосвязи улыбки и взаимоотношений людей в обществ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Провести анкетирование среди учащихся 5 класса МБОУ «Горхонская СОШ № 73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оставить рекомендации и советы, направленые на формирование положительного отношения человека к себе и окружающим, которое выражается с помощью улы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ъект исследова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физическое, психическое здоровье и  духовно-нравственные отношения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мет исследова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улыбка человека как способ выражения и фактор сохранения здоровья человека, как средство установления доброжелательных взаимоотношений между людьми в обществе, способствующих развитию в людях чувства гуманности, взаимопомощи, милосер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учные исследования возникновения улыбки.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л Экман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ериканский ученый Пол Экман развивая идеи Дарвина считает что Эмоции совершенно одинаково проявляются на лицах людей  в любой точке земного шара. Не зависимо от роста, возраста, воспитания. Все люди на земле умеют улыба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Paul-Ekman-biography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ыбка в современной жизн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8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люди на земле умеют улыбаться и смеяться, так как эмоции генетически заданы, что основательно доказал в своих исследованиях К. Изард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Улыбка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в первую очередь мозговой процесс который обеспечивает врожденными нейронами программ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улыбка является врожденно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ljudi-93"/>
          <p:cNvPicPr/>
          <p:nvPr/>
        </p:nvPicPr>
        <p:blipFill>
          <a:blip r:embed="rId1"/>
          <a:stretch/>
        </p:blipFill>
        <p:spPr>
          <a:xfrm>
            <a:off x="5438880" y="1700280"/>
            <a:ext cx="370512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лыбка в современной жизни.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нкета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ljudi-134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44080"/>
            <a:ext cx="82310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езультаты исслед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0872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6400" y="857160"/>
            <a:ext cx="78505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604880" y="446040"/>
            <a:ext cx="59342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09:55:33Z</dcterms:created>
  <dc:creator>Admin</dc:creator>
  <dc:description/>
  <dc:language>en-US</dc:language>
  <cp:lastModifiedBy>1</cp:lastModifiedBy>
  <cp:lastPrinted>2016-04-27T08:41:28Z</cp:lastPrinted>
  <dcterms:modified xsi:type="dcterms:W3CDTF">2016-04-28T04:19:20Z</dcterms:modified>
  <cp:revision>24</cp:revision>
  <dc:subject/>
  <dc:title>Тема</dc:title>
</cp:coreProperties>
</file>