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32D-B18C-4B34-A244-89919936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3EA-48C3-4708-8484-D4F3CBCC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A5A-1639-4E19-9690-8C255806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518-C747-49CE-970A-2ACC5086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8B1-35CA-4C68-B531-88F5807F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7BD-FE32-4F55-88AB-5104AFFC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83A-B1FA-47C4-A640-737BF243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9C0-D557-4F39-B6AF-67CDE6D6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B62-5FFB-4DFB-979B-44524D3F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C35-D200-4582-B52C-B989499A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076-3301-4ACC-9035-230E8E65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0DF-FD42-417F-983E-CF308EC2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52E4-FCA2-4508-906C-734CB1B2B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внешности на основе жизненного опыта и наблюден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 по картине Г.О. Рокчин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эж (Бабушка с внуком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2340000" y="260280"/>
            <a:ext cx="4471920" cy="573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771640" y="6021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эж (Бабушка с внуком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Аркадий_Манджиев_и_Ха_Лин_—_Тачал_(калмыцкая).mp3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668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описания внеш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ты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е впечат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е особ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ная лекс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о- форма, цвет, выражение (спокойное, умиротворенное, со следами прожитой жизни, доброе, мудр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за-взгляд, взор(ласковый, прист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ви - короткие, ч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ыбка-чуть заме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б-откры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осы-седые ,длинные, прямые ,заплетены в косы, уложены в черные ленты - шиврл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анка, фигура-статная, велича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а-сидит пря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и-большие, натруженные,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жда и укр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ёрные ленты в косах - шиврл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ебряные серьги - цаган 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гн си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мыцкое широкое платье с большим вырезом вместо ворота - бер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ая рубашка снизу - дотр киил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ьцо на пальце - билц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соч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ступление. Общие сведения о картине и  художнике,  ее создавш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сновная часть. Образ бабушки с внуком в картине Г.О. Рокчин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ий облик: а)черты лица, б)поза, в)одежда, г)фон карт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Заключение. Моё отношение к карт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жение какого-нибудь  человека на картине или фотограф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й портрет-изображение внешности героя: его лица, фигуры, одежды, манеры держ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1403280" y="404640"/>
            <a:ext cx="6626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рри Олегович Рокчин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2700360" y="1773360"/>
            <a:ext cx="389268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_375f_d15a47b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Алцынхута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wer"/>
          <p:cNvPicPr/>
          <p:nvPr/>
        </p:nvPicPr>
        <p:blipFill>
          <a:blip r:embed="rId1"/>
          <a:stretch/>
        </p:blipFill>
        <p:spPr>
          <a:xfrm>
            <a:off x="1692360" y="765000"/>
            <a:ext cx="6192720" cy="4019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92360" y="486900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я Рокчинский,1937г Образцовая школа 10-летка, Э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3"/>
          <p:cNvPicPr/>
          <p:nvPr/>
        </p:nvPicPr>
        <p:blipFill>
          <a:blip r:embed="rId1"/>
          <a:stretch/>
        </p:blipFill>
        <p:spPr>
          <a:xfrm>
            <a:off x="755640" y="404640"/>
            <a:ext cx="300024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4"/>
          <p:cNvPicPr/>
          <p:nvPr/>
        </p:nvPicPr>
        <p:blipFill>
          <a:blip r:embed="rId2"/>
          <a:stretch/>
        </p:blipFill>
        <p:spPr>
          <a:xfrm>
            <a:off x="4284720" y="2205000"/>
            <a:ext cx="4124160" cy="3409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755640" y="422100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кчинский Г.О в монгольском костюме. 8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284720" y="5589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кчинский Г.О. в своей мастер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5"/>
          <p:cNvPicPr/>
          <p:nvPr/>
        </p:nvPicPr>
        <p:blipFill>
          <a:blip r:embed="rId1"/>
          <a:stretch/>
        </p:blipFill>
        <p:spPr>
          <a:xfrm>
            <a:off x="900000" y="260280"/>
            <a:ext cx="7056720" cy="572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2411280" y="5950080"/>
            <a:ext cx="46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ядовой Отечественной войны 1812 года  Цо-Манджи Бурат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0"/>
          <p:cNvPicPr/>
          <p:nvPr/>
        </p:nvPicPr>
        <p:blipFill>
          <a:blip r:embed="rId1"/>
          <a:stretch/>
        </p:blipFill>
        <p:spPr>
          <a:xfrm>
            <a:off x="2627280" y="260280"/>
            <a:ext cx="411336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700360" y="58770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ать-земля родная» (196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6"/>
          <p:cNvPicPr/>
          <p:nvPr/>
        </p:nvPicPr>
        <p:blipFill>
          <a:blip r:embed="rId1"/>
          <a:stretch/>
        </p:blipFill>
        <p:spPr>
          <a:xfrm>
            <a:off x="2268360" y="333360"/>
            <a:ext cx="4281840" cy="568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843280" y="6021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 Джангарчи Овла Эляе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5:23:19Z</dcterms:created>
  <dc:creator>Дмитрий Каленюк</dc:creator>
  <dc:description/>
  <dc:language>en-US</dc:language>
  <cp:lastModifiedBy>Дмитрий Каленюк</cp:lastModifiedBy>
  <dcterms:modified xsi:type="dcterms:W3CDTF">2018-12-20T18:53:31Z</dcterms:modified>
  <cp:revision>21</cp:revision>
  <dc:subject/>
  <dc:title>Слайд 1</dc:title>
</cp:coreProperties>
</file>