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97B-A2F8-43D4-84BF-EBA387FC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261-214B-406D-8811-70B56B9D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239-5EAC-4572-A813-B61810D4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E5D-B3EF-404A-9AAE-D5B4B39C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66A-0B3F-4903-A959-645B0A14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887-7C43-49FC-902C-5BA2436E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76F-D140-42FA-A12B-AD7B7BFD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538-9FD6-45FA-A11E-FDED1750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6FB-0A7C-4EF1-AB4C-9E42867C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1BB-F9E0-46A6-873F-02B07ED2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462-694B-4C54-B4FB-CC6B41AC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350-81DF-498C-9A48-10B25F1C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E5F4-50BD-40A5-8E26-73E4B0E6B0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496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лассный час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Доброта рядом живёт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2741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абова Элина Валерьев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го общеобразовательного учрежд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Средняя общеобразовательная школа № 15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784836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Доброта — отзывчивость, сочувствие, дружеское расположение к людям; все поло­жительное, хорошее, полезное». (Л. Толс­той)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684360" y="39672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Доброта — вещь удивительная. Она сближает, как ничто другое. Доброта избав­ляет нас от одиночества, душевных ран и непрошеных обид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Драматург В. Роз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468360" y="333360"/>
            <a:ext cx="8207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вайте поклоняться доброт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вайте с думой жить о добро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я в голубой и звездной красо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емля добра: она дарит нас хлебом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ивой водой и деревом  в цвет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 этим вечно неспокойным неб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вайте делать людям  доброту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. Чепуро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82760" y="236520"/>
            <a:ext cx="813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брые слова – корн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брые мысли – цветы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брые дела – плоды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брые сердца – са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755640" y="907920"/>
            <a:ext cx="77040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шабло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ОУ лицей №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Sergey</cp:lastModifiedBy>
  <dcterms:modified xsi:type="dcterms:W3CDTF">2018-11-22T18:50:05Z</dcterms:modified>
  <cp:revision>52</cp:revision>
  <dc:subject/>
  <dc:title>Слайд 1</dc:title>
</cp:coreProperties>
</file>