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3CE9-3B4B-4921-B5E0-5679AB28E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2F35-BEAE-41BD-84E0-BF46A54BF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DF08-A083-40F4-8320-6A5AEBA14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C30E-347B-4FD2-9762-81F289863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5B05-3AD8-4FD0-A41C-00D9F9D1E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D262-3345-4205-8490-24CC7052E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0937-6642-4F82-A535-3EE8E0AEC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8E5E-07C8-4EA0-8642-5ECAD112C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CCEC-03EE-478F-956E-0F370CA2E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82C6-EF25-493C-BA17-9E33CA3FF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D0E7-17FB-4AD7-B972-025AD545D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A447-3791-49DD-B755-AE71B38AD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3A814-939B-44A5-AFF6-9A413FF2171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pedsovet.su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1125360"/>
            <a:ext cx="84960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Классный час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«Доброта рядом живёт»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26920" y="2205000"/>
            <a:ext cx="7274160" cy="37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абова Элина Валерьевна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читель начальных классов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униципального общеобразовательного учреждения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«Средняя общеобразовательная школа № 15»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84000" y="692280"/>
            <a:ext cx="7848360" cy="43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Доброта — отзывчивость, сочувствие, дружеское расположение к людям; все поло­жительное, хорошее, полезное». (Л. Толс­той)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3"/>
          <p:cNvSpPr/>
          <p:nvPr/>
        </p:nvSpPr>
        <p:spPr>
          <a:xfrm>
            <a:off x="684360" y="396720"/>
            <a:ext cx="78483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Доброта — вещь удивительная. Она сближает, как ничто другое. Доброта избав­ляет нас от одиночества, душевных ран и непрошеных обид»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(Драматург В. Розов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оугольник 3"/>
          <p:cNvSpPr/>
          <p:nvPr/>
        </p:nvSpPr>
        <p:spPr>
          <a:xfrm>
            <a:off x="468360" y="333360"/>
            <a:ext cx="82072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авайте поклоняться доброте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авайте с думой жить о доброте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ся в голубой и звездной красот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Земля добра: она дарит нас хлебом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Живой водой и деревом  в цвету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д этим вечно неспокойным небом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авайте делать людям  доброту!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. Чепуров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рямоугольник 3"/>
          <p:cNvSpPr/>
          <p:nvPr/>
        </p:nvSpPr>
        <p:spPr>
          <a:xfrm>
            <a:off x="482760" y="236520"/>
            <a:ext cx="81356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обрые слова – корни.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обрые мысли – цветы.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обрые дела – плоды.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обрые сердца – сад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5"/>
          <p:cNvSpPr/>
          <p:nvPr/>
        </p:nvSpPr>
        <p:spPr>
          <a:xfrm>
            <a:off x="755640" y="907920"/>
            <a:ext cx="7704000" cy="31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точник шаблон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Ранько Елена Алексеевн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учитель начальных классов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МАОУ лицей №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г. Иванов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Сайт: </a:t>
            </a:r>
            <a:r>
              <a:rPr b="0" lang="ru-RU" sz="2400" spc="-1" strike="noStrike" u="sng">
                <a:solidFill>
                  <a:srgbClr val="800000"/>
                </a:solidFill>
                <a:uFillTx/>
                <a:latin typeface="Times New Roman"/>
                <a:hlinkClick r:id="rId1"/>
              </a:rPr>
              <a:t>http://pedsovet.su/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2T16:04:58Z</dcterms:created>
  <dc:creator>Елена</dc:creator>
  <dc:description/>
  <dc:language>en-US</dc:language>
  <cp:lastModifiedBy>Sergey</cp:lastModifiedBy>
  <dcterms:modified xsi:type="dcterms:W3CDTF">2018-11-22T18:50:05Z</dcterms:modified>
  <cp:revision>52</cp:revision>
  <dc:subject/>
  <dc:title>Слайд 1</dc:title>
</cp:coreProperties>
</file>