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23.png" ContentType="image/png"/>
  <Override PartName="/ppt/media/image13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10.jpeg" ContentType="image/jpeg"/>
  <Override PartName="/ppt/media/image29.jpeg" ContentType="image/jpeg"/>
  <Override PartName="/ppt/media/image12.png" ContentType="image/png"/>
  <Override PartName="/ppt/media/image20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180-1A37-4A17-9BC6-DC1EC2E1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0F4-39DB-4EED-A8FC-9D490A67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EE308-24B8-4BAF-8D37-80F7065F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6A74AB-39D4-412F-8B58-2B12029A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689C9-D58D-4A6F-8E53-FE1E35D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CCA6A-AE4D-4971-A74F-0EE3BC86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D41A2-C85E-4FD2-9FB7-EE0B3BD0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D1A50-904A-42DC-B875-2EFCEC8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27BA3C-3209-44D7-BC95-59F0C5CD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0AE6ED-84BA-4273-B722-59AE11C5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089A64-BD31-4FF8-ABF0-B1882665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901FA-1BA8-408C-962E-DD3B57D30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69D-9537-4007-B735-46470919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CBDA9-7381-422E-BE31-066B06E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8C2C6-DE94-48AA-9C03-9FE985B5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1C3CD-C6B0-4851-B516-51E90285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77D49-58F1-425C-9AF1-F1520AF2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92557-E5E2-4A8C-9708-26387EFA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1D718-4E79-47A2-9AE8-3DCB7A83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6F674-086D-4DB1-A977-27CE62A3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56E82-31B6-498F-AF81-020FF9AA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4B4A6-137B-4778-AE78-8059364F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066B9-D91A-4456-B288-E8B69FD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6A8-CABA-46F0-9C04-A9EAE333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9C933-3EE2-4415-B460-FF464E1C6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DF903-DFD2-48CC-8211-8452821223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97755-ED86-4391-9115-AE3C4710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DB3A4-3094-4D09-AC7B-A767F57A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454FB-1346-4AE5-9D88-39F2B8A5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1F684-8871-48DD-92EF-2D2636A7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A16B2-448D-4D66-9FA0-685B0872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4FABA-6A66-48A8-AC71-4A13E11F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E7A79-ACFE-48B4-9390-A503BE3C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E99C3-DC73-401F-94AB-D73CF7CE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1244-51F4-411A-8DCC-957D5CAC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48483-059B-42BA-BB3F-8E63B3C3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417F9-C36A-4727-BF06-E822FD5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5E1C7-5C2D-4FD7-B88C-3080F97F4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993151-F7EE-4EEC-AA0E-5B36EEB260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431446-F969-47A6-A4F8-19E6435D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1B991F-4BB4-43DE-97F1-E940A536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016C19-C894-4D3B-AB87-6E36C5E1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9F1E82-9D86-4D7F-B3D9-43F5DD61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FE74AE-4865-4A01-BDD8-71D01D20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6AB277-9B24-4468-9EA0-35DFF71A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339D-80A6-400F-A508-7BA5B47C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9C218E-C296-4B84-B80B-8B598D42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0E2D98-B929-47D2-9664-70976BB6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3250DE-EC39-45D5-A373-8F1C59EF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D40E38-013E-483D-9F42-DBB2B1FC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D6D06B-CD86-4F56-80BE-9ACC458F0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D454E-0563-46E2-A53E-A18E03033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16CE3-74D2-4740-91B1-30CFEF3F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21A0E-4954-4336-9BE1-C29CCCF5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1FE68-B0A2-4C17-8663-E258F44A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6FA66-BADE-49E6-AF24-E0B3E74C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2A2C-E7E1-4603-8136-772662BA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E7700-DA95-4DC2-BD90-DE910A6B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77B27-C40F-4F38-AAE8-98E3DCBE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ABB86-AD11-4E0A-A31E-44995FC8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954B7-CB29-46FC-AE93-51FA1C4D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95FD8-9ED1-44FC-A925-FE45E37C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A7E73-5C43-4206-9EE9-1735C9C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C8B10-DAF3-4C25-8C11-41B3147883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7AE12-937E-43A7-BBA7-878D1D56AD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E7B65-FF7D-4E33-8F4B-CF64209A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6748F-09A6-4946-B3F7-2F3200E4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2F60-8F0A-4C76-BDCE-F2B951EB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8372B-ABB5-49E3-B644-9B62D009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AF436-341C-4843-84DC-DA0CEA57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0A146-A7F6-492A-8DA3-AC65AEBE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63981-DEA8-4A50-A78A-BAE0AEFA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71104-B671-456B-AA85-8AE3E44A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80996-D8C3-419C-887A-D11C7420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A60ED-CFAC-46EB-8581-9386A972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E4BFD-FEDD-4F46-B40E-4B3A43C9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F20E5-EAC4-4F71-B2F9-5682DD84A3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8626DD-7127-44AB-87CE-FF7FC16978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CAF0-C6E7-4322-AF45-B571C88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4E8B98-9B5C-471B-8B3D-67DD18D3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AFC206-9C7A-4276-A06B-030F3D01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EAFF3A-9C8C-462F-B7C5-1CC47631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384AA6-76DA-4B05-8C63-FA044769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95441F-355E-4E97-A027-E5B5E29C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3FBC87-1163-45B7-AAC8-00858B58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5F7B1C-BAB5-4856-9BCB-F03C2309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8529F8-11FF-4472-93B4-6EB384E5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95D6BE-5BF0-421D-8401-358348A6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B3989-9E54-48B4-A251-F17E0493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7ED3-8006-45A0-91FB-CB826624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875E0C-35BA-4B73-B542-FEBCC2F591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AC5522-200F-4853-9CE9-CA074BEDF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DBF9C9-D4E5-4F40-8BDB-7C425630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5BD659-DAB7-407D-B44E-9F6C123A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893553-19F3-48FB-B5B0-31F5FE0E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10C70D-52F4-48B7-A69D-93CB4EC1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437BED-1DC5-48B4-AA5B-406FBDB3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4DCE8A-9495-4500-9A3C-A24555A3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490069-F9BF-4A3C-8D5B-BA3AAE08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1AA306-FCB7-4BFF-8D0E-A706896C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33D4-5394-4C7D-98D5-FD932996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3A2E85-6928-47D0-9192-EDF40E94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DE220F-30B8-4994-8AFD-8EE94BD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EB66AA-BF4D-451D-974D-6E8C2112B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26E96-32CA-4957-B8F9-EDA0D8606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AC7EF-F1B5-4958-AFB6-17413071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BFE83-ABBB-4C3D-B579-4DF09D1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48258-73C5-42ED-8026-FA141AC3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7F898-2F8F-41AD-BE90-CDF8CA2E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1AD39-62F6-4750-926C-185BFDF3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602BA-8BFB-4C18-A669-903F11D7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CB2-E209-4722-BE0A-3DC67637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8E9D-A9A3-4C12-8989-374FB85C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491BF-4D84-426C-9C73-3992CB67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03857-F2AB-4152-88D5-4130187F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7E39C-A4D7-45FA-9E89-ED96C17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5886D-835F-442D-B07E-74DC6C3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60EDF-50C9-4F5F-B95C-5A6A040D76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7049C6-A151-4CA1-A3A0-6BC52F3ED6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BC55B3-615B-4CE6-A488-C0552ECD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091B4B-D950-4327-BAD0-EC5D55E0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70CF06-5208-4B8B-B4A6-884FD69A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686C7F-0BE7-4433-8F57-0C194FBB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6992-0278-4859-931E-8FA0087F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40016E-0656-4577-BA01-864F6ECF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33D79E-5AE2-4277-9BF0-BE5999B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0A606B-CB88-4A77-A798-38D56DDC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A28B09-0864-4555-AA3C-8100466D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894A80-806A-4E3D-9453-C4BF5BDE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2D25CF-1AC8-4D06-AF96-F9E4813E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260D55-0FDE-47A7-9439-AE19E3BA3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5D31BE-9485-4FDE-8F75-DF37008BEA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3DA77ED-B907-4798-8FE6-F0AC2D34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513E72-7FBE-4481-9183-09371E2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140B-EBCC-456C-BEA0-B4684938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5624EB-0469-4821-93B0-CFC4212E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F9AF45-B5DA-46D7-BB40-50B569B8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C07584-A843-41D5-BFB7-E39CA549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9A0387-EA8C-4A43-A26F-D99C863C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7EE30B-78C1-4E98-8A13-E5D98519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5C534E-CB15-4B9C-8218-7A4327E6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699301-34E8-499F-B9F3-A0268278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986FE0-6486-4298-807C-61C64349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AF203F-418F-4294-B056-B93DBF043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206BB-2BA6-4A31-9EBB-A5359ADCB1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A915-6B9F-4A1C-ABD7-F5FCF4C0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B3818-75CB-45F0-B113-1F117548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E4028-DEBB-4B3F-8843-EF107210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DF15C-4551-4BAB-9901-A9362F08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4845C-275A-4FC1-93CC-0F8ADA14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6F07D-B203-406C-886D-D6326C9F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AE642-68D9-4544-9065-B1F93DE0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DE7E0-8F92-418D-B499-5A46F149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4D006-5C8F-4A6F-A091-80182B16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1E4FF-3B55-4708-AD77-2C8FB9FD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2E193-722E-4764-8BA8-88BC065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1631-2E43-427A-950F-CF3B9161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0C1EB-47E7-4C83-A377-219DD9457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0AC14-71CE-4C1D-A15D-E1EDB6786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C4974-BE20-4E8F-B991-E0524976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5EAF7-2EBE-4C8B-834C-A4784E85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D2E8F-EDCB-467F-B202-3F38AADA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254E8-6045-4A88-883A-5E44B5F2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078-F233-400A-82E5-41361FD5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C67A3-3518-42B8-9769-BAB374DF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36113-2C3D-4A97-B67C-172F9938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61120-7C99-4237-8A07-D2E27F65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8007D-A5D8-4E3E-AD73-66DA3579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ED002-852F-4A26-99FF-405D1145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CAF7E-6806-438E-975C-3EB3F8A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26160-3DD3-4228-9973-9C518F418E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239AC-CB5C-444D-B929-8885438D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04315-5FC0-4D54-B90A-C3FFDA62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77AFD-9D7D-40F7-8A9A-E01AB86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958-BF44-45EF-870F-2D4C8EE1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09F7C-BC36-474E-9FA8-613CCEEE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1D20F-C0E8-4D1D-8A3F-F8AB695C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6F8EE-4316-4C5A-B7F3-436FC928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D257D-01C3-4EC8-9460-4C28892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633EA-48C1-4EDB-8544-E6FBA269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E2816-5E62-4CFD-A2D0-7F8757D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C275E-9B9A-4BDF-A774-12C1D22D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CF81E-2955-438B-BBFA-142E5806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8CBDE-FB0E-456A-9A66-54703D68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B1966-09CD-4F7D-B294-F9020B88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DD7-23C6-4A18-AEE6-8291AE9F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FCFFB-1A62-4CFF-B538-43D28898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ACFDB-DF8D-4B17-8250-1BD8C147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485F4-4762-466D-8A22-0C9A705F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3BB6E-1BF7-4881-AEDB-637F612C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90C0E-35E0-4F29-879F-8E622C0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5E4B4-33F1-44A4-95A4-356B8F79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0199D-1DAC-4AE9-9537-90EEBBD4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64BAD-0E23-486F-A927-0BCE8E50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5B908-5F38-40DD-8A62-72E9B149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2AE0C-241D-428A-AADA-8CE63783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739-4154-4A4E-A10C-424D2539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3413C-946D-4B93-A4FA-B5E1B4B3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10C0C-F271-4E2C-B405-3336A96F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98BA6-03BC-4A10-AF83-9AEBA0B4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2AFA4-4F8D-418B-AD47-31782737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0EB26-8733-4005-8C73-36A5791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3221E-729F-4008-991D-B2C14437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90EE0-D860-4E3D-AD67-FD02EC99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1E583-A3AC-4CE1-B2CD-E9225B5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99BBE-06B2-4390-A254-702A12BE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547F2-EAE3-4859-85BF-FA052A01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033-8949-49F3-8D07-97E5991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5DCF2-7B3D-4D8D-BD16-70CE799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41465-5358-477B-8B91-DF29586C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2282B-53BA-410A-B679-1CD0DD94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9FA81-A675-4888-96BC-CC851731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2BC0D-EADA-43AE-A221-D47E3203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EE2E9-81FD-4846-94CC-3143A53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92196-B53F-4ADE-AB5D-1B5F33D8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DA333-92DE-457D-8946-9D04DA8B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2650F-D055-4BAA-9701-38401EED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9FBE1-BD03-4994-8883-AE4130C0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337-373B-49E6-908B-FA9623BE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24EB5-C6E3-4FE7-92D0-EB92109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E3495-9246-4219-BA92-2D9F033B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6096D-ED3B-4F2C-8864-90C09932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1D08C-A216-48B9-9B0D-0A235644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E41F5-A4C2-4451-AB9D-1D1D67E9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E3CA17-2826-46EE-AC97-0B4EF221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56F57-9A52-450A-AAC7-0A3CC3AA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00A91-832C-4A7B-B2E7-F84E2EAD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BED377-6BA0-468D-8C55-EF55C61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1A93E-ECF7-4FB0-882F-FBDCF32A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267-86CE-46B8-86F9-2E051AD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10F2E0-CEF2-4D1C-9BB9-FC88297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41F8DE-347C-49F5-B6CA-CDC0CB08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DF9239-FEB3-4B2B-8EDA-61586BF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F92DA0-2FD0-4485-AD9A-449F70D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6D0D81-E8E7-4917-BB67-1B0DBDBE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CEE949-12E6-47FA-BB5D-08E83D22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CA33F1-39D7-4E58-B13E-BD23AD9A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5356ED-25FD-4528-999E-F0FC4BD7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6D1F63-2D51-4E63-B1E2-4B156F56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EC69E8-FA36-419A-9B5C-F2D8FAE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0218F-50B2-40C7-93AF-845F0B2E59D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7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8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8411E-4CCA-45E0-9785-EADE3E329A93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9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30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CE043-8441-4B8E-BEEC-38466D2FE399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1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32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2284C-C67E-4924-900E-B99A63072544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3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4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2BC56-D8E2-4550-B371-043487A96DC3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5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sldNum" idx="36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8CC76-088F-40C3-A270-44B63CE6144C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7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38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91BF8-767B-4266-9FB6-5AB46BE9CA4B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39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sldNum" idx="40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C38C9-3424-4691-8B19-31B30683F81F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1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2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9DA6D-B194-4AB6-9937-4C00E95C29DB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4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43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sldNum" idx="44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E8ED4-0C3B-45C6-8A4C-E94BF42DE06E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45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46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3A119-9AD8-461A-94C8-26542E0CDA84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CBEFC-0CBD-451E-8D32-88D0C33CF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2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3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47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sldNum" idx="48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5FD28-414E-420B-9046-36DB4149A989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8FE7B-0379-4B50-BA84-A1194CFB3A8C}" type="slidenum"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49A88-744F-4EB1-845D-CF58AC4A1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75411-EC8D-4050-9CAF-D69126C7C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20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6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7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7AA72-8AF0-4690-B17E-9CC525CBD8E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72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8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9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0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6B36B-EAE1-4490-985C-BE3B1752E60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326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7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1E9AD-3695-4ED7-9026-EFF5BA8C339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380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CBA5A-7343-4022-B9DE-9C1CBCD06A2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Bouvet_island_0.jpg?uselang=ru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s://commons.wikimedia.org/wiki/File:Bouvet_Island_ISS017-E-16161_no_text.JPG?uselang=ru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fs00.infourok.ru/images/doc/299/298783/img6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04960" y="448920"/>
            <a:ext cx="7802640" cy="24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Исследовательская</a:t>
            </a:r>
            <a:br>
              <a:rPr sz="4000"/>
            </a:b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работа на тему: «Географические закрытия»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16" name="Picture 4" descr="C:\Users\hag\Desktop\ph535e54b9d62a6.jpg"/>
          <p:cNvPicPr/>
          <p:nvPr/>
        </p:nvPicPr>
        <p:blipFill>
          <a:blip r:embed="rId1"/>
          <a:stretch/>
        </p:blipFill>
        <p:spPr>
          <a:xfrm>
            <a:off x="8520120" y="304920"/>
            <a:ext cx="3409920" cy="2989080"/>
          </a:xfrm>
          <a:prstGeom prst="rect">
            <a:avLst/>
          </a:prstGeom>
          <a:ln w="0">
            <a:noFill/>
          </a:ln>
        </p:spPr>
      </p:pic>
      <p:sp>
        <p:nvSpPr>
          <p:cNvPr id="917" name="Прямоугольник 9"/>
          <p:cNvSpPr/>
          <p:nvPr/>
        </p:nvSpPr>
        <p:spPr>
          <a:xfrm>
            <a:off x="4710240" y="3711600"/>
            <a:ext cx="64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Выполнил: </a:t>
            </a: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Карамышев Вячесла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Ученик 7« А» класс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Научный руководитель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Учитель географии </a:t>
            </a:r>
            <a:r>
              <a:rPr b="1" lang="en-US" sz="2800" spc="-1" strike="noStrike">
                <a:solidFill>
                  <a:srgbClr val="2a5010"/>
                </a:solidFill>
                <a:latin typeface="Trebuchet MS"/>
              </a:rPr>
              <a:t>I</a:t>
            </a: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 категор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Князева Любовь Анатольевн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8" name="Picture 2" descr="http://www.atlas-print.ru/production/Izobrazheniya_4/retro_1540_1070_2017_.jpg"/>
          <p:cNvPicPr/>
          <p:nvPr/>
        </p:nvPicPr>
        <p:blipFill>
          <a:blip r:embed="rId2"/>
          <a:stretch/>
        </p:blipFill>
        <p:spPr>
          <a:xfrm>
            <a:off x="284040" y="3962520"/>
            <a:ext cx="42260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Прямоугольник 1"/>
          <p:cNvSpPr/>
          <p:nvPr/>
        </p:nvSpPr>
        <p:spPr>
          <a:xfrm>
            <a:off x="70920" y="515880"/>
            <a:ext cx="117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Фердинандея (Юлия) — остров-призрак в Средиземном мор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7" name="Рисунок 84" descr="Фердинандея - остров-призрак в Средиземном море"/>
          <p:cNvPicPr/>
          <p:nvPr/>
        </p:nvPicPr>
        <p:blipFill>
          <a:blip r:embed="rId1"/>
          <a:stretch/>
        </p:blipFill>
        <p:spPr>
          <a:xfrm>
            <a:off x="5927760" y="1100160"/>
            <a:ext cx="5410080" cy="3348000"/>
          </a:xfrm>
          <a:prstGeom prst="rect">
            <a:avLst/>
          </a:prstGeom>
          <a:ln w="0">
            <a:noFill/>
          </a:ln>
        </p:spPr>
      </p:pic>
      <p:sp>
        <p:nvSpPr>
          <p:cNvPr id="958" name="Прямоугольник 3"/>
          <p:cNvSpPr/>
          <p:nvPr/>
        </p:nvSpPr>
        <p:spPr>
          <a:xfrm>
            <a:off x="351000" y="1138320"/>
            <a:ext cx="451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первые его появление было задокументировано во время Первой Пунической войны, в 3 веке до н.э., и с тех пор остров видели 4 или 5 раз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9" name="Прямоугольник 4"/>
          <p:cNvSpPr/>
          <p:nvPr/>
        </p:nvSpPr>
        <p:spPr>
          <a:xfrm>
            <a:off x="539640" y="2908440"/>
            <a:ext cx="438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831 г.  Новая территория оказалась очень выгодным местом и находилась в непосредственной близости от судовых путей Средиземноморь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0" name="Рисунок 87" descr="Фердинандея - остров-призрак в Средиземном море"/>
          <p:cNvPicPr/>
          <p:nvPr/>
        </p:nvPicPr>
        <p:blipFill>
          <a:blip r:embed="rId2"/>
          <a:stretch/>
        </p:blipFill>
        <p:spPr>
          <a:xfrm>
            <a:off x="593640" y="4200480"/>
            <a:ext cx="3551400" cy="2368440"/>
          </a:xfrm>
          <a:prstGeom prst="rect">
            <a:avLst/>
          </a:prstGeom>
          <a:ln w="0">
            <a:noFill/>
          </a:ln>
        </p:spPr>
      </p:pic>
      <p:sp>
        <p:nvSpPr>
          <p:cNvPr id="961" name="TextBox 7"/>
          <p:cNvSpPr/>
          <p:nvPr/>
        </p:nvSpPr>
        <p:spPr>
          <a:xfrm>
            <a:off x="5608800" y="5165640"/>
            <a:ext cx="50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рриториальные споры между Испанией, Великобританией, Италией и Франци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Рисунок 83" descr="Фердинандея - остров-призрак в Средиземном море"/>
          <p:cNvPicPr/>
          <p:nvPr/>
        </p:nvPicPr>
        <p:blipFill>
          <a:blip r:embed="rId1"/>
          <a:stretch/>
        </p:blipFill>
        <p:spPr>
          <a:xfrm>
            <a:off x="244440" y="361800"/>
            <a:ext cx="6095880" cy="3616560"/>
          </a:xfrm>
          <a:prstGeom prst="rect">
            <a:avLst/>
          </a:prstGeom>
          <a:ln w="0">
            <a:noFill/>
          </a:ln>
        </p:spPr>
      </p:pic>
      <p:sp>
        <p:nvSpPr>
          <p:cNvPr id="963" name="Прямоугольник 2"/>
          <p:cNvSpPr/>
          <p:nvPr/>
        </p:nvSpPr>
        <p:spPr>
          <a:xfrm>
            <a:off x="6507000" y="787320"/>
            <a:ext cx="489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1863 году, в результате новых извержений, Фердинандея снова ненадолго появилась, а затем отправилась обратно в океа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Прямоугольник 3"/>
          <p:cNvSpPr/>
          <p:nvPr/>
        </p:nvSpPr>
        <p:spPr>
          <a:xfrm>
            <a:off x="6537240" y="304308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тех пор остров Фердинандея или Грэм, как его назвали британцы, погружен на 8 метров ниже уровня мор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Прямоугольник 4"/>
          <p:cNvSpPr/>
          <p:nvPr/>
        </p:nvSpPr>
        <p:spPr>
          <a:xfrm>
            <a:off x="289080" y="4610160"/>
            <a:ext cx="669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2000 году возобновившаяся сейсмическая активность вокруг острова Грэм возобновилась. Исследователи полагают, что остров может снова подняться на поверхность и тогда территориальный конфликт начнется заново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2" descr="http://ours-nature.ru/new_site/img/1346893781/_33.jpg"/>
          <p:cNvPicPr/>
          <p:nvPr/>
        </p:nvPicPr>
        <p:blipFill>
          <a:blip r:embed="rId1"/>
          <a:stretch/>
        </p:blipFill>
        <p:spPr>
          <a:xfrm>
            <a:off x="952560" y="214200"/>
            <a:ext cx="7988400" cy="5166000"/>
          </a:xfrm>
          <a:prstGeom prst="rect">
            <a:avLst/>
          </a:prstGeom>
          <a:ln w="0">
            <a:noFill/>
          </a:ln>
        </p:spPr>
      </p:pic>
      <p:sp>
        <p:nvSpPr>
          <p:cNvPr id="967" name="Прямоугольник 2"/>
          <p:cNvSpPr/>
          <p:nvPr/>
        </p:nvSpPr>
        <p:spPr>
          <a:xfrm>
            <a:off x="1150920" y="57722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стров Иоанна Богослова в Беринговом мор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Прямоугольник 3"/>
          <p:cNvSpPr/>
          <p:nvPr/>
        </p:nvSpPr>
        <p:spPr>
          <a:xfrm>
            <a:off x="9156600" y="1239840"/>
            <a:ext cx="270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rebuchet MS"/>
              </a:rPr>
              <a:t>Впервые он был замечен в 1796 г, но вскоре из-за сильного прибоя исчез. После этого он неоднократно появлялся,  чтобы вновь исчезнут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Прямоугольник 1"/>
          <p:cNvSpPr/>
          <p:nvPr/>
        </p:nvSpPr>
        <p:spPr>
          <a:xfrm>
            <a:off x="757440" y="4255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шибки и заблуждения мореплавателе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0" name="Рисунок 42" descr="Южный берег острова Був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78840" y="365040"/>
            <a:ext cx="3830400" cy="2514600"/>
          </a:xfrm>
          <a:prstGeom prst="rect">
            <a:avLst/>
          </a:prstGeom>
          <a:ln w="0">
            <a:noFill/>
          </a:ln>
        </p:spPr>
      </p:pic>
      <p:sp>
        <p:nvSpPr>
          <p:cNvPr id="971" name="Прямоугольник 4"/>
          <p:cNvSpPr/>
          <p:nvPr/>
        </p:nvSpPr>
        <p:spPr>
          <a:xfrm>
            <a:off x="7391160" y="306072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Южный берег острова Був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2" name="Рисунок 47" descr="https://upload.wikimedia.org/wikipedia/commons/thumb/4/4a/Bouvet_Island_ISS017-E-16161_no_text.JPG/250px-Bouvet_Island_ISS017-E-16161_no_tex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3040" y="1692360"/>
            <a:ext cx="4098960" cy="3429000"/>
          </a:xfrm>
          <a:prstGeom prst="rect">
            <a:avLst/>
          </a:prstGeom>
          <a:ln w="0">
            <a:noFill/>
          </a:ln>
        </p:spPr>
      </p:pic>
      <p:sp>
        <p:nvSpPr>
          <p:cNvPr id="973" name="Rectangle 4"/>
          <p:cNvSpPr/>
          <p:nvPr/>
        </p:nvSpPr>
        <p:spPr>
          <a:xfrm>
            <a:off x="716040" y="5304240"/>
            <a:ext cx="33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ров Буве из космос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Прямоугольник 7"/>
          <p:cNvSpPr/>
          <p:nvPr/>
        </p:nvSpPr>
        <p:spPr>
          <a:xfrm>
            <a:off x="4876920" y="381492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зван по имени первооткрывателя, француза Ж.-Б. Буве де Лозье (1705—1786), обнаружившего остров 1 января 1739 года. Из-за тумана он принял остров за мыс, за которым простирается большая земля (естественно, он предположил, что это обозначавшаяся на географических картах того времени Неведомая Южная земля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5" name="TextBox 8"/>
          <p:cNvSpPr/>
          <p:nvPr/>
        </p:nvSpPr>
        <p:spPr>
          <a:xfrm>
            <a:off x="4671360" y="109692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rebuchet MS"/>
              </a:rPr>
              <a:t>Остров Був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Прямоугольник 1"/>
          <p:cNvSpPr/>
          <p:nvPr/>
        </p:nvSpPr>
        <p:spPr>
          <a:xfrm>
            <a:off x="411120" y="422280"/>
            <a:ext cx="77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1772 году Джеймс Кук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плыл в районе точки, указанной Буве, однако из-за допущенной тем ошибки не встретил суш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Прямоугольник 2"/>
          <p:cNvSpPr/>
          <p:nvPr/>
        </p:nvSpPr>
        <p:spPr>
          <a:xfrm>
            <a:off x="473040" y="177624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808 году Джеймс Линдсе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капитан китобойного судна назвал  «островом Линдсея»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Прямоугольник 3"/>
          <p:cNvSpPr/>
          <p:nvPr/>
        </p:nvSpPr>
        <p:spPr>
          <a:xfrm>
            <a:off x="625320" y="270684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0 декабр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825 года капитан Норрис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вершил первую общепризнанную высадку на острове, объявил его британским владением и назвал его «Ливерпульский остров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9" name="Прямоугольник 4"/>
          <p:cNvSpPr/>
          <p:nvPr/>
        </p:nvSpPr>
        <p:spPr>
          <a:xfrm>
            <a:off x="609480" y="4260960"/>
            <a:ext cx="609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927 году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— команда норвежского корабля «Норвегия» провела на нём примерно месяц. 1 декабря 1927 года руководитель экспедици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Ларс Кристенсен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ъявил остров норвежски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0" name="Рисунок 54" descr="Месторасположение острова Буве"/>
          <p:cNvPicPr/>
          <p:nvPr/>
        </p:nvPicPr>
        <p:blipFill>
          <a:blip r:embed="rId1"/>
          <a:stretch/>
        </p:blipFill>
        <p:spPr>
          <a:xfrm>
            <a:off x="6867360" y="1305000"/>
            <a:ext cx="43642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Box 1"/>
          <p:cNvSpPr/>
          <p:nvPr/>
        </p:nvSpPr>
        <p:spPr>
          <a:xfrm>
            <a:off x="990360" y="50328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rebuchet MS"/>
              </a:rPr>
              <a:t>Деятельность челове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Прямоугольник 2"/>
          <p:cNvSpPr/>
          <p:nvPr/>
        </p:nvSpPr>
        <p:spPr>
          <a:xfrm>
            <a:off x="669960" y="1044720"/>
            <a:ext cx="65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рал вот-вот пропадет не только с карт, но и с лица Земл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3" name="Рисунок 3" descr=""/>
          <p:cNvPicPr/>
          <p:nvPr/>
        </p:nvPicPr>
        <p:blipFill>
          <a:blip r:embed="rId1"/>
          <a:stretch/>
        </p:blipFill>
        <p:spPr>
          <a:xfrm>
            <a:off x="365040" y="1996920"/>
            <a:ext cx="5943600" cy="425160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5" descr="http://2.bp.blogspot.com/-yd9oLtpWZiQ/VCrUWB_VxZI/AAAAAAAAhiA/fr95edVKGR8/s1600/%D0%B7%D0%B0%D0%B9%D1%81%D0%B0%D0%BD.png"/>
          <p:cNvPicPr/>
          <p:nvPr/>
        </p:nvPicPr>
        <p:blipFill>
          <a:blip r:embed="rId2"/>
          <a:stretch/>
        </p:blipFill>
        <p:spPr>
          <a:xfrm>
            <a:off x="6599160" y="2987640"/>
            <a:ext cx="5227560" cy="3268800"/>
          </a:xfrm>
          <a:prstGeom prst="rect">
            <a:avLst/>
          </a:prstGeom>
          <a:ln w="0">
            <a:noFill/>
          </a:ln>
        </p:spPr>
      </p:pic>
      <p:sp>
        <p:nvSpPr>
          <p:cNvPr id="985" name="Rectangle 3"/>
          <p:cNvSpPr/>
          <p:nvPr/>
        </p:nvSpPr>
        <p:spPr>
          <a:xfrm>
            <a:off x="7040520" y="1620360"/>
            <a:ext cx="45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зеро Зайс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ое когда-то числилось среди крупных озёр нашей страны (СССР).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Прямоугольник 1"/>
          <p:cNvSpPr/>
          <p:nvPr/>
        </p:nvSpPr>
        <p:spPr>
          <a:xfrm>
            <a:off x="426960" y="588960"/>
            <a:ext cx="975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убань испокон веку текла в Черное море. В Азовское, куда она впадает теперь, ее направили в 30-е годы XIX столе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7" name="Picture 1" descr="Дельта Кубани"/>
          <p:cNvPicPr/>
          <p:nvPr/>
        </p:nvPicPr>
        <p:blipFill>
          <a:blip r:embed="rId1"/>
          <a:stretch/>
        </p:blipFill>
        <p:spPr>
          <a:xfrm>
            <a:off x="2651040" y="2050920"/>
            <a:ext cx="52736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2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89" name="Прямоугольник 6"/>
          <p:cNvSpPr/>
          <p:nvPr/>
        </p:nvSpPr>
        <p:spPr>
          <a:xfrm>
            <a:off x="1905120" y="285840"/>
            <a:ext cx="9429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бывают даже острова, которые могут начать исчезать с лица Земли в результате хозяйственной деятельности человека. Например,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ров Наур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0" name="Picture 4" descr="Остров Науру, фото"/>
          <p:cNvPicPr/>
          <p:nvPr/>
        </p:nvPicPr>
        <p:blipFill>
          <a:blip r:embed="rId2"/>
          <a:stretch/>
        </p:blipFill>
        <p:spPr>
          <a:xfrm>
            <a:off x="4327560" y="1947960"/>
            <a:ext cx="3217680" cy="2928960"/>
          </a:xfrm>
          <a:prstGeom prst="rect">
            <a:avLst/>
          </a:prstGeom>
          <a:ln w="0">
            <a:noFill/>
          </a:ln>
        </p:spPr>
      </p:pic>
      <p:pic>
        <p:nvPicPr>
          <p:cNvPr id="991" name="Рисунок 7" descr="http://2.bp.blogspot.com/-BTU3VDOO5OI/VCrcSF7mfOI/AAAAAAAAhiU/GjzOp4Ygt3c/s1600/%D0%BD%D0%B0%D1%83%D1%80%D1%83%2B3.jpg"/>
          <p:cNvPicPr/>
          <p:nvPr/>
        </p:nvPicPr>
        <p:blipFill>
          <a:blip r:embed="rId3"/>
          <a:stretch/>
        </p:blipFill>
        <p:spPr>
          <a:xfrm>
            <a:off x="217440" y="1770120"/>
            <a:ext cx="3257640" cy="4111560"/>
          </a:xfrm>
          <a:prstGeom prst="rect">
            <a:avLst/>
          </a:prstGeom>
          <a:ln w="0">
            <a:noFill/>
          </a:ln>
        </p:spPr>
      </p:pic>
      <p:pic>
        <p:nvPicPr>
          <p:cNvPr id="992" name="Рисунок 8" descr="http://2.bp.blogspot.com/-RRRoSruOoRc/VCrcipTR3WI/AAAAAAAAhig/ZK0rH_0ELkM/s1600/%D0%BD%D0%B0%D1%83%D1%80%D1%832.jpg"/>
          <p:cNvPicPr/>
          <p:nvPr/>
        </p:nvPicPr>
        <p:blipFill>
          <a:blip r:embed="rId4"/>
          <a:stretch/>
        </p:blipFill>
        <p:spPr>
          <a:xfrm>
            <a:off x="8823240" y="1844640"/>
            <a:ext cx="3143160" cy="4000680"/>
          </a:xfrm>
          <a:prstGeom prst="rect">
            <a:avLst/>
          </a:prstGeom>
          <a:ln w="0">
            <a:noFill/>
          </a:ln>
        </p:spPr>
      </p:pic>
      <p:sp>
        <p:nvSpPr>
          <p:cNvPr id="993" name="TextBox 9"/>
          <p:cNvSpPr/>
          <p:nvPr/>
        </p:nvSpPr>
        <p:spPr>
          <a:xfrm>
            <a:off x="8393400" y="610560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ландшафты Наур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Прямоугольник 10"/>
          <p:cNvSpPr/>
          <p:nvPr/>
        </p:nvSpPr>
        <p:spPr>
          <a:xfrm>
            <a:off x="3687840" y="5208480"/>
            <a:ext cx="4282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1900 года, когда начали добывать фосфориты, Науру "стал легче" почти на 50 млн. 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7" descr="yap_location_map_oceania"/>
          <p:cNvPicPr/>
          <p:nvPr/>
        </p:nvPicPr>
        <p:blipFill>
          <a:blip r:embed="rId2"/>
          <a:stretch/>
        </p:blipFill>
        <p:spPr>
          <a:xfrm>
            <a:off x="406440" y="990720"/>
            <a:ext cx="11379240" cy="5217840"/>
          </a:xfrm>
          <a:prstGeom prst="rect">
            <a:avLst/>
          </a:prstGeom>
          <a:ln w="0">
            <a:noFill/>
          </a:ln>
        </p:spPr>
      </p:pic>
      <p:sp>
        <p:nvSpPr>
          <p:cNvPr id="997" name="Заголовок 4"/>
          <p:cNvSpPr/>
          <p:nvPr/>
        </p:nvSpPr>
        <p:spPr>
          <a:xfrm>
            <a:off x="857160" y="214200"/>
            <a:ext cx="1097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 американцы превратили райский остров в ядерную пустын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Стрелка вправо 5"/>
          <p:cNvSpPr/>
          <p:nvPr/>
        </p:nvSpPr>
        <p:spPr>
          <a:xfrm flipH="1">
            <a:off x="5047560" y="1500120"/>
            <a:ext cx="5429160" cy="8571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аршалловы остров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9" name="Прямоугольник 6"/>
          <p:cNvSpPr/>
          <p:nvPr/>
        </p:nvSpPr>
        <p:spPr>
          <a:xfrm>
            <a:off x="3946680" y="4656240"/>
            <a:ext cx="7662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 полигонах на атоллах Бикини и Эниветок Соединенные Штаты произвели в период с 1946 по 1958 год 67 ядерных испытаний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6" descr=""/>
          <p:cNvPicPr/>
          <p:nvPr/>
        </p:nvPicPr>
        <p:blipFill>
          <a:blip r:embed="rId1"/>
          <a:stretch/>
        </p:blipFill>
        <p:spPr>
          <a:xfrm>
            <a:off x="380880" y="1785960"/>
            <a:ext cx="7196400" cy="4714920"/>
          </a:xfrm>
          <a:prstGeom prst="rect">
            <a:avLst/>
          </a:prstGeom>
          <a:ln w="0">
            <a:noFill/>
          </a:ln>
        </p:spPr>
      </p:pic>
      <p:sp>
        <p:nvSpPr>
          <p:cNvPr id="1001" name="Rectangle 1"/>
          <p:cNvSpPr/>
          <p:nvPr/>
        </p:nvSpPr>
        <p:spPr>
          <a:xfrm>
            <a:off x="380880" y="217800"/>
            <a:ext cx="115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entury Gothic"/>
                <a:ea typeface="Calibri"/>
              </a:rPr>
              <a:t>Один из красивейших уголков Земли был уничтожен после многократных взрывов атомных бом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2" name="Picture 10" descr="Cultural"/>
          <p:cNvPicPr/>
          <p:nvPr/>
        </p:nvPicPr>
        <p:blipFill>
          <a:blip r:embed="rId2"/>
          <a:stretch/>
        </p:blipFill>
        <p:spPr>
          <a:xfrm>
            <a:off x="7905600" y="1714680"/>
            <a:ext cx="397512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17680" y="566640"/>
            <a:ext cx="859608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Актуальность темы работ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20" name="Picture 86" descr="http://gif.vukogurt.ru/images/lica/67.gif"/>
          <p:cNvPicPr/>
          <p:nvPr/>
        </p:nvPicPr>
        <p:blipFill>
          <a:blip r:embed="rId1"/>
          <a:stretch/>
        </p:blipFill>
        <p:spPr>
          <a:xfrm>
            <a:off x="8185320" y="314280"/>
            <a:ext cx="2336760" cy="196380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1"/>
          <p:cNvSpPr/>
          <p:nvPr/>
        </p:nvSpPr>
        <p:spPr>
          <a:xfrm>
            <a:off x="595440" y="1622160"/>
            <a:ext cx="8404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 темы моей работы определяется тем, что в настоящее время не стоит думать, будто в ходе изучения тайн земли происходят только открытия. Достаточно часто случаются, и географические "закрытия", что тоже является своего рода достижением для наук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2" name="Picture 2" descr="http://otvet.imgsmail.ru/download/d7e3a86276eba1945f3eb933fd479d3c_i-6189.jpg"/>
          <p:cNvPicPr/>
          <p:nvPr/>
        </p:nvPicPr>
        <p:blipFill>
          <a:blip r:embed="rId2"/>
          <a:stretch/>
        </p:blipFill>
        <p:spPr>
          <a:xfrm>
            <a:off x="8651880" y="4702320"/>
            <a:ext cx="3294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2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04" name="Rectangle 3"/>
          <p:cNvSpPr/>
          <p:nvPr/>
        </p:nvSpPr>
        <p:spPr>
          <a:xfrm>
            <a:off x="1050840" y="235800"/>
            <a:ext cx="10668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54 году при испытании водородной бомбы ученые не рассчитали мощность заряда. Взрыв получился в три раза мощнее, чем предполагалось. В результате с лица земли навсегда исчезли три небольших острова, а в лагуне образовался кратер диаметром более трех километр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5" name="Picture 2" descr="Кратер, образовавшийся после взрыва"/>
          <p:cNvPicPr/>
          <p:nvPr/>
        </p:nvPicPr>
        <p:blipFill>
          <a:blip r:embed="rId2"/>
          <a:stretch/>
        </p:blipFill>
        <p:spPr>
          <a:xfrm>
            <a:off x="1173240" y="2000160"/>
            <a:ext cx="6732360" cy="4583160"/>
          </a:xfrm>
          <a:prstGeom prst="rect">
            <a:avLst/>
          </a:prstGeom>
          <a:ln w="0">
            <a:noFill/>
          </a:ln>
        </p:spPr>
      </p:pic>
      <p:sp>
        <p:nvSpPr>
          <p:cNvPr id="1006" name="Прямоугольник 11"/>
          <p:cNvSpPr/>
          <p:nvPr/>
        </p:nvSpPr>
        <p:spPr>
          <a:xfrm flipV="1" rot="10800000">
            <a:off x="8572680" y="3355920"/>
            <a:ext cx="302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ратер, образовавшийся после взры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6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2" descr="0_c7fa5_5e66df0f_orig"/>
          <p:cNvPicPr/>
          <p:nvPr/>
        </p:nvPicPr>
        <p:blipFill>
          <a:blip r:embed="rId2"/>
          <a:stretch/>
        </p:blipFill>
        <p:spPr>
          <a:xfrm>
            <a:off x="3246480" y="1928880"/>
            <a:ext cx="6183360" cy="4548240"/>
          </a:xfrm>
          <a:prstGeom prst="rect">
            <a:avLst/>
          </a:prstGeom>
          <a:ln w="0">
            <a:noFill/>
          </a:ln>
        </p:spPr>
      </p:pic>
      <p:sp>
        <p:nvSpPr>
          <p:cNvPr id="1009" name="Rectangle 3"/>
          <p:cNvSpPr/>
          <p:nvPr/>
        </p:nvSpPr>
        <p:spPr>
          <a:xfrm>
            <a:off x="2095560" y="359280"/>
            <a:ext cx="97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 вы думаете, что это ? Может быть летающая тарелка приземлилась ? Или ее откопали с древних времен 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6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Прямоугольник 8"/>
          <p:cNvSpPr/>
          <p:nvPr/>
        </p:nvSpPr>
        <p:spPr>
          <a:xfrm>
            <a:off x="6645240" y="1090440"/>
            <a:ext cx="47624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олл Эниветок — большой коралловый атолл из 40 островов в Тихом океане, расположенный в 305 километрах к западу от Атолла Бикини. Он был главным испытательным стендом для ядерного оружия после Второй мировой войн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2" name="Rectangle 1"/>
          <p:cNvSpPr/>
          <p:nvPr/>
        </p:nvSpPr>
        <p:spPr>
          <a:xfrm>
            <a:off x="1714680" y="481680"/>
            <a:ext cx="95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жду 1948 и 1958 атолл пережил 43 взрыва, включая первое испытание водородной бомбы в конце 1952 в ходе которой полностью исчез с лица Земли островок Елугелаб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13" name="Picture 2" descr="http://c8.alamy.com/comp/G1DMYK/photographic-print-of-an-atomic-bomb-at-bikini-atoll-in-micronesia-G1DMYK.jpg"/>
          <p:cNvPicPr/>
          <p:nvPr/>
        </p:nvPicPr>
        <p:blipFill>
          <a:blip r:embed="rId2"/>
          <a:stretch/>
        </p:blipFill>
        <p:spPr>
          <a:xfrm>
            <a:off x="571680" y="1928880"/>
            <a:ext cx="5619600" cy="45720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4" descr="Marshall_Islands_nuclear600_6"/>
          <p:cNvPicPr/>
          <p:nvPr/>
        </p:nvPicPr>
        <p:blipFill>
          <a:blip r:embed="rId3"/>
          <a:stretch/>
        </p:blipFill>
        <p:spPr>
          <a:xfrm>
            <a:off x="6540480" y="4313160"/>
            <a:ext cx="3362400" cy="2241720"/>
          </a:xfrm>
          <a:prstGeom prst="rect">
            <a:avLst/>
          </a:prstGeom>
          <a:ln w="0">
            <a:noFill/>
          </a:ln>
        </p:spPr>
      </p:pic>
      <p:sp>
        <p:nvSpPr>
          <p:cNvPr id="1015" name="Rectangle 2"/>
          <p:cNvSpPr/>
          <p:nvPr/>
        </p:nvSpPr>
        <p:spPr>
          <a:xfrm>
            <a:off x="10058400" y="4899600"/>
            <a:ext cx="19209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114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упол Рунит – радиоктивное мусорное ведр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Прямоугольник 1"/>
          <p:cNvSpPr/>
          <p:nvPr/>
        </p:nvSpPr>
        <p:spPr>
          <a:xfrm>
            <a:off x="816840" y="28728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Выводы моего исследования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Прямоугольник 2"/>
          <p:cNvSpPr/>
          <p:nvPr/>
        </p:nvSpPr>
        <p:spPr>
          <a:xfrm>
            <a:off x="685800" y="887400"/>
            <a:ext cx="9190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анализировав всё вышесказанное, можно сделать вывод: географические «закрытия» существуют. А следовательно, моя гипотеза не подтвердилас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Я установил причины этих изменений: природные силы, хозяйственная деятельность человека, социальный фактор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ти изменения всегда будут отражаться на географических карта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анная работа может быть интересна на уроках географии и окружающего мира в начальной школ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2" descr="https://meshok.net/pics/cache/30859689.208x208.jpg?39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4"/>
          <p:cNvSpPr/>
          <p:nvPr/>
        </p:nvSpPr>
        <p:spPr>
          <a:xfrm>
            <a:off x="1047600" y="4714920"/>
            <a:ext cx="1019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рядет ли эпоха Великих географических закрыти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2" name="Прямоугольник 5"/>
          <p:cNvSpPr/>
          <p:nvPr/>
        </p:nvSpPr>
        <p:spPr>
          <a:xfrm>
            <a:off x="666720" y="714240"/>
            <a:ext cx="1095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Географические «закрытия» существуют. Мир изменчив. И кто знает, как будет выглядеть наша планета тысяч через сто ле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rebuchet MS"/>
              </a:rPr>
              <a:t>Литература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Прямоугольник 3"/>
          <p:cNvSpPr/>
          <p:nvPr/>
        </p:nvSpPr>
        <p:spPr>
          <a:xfrm>
            <a:off x="762120" y="1276200"/>
            <a:ext cx="888516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И.П.Магидович, В.И. Магидович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черки из истории географических открытий. Том 5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сква, «Просвещение»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Поедешь с нами? Сборник стат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сква, «Детская литература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Н.А.Максим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 страницами учебника географи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сква, «Просвещение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Ю.П.Пармузин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ивая географ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сква, «Просвещение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Прямоугольник 4"/>
          <p:cNvSpPr/>
          <p:nvPr/>
        </p:nvSpPr>
        <p:spPr>
          <a:xfrm>
            <a:off x="983520" y="394488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rebuchet MS"/>
              </a:rPr>
              <a:t>Интернет-ресурс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6" name="Прямоугольник 5"/>
          <p:cNvSpPr/>
          <p:nvPr/>
        </p:nvSpPr>
        <p:spPr>
          <a:xfrm>
            <a:off x="2498760" y="46386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ttp://www.bibliotekar.ru/geografiya/7.ht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ttp://geoo.ucoz.kz/publ/geograficheskie_zakrytija/1-1-0-26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ttp://www.vokrugsveta.ru/vs/article/4778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ttp://orav.ws/news/world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317520" y="711000"/>
            <a:ext cx="984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Цель: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выявить существуют ли географические закрыт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Задачи</a:t>
            </a: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:</a:t>
            </a:r>
            <a:br>
              <a:rPr sz="2400"/>
            </a:b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1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Проанализировать литературные источники по данному вопросу.</a:t>
            </a:r>
            <a:br>
              <a:rPr sz="2400"/>
            </a:b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2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Найти нужную информацию в сети Интерне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3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Установить исчезнувшие географические объекты, путём сравнения географических карт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   </a:t>
            </a: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4.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делать выво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24" name="Рисунок 2" descr="http://1.bp.blogspot.com/-A8kdCz4KQ2I/VCrL__wCwAI/AAAAAAAAhhI/pBTF9CXSSTs/s1600/1.jpg"/>
          <p:cNvPicPr/>
          <p:nvPr/>
        </p:nvPicPr>
        <p:blipFill>
          <a:blip r:embed="rId1"/>
          <a:stretch/>
        </p:blipFill>
        <p:spPr>
          <a:xfrm>
            <a:off x="7184880" y="3746520"/>
            <a:ext cx="4550040" cy="2922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86" descr="http://gif.vukogurt.ru/images/lica/67.gif"/>
          <p:cNvPicPr/>
          <p:nvPr/>
        </p:nvPicPr>
        <p:blipFill>
          <a:blip r:embed="rId2"/>
          <a:stretch/>
        </p:blipFill>
        <p:spPr>
          <a:xfrm>
            <a:off x="9968040" y="235080"/>
            <a:ext cx="18889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74840" y="363600"/>
            <a:ext cx="894528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Гипотеза</a:t>
            </a: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Если что-то когда-то в мире было открыто (найдено), то закрыть это нельзя»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7" name="TextBox 3"/>
          <p:cNvSpPr/>
          <p:nvPr/>
        </p:nvSpPr>
        <p:spPr>
          <a:xfrm>
            <a:off x="5623920" y="3913200"/>
            <a:ext cx="5401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rebuchet MS"/>
              </a:rPr>
              <a:t>Методы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аналитически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синтез полученной информаци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ртографический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сравн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8" name="Picture 86" descr="http://gif.vukogurt.ru/images/lica/67.gif"/>
          <p:cNvPicPr/>
          <p:nvPr/>
        </p:nvPicPr>
        <p:blipFill>
          <a:blip r:embed="rId1"/>
          <a:stretch/>
        </p:blipFill>
        <p:spPr>
          <a:xfrm>
            <a:off x="9855360" y="290520"/>
            <a:ext cx="2336760" cy="1963800"/>
          </a:xfrm>
          <a:prstGeom prst="rect">
            <a:avLst/>
          </a:prstGeom>
          <a:ln w="0">
            <a:noFill/>
          </a:ln>
        </p:spPr>
      </p:pic>
      <p:sp>
        <p:nvSpPr>
          <p:cNvPr id="929" name="Прямоугольник 5"/>
          <p:cNvSpPr/>
          <p:nvPr/>
        </p:nvSpPr>
        <p:spPr>
          <a:xfrm>
            <a:off x="534240" y="15746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ие объект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Прямоугольник 6"/>
          <p:cNvSpPr/>
          <p:nvPr/>
        </p:nvSpPr>
        <p:spPr>
          <a:xfrm>
            <a:off x="479520" y="2487600"/>
            <a:ext cx="74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чезнувшие географические объекты с лика Земли и причины спровоцировавшие этот процесс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1" name="Picture 2" descr="https://meshok.net/pics/cache/30859689.208x208.jpg?39"/>
          <p:cNvPicPr/>
          <p:nvPr/>
        </p:nvPicPr>
        <p:blipFill>
          <a:blip r:embed="rId2"/>
          <a:stretch/>
        </p:blipFill>
        <p:spPr>
          <a:xfrm>
            <a:off x="522360" y="3759120"/>
            <a:ext cx="4122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Рисунок 2" descr="Географическое « закрытие» – ситуация в географии, когда тот или иной геогр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58520" y="225360"/>
            <a:ext cx="2172960" cy="1768680"/>
          </a:xfrm>
          <a:prstGeom prst="rect">
            <a:avLst/>
          </a:prstGeom>
          <a:ln w="0">
            <a:noFill/>
          </a:ln>
        </p:spPr>
      </p:pic>
      <p:sp>
        <p:nvSpPr>
          <p:cNvPr id="933" name="TextBox 3"/>
          <p:cNvSpPr/>
          <p:nvPr/>
        </p:nvSpPr>
        <p:spPr>
          <a:xfrm>
            <a:off x="765000" y="371520"/>
            <a:ext cx="8813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rebuchet MS"/>
              </a:rPr>
              <a:t>Географическое «закрытие»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ситуация в географии, когда  тот или иной географический объект перестаёт существоват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4" name="Схема 6" descr=""/>
          <p:cNvPicPr/>
          <p:nvPr/>
        </p:nvPicPr>
        <p:blipFill>
          <a:blip r:embed="rId3"/>
          <a:stretch/>
        </p:blipFill>
        <p:spPr>
          <a:xfrm>
            <a:off x="878040" y="1805040"/>
            <a:ext cx="8053200" cy="42242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2" descr="Загадки истории: откуда на карте XVI века берега Антарктиды, открытой в 1820 году"/>
          <p:cNvPicPr/>
          <p:nvPr/>
        </p:nvPicPr>
        <p:blipFill>
          <a:blip r:embed="rId4"/>
          <a:stretch/>
        </p:blipFill>
        <p:spPr>
          <a:xfrm>
            <a:off x="9072720" y="4502160"/>
            <a:ext cx="273816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http://bse.uaio.ru/DE/99/011304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37" name="Заголовок 1"/>
          <p:cNvSpPr/>
          <p:nvPr/>
        </p:nvSpPr>
        <p:spPr>
          <a:xfrm>
            <a:off x="314280" y="318960"/>
            <a:ext cx="11499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Географические закрытия природного характер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Прямоугольник 5"/>
          <p:cNvSpPr/>
          <p:nvPr/>
        </p:nvSpPr>
        <p:spPr>
          <a:xfrm>
            <a:off x="727200" y="3262320"/>
            <a:ext cx="1107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корее  всего, наибольшим количеством географических "закрытий" знамениты берега Антарктид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Прямоугольник 1"/>
          <p:cNvSpPr/>
          <p:nvPr/>
        </p:nvSpPr>
        <p:spPr>
          <a:xfrm>
            <a:off x="380880" y="28584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Calibri"/>
              </a:rPr>
              <a:t>Если  бы Р. Амундсен в наши дни снова высадился на берегу Антарктиды, он бы просто не нашел знаменитой Китовой бухт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Calibri"/>
              </a:rPr>
              <a:t>Как оказалось, эта часть берега вместе с огромным айсбергом отплыла на север еще в далеком 1940 г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0" name="Picture 2" descr="http://meridian12.ru/wp-content/uploads/karta-An.-1024x707.jpg"/>
          <p:cNvPicPr/>
          <p:nvPr/>
        </p:nvPicPr>
        <p:blipFill>
          <a:blip r:embed="rId1"/>
          <a:stretch/>
        </p:blipFill>
        <p:spPr>
          <a:xfrm>
            <a:off x="6188040" y="714240"/>
            <a:ext cx="5718240" cy="5286600"/>
          </a:xfrm>
          <a:prstGeom prst="rect">
            <a:avLst/>
          </a:prstGeom>
          <a:ln w="0">
            <a:noFill/>
          </a:ln>
        </p:spPr>
      </p:pic>
      <p:sp>
        <p:nvSpPr>
          <p:cNvPr id="941" name="Стрелка вправо 3"/>
          <p:cNvSpPr/>
          <p:nvPr/>
        </p:nvSpPr>
        <p:spPr>
          <a:xfrm rot="6989400">
            <a:off x="9653760" y="1391400"/>
            <a:ext cx="928800" cy="2854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2" name="Picture 2" descr="Файл:Antarctic expedition map (Nimrod)-ru.svg"/>
          <p:cNvPicPr/>
          <p:nvPr/>
        </p:nvPicPr>
        <p:blipFill>
          <a:blip r:embed="rId2"/>
          <a:stretch/>
        </p:blipFill>
        <p:spPr>
          <a:xfrm>
            <a:off x="396720" y="258840"/>
            <a:ext cx="5470560" cy="6264360"/>
          </a:xfrm>
          <a:prstGeom prst="rect">
            <a:avLst/>
          </a:prstGeom>
          <a:ln w="0">
            <a:noFill/>
          </a:ln>
        </p:spPr>
      </p:pic>
      <p:sp>
        <p:nvSpPr>
          <p:cNvPr id="943" name="5-конечная звезда 5"/>
          <p:cNvSpPr/>
          <p:nvPr/>
        </p:nvSpPr>
        <p:spPr>
          <a:xfrm>
            <a:off x="3355920" y="2637000"/>
            <a:ext cx="357120" cy="27144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9" descr="Рисунок5"/>
          <p:cNvPicPr/>
          <p:nvPr/>
        </p:nvPicPr>
        <p:blipFill>
          <a:blip r:embed="rId1"/>
          <a:stretch/>
        </p:blipFill>
        <p:spPr>
          <a:xfrm>
            <a:off x="8112240" y="382680"/>
            <a:ext cx="3363840" cy="2871720"/>
          </a:xfrm>
          <a:prstGeom prst="rect">
            <a:avLst/>
          </a:prstGeom>
          <a:ln w="0">
            <a:noFill/>
          </a:ln>
        </p:spPr>
      </p:pic>
      <p:sp>
        <p:nvSpPr>
          <p:cNvPr id="945" name="Прямоугольник 4"/>
          <p:cNvSpPr/>
          <p:nvPr/>
        </p:nvSpPr>
        <p:spPr>
          <a:xfrm>
            <a:off x="212760" y="1017720"/>
            <a:ext cx="5975280" cy="18003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хты Эванса, Торехавн и Инграм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ивы Прюдс и Маккензи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остров Челюскинце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Прямоугольник 6"/>
          <p:cNvSpPr/>
          <p:nvPr/>
        </p:nvSpPr>
        <p:spPr>
          <a:xfrm>
            <a:off x="5029200" y="3624120"/>
            <a:ext cx="6934320" cy="22269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акже в 1959 г. русскими учеными были "закрыты" острова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уэйнс-Айленд и Мейсис-Айленд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улкан Сьоволд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TextBox 9"/>
          <p:cNvSpPr/>
          <p:nvPr/>
        </p:nvSpPr>
        <p:spPr>
          <a:xfrm>
            <a:off x="704880" y="42696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rebuchet MS"/>
              </a:rPr>
              <a:t>Исчезнувшие географические объект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8" name="Рисунок 7" descr="антарктида"/>
          <p:cNvPicPr/>
          <p:nvPr/>
        </p:nvPicPr>
        <p:blipFill>
          <a:blip r:embed="rId2"/>
          <a:stretch/>
        </p:blipFill>
        <p:spPr>
          <a:xfrm>
            <a:off x="304920" y="3017880"/>
            <a:ext cx="4251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http://meridian12.ru/wp-content/uploads/karta-An.-1024x707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50" name="5-конечная звезда 2"/>
          <p:cNvSpPr/>
          <p:nvPr/>
        </p:nvSpPr>
        <p:spPr>
          <a:xfrm>
            <a:off x="5334120" y="4857840"/>
            <a:ext cx="476280" cy="35712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5-конечная звезда 3"/>
          <p:cNvSpPr/>
          <p:nvPr/>
        </p:nvSpPr>
        <p:spPr>
          <a:xfrm>
            <a:off x="7810560" y="1071720"/>
            <a:ext cx="476280" cy="35712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TextBox 4"/>
          <p:cNvSpPr/>
          <p:nvPr/>
        </p:nvSpPr>
        <p:spPr>
          <a:xfrm>
            <a:off x="8477280" y="100008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ahoma"/>
              </a:rPr>
              <a:t>Затока Прюдс на месте залива Прюд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7-конечная звезда 5"/>
          <p:cNvSpPr/>
          <p:nvPr/>
        </p:nvSpPr>
        <p:spPr>
          <a:xfrm>
            <a:off x="5334120" y="3929040"/>
            <a:ext cx="571320" cy="42876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7-конечная звезда 6"/>
          <p:cNvSpPr/>
          <p:nvPr/>
        </p:nvSpPr>
        <p:spPr>
          <a:xfrm>
            <a:off x="7810560" y="2071800"/>
            <a:ext cx="571320" cy="42840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TextBox 7"/>
          <p:cNvSpPr/>
          <p:nvPr/>
        </p:nvSpPr>
        <p:spPr>
          <a:xfrm>
            <a:off x="8572680" y="1928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Исчезнувший мыс Эймер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9T11:14:19Z</dcterms:created>
  <dc:creator>User</dc:creator>
  <dc:description/>
  <dc:language>en-US</dc:language>
  <cp:lastModifiedBy>luba</cp:lastModifiedBy>
  <dcterms:modified xsi:type="dcterms:W3CDTF">2019-03-03T03:32:45Z</dcterms:modified>
  <cp:revision>13</cp:revision>
  <dc:subject/>
  <dc:title>Презентация PowerPoint</dc:title>
</cp:coreProperties>
</file>