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23.png" ContentType="image/png"/>
  <Override PartName="/ppt/media/image13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10.jpeg" ContentType="image/jpeg"/>
  <Override PartName="/ppt/media/image29.jpeg" ContentType="image/jpeg"/>
  <Override PartName="/ppt/media/image12.png" ContentType="image/png"/>
  <Override PartName="/ppt/media/image20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31D-7425-401A-B4BC-3DA47264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58A-A045-41B2-BA1B-8F29A98A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08F673-87C0-42D7-9463-23B416D2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B8345D-BD4F-4260-ADCC-563ABDD1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467BC4-438C-4F17-9C41-9366C7DD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1A5B6E-E865-46AB-B717-6B4D0BF7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5DE0CC-25E0-4FE1-841F-C799D958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88F56A-9A92-40D3-B4D7-24335273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12099-29DB-4C23-8D2C-175EFB0B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62B120-ADC3-4252-BC42-081C342A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E1E751-68DA-425A-ABF1-FD6395BE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6FDC7-FFAB-486B-962C-D633E33FC6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B72-2449-4B01-8F94-B471F31D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42C9D-5006-4455-A55C-E40BC3DC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0C781-8744-426B-8E3E-6D803041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A4DE5-6124-41A6-828C-C5D46D6D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84B07-8BF5-4B47-8A2B-0F90C569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DB491-E6B7-4AE7-8158-B62444C1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C6E33-95B1-4D2C-B8DB-655E1686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B5D66-DA59-41CE-BD8F-BB2DFD0E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FC266-D4DC-4E7C-A13B-A41CF72B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608EB-E139-4409-87F3-9BB12B91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6CB8D-7983-4810-8E14-8629B435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4A6-5F2C-4B9E-B545-97FE3C0A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6C6C7-F50C-4FCB-ACF8-C8BD6F622A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6CFAC-00AB-46FD-B311-E1176E832E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FBEA9-8A0D-46CC-B300-B7079069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A28EC-2029-45FE-AF8F-CB538F86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66624-0FA2-42E4-88DF-9F5DC0E8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ADE60-CB15-4AD8-85C5-33801872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95FA7-CF7B-419E-9A70-586D38A0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50741-7FC4-48DC-9D92-51E20D62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CEC6D-FC9C-4154-AEB1-200D1F8C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FAA96-17F0-44B4-A645-9B8AF368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4BB9-36AF-4212-9503-C2EDD3A7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86843-B59A-42B8-9CAF-AF979520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0AF28-02C2-4655-878D-3DDE834E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07D16-DE8D-40C9-9A48-6B939C7078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141FAA-92AA-472C-A487-D1AB226F8A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DF6D6A-E021-45B2-A1E8-EBF4E809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457DBB-7B9F-40B7-A502-3D78C622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38FC67-2CD0-4257-8BBE-5B40E02A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A768D5-2396-4FC3-B4B2-3113A2C1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1821DD-7CCC-4247-BB91-A26730F5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833523-A362-4D69-AB2B-F426CB2A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B9A0-5207-43F0-990D-D9567E19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0EA94C-1547-47D6-958A-83D4F81E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F06BE8-7FFC-4039-B829-12194B93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D0BC4F-8BE5-452D-8870-FB0641C8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AB7B92-A7AC-4934-9FCC-ED6C1132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4D33BF-7075-4E2B-B3DF-E04959FDB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E8E7F-691C-4618-8999-337E02A547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C614A-BA20-43C2-93C7-1588197F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092F1-0801-4280-BDB5-F024942A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D0509-E5F4-40FB-8D30-74FAA2A0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E51FB-49D4-4E3C-A631-0F7C3FAF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A0F6-034F-4695-B2AE-FF3437ED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8B4D0-1A7E-458B-BCC3-4C71D258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9B51E-AE23-4DB6-8914-98B2012A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69DF5-AA84-4B4B-8737-3C5F687B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4301B-3762-4014-83DA-EC660808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7DC24-B0E1-41F7-9A37-D0F50DB0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945E5-B8AE-4DA0-BB96-508F1AFC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C6AE6-BFAD-4039-BA14-16852DD03B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C428E-ACDA-42B6-97C2-B9C128B948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6B435-CB6F-404E-9531-76BE35C4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A4599-D1D0-42AD-A950-7708C067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3410-F07F-4F81-A198-629774C2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1C69B-BE0D-43C1-A0B3-0FC40618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6E3EC-8260-4F18-B883-795801B2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21281-CBFA-470C-9971-99254868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B32F5-E64A-448F-B032-5B76F43F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A224C-D409-4724-909D-2012C09E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61AF2-D18F-4D5D-B697-DD38CEC7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B2152-8513-49EA-9316-15649171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461D8-43BE-49BE-B66E-F82304E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6D40B-0B68-41FB-95A1-7A1701CABA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133093-4C50-45E3-A9D6-4629F3F69C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F80C-D615-4CE5-A7E4-CA4D321E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75F841-3538-4D8C-BBAD-345DD337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1C94A9-E888-47EB-B7C9-DDFF72A5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147B33-1F0F-4945-ABAB-6426658F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42C36A-7A79-413B-B28A-90FD6FDD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19E11B-EBF6-405A-A246-8442D70C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941F67-B3CE-4E41-A96D-254DCCCB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AB6288-BA51-4C62-A08C-7562EAB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FD742D-5C04-4A22-993D-CD85B5EE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6176C7-58CF-45EC-9D6A-DDFD5DBD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5E0FA0-758A-4843-9E6B-91821471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B2E3-0DE3-4DF9-AA3B-B1A8226A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21A15A-D5A3-4563-81CE-3819812FDE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CE6B1E-2F54-4C17-8B77-5DBD567F94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6491D2-C567-4FA6-954C-442C5F9B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B08075-AC59-4309-9A6B-2208D0EB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90327A-12C1-4143-9D6D-A375C71F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0E6B4E-B8EF-493A-979C-0F21FC6A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18A445-D45B-4F36-AC5A-393BD9A6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892277-74E7-4FF1-A6CE-50C08F36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5176B0-6889-4F83-9D6B-5A85DF1E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30A100-8965-4562-94D4-A471705D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2160-B7D1-4EE5-B329-54FFBDCF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013C79-142C-4DCF-AD45-50F3782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A91F65-70BD-4F33-9AC4-3446CB18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3C77BB-5582-4986-A84D-2318CF42D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B844C-6115-451F-98D6-627793FCBB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7DA3E-DA80-4010-A3CE-00E2B267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3CB123-6D93-4458-8771-956B4D7B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46FB6-5A6C-4731-889F-F66DC01A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C289B-2EAC-4CBE-BED2-8440DC19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9E6A4-1D28-4069-8A36-C209BBB2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16B14-BBDF-415B-AB70-E4A4DA62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AA4-E603-4BC9-B153-5AE6F8C8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4DF0-B8B1-49F1-BE7B-01351F0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BD2AD-FCD7-4640-94C9-FF5614CA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B194C-041D-4AB8-9D74-F3E1B1F5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67839-BDD3-48DA-A40D-2CF1D42F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F8093-5DC2-4469-A077-ABD4888E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A4CF2-9D95-4FCE-BA85-55A430446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74D4D8-EEAC-47A6-92DE-678F76BA27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233125-50BB-4F81-AD68-CE8281D7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5F57AF-ECC2-457B-B93F-192B7BAA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E31731-4B5D-4470-A1DD-D043CF26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8B4575-A5D3-4A41-A443-A7D94B4F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474D-BFD6-495E-BC86-7804450F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11C3B3-8B83-4880-90ED-AE6801D8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07C2AB-B56D-4E53-90A2-1A0794CA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8E40AC-D099-4847-B497-41297F23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F2578E-0745-431E-8F7B-B5DEFB74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A2212A-A4C7-4589-A7C3-50AC1780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50C4A6-511B-4613-8D99-6CFE683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40F763-09BE-49CA-83A9-4AAB6F4886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DBC3BE-520C-4BDC-B61F-469EFCF00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3EB490-0CFF-4437-AFF6-76794761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6A2D4C-1423-479D-B6CC-8A6FA0DF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D1C3-1578-4643-BFD6-CE54114E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9BFD61-4763-42E2-8F17-6F80DD02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39955E-E41F-48DB-BEA0-30B02D04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D0C0BD-31E7-47EE-9F66-24D14E9D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33FB62-2031-4AE2-8DCE-2571A33D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17E8BF-F279-44E4-A91B-27B2098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F44548-A983-4D0F-BD3C-31A7A36D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AB252A6-CEBE-4864-BE17-D64BD0A9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BCF37D-8E41-4119-B912-BD11D9D8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27653C-6D35-4E8E-A335-FCFFE4D2BF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BA432-3769-4D9F-A8FC-EA4B6AD0E8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EE12-5813-46D5-82CB-7E7221C8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F1A18-6622-4D98-93F2-07AF724D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8A8DC-2706-422E-A335-DD427C2D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A77AA-67FF-460D-B69C-5803D6B2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D9D27-7906-4590-9C18-9E740021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453E5-6B74-4FD2-90AD-1FD70532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693BA-AD26-4A34-A89B-80167576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39FE3-EB8A-49DD-A3D3-4D0F702C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ACDC7-8D14-4844-889C-61B2643F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388BF-6EF6-4E71-9A54-BB906C1E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4D2EA-DB15-4B3E-BAB9-7436D3D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825E-9FCB-4346-8B59-3293C9B6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561FD-8790-4BF4-A0D6-A9DF5E68DA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AD1FD-A94A-46E8-9CF3-03DB53796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9EBAB-A4C2-486C-9667-C65E1AC4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8C3B8-6F62-4F1B-A82F-9BD0E989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84DB1-56D0-4D51-8A30-D2F38482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6BD83-3C0D-4B40-B421-8A2FEB48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543-666D-4D40-A335-6F694CC6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D1C2C-E45B-4821-84AA-DDB04AB1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9BDEF-C79E-4E70-B5BC-92153BF3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61B0E-039A-462F-ADBE-6A1D76D9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E224F-BE57-45BE-B4F7-EE719A09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73B5E-0966-4531-9E01-669E6093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06C11-645C-481C-AA4F-9A762BF3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F1E34-B950-4ADC-9BE1-6A5E36E58D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C8F3D-F420-4265-BC35-60F93253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44E00-F00F-4EF1-BE79-CA2D0EB7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3D490-4E73-4172-85D9-1523E92D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C9B-79C6-4EF3-AB49-F0AE7974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29FCF-E546-4426-8737-B53EDB2E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765BE-344A-47C1-ADDC-8D66E325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D7E51-32D3-467B-AA92-0A5F520C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845D8-A49F-42E1-A1FC-EFFC6EDD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71298-6BBC-4B64-8100-62C86AE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F9043-B513-4BBD-BDF0-5ED0DC9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6C319-35D4-4DE8-BE4B-FF6CDC04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ED1BE-C5B6-4784-B722-BBE67658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91373-56FF-45D1-8337-F2121F31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7DFA7-AE87-412D-BA13-446DF4B0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FED-67C1-4369-9AD7-C8FCA04A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0FF58-9826-4C42-8765-916727E4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E1760-88AE-459D-A8CE-72D59FCB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C7EB4-E681-4CBA-8F0E-BE448BAD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8F8AD-7B70-4705-8FF6-ABE42557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26E55-9ADD-4211-876A-FFD7BC3C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85463-5E45-4590-9F4B-F549CD50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2C4AF-701D-4C7D-A580-C7D94E4E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7BFFB-931F-4417-8927-8417CBD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D9564-62A5-4151-ABEC-156F557D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80699-6213-4881-9315-A65E20FD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E3A-D371-4319-867A-F3434948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75FA0-F167-4B35-822D-67368137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DE5D9-C053-4859-B152-D529C504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076CA-F94B-4C42-91AE-5A4B5009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72548-F65D-4583-BF52-B293F861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67B84-6344-401F-BBD6-ACA34288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5A894-F9A9-413A-BBCE-811CEE25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76982-2EF7-4F18-ADE4-CB404313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7BB84-744B-4A99-9F65-560BAD00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31C59-B640-4CF6-BC11-05B6799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D8428-77C5-43D8-9880-128DFD96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24B-B43F-4A57-A5EA-63447E06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17A9B-E06A-45C2-A885-88852C5A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03ED0-8793-4F56-862A-651587CF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DA7FB-A62F-4A04-AD02-1B40A325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F5A05-2823-4A34-ADA1-168EEF2A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53D24-94AF-438D-9976-496719C8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D6493-1D4A-4721-A751-EF58055A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8658A3-08A4-4A9E-AE55-EFA26839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175518-776A-4634-8788-7B7F4D4D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316E7-A8E3-4581-92CE-456D61C5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13962-AB97-4B41-B2DE-B4CDAECD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3E0-C752-4329-AD0B-84844990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C2751-0F59-40D6-98EA-02BDFEF9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019A1-9A2C-4CDC-9825-DB96CCFD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4C443-B994-4255-B3B1-23B833C3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2A71D-3684-4396-B758-0026C027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013F0-FD04-4BC9-B0E8-E806AF03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B11A5C-02D5-4168-B21F-B2C739EC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75DC88-96E9-4669-870E-B527B8E2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03595-CD9B-4B0A-B88D-689B2E17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7FF944-8F60-4AEB-8F46-B383C6E9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2742A5-C9B6-43C8-8A43-8B949498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B3A-8EC1-4A2E-9567-2B23384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C78963-A481-406A-8D26-7FE4D663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B7C323-464E-4944-B11F-413F8B85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A9D765-8799-4EFA-A60A-C41887BC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C4C642-CB76-417B-AC72-0F98F810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93C101-C54F-43AB-8A93-A3BA08BC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26FBD-4656-4491-9496-0AD2B6EC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0D656-C6A7-4EF2-BEBE-AF1CD775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CB872A-16B2-43D3-8F6D-41F0CC38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F5291A-667B-4CA3-8FE7-23B4CB99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251350-3165-4AF7-9780-B2085450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0C929-878F-4269-8859-54B3046F661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7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28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CC443-99CF-4EA4-B1A0-3026E191D0BE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9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30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73E31-6581-4631-9610-68955F5633AB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1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32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DB273-9C77-4B67-ADAF-103FCB855DD4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3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34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3424A-61AD-4512-8F39-ED56994D41EA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35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sldNum" idx="36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0ED1A-AF8E-4EFD-AB9F-4D87EF9B7D4D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7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sldNum" idx="38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90739-F938-419B-8979-235650C0AF90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39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sldNum" idx="40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52204-AD32-4371-9CBE-52D84D80C613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1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2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6A1C9-9376-43F8-9384-DE703699F09C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4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43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sldNum" idx="44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4AC92-672E-48D3-A5DD-C5218A7D890E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45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46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8E9E2-5504-47B4-9BEC-D60272542C5F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BE9C5-0D77-4768-B9E3-BEA5FEAFE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2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3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4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47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sldNum" idx="48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19F37-70CA-476F-942C-A2ADD8A7E828}" type="slidenum">
              <a:rPr b="0" lang="ru-RU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7920" y="14400"/>
            <a:ext cx="1217628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Line 2"/>
          <p:cNvSpPr/>
          <p:nvPr/>
        </p:nvSpPr>
        <p:spPr>
          <a:xfrm>
            <a:off x="0" y="6480"/>
            <a:ext cx="1218420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Line 3"/>
          <p:cNvSpPr/>
          <p:nvPr/>
        </p:nvSpPr>
        <p:spPr>
          <a:xfrm flipH="1">
            <a:off x="8615160" y="4948200"/>
            <a:ext cx="358452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-41400"/>
            <a:ext cx="10961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120" y="1882800"/>
            <a:ext cx="10961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387840" y="6408360"/>
            <a:ext cx="28335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09480" y="6415200"/>
            <a:ext cx="56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10120320" y="6408360"/>
            <a:ext cx="660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B0224-1142-4CC6-B267-9785CD21E10C}" type="slidenum"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88D5E-3FDF-4E1E-A7E3-FA012A018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231B3-CAB8-4BEF-B2FC-E61F8EA0D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20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6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7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5973B-1C36-445A-B1EB-17288125844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72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8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9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0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28B58-E00D-4593-87D8-200591B1881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326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7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8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9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0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1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2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3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4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5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407FD-85C2-4436-B542-F31E02A9C9B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380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1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2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3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4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5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6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7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8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9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BEDA7-3F11-4307-9410-9C11CB99B6E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Bouvet_island_0.jpg?uselang=ru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s://commons.wikimedia.org/wiki/File:Bouvet_Island_ISS017-E-16161_no_text.JPG?uselang=ru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fs00.infourok.ru/images/doc/299/298783/img6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04960" y="448920"/>
            <a:ext cx="7802640" cy="24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Исследовательская</a:t>
            </a:r>
            <a:br>
              <a:rPr sz="4000"/>
            </a:b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работа на тему: «Географические закрытия»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16" name="Picture 4" descr="C:\Users\hag\Desktop\ph535e54b9d62a6.jpg"/>
          <p:cNvPicPr/>
          <p:nvPr/>
        </p:nvPicPr>
        <p:blipFill>
          <a:blip r:embed="rId1"/>
          <a:stretch/>
        </p:blipFill>
        <p:spPr>
          <a:xfrm>
            <a:off x="8520120" y="304920"/>
            <a:ext cx="3409920" cy="2989080"/>
          </a:xfrm>
          <a:prstGeom prst="rect">
            <a:avLst/>
          </a:prstGeom>
          <a:ln w="0">
            <a:noFill/>
          </a:ln>
        </p:spPr>
      </p:pic>
      <p:sp>
        <p:nvSpPr>
          <p:cNvPr id="917" name="Прямоугольник 9"/>
          <p:cNvSpPr/>
          <p:nvPr/>
        </p:nvSpPr>
        <p:spPr>
          <a:xfrm>
            <a:off x="4710240" y="3711600"/>
            <a:ext cx="64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Выполнил: </a:t>
            </a: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Карамышев Вячесла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Ученик 7« А» класс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Научный руководитель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Учитель географии </a:t>
            </a:r>
            <a:r>
              <a:rPr b="1" lang="en-US" sz="2800" spc="-1" strike="noStrike">
                <a:solidFill>
                  <a:srgbClr val="2a5010"/>
                </a:solidFill>
                <a:latin typeface="Trebuchet MS"/>
              </a:rPr>
              <a:t>I</a:t>
            </a: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 категор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Князева Любовь Анатольевн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8" name="Picture 2" descr="http://www.atlas-print.ru/production/Izobrazheniya_4/retro_1540_1070_2017_.jpg"/>
          <p:cNvPicPr/>
          <p:nvPr/>
        </p:nvPicPr>
        <p:blipFill>
          <a:blip r:embed="rId2"/>
          <a:stretch/>
        </p:blipFill>
        <p:spPr>
          <a:xfrm>
            <a:off x="284040" y="3962520"/>
            <a:ext cx="42260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Прямоугольник 1"/>
          <p:cNvSpPr/>
          <p:nvPr/>
        </p:nvSpPr>
        <p:spPr>
          <a:xfrm>
            <a:off x="70920" y="515880"/>
            <a:ext cx="117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Фердинандея (Юлия) — остров-призрак в Средиземном мор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7" name="Рисунок 84" descr="Фердинандея - остров-призрак в Средиземном море"/>
          <p:cNvPicPr/>
          <p:nvPr/>
        </p:nvPicPr>
        <p:blipFill>
          <a:blip r:embed="rId1"/>
          <a:stretch/>
        </p:blipFill>
        <p:spPr>
          <a:xfrm>
            <a:off x="5927760" y="1100160"/>
            <a:ext cx="5410080" cy="3348000"/>
          </a:xfrm>
          <a:prstGeom prst="rect">
            <a:avLst/>
          </a:prstGeom>
          <a:ln w="0">
            <a:noFill/>
          </a:ln>
        </p:spPr>
      </p:pic>
      <p:sp>
        <p:nvSpPr>
          <p:cNvPr id="958" name="Прямоугольник 3"/>
          <p:cNvSpPr/>
          <p:nvPr/>
        </p:nvSpPr>
        <p:spPr>
          <a:xfrm>
            <a:off x="351000" y="1138320"/>
            <a:ext cx="4510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первые его появление было задокументировано во время Первой Пунической войны, в 3 веке до н.э., и с тех пор остров видели 4 или 5 раз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9" name="Прямоугольник 4"/>
          <p:cNvSpPr/>
          <p:nvPr/>
        </p:nvSpPr>
        <p:spPr>
          <a:xfrm>
            <a:off x="539640" y="2908440"/>
            <a:ext cx="438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831 г.  Новая территория оказалась очень выгодным местом и находилась в непосредственной близости от судовых путей Средиземноморь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0" name="Рисунок 87" descr="Фердинандея - остров-призрак в Средиземном море"/>
          <p:cNvPicPr/>
          <p:nvPr/>
        </p:nvPicPr>
        <p:blipFill>
          <a:blip r:embed="rId2"/>
          <a:stretch/>
        </p:blipFill>
        <p:spPr>
          <a:xfrm>
            <a:off x="593640" y="4200480"/>
            <a:ext cx="3551400" cy="2368440"/>
          </a:xfrm>
          <a:prstGeom prst="rect">
            <a:avLst/>
          </a:prstGeom>
          <a:ln w="0">
            <a:noFill/>
          </a:ln>
        </p:spPr>
      </p:pic>
      <p:sp>
        <p:nvSpPr>
          <p:cNvPr id="961" name="TextBox 7"/>
          <p:cNvSpPr/>
          <p:nvPr/>
        </p:nvSpPr>
        <p:spPr>
          <a:xfrm>
            <a:off x="5608800" y="5165640"/>
            <a:ext cx="50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рриториальные споры между Испанией, Великобританией, Италией и Франци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Рисунок 83" descr="Фердинандея - остров-призрак в Средиземном море"/>
          <p:cNvPicPr/>
          <p:nvPr/>
        </p:nvPicPr>
        <p:blipFill>
          <a:blip r:embed="rId1"/>
          <a:stretch/>
        </p:blipFill>
        <p:spPr>
          <a:xfrm>
            <a:off x="244440" y="361800"/>
            <a:ext cx="6095880" cy="3616560"/>
          </a:xfrm>
          <a:prstGeom prst="rect">
            <a:avLst/>
          </a:prstGeom>
          <a:ln w="0">
            <a:noFill/>
          </a:ln>
        </p:spPr>
      </p:pic>
      <p:sp>
        <p:nvSpPr>
          <p:cNvPr id="963" name="Прямоугольник 2"/>
          <p:cNvSpPr/>
          <p:nvPr/>
        </p:nvSpPr>
        <p:spPr>
          <a:xfrm>
            <a:off x="6507000" y="787320"/>
            <a:ext cx="489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1863 году, в результате новых извержений, Фердинандея снова ненадолго появилась, а затем отправилась обратно в океа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Прямоугольник 3"/>
          <p:cNvSpPr/>
          <p:nvPr/>
        </p:nvSpPr>
        <p:spPr>
          <a:xfrm>
            <a:off x="6537240" y="304308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тех пор остров Фердинандея или Грэм, как его назвали британцы, погружен на 8 метров ниже уровня мор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Прямоугольник 4"/>
          <p:cNvSpPr/>
          <p:nvPr/>
        </p:nvSpPr>
        <p:spPr>
          <a:xfrm>
            <a:off x="289080" y="4610160"/>
            <a:ext cx="669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2000 году возобновившаяся сейсмическая активность вокруг острова Грэм возобновилась. Исследователи полагают, что остров может снова подняться на поверхность и тогда территориальный конфликт начнется заново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2" descr="http://ours-nature.ru/new_site/img/1346893781/_33.jpg"/>
          <p:cNvPicPr/>
          <p:nvPr/>
        </p:nvPicPr>
        <p:blipFill>
          <a:blip r:embed="rId1"/>
          <a:stretch/>
        </p:blipFill>
        <p:spPr>
          <a:xfrm>
            <a:off x="952560" y="214200"/>
            <a:ext cx="7988400" cy="5166000"/>
          </a:xfrm>
          <a:prstGeom prst="rect">
            <a:avLst/>
          </a:prstGeom>
          <a:ln w="0">
            <a:noFill/>
          </a:ln>
        </p:spPr>
      </p:pic>
      <p:sp>
        <p:nvSpPr>
          <p:cNvPr id="967" name="Прямоугольник 2"/>
          <p:cNvSpPr/>
          <p:nvPr/>
        </p:nvSpPr>
        <p:spPr>
          <a:xfrm>
            <a:off x="1150920" y="57722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стров Иоанна Богослова в Беринговом мор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Прямоугольник 3"/>
          <p:cNvSpPr/>
          <p:nvPr/>
        </p:nvSpPr>
        <p:spPr>
          <a:xfrm>
            <a:off x="9156600" y="1239840"/>
            <a:ext cx="270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rebuchet MS"/>
              </a:rPr>
              <a:t>Впервые он был замечен в 1796 г, но вскоре из-за сильного прибоя исчез. После этого он неоднократно появлялся,  чтобы вновь исчезнут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Прямоугольник 1"/>
          <p:cNvSpPr/>
          <p:nvPr/>
        </p:nvSpPr>
        <p:spPr>
          <a:xfrm>
            <a:off x="757440" y="4255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шибки и заблуждения мореплавателе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0" name="Рисунок 42" descr="Южный берег острова Був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78840" y="365040"/>
            <a:ext cx="3830400" cy="2514600"/>
          </a:xfrm>
          <a:prstGeom prst="rect">
            <a:avLst/>
          </a:prstGeom>
          <a:ln w="0">
            <a:noFill/>
          </a:ln>
        </p:spPr>
      </p:pic>
      <p:sp>
        <p:nvSpPr>
          <p:cNvPr id="971" name="Прямоугольник 4"/>
          <p:cNvSpPr/>
          <p:nvPr/>
        </p:nvSpPr>
        <p:spPr>
          <a:xfrm>
            <a:off x="7391160" y="306072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Южный берег острова Був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2" name="Рисунок 47" descr="https://upload.wikimedia.org/wikipedia/commons/thumb/4/4a/Bouvet_Island_ISS017-E-16161_no_text.JPG/250px-Bouvet_Island_ISS017-E-16161_no_tex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3040" y="1692360"/>
            <a:ext cx="4098960" cy="3429000"/>
          </a:xfrm>
          <a:prstGeom prst="rect">
            <a:avLst/>
          </a:prstGeom>
          <a:ln w="0">
            <a:noFill/>
          </a:ln>
        </p:spPr>
      </p:pic>
      <p:sp>
        <p:nvSpPr>
          <p:cNvPr id="973" name="Rectangle 4"/>
          <p:cNvSpPr/>
          <p:nvPr/>
        </p:nvSpPr>
        <p:spPr>
          <a:xfrm>
            <a:off x="716040" y="5304240"/>
            <a:ext cx="33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ров Буве из космос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Прямоугольник 7"/>
          <p:cNvSpPr/>
          <p:nvPr/>
        </p:nvSpPr>
        <p:spPr>
          <a:xfrm>
            <a:off x="4876920" y="381492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зван по имени первооткрывателя, француза Ж.-Б. Буве де Лозье (1705—1786), обнаружившего остров 1 января 1739 года. Из-за тумана он принял остров за мыс, за которым простирается большая земля (естественно, он предположил, что это обозначавшаяся на географических картах того времени Неведомая Южная земля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5" name="TextBox 8"/>
          <p:cNvSpPr/>
          <p:nvPr/>
        </p:nvSpPr>
        <p:spPr>
          <a:xfrm>
            <a:off x="4671360" y="109692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rebuchet MS"/>
              </a:rPr>
              <a:t>Остров Був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Прямоугольник 1"/>
          <p:cNvSpPr/>
          <p:nvPr/>
        </p:nvSpPr>
        <p:spPr>
          <a:xfrm>
            <a:off x="411120" y="422280"/>
            <a:ext cx="77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1772 году Джеймс Кук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плыл в районе точки, указанной Буве, однако из-за допущенной тем ошибки не встретил суш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7" name="Прямоугольник 2"/>
          <p:cNvSpPr/>
          <p:nvPr/>
        </p:nvSpPr>
        <p:spPr>
          <a:xfrm>
            <a:off x="473040" y="177624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808 году Джеймс Линдсей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капитан китобойного судна назвал  «островом Линдсея»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Прямоугольник 3"/>
          <p:cNvSpPr/>
          <p:nvPr/>
        </p:nvSpPr>
        <p:spPr>
          <a:xfrm>
            <a:off x="625320" y="270684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0 декабр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825 года капитан Норрис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вершил первую общепризнанную высадку на острове, объявил его британским владением и назвал его «Ливерпульский остров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9" name="Прямоугольник 4"/>
          <p:cNvSpPr/>
          <p:nvPr/>
        </p:nvSpPr>
        <p:spPr>
          <a:xfrm>
            <a:off x="609480" y="4260960"/>
            <a:ext cx="609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927 году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— команда норвежского корабля «Норвегия» провела на нём примерно месяц. 1 декабря 1927 года руководитель экспедици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Ларс Кристенсен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ъявил остров норвежским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0" name="Рисунок 54" descr="Месторасположение острова Буве"/>
          <p:cNvPicPr/>
          <p:nvPr/>
        </p:nvPicPr>
        <p:blipFill>
          <a:blip r:embed="rId1"/>
          <a:stretch/>
        </p:blipFill>
        <p:spPr>
          <a:xfrm>
            <a:off x="6867360" y="1305000"/>
            <a:ext cx="43642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Box 1"/>
          <p:cNvSpPr/>
          <p:nvPr/>
        </p:nvSpPr>
        <p:spPr>
          <a:xfrm>
            <a:off x="990360" y="50328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rebuchet MS"/>
              </a:rPr>
              <a:t>Деятельность челове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Прямоугольник 2"/>
          <p:cNvSpPr/>
          <p:nvPr/>
        </p:nvSpPr>
        <p:spPr>
          <a:xfrm>
            <a:off x="669960" y="1044720"/>
            <a:ext cx="65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рал вот-вот пропадет не только с карт, но и с лица Земл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3" name="Рисунок 3" descr=""/>
          <p:cNvPicPr/>
          <p:nvPr/>
        </p:nvPicPr>
        <p:blipFill>
          <a:blip r:embed="rId1"/>
          <a:stretch/>
        </p:blipFill>
        <p:spPr>
          <a:xfrm>
            <a:off x="365040" y="1996920"/>
            <a:ext cx="5943600" cy="4251600"/>
          </a:xfrm>
          <a:prstGeom prst="rect">
            <a:avLst/>
          </a:prstGeom>
          <a:ln w="0">
            <a:noFill/>
          </a:ln>
        </p:spPr>
      </p:pic>
      <p:pic>
        <p:nvPicPr>
          <p:cNvPr id="984" name="Рисунок 5" descr="http://2.bp.blogspot.com/-yd9oLtpWZiQ/VCrUWB_VxZI/AAAAAAAAhiA/fr95edVKGR8/s1600/%D0%B7%D0%B0%D0%B9%D1%81%D0%B0%D0%BD.png"/>
          <p:cNvPicPr/>
          <p:nvPr/>
        </p:nvPicPr>
        <p:blipFill>
          <a:blip r:embed="rId2"/>
          <a:stretch/>
        </p:blipFill>
        <p:spPr>
          <a:xfrm>
            <a:off x="6599160" y="2987640"/>
            <a:ext cx="5227560" cy="3268800"/>
          </a:xfrm>
          <a:prstGeom prst="rect">
            <a:avLst/>
          </a:prstGeom>
          <a:ln w="0">
            <a:noFill/>
          </a:ln>
        </p:spPr>
      </p:pic>
      <p:sp>
        <p:nvSpPr>
          <p:cNvPr id="985" name="Rectangle 3"/>
          <p:cNvSpPr/>
          <p:nvPr/>
        </p:nvSpPr>
        <p:spPr>
          <a:xfrm>
            <a:off x="7040520" y="1620360"/>
            <a:ext cx="45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зеро Зайс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ое когда-то числилось среди крупных озёр нашей страны (СССР).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Прямоугольник 1"/>
          <p:cNvSpPr/>
          <p:nvPr/>
        </p:nvSpPr>
        <p:spPr>
          <a:xfrm>
            <a:off x="426960" y="588960"/>
            <a:ext cx="975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убань испокон веку текла в Черное море. В Азовское, куда она впадает теперь, ее направили в 30-е годы XIX столет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7" name="Picture 1" descr="Дельта Кубани"/>
          <p:cNvPicPr/>
          <p:nvPr/>
        </p:nvPicPr>
        <p:blipFill>
          <a:blip r:embed="rId1"/>
          <a:stretch/>
        </p:blipFill>
        <p:spPr>
          <a:xfrm>
            <a:off x="2651040" y="2050920"/>
            <a:ext cx="52736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2" descr="фиджи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89" name="Прямоугольник 6"/>
          <p:cNvSpPr/>
          <p:nvPr/>
        </p:nvSpPr>
        <p:spPr>
          <a:xfrm>
            <a:off x="1905120" y="285840"/>
            <a:ext cx="9429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бывают даже острова, которые могут начать исчезать с лица Земли в результате хозяйственной деятельности человека. Например,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ров Наур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90" name="Picture 4" descr="Остров Науру, фото"/>
          <p:cNvPicPr/>
          <p:nvPr/>
        </p:nvPicPr>
        <p:blipFill>
          <a:blip r:embed="rId2"/>
          <a:stretch/>
        </p:blipFill>
        <p:spPr>
          <a:xfrm>
            <a:off x="4327560" y="1947960"/>
            <a:ext cx="3217680" cy="2928960"/>
          </a:xfrm>
          <a:prstGeom prst="rect">
            <a:avLst/>
          </a:prstGeom>
          <a:ln w="0">
            <a:noFill/>
          </a:ln>
        </p:spPr>
      </p:pic>
      <p:pic>
        <p:nvPicPr>
          <p:cNvPr id="991" name="Рисунок 7" descr="http://2.bp.blogspot.com/-BTU3VDOO5OI/VCrcSF7mfOI/AAAAAAAAhiU/GjzOp4Ygt3c/s1600/%D0%BD%D0%B0%D1%83%D1%80%D1%83%2B3.jpg"/>
          <p:cNvPicPr/>
          <p:nvPr/>
        </p:nvPicPr>
        <p:blipFill>
          <a:blip r:embed="rId3"/>
          <a:stretch/>
        </p:blipFill>
        <p:spPr>
          <a:xfrm>
            <a:off x="217440" y="1770120"/>
            <a:ext cx="3257640" cy="4111560"/>
          </a:xfrm>
          <a:prstGeom prst="rect">
            <a:avLst/>
          </a:prstGeom>
          <a:ln w="0">
            <a:noFill/>
          </a:ln>
        </p:spPr>
      </p:pic>
      <p:pic>
        <p:nvPicPr>
          <p:cNvPr id="992" name="Рисунок 8" descr="http://2.bp.blogspot.com/-RRRoSruOoRc/VCrcipTR3WI/AAAAAAAAhig/ZK0rH_0ELkM/s1600/%D0%BD%D0%B0%D1%83%D1%80%D1%832.jpg"/>
          <p:cNvPicPr/>
          <p:nvPr/>
        </p:nvPicPr>
        <p:blipFill>
          <a:blip r:embed="rId4"/>
          <a:stretch/>
        </p:blipFill>
        <p:spPr>
          <a:xfrm>
            <a:off x="8823240" y="1844640"/>
            <a:ext cx="3143160" cy="4000680"/>
          </a:xfrm>
          <a:prstGeom prst="rect">
            <a:avLst/>
          </a:prstGeom>
          <a:ln w="0">
            <a:noFill/>
          </a:ln>
        </p:spPr>
      </p:pic>
      <p:sp>
        <p:nvSpPr>
          <p:cNvPr id="993" name="TextBox 9"/>
          <p:cNvSpPr/>
          <p:nvPr/>
        </p:nvSpPr>
        <p:spPr>
          <a:xfrm>
            <a:off x="8393400" y="610560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ичные ландшафты Наур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Прямоугольник 10"/>
          <p:cNvSpPr/>
          <p:nvPr/>
        </p:nvSpPr>
        <p:spPr>
          <a:xfrm>
            <a:off x="3687840" y="5208480"/>
            <a:ext cx="4282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 1900 года, когда начали добывать фосфориты, Науру "стал легче" почти на 50 млн. т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" descr="фиджи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7" descr="yap_location_map_oceania"/>
          <p:cNvPicPr/>
          <p:nvPr/>
        </p:nvPicPr>
        <p:blipFill>
          <a:blip r:embed="rId2"/>
          <a:stretch/>
        </p:blipFill>
        <p:spPr>
          <a:xfrm>
            <a:off x="406440" y="990720"/>
            <a:ext cx="11379240" cy="5217840"/>
          </a:xfrm>
          <a:prstGeom prst="rect">
            <a:avLst/>
          </a:prstGeom>
          <a:ln w="0">
            <a:noFill/>
          </a:ln>
        </p:spPr>
      </p:pic>
      <p:sp>
        <p:nvSpPr>
          <p:cNvPr id="997" name="Заголовок 4"/>
          <p:cNvSpPr/>
          <p:nvPr/>
        </p:nvSpPr>
        <p:spPr>
          <a:xfrm>
            <a:off x="857160" y="214200"/>
            <a:ext cx="10972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 американцы превратили райский остров в ядерную пустын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Стрелка вправо 5"/>
          <p:cNvSpPr/>
          <p:nvPr/>
        </p:nvSpPr>
        <p:spPr>
          <a:xfrm flipH="1">
            <a:off x="5047560" y="1500120"/>
            <a:ext cx="5429160" cy="8571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аршалловы остров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9" name="Прямоугольник 6"/>
          <p:cNvSpPr/>
          <p:nvPr/>
        </p:nvSpPr>
        <p:spPr>
          <a:xfrm>
            <a:off x="3946680" y="4656240"/>
            <a:ext cx="76626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 полигонах на атоллах Бикини и Эниветок Соединенные Штаты произвели в период с 1946 по 1958 год 67 ядерных испытаний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6" descr=""/>
          <p:cNvPicPr/>
          <p:nvPr/>
        </p:nvPicPr>
        <p:blipFill>
          <a:blip r:embed="rId1"/>
          <a:stretch/>
        </p:blipFill>
        <p:spPr>
          <a:xfrm>
            <a:off x="380880" y="1785960"/>
            <a:ext cx="7196400" cy="4714920"/>
          </a:xfrm>
          <a:prstGeom prst="rect">
            <a:avLst/>
          </a:prstGeom>
          <a:ln w="0">
            <a:noFill/>
          </a:ln>
        </p:spPr>
      </p:pic>
      <p:sp>
        <p:nvSpPr>
          <p:cNvPr id="1001" name="Rectangle 1"/>
          <p:cNvSpPr/>
          <p:nvPr/>
        </p:nvSpPr>
        <p:spPr>
          <a:xfrm>
            <a:off x="380880" y="217800"/>
            <a:ext cx="115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entury Gothic"/>
                <a:ea typeface="Calibri"/>
              </a:rPr>
              <a:t>Один из красивейших уголков Земли был уничтожен после многократных взрывов атомных бомб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2" name="Picture 10" descr="Cultural"/>
          <p:cNvPicPr/>
          <p:nvPr/>
        </p:nvPicPr>
        <p:blipFill>
          <a:blip r:embed="rId2"/>
          <a:stretch/>
        </p:blipFill>
        <p:spPr>
          <a:xfrm>
            <a:off x="7905600" y="1714680"/>
            <a:ext cx="397512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17680" y="566640"/>
            <a:ext cx="859608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Актуальность темы работы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20" name="Picture 86" descr="http://gif.vukogurt.ru/images/lica/67.gif"/>
          <p:cNvPicPr/>
          <p:nvPr/>
        </p:nvPicPr>
        <p:blipFill>
          <a:blip r:embed="rId1"/>
          <a:stretch/>
        </p:blipFill>
        <p:spPr>
          <a:xfrm>
            <a:off x="8185320" y="314280"/>
            <a:ext cx="2336760" cy="196380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1"/>
          <p:cNvSpPr/>
          <p:nvPr/>
        </p:nvSpPr>
        <p:spPr>
          <a:xfrm>
            <a:off x="595440" y="1622160"/>
            <a:ext cx="8404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 темы моей работы определяется тем, что в настоящее время не стоит думать, будто в ходе изучения тайн земли происходят только открытия. Достаточно часто случаются, и географические "закрытия", что тоже является своего рода достижением для наук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2" name="Picture 2" descr="http://otvet.imgsmail.ru/download/d7e3a86276eba1945f3eb933fd479d3c_i-6189.jpg"/>
          <p:cNvPicPr/>
          <p:nvPr/>
        </p:nvPicPr>
        <p:blipFill>
          <a:blip r:embed="rId2"/>
          <a:stretch/>
        </p:blipFill>
        <p:spPr>
          <a:xfrm>
            <a:off x="8651880" y="4702320"/>
            <a:ext cx="3294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2" descr="фиджи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04" name="Rectangle 3"/>
          <p:cNvSpPr/>
          <p:nvPr/>
        </p:nvSpPr>
        <p:spPr>
          <a:xfrm>
            <a:off x="1050840" y="235800"/>
            <a:ext cx="10668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54 году при испытании водородной бомбы ученые не рассчитали мощность заряда. Взрыв получился в три раза мощнее, чем предполагалось. В результате с лица земли навсегда исчезли три небольших острова, а в лагуне образовался кратер диаметром более трех километр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5" name="Picture 2" descr="Кратер, образовавшийся после взрыва"/>
          <p:cNvPicPr/>
          <p:nvPr/>
        </p:nvPicPr>
        <p:blipFill>
          <a:blip r:embed="rId2"/>
          <a:stretch/>
        </p:blipFill>
        <p:spPr>
          <a:xfrm>
            <a:off x="1173240" y="2000160"/>
            <a:ext cx="6732360" cy="4583160"/>
          </a:xfrm>
          <a:prstGeom prst="rect">
            <a:avLst/>
          </a:prstGeom>
          <a:ln w="0">
            <a:noFill/>
          </a:ln>
        </p:spPr>
      </p:pic>
      <p:sp>
        <p:nvSpPr>
          <p:cNvPr id="1006" name="Прямоугольник 11"/>
          <p:cNvSpPr/>
          <p:nvPr/>
        </p:nvSpPr>
        <p:spPr>
          <a:xfrm flipV="1" rot="10800000">
            <a:off x="8572680" y="3355920"/>
            <a:ext cx="302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ратер, образовавшийся после взрыв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6" descr="фиджи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2" descr="0_c7fa5_5e66df0f_orig"/>
          <p:cNvPicPr/>
          <p:nvPr/>
        </p:nvPicPr>
        <p:blipFill>
          <a:blip r:embed="rId2"/>
          <a:stretch/>
        </p:blipFill>
        <p:spPr>
          <a:xfrm>
            <a:off x="3246480" y="1928880"/>
            <a:ext cx="6183360" cy="4548240"/>
          </a:xfrm>
          <a:prstGeom prst="rect">
            <a:avLst/>
          </a:prstGeom>
          <a:ln w="0">
            <a:noFill/>
          </a:ln>
        </p:spPr>
      </p:pic>
      <p:sp>
        <p:nvSpPr>
          <p:cNvPr id="1009" name="Rectangle 3"/>
          <p:cNvSpPr/>
          <p:nvPr/>
        </p:nvSpPr>
        <p:spPr>
          <a:xfrm>
            <a:off x="2095560" y="359280"/>
            <a:ext cx="97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к вы думаете, что это ? Может быть летающая тарелка приземлилась ? Или ее откопали с древних времен 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6" descr="фиджи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Прямоугольник 8"/>
          <p:cNvSpPr/>
          <p:nvPr/>
        </p:nvSpPr>
        <p:spPr>
          <a:xfrm>
            <a:off x="6645240" y="1090440"/>
            <a:ext cx="47624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толл Эниветок — большой коралловый атолл из 40 островов в Тихом океане, расположенный в 305 километрах к западу от Атолла Бикини. Он был главным испытательным стендом для ядерного оружия после Второй мировой войн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2" name="Rectangle 1"/>
          <p:cNvSpPr/>
          <p:nvPr/>
        </p:nvSpPr>
        <p:spPr>
          <a:xfrm>
            <a:off x="1714680" y="481680"/>
            <a:ext cx="952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жду 1948 и 1958 атолл пережил 43 взрыва, включая первое испытание водородной бомбы в конце 1952 в ходе которой полностью исчез с лица Земли островок Елугелаб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13" name="Picture 2" descr="http://c8.alamy.com/comp/G1DMYK/photographic-print-of-an-atomic-bomb-at-bikini-atoll-in-micronesia-G1DMYK.jpg"/>
          <p:cNvPicPr/>
          <p:nvPr/>
        </p:nvPicPr>
        <p:blipFill>
          <a:blip r:embed="rId2"/>
          <a:stretch/>
        </p:blipFill>
        <p:spPr>
          <a:xfrm>
            <a:off x="571680" y="1928880"/>
            <a:ext cx="5619600" cy="457200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4" descr="Marshall_Islands_nuclear600_6"/>
          <p:cNvPicPr/>
          <p:nvPr/>
        </p:nvPicPr>
        <p:blipFill>
          <a:blip r:embed="rId3"/>
          <a:stretch/>
        </p:blipFill>
        <p:spPr>
          <a:xfrm>
            <a:off x="6540480" y="4313160"/>
            <a:ext cx="3362400" cy="2241720"/>
          </a:xfrm>
          <a:prstGeom prst="rect">
            <a:avLst/>
          </a:prstGeom>
          <a:ln w="0">
            <a:noFill/>
          </a:ln>
        </p:spPr>
      </p:pic>
      <p:sp>
        <p:nvSpPr>
          <p:cNvPr id="1015" name="Rectangle 2"/>
          <p:cNvSpPr/>
          <p:nvPr/>
        </p:nvSpPr>
        <p:spPr>
          <a:xfrm>
            <a:off x="10058400" y="4899600"/>
            <a:ext cx="192096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114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Купол Рунит – радиоктивное мусорное ведр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Прямоугольник 1"/>
          <p:cNvSpPr/>
          <p:nvPr/>
        </p:nvSpPr>
        <p:spPr>
          <a:xfrm>
            <a:off x="816840" y="28728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Выводы моего исследования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Прямоугольник 2"/>
          <p:cNvSpPr/>
          <p:nvPr/>
        </p:nvSpPr>
        <p:spPr>
          <a:xfrm>
            <a:off x="685800" y="887400"/>
            <a:ext cx="9190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анализировав всё вышесказанное, можно сделать вывод: географические «закрытия» существуют. А следовательно, моя гипотеза не подтвердилас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Я установил причины этих изменений: природные силы, хозяйственная деятельность человека, социальный фактор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ти изменения всегда будут отражаться на географических картах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анная работа может быть интересна на уроках географии и окружающего мира в начальной школ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2" descr="https://meshok.net/pics/cache/30859689.208x208.jpg?39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21" name="Прямоугольник 4"/>
          <p:cNvSpPr/>
          <p:nvPr/>
        </p:nvSpPr>
        <p:spPr>
          <a:xfrm>
            <a:off x="1047600" y="4714920"/>
            <a:ext cx="1019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рядет ли эпоха Великих географических закрытий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2" name="Прямоугольник 5"/>
          <p:cNvSpPr/>
          <p:nvPr/>
        </p:nvSpPr>
        <p:spPr>
          <a:xfrm>
            <a:off x="666720" y="714240"/>
            <a:ext cx="1095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Географические «закрытия» существуют. Мир изменчив. И кто знает, как будет выглядеть наша планета тысяч через сто ле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Trebuchet MS"/>
              </a:rPr>
              <a:t>Литература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Прямоугольник 3"/>
          <p:cNvSpPr/>
          <p:nvPr/>
        </p:nvSpPr>
        <p:spPr>
          <a:xfrm>
            <a:off x="762120" y="1276200"/>
            <a:ext cx="888516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И.П.Магидович, В.И. Магидович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черки из истории географических открытий. Том 5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осква, «Просвещение»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Поедешь с нами? Сборник стате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осква, «Детская литература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Н.А.Максим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 страницами учебника географи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осква, «Просвещение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Ю.П.Пармузин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ивая географ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осква, «Просвещение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Прямоугольник 4"/>
          <p:cNvSpPr/>
          <p:nvPr/>
        </p:nvSpPr>
        <p:spPr>
          <a:xfrm>
            <a:off x="983520" y="394488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rebuchet MS"/>
              </a:rPr>
              <a:t>Интернет-ресурсы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6" name="Прямоугольник 5"/>
          <p:cNvSpPr/>
          <p:nvPr/>
        </p:nvSpPr>
        <p:spPr>
          <a:xfrm>
            <a:off x="2498760" y="46386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ttp://www.bibliotekar.ru/geografiya/7.ht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ttp://geoo.ucoz.kz/publ/geograficheskie_zakrytija/1-1-0-26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ttp://www.vokrugsveta.ru/vs/article/4778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ttp://orav.ws/news/world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317520" y="711000"/>
            <a:ext cx="984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Цель: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выявить существуют ли географические закрыт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Задачи</a:t>
            </a: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:</a:t>
            </a:r>
            <a:br>
              <a:rPr sz="2400"/>
            </a:b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1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Проанализировать литературные источники по данному вопросу.</a:t>
            </a:r>
            <a:br>
              <a:rPr sz="2400"/>
            </a:b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2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Найти нужную информацию в сети Интерне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3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Установить исчезнувшие географические объекты, путём сравнения географических карт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    </a:t>
            </a: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4.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делать выво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24" name="Рисунок 2" descr="http://1.bp.blogspot.com/-A8kdCz4KQ2I/VCrL__wCwAI/AAAAAAAAhhI/pBTF9CXSSTs/s1600/1.jpg"/>
          <p:cNvPicPr/>
          <p:nvPr/>
        </p:nvPicPr>
        <p:blipFill>
          <a:blip r:embed="rId1"/>
          <a:stretch/>
        </p:blipFill>
        <p:spPr>
          <a:xfrm>
            <a:off x="7184880" y="3746520"/>
            <a:ext cx="4550040" cy="2922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86" descr="http://gif.vukogurt.ru/images/lica/67.gif"/>
          <p:cNvPicPr/>
          <p:nvPr/>
        </p:nvPicPr>
        <p:blipFill>
          <a:blip r:embed="rId2"/>
          <a:stretch/>
        </p:blipFill>
        <p:spPr>
          <a:xfrm>
            <a:off x="9968040" y="235080"/>
            <a:ext cx="18889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74840" y="363600"/>
            <a:ext cx="894528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Гипотеза</a:t>
            </a: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Если что-то когда-то в мире было открыто (найдено), то закрыть это нельзя»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7" name="TextBox 3"/>
          <p:cNvSpPr/>
          <p:nvPr/>
        </p:nvSpPr>
        <p:spPr>
          <a:xfrm>
            <a:off x="5623920" y="3913200"/>
            <a:ext cx="5401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rebuchet MS"/>
              </a:rPr>
              <a:t>Методы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аналитически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синтез полученной информаци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артографический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сравн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8" name="Picture 86" descr="http://gif.vukogurt.ru/images/lica/67.gif"/>
          <p:cNvPicPr/>
          <p:nvPr/>
        </p:nvPicPr>
        <p:blipFill>
          <a:blip r:embed="rId1"/>
          <a:stretch/>
        </p:blipFill>
        <p:spPr>
          <a:xfrm>
            <a:off x="9855360" y="290520"/>
            <a:ext cx="2336760" cy="1963800"/>
          </a:xfrm>
          <a:prstGeom prst="rect">
            <a:avLst/>
          </a:prstGeom>
          <a:ln w="0">
            <a:noFill/>
          </a:ln>
        </p:spPr>
      </p:pic>
      <p:sp>
        <p:nvSpPr>
          <p:cNvPr id="929" name="Прямоугольник 5"/>
          <p:cNvSpPr/>
          <p:nvPr/>
        </p:nvSpPr>
        <p:spPr>
          <a:xfrm>
            <a:off x="534240" y="15746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ие объект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Прямоугольник 6"/>
          <p:cNvSpPr/>
          <p:nvPr/>
        </p:nvSpPr>
        <p:spPr>
          <a:xfrm>
            <a:off x="479520" y="2487600"/>
            <a:ext cx="74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чезнувшие географические объекты с лика Земли и причины спровоцировавшие этот процесс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1" name="Picture 2" descr="https://meshok.net/pics/cache/30859689.208x208.jpg?39"/>
          <p:cNvPicPr/>
          <p:nvPr/>
        </p:nvPicPr>
        <p:blipFill>
          <a:blip r:embed="rId2"/>
          <a:stretch/>
        </p:blipFill>
        <p:spPr>
          <a:xfrm>
            <a:off x="522360" y="3759120"/>
            <a:ext cx="41227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Рисунок 2" descr="Географическое « закрытие» – ситуация в географии, когда тот или иной геогр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58520" y="225360"/>
            <a:ext cx="2172960" cy="1768680"/>
          </a:xfrm>
          <a:prstGeom prst="rect">
            <a:avLst/>
          </a:prstGeom>
          <a:ln w="0">
            <a:noFill/>
          </a:ln>
        </p:spPr>
      </p:pic>
      <p:sp>
        <p:nvSpPr>
          <p:cNvPr id="933" name="TextBox 3"/>
          <p:cNvSpPr/>
          <p:nvPr/>
        </p:nvSpPr>
        <p:spPr>
          <a:xfrm>
            <a:off x="765000" y="371520"/>
            <a:ext cx="8813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rebuchet MS"/>
              </a:rPr>
              <a:t>Географическое «закрытие»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ситуация в географии, когда  тот или иной географический объект перестаёт существоват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4" name="Схема 6" descr=""/>
          <p:cNvPicPr/>
          <p:nvPr/>
        </p:nvPicPr>
        <p:blipFill>
          <a:blip r:embed="rId3"/>
          <a:stretch/>
        </p:blipFill>
        <p:spPr>
          <a:xfrm>
            <a:off x="878040" y="1805040"/>
            <a:ext cx="8053200" cy="42242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2" descr="Загадки истории: откуда на карте XVI века берега Антарктиды, открытой в 1820 году"/>
          <p:cNvPicPr/>
          <p:nvPr/>
        </p:nvPicPr>
        <p:blipFill>
          <a:blip r:embed="rId4"/>
          <a:stretch/>
        </p:blipFill>
        <p:spPr>
          <a:xfrm>
            <a:off x="9072720" y="4502160"/>
            <a:ext cx="273816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http://bse.uaio.ru/DE/99/011304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37" name="Заголовок 1"/>
          <p:cNvSpPr/>
          <p:nvPr/>
        </p:nvSpPr>
        <p:spPr>
          <a:xfrm>
            <a:off x="314280" y="318960"/>
            <a:ext cx="11499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Географические закрытия природного характер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Прямоугольник 5"/>
          <p:cNvSpPr/>
          <p:nvPr/>
        </p:nvSpPr>
        <p:spPr>
          <a:xfrm>
            <a:off x="727200" y="3262320"/>
            <a:ext cx="1107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корее  всего, наибольшим количеством географических "закрытий" знамениты берега Антарктид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Прямоугольник 1"/>
          <p:cNvSpPr/>
          <p:nvPr/>
        </p:nvSpPr>
        <p:spPr>
          <a:xfrm>
            <a:off x="380880" y="28584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Calibri"/>
              </a:rPr>
              <a:t>Если  бы Р. Амундсен в наши дни снова высадился на берегу Антарктиды, он бы просто не нашел знаменитой Китовой бухт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Calibri"/>
              </a:rPr>
              <a:t>Как оказалось, эта часть берега вместе с огромным айсбергом отплыла на север еще в далеком 1940 г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0" name="Picture 2" descr="http://meridian12.ru/wp-content/uploads/karta-An.-1024x707.jpg"/>
          <p:cNvPicPr/>
          <p:nvPr/>
        </p:nvPicPr>
        <p:blipFill>
          <a:blip r:embed="rId1"/>
          <a:stretch/>
        </p:blipFill>
        <p:spPr>
          <a:xfrm>
            <a:off x="6188040" y="714240"/>
            <a:ext cx="5718240" cy="5286600"/>
          </a:xfrm>
          <a:prstGeom prst="rect">
            <a:avLst/>
          </a:prstGeom>
          <a:ln w="0">
            <a:noFill/>
          </a:ln>
        </p:spPr>
      </p:pic>
      <p:sp>
        <p:nvSpPr>
          <p:cNvPr id="941" name="Стрелка вправо 3"/>
          <p:cNvSpPr/>
          <p:nvPr/>
        </p:nvSpPr>
        <p:spPr>
          <a:xfrm rot="6989400">
            <a:off x="9653760" y="1391400"/>
            <a:ext cx="928800" cy="2854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2" name="Picture 2" descr="Файл:Antarctic expedition map (Nimrod)-ru.svg"/>
          <p:cNvPicPr/>
          <p:nvPr/>
        </p:nvPicPr>
        <p:blipFill>
          <a:blip r:embed="rId2"/>
          <a:stretch/>
        </p:blipFill>
        <p:spPr>
          <a:xfrm>
            <a:off x="396720" y="258840"/>
            <a:ext cx="5470560" cy="6264360"/>
          </a:xfrm>
          <a:prstGeom prst="rect">
            <a:avLst/>
          </a:prstGeom>
          <a:ln w="0">
            <a:noFill/>
          </a:ln>
        </p:spPr>
      </p:pic>
      <p:sp>
        <p:nvSpPr>
          <p:cNvPr id="943" name="5-конечная звезда 5"/>
          <p:cNvSpPr/>
          <p:nvPr/>
        </p:nvSpPr>
        <p:spPr>
          <a:xfrm>
            <a:off x="3355920" y="2637000"/>
            <a:ext cx="357120" cy="271440"/>
          </a:xfrm>
          <a:prstGeom prst="pie">
            <a:avLst/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9" descr="Рисунок5"/>
          <p:cNvPicPr/>
          <p:nvPr/>
        </p:nvPicPr>
        <p:blipFill>
          <a:blip r:embed="rId1"/>
          <a:stretch/>
        </p:blipFill>
        <p:spPr>
          <a:xfrm>
            <a:off x="8112240" y="382680"/>
            <a:ext cx="3363840" cy="2871720"/>
          </a:xfrm>
          <a:prstGeom prst="rect">
            <a:avLst/>
          </a:prstGeom>
          <a:ln w="0">
            <a:noFill/>
          </a:ln>
        </p:spPr>
      </p:pic>
      <p:sp>
        <p:nvSpPr>
          <p:cNvPr id="945" name="Прямоугольник 4"/>
          <p:cNvSpPr/>
          <p:nvPr/>
        </p:nvSpPr>
        <p:spPr>
          <a:xfrm>
            <a:off x="212760" y="1017720"/>
            <a:ext cx="5975280" cy="18003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хты Эванса, Торехавн и Инграм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ливы Прюдс и Маккензи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остров Челюскинце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Прямоугольник 6"/>
          <p:cNvSpPr/>
          <p:nvPr/>
        </p:nvSpPr>
        <p:spPr>
          <a:xfrm>
            <a:off x="5029200" y="3624120"/>
            <a:ext cx="6934320" cy="22269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акже в 1959 г. русскими учеными были "закрыты" острова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уэйнс-Айленд и Мейсис-Айленд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улкан Сьоволд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TextBox 9"/>
          <p:cNvSpPr/>
          <p:nvPr/>
        </p:nvSpPr>
        <p:spPr>
          <a:xfrm>
            <a:off x="704880" y="42696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rebuchet MS"/>
              </a:rPr>
              <a:t>Исчезнувшие географические объект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8" name="Рисунок 7" descr="антарктида"/>
          <p:cNvPicPr/>
          <p:nvPr/>
        </p:nvPicPr>
        <p:blipFill>
          <a:blip r:embed="rId2"/>
          <a:stretch/>
        </p:blipFill>
        <p:spPr>
          <a:xfrm>
            <a:off x="304920" y="3017880"/>
            <a:ext cx="4251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http://meridian12.ru/wp-content/uploads/karta-An.-1024x707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50" name="5-конечная звезда 2"/>
          <p:cNvSpPr/>
          <p:nvPr/>
        </p:nvSpPr>
        <p:spPr>
          <a:xfrm>
            <a:off x="5334120" y="4857840"/>
            <a:ext cx="476280" cy="357120"/>
          </a:xfrm>
          <a:prstGeom prst="pie">
            <a:avLst/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5-конечная звезда 3"/>
          <p:cNvSpPr/>
          <p:nvPr/>
        </p:nvSpPr>
        <p:spPr>
          <a:xfrm>
            <a:off x="7810560" y="1071720"/>
            <a:ext cx="476280" cy="357120"/>
          </a:xfrm>
          <a:prstGeom prst="pie">
            <a:avLst/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TextBox 4"/>
          <p:cNvSpPr/>
          <p:nvPr/>
        </p:nvSpPr>
        <p:spPr>
          <a:xfrm>
            <a:off x="8477280" y="100008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ahoma"/>
              </a:rPr>
              <a:t>Затока Прюдс на месте залива Прюд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7-конечная звезда 5"/>
          <p:cNvSpPr/>
          <p:nvPr/>
        </p:nvSpPr>
        <p:spPr>
          <a:xfrm>
            <a:off x="5334120" y="3929040"/>
            <a:ext cx="571320" cy="428760"/>
          </a:xfrm>
          <a:prstGeom prst="pie">
            <a:avLst/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7-конечная звезда 6"/>
          <p:cNvSpPr/>
          <p:nvPr/>
        </p:nvSpPr>
        <p:spPr>
          <a:xfrm>
            <a:off x="7810560" y="2071800"/>
            <a:ext cx="571320" cy="428400"/>
          </a:xfrm>
          <a:prstGeom prst="pie">
            <a:avLst/>
          </a:prstGeom>
          <a:solidFill>
            <a:srgbClr val="ff0000"/>
          </a:solidFill>
          <a:ln cap="rnd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TextBox 7"/>
          <p:cNvSpPr/>
          <p:nvPr/>
        </p:nvSpPr>
        <p:spPr>
          <a:xfrm>
            <a:off x="8572680" y="1928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Исчезнувший мыс Эймер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9T11:14:19Z</dcterms:created>
  <dc:creator>User</dc:creator>
  <dc:description/>
  <dc:language>en-US</dc:language>
  <cp:lastModifiedBy>luba</cp:lastModifiedBy>
  <dcterms:modified xsi:type="dcterms:W3CDTF">2019-03-03T03:32:45Z</dcterms:modified>
  <cp:revision>13</cp:revision>
  <dc:subject/>
  <dc:title>Презентация PowerPoint</dc:title>
</cp:coreProperties>
</file>