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7992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3742-6301-4D7E-8537-1C06B7F016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1517E-EF0A-4433-8DF2-FF5CD4D4E9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B678-B720-45B6-85C3-E443A9CEBD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C2BFA-A281-4AF6-84E1-63825EDFA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225F8-B131-472B-A397-FADE204C18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3890A-C227-4674-AC8B-0333AEFBD0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36C6B-998C-4C7B-9633-C42BBF256C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BD1-C3DE-4A23-AFE8-F6CD721D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B71-EE82-4DD9-A20A-F0E06558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E2C-E5A9-47CD-949C-DC2B315A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648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648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F47-7814-4B05-AEBA-05280E63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89A42-555D-416E-BE86-20D84951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1D65-85C7-4D98-AF32-D28D78AA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A7B95-F86A-4282-82CC-8BC1D73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49C2A-872C-4F20-B526-085D1828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89A3-4269-4020-B742-38168C9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5260-C054-4BA0-8FC9-A0D18B7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0AFF0-2BF0-4056-B3C0-7327435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7A4-CBA1-452A-8BD0-57D63B01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FD205-4C7F-410F-A599-1BDF423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11F88-71DA-4FFB-A608-1474DF9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BD040-BBD8-4194-97A5-8C291974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FBA5D-A957-4CCB-9DC3-74492E8F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24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6480" y="191268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24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6480" y="4197600"/>
            <a:ext cx="27882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EF50B-0863-470C-A8D2-EFA59D69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498-94B1-4FC1-8ABB-64A187E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4A3-F08A-4B02-9C64-C28B7D4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400-29DF-42AB-82B7-510C268F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F34-589E-4A97-96B6-A516CC0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0AB-4A46-4C38-86A4-5C84A8B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7720" y="419760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14A-67F9-4BBF-A741-8A9EA73D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720" y="1912680"/>
            <a:ext cx="422568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600"/>
            <a:ext cx="865980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A2B-A914-4169-91D3-6D0BBB04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70889-5214-4112-8BFC-F4034B8E4A9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598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20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AFF10-B7C2-4F7D-883D-79C88A158B0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44720" y="144360"/>
            <a:ext cx="600876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3040" y="7318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11280" y="863640"/>
            <a:ext cx="7128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блю глаза твои, мой дру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игрой их пламенно-чудесн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их приподымешь в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, словно молнией небесн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кинешь бегло целый круг...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. Тютчев  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" y="550800"/>
            <a:ext cx="10079280" cy="645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6360" y="285840"/>
            <a:ext cx="9477360" cy="6770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3040" y="351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97160" y="1208160"/>
            <a:ext cx="464328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27:52Z</dcterms:created>
  <dc:creator>user </dc:creator>
  <dc:description/>
  <dc:language>en-US</dc:language>
  <cp:lastModifiedBy/>
  <cp:revision>0</cp:revision>
  <dc:subject/>
  <dc:title/>
</cp:coreProperties>
</file>