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79920" cy="37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24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9884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C831F-590F-4F24-9CB2-D1495A4E3B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95AD5-021D-4BBF-B204-F340E177F1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8A2F2-906F-483D-B1E4-7768B9F655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6ED10-E745-458F-B5D4-1FA42583D7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F69D9-8F91-42DB-95A7-7B9820FD2D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8D8EB-2013-4094-8D95-D9FA8CE223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6AA2E-07D4-445B-A867-669452BB7F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C5C-05DE-4DA4-8D0B-E2F36908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598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97600"/>
            <a:ext cx="86598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148-3B02-41C9-8012-D7FD0F67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772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A01-ABAD-4E39-8DA4-50E84DDE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91268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6480" y="191268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9760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419760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6480" y="419760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9BD-E4AC-4D6F-B0D6-0936F526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7DF74-7BDE-4543-A4F3-74617CC5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598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CBD63-B38C-434C-8AD7-49AEDEFE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598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C728E-7539-4915-A492-700C0664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B78FB-4D96-41E4-BDA3-9B8702D4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059E5-B0EF-4950-9B17-66DF1AB6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5508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7EAE4-4321-4607-8E91-3722140C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36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2FF15-CFAF-4F12-9984-F9E8351C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598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5EF-8300-454E-9DA8-BAEE1293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72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A3B24-22C2-436E-B2EF-888A4684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360" y="4197600"/>
            <a:ext cx="86598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A6C58-3A1B-431B-BBD4-5CCBCC26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598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360" y="4197600"/>
            <a:ext cx="86598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3185F-0D85-4F27-AB4C-51B63ED3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36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72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86CCB-7F11-476E-9330-000E43C4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240" y="191268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76480" y="191268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360" y="419760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240" y="419760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76480" y="419760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35E8E-D099-4E44-97B8-42FFE6EA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598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85B-3266-4B33-A3F8-D9F9863D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BA1-D508-40A3-865F-B4FC7B9C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BA1-235A-4C0A-8C34-0424C78C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5508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BE9-5E58-48F0-81FB-FFCA2A46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9A0-C979-4FAF-8D76-FB40914A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772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123-24FD-4358-9305-192B0C4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97600"/>
            <a:ext cx="86598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246-EE4A-4E38-A59E-F6E8DBC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15500-7897-45DA-B681-B078147E4F6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12680"/>
            <a:ext cx="86598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155000" y="6527880"/>
            <a:ext cx="23320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15D6C-3D1E-49B2-B0DC-59F3C2C2A2B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44720" y="144360"/>
            <a:ext cx="6008760" cy="7199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3040" y="7318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11280" y="863640"/>
            <a:ext cx="7128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юблю глаза твои, мой друг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 игрой их пламенно-чудесн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гда их приподымешь вд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, словно молнией небесн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кинешь бегло целый круг...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. Тютчев   18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47640" y="57636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0" y="550800"/>
            <a:ext cx="10079280" cy="6456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6360" y="285840"/>
            <a:ext cx="9477360" cy="6770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3040" y="351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97160" y="1208160"/>
            <a:ext cx="4643280" cy="5500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1:27:52Z</dcterms:created>
  <dc:creator>user </dc:creator>
  <dc:description/>
  <dc:language>en-US</dc:language>
  <cp:lastModifiedBy/>
  <cp:revision>0</cp:revision>
  <dc:subject/>
  <dc:title/>
</cp:coreProperties>
</file>