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8172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1C4A-CCB1-4C19-BC74-A655931BFC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7E8E-A793-42DC-A3AF-CC7AD25FF2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4C946-4F18-48C7-836B-DBABA2D35A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109D2-5AAD-436F-B9F7-DA6A3B2837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42B-85A7-4E12-8EFD-058FDA7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50D-7B9C-4839-8D4B-5AB0F25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8F0-1982-4EC8-8BE3-0A1CB31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4AE-4509-401D-847E-A4155A3A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D235-792E-40F1-85E3-B92032EE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85C4A-B371-4EA9-868A-7BEECCD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C23BE-D5A7-448A-B7EE-C3EE316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1219-AF41-45A8-BCA2-5F1CE215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885A-8459-438D-9E1A-1585EFB1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F053B-AF90-424A-A821-8C15ED99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1590A-A752-4E78-BDE0-436AC81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A6C-126F-4611-9CD9-65E1DC96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6571A-DEFF-4D13-84DD-D21B5CB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78C0-AB6F-4506-83C4-4F4985A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EE781-951C-4B34-92DA-C0370A8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7325-12AA-42D4-AF11-C5A1242F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46D70-2B84-4E71-8224-794EE30B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BAA-7FB4-431D-B749-C05902F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B7B-4B9C-4246-B308-C5E9F529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E37-7D5B-4140-80B2-EDD8E681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303-39E4-4A92-A078-9CE87F6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839-C55D-44E3-8A9C-9FB341D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275-66DD-4E74-AC28-56342288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ED5-B0CC-4279-BA79-E95CB0B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D9BCD-FF3B-4D66-937D-A68CC3C10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E6E92-89C3-466F-99AE-90C3EE4C976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7640" y="792000"/>
            <a:ext cx="900432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6360" y="431640"/>
            <a:ext cx="906624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0560" y="446040"/>
            <a:ext cx="9048960" cy="666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000" y="988920"/>
            <a:ext cx="8496360" cy="592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0360" y="426960"/>
            <a:ext cx="921528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48000" y="431640"/>
            <a:ext cx="4626000" cy="669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44720" y="431640"/>
            <a:ext cx="604836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6000" y="503280"/>
            <a:ext cx="9504360" cy="655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9288720" cy="662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0720" y="863640"/>
            <a:ext cx="835200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45:21Z</dcterms:created>
  <dc:creator>user </dc:creator>
  <dc:description/>
  <dc:language>en-US</dc:language>
  <cp:lastModifiedBy/>
  <cp:revision>0</cp:revision>
  <dc:subject/>
  <dc:title/>
</cp:coreProperties>
</file>