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8172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A7893-9C01-48BA-958B-91624CDCF2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6C40-45AE-4D8D-9AE2-850D26174A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4F70E-9E14-499C-AF58-8C2AE2FC2A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D2870-9DD0-44AB-A66E-C6BD065CF5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E59-8ACC-40B6-B164-B7FE7576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6B7-A50E-465A-91DF-0EF17758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843-0F14-40F6-8D84-5F54749E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8D1-0DEA-440B-9899-8E368AF3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BFE01-606E-45F5-87AC-8B46C80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E5159-58D2-46E3-9603-A5021103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7ABAE-8820-4CD6-A941-5EC17A1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2CED3-4828-40B8-8647-FBC2E3F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429DC-3F7C-4033-8A96-1295C9D6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7B2F7-002B-498A-AC6D-D285FA39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BB110-39AE-4509-9BBA-0E4EE7F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275-1AFD-4641-A3EA-99117D4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E0E7-8514-4D43-BB4A-EA3925D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FEB71-0590-4147-B7D8-7F36F58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8A46F-DABB-428A-8B15-14C7F8F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8C461-C709-4550-A894-BA05FBE1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B51BA-9F05-49BD-8B28-95E5E85D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971-304F-4F8E-BF16-4A03D78E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F10-1363-49D1-A580-212CEC7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C77-5AF4-45A2-9C0E-3C0E65F3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F3E-4BE9-42B7-9492-52E20F2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F5A-32ED-40D6-B090-41DDD97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AB9-58EE-416A-B15F-70DEABE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4A9-C57E-4958-B843-DDB7CA8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55A70-5F68-4433-BDE5-4E318514C1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22C9F-FF2A-40BE-9E8B-B0BA0302655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7640" y="792000"/>
            <a:ext cx="900432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6360" y="431640"/>
            <a:ext cx="906624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0560" y="446040"/>
            <a:ext cx="9048960" cy="666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000" y="988920"/>
            <a:ext cx="8496360" cy="592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0360" y="426960"/>
            <a:ext cx="921528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48000" y="431640"/>
            <a:ext cx="4626000" cy="669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44720" y="431640"/>
            <a:ext cx="604836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6000" y="503280"/>
            <a:ext cx="9504360" cy="655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9288720" cy="662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0720" y="863640"/>
            <a:ext cx="835200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45:21Z</dcterms:created>
  <dc:creator>user </dc:creator>
  <dc:description/>
  <dc:language>en-US</dc:language>
  <cp:lastModifiedBy/>
  <cp:revision>0</cp:revision>
  <dc:subject/>
  <dc:title/>
</cp:coreProperties>
</file>