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6552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88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9884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43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730AA-B438-4EC0-8C76-95354ED634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09F77-68B0-41E6-97A8-3AA795C5E7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2C03D-0893-461F-B5C2-50BE529D14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53805-CD6B-44D0-A3C1-973BA98375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E2C3C-18E2-4AEA-AA03-D25AA25141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1EB-EE7B-4199-B1AD-007C478A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936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99D-9E6A-47FA-AD14-1C3F9453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315-6322-4452-8E23-EC915FC2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356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40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356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40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A81-5687-4786-95AE-E5A9792F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12A4F-4ED1-4552-B444-13287D40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4540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E0743-3569-4F56-9F1C-9BD2D560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4540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BA190-8127-4C7A-92F7-616370AD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3C240-11BA-4920-8070-3F438989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5F2A7-AA51-4FC9-BD8A-481FC1F8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410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D5F5D-CEAD-46F3-9378-5DFCF6BD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CE15E-94C6-43ED-A6F9-7833806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4540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369-256D-46BC-AF8B-475A3FEA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09768-5F39-4BB9-98D4-946BD316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9E116-DFED-45E4-908A-0E66741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360" y="41936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0E485-8AC9-4078-8361-73F446C0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D4056-966A-4C95-88EC-3DFE825B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356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640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36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356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640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22026-7358-4E9C-87A1-879D3FF1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4540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408-B933-4C6E-807E-1ABCDDC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1CC-8912-42B5-A15C-AE9111B5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E55-FF14-4578-9DB8-53A12BFD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410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152-E58E-4C43-8F07-B26A365D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2E6-9243-4793-B2DC-B581F8F8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101-3B79-4A38-96F6-83D1C0EC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80B-11F0-44B4-B494-B153386E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9880"/>
            <a:ext cx="9051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5024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B5E9C-0337-4EC1-899E-BE332D62759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3040"/>
            <a:ext cx="864540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155000" y="6527880"/>
            <a:ext cx="23176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6A88C-52D3-4E62-BF76-DA2A6631B9D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16000" y="71280"/>
            <a:ext cx="6686640" cy="734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46400" y="360360"/>
            <a:ext cx="559908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7640" y="216000"/>
            <a:ext cx="4895640" cy="712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09680" y="216000"/>
            <a:ext cx="5668920" cy="6983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36720" y="576360"/>
            <a:ext cx="878364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92000" y="503280"/>
            <a:ext cx="835200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1:53:48Z</dcterms:created>
  <dc:creator>user </dc:creator>
  <dc:description/>
  <dc:language>en-US</dc:language>
  <cp:lastModifiedBy>user </cp:lastModifiedBy>
  <dcterms:modified xsi:type="dcterms:W3CDTF">2019-03-03T11:56:45Z</dcterms:modified>
  <cp:revision>1</cp:revision>
  <dc:subject/>
  <dc:title/>
</cp:coreProperties>
</file>