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38320" y="763560"/>
            <a:ext cx="546552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88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98840" y="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43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30A7D-B7C0-4C75-A03D-E31CEF6798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CC4D2-DC6A-4AC5-A42A-11BEF9A23C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E93C7-EDA7-4DF0-B206-E2CC6F3443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DC751-EF75-4DBB-BCAD-440343B4D6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39884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16C04-F53B-4156-B22B-E7BA78B18C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DA1-FE0D-4CA9-89FA-DB3F7218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4540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93640"/>
            <a:ext cx="864540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E36-3EF3-4B3F-A025-9EB8A979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B97-F506-4AAE-A372-0AEDF672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3560" y="19130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400" y="19130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936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3560" y="41936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400" y="41936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F0A-1ADA-4BBA-BD0E-33AB1AC4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1ADBB-3C29-444A-B57A-0A70C0FE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4540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AB8A8-3EE6-4809-AFE3-C2589104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4540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2D5B6-BF69-4570-88B6-FE2A7108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D5019-25AB-4071-8967-C466AA24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3625E-9A46-417B-9F93-FF514B73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4720" y="539640"/>
            <a:ext cx="90410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333F1-21E4-4D48-9EE0-C6F1D7F6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36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360B5-BEF4-4DBF-9792-5B0CB6BF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4540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169-EDF0-494F-B911-8DB4C429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17463-B034-484F-8F5F-B54C4820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360" y="4193640"/>
            <a:ext cx="864540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55D38-C90E-4629-88C6-FC1B38D7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4540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360" y="4193640"/>
            <a:ext cx="864540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F3772-D55A-4D06-BC3F-20367EA7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36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D6916-9E48-459C-ACE7-66BC30B1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3560" y="19130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6400" y="19130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360" y="41936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3560" y="41936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6400" y="4193640"/>
            <a:ext cx="27835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5AA1F-1650-4BE3-9DD3-80A7962E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4540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FC8-E34E-4BD9-BDD8-FEC81220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C35-E067-41D2-B58C-F043008B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ED4-8295-4038-97F4-6C2044C7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539640"/>
            <a:ext cx="90410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B80-D25C-430B-AE99-101D5E8C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540-6CE7-41CC-BA66-03B69D50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1936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13B-6B11-4F25-B001-318ACCD2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913040"/>
            <a:ext cx="42188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93640"/>
            <a:ext cx="864540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68B-782D-4B52-BBD5-DC1BEF84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9880"/>
            <a:ext cx="9051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5024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29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B848B-7396-4C42-935C-4CDC97704CA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410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13040"/>
            <a:ext cx="864540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527880"/>
            <a:ext cx="3187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155000" y="6527880"/>
            <a:ext cx="23176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FDA91-62F2-455C-96E7-1D651D48720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16000" y="71280"/>
            <a:ext cx="6686640" cy="734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46400" y="360360"/>
            <a:ext cx="5599080" cy="7199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87640" y="216000"/>
            <a:ext cx="4895640" cy="712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09680" y="216000"/>
            <a:ext cx="5668920" cy="6983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36720" y="576360"/>
            <a:ext cx="878364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92000" y="503280"/>
            <a:ext cx="8352000" cy="583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3T11:53:48Z</dcterms:created>
  <dc:creator>user </dc:creator>
  <dc:description/>
  <dc:language>en-US</dc:language>
  <cp:lastModifiedBy>user </cp:lastModifiedBy>
  <dcterms:modified xsi:type="dcterms:W3CDTF">2019-03-03T11:56:45Z</dcterms:modified>
  <cp:revision>1</cp:revision>
  <dc:subject/>
  <dc:title/>
</cp:coreProperties>
</file>