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75240" cy="37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1974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530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ADF19-3A83-4D4C-BFDD-3DB26564BE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6A27C-837A-4CF5-8A4F-4372D945CA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32610-BDDC-4349-9507-29335431CE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B5C1-8A71-4EE1-A0CA-ADDB43484B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4E93-0364-4635-AF03-B2BC1F31AE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383E9-4ACA-4C93-AC1E-BBB03716AD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73369-A5AF-4A46-BC03-A45E78022F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98960-6581-44A3-AECD-24117621A7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CC7-F594-4A5E-B41E-6C7848CB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AA7-B09D-47F3-A43E-7DB01863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349-8B6B-4FF0-A5A5-583E8C31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16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60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BA6-736B-4A67-AA27-4F5CA8A2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FAE7A-3B51-47AE-A85A-D0AAD9D5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ED517-5D47-4C9F-A144-6F36BD28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326CB-5435-4A0B-B6B9-915AEB9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1C97E-605B-470B-A3CC-4539FDF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249C5-8BDA-445E-A6B9-244DD3B1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09F7-0D8F-4BDC-BC7F-AC1C41C2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19BC9-99F7-4E9F-A5DD-9221EA7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4F7-43DE-4C99-B387-604CEBDC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9DACD-CE4E-47E4-995F-D556976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B670E-2396-436B-BA9D-DE9BF2F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51471-6491-43E8-8767-74698B8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C8F7-84DF-4DC3-B21B-94AE7AF7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16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3600" y="191268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16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3600" y="4194720"/>
            <a:ext cx="27867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4B11C-D362-4E30-A930-7374818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6D6-BC56-46AC-9B50-0E46A7A5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BA6-778D-475F-B8C8-E3CC291A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2A1-EADD-4B05-8173-F5EFA126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280"/>
            <a:ext cx="905040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CAC-135B-4517-9BB6-017BF2AF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46A-6F5B-4D4E-93B0-C6870A5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9472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D3E-1AE0-432B-82DE-E895A32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12680"/>
            <a:ext cx="4223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94720"/>
            <a:ext cx="8655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376-B8AD-43D5-A140-669D324F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14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2ED08-6C1F-4AF6-A865-1E880F461A0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280"/>
            <a:ext cx="90504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912680"/>
            <a:ext cx="8655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520"/>
            <a:ext cx="23270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7CE04-2844-4560-9513-C821B2094D9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92000" y="1224000"/>
            <a:ext cx="835200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0" y="415800"/>
            <a:ext cx="9283680" cy="672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1152360"/>
            <a:ext cx="7666200" cy="5475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2000" y="1440000"/>
            <a:ext cx="8188560" cy="532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60720" y="0"/>
            <a:ext cx="6514920" cy="741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8120" y="336600"/>
            <a:ext cx="9753840" cy="6886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754760" y="1422360"/>
            <a:ext cx="2325960" cy="2643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1851120"/>
            <a:ext cx="368316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82760" y="0"/>
            <a:ext cx="2786400" cy="177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183200" y="370836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82520" y="4113360"/>
            <a:ext cx="3929040" cy="34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2:08:06Z</dcterms:created>
  <dc:creator>user </dc:creator>
  <dc:description/>
  <dc:language>en-US</dc:language>
  <cp:lastModifiedBy/>
  <cp:revision>0</cp:revision>
  <dc:subject/>
  <dc:title/>
</cp:coreProperties>
</file>