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37960" y="763560"/>
            <a:ext cx="5475240" cy="37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1974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530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0E010-16AB-40A5-B5CA-6A65814F64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58AB8-11C1-4879-9894-DDE71499C6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4E9EE-66D5-4EA1-B3FA-7ABF127CBE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5B692-B113-4024-A3BA-A06E66692E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B68BC-FBBD-46B6-9F4B-A50E9666DE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7BD09-693D-4732-8029-75B21FFC45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59738-F20B-4889-9C42-2280342AA8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A1D36-126A-4455-B273-5199029A8A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0AB-C4A7-490F-BCE4-8F03828E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9472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61A-3F71-41E8-B9CD-46186048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F74-3D38-42B0-9B29-4576AF42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16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60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16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60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E20-261E-4ECA-8D17-D14477CE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C3759-AE56-4319-B366-7B3799BC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65C9B-1C3B-4DAE-AE81-25768632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FCF0A-7C41-4822-B092-00CFC29F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2AEBC-C137-40C7-A9D6-608B194B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92615-F7B7-4E3B-98DE-8E59DC54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5040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1FCFD-9449-48EF-AF47-35BD84A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B7147-C4D4-4EF3-ADAA-8610DDB7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17A-36CA-415D-8D49-4F99DB7C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59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DD6DD-65AD-4511-AA22-8C69658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610A7-0AF9-43A0-9EBD-56E5B1E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19472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AFD47-3ABD-4682-A876-354DF47B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59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8F646-76EF-41BA-A7D9-D9BDE10B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16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360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16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360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5A920-DEB2-48DE-9FD2-EEE2FBCB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EDC-1AEB-4F45-8D6F-005BAEF1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C34-6683-4F43-8335-FB1AB186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68D-1B68-4DC5-AE0E-C152B752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5040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64B-D1B4-4E70-B0F7-2616B794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63A-AD57-41BA-BFAB-985589B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9EA-DD3A-4F58-A75F-EED01E7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5A0-CEB7-4828-B3FE-2CFF59E2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14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6C516-B7D0-4C18-9021-1E125D04501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520"/>
            <a:ext cx="23270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6433A-243E-4324-90E5-EBBD8B59D2E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92000" y="1224000"/>
            <a:ext cx="835200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0" y="415800"/>
            <a:ext cx="9283680" cy="6728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1152360"/>
            <a:ext cx="7666200" cy="5475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2000" y="1440000"/>
            <a:ext cx="8188560" cy="5325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160720" y="0"/>
            <a:ext cx="6514920" cy="7415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8120" y="336600"/>
            <a:ext cx="9753840" cy="6886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754760" y="1422360"/>
            <a:ext cx="2325960" cy="2643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1851120"/>
            <a:ext cx="368316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82760" y="0"/>
            <a:ext cx="2786400" cy="177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183200" y="370836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82520" y="4113360"/>
            <a:ext cx="3929040" cy="34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2:08:06Z</dcterms:created>
  <dc:creator>user </dc:creator>
  <dc:description/>
  <dc:language>en-US</dc:language>
  <cp:lastModifiedBy/>
  <cp:revision>0</cp:revision>
  <dc:subject/>
  <dc:title/>
</cp:coreProperties>
</file>