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8172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EC192-3741-4D76-9461-E21AF6B3A6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5E67E-BD23-43C4-8BB2-FB8F275B2E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2B91-E7D9-4E15-9869-1DCB8D0547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73A40-D475-4424-97A9-CF0ECE3715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8A771-08CE-4447-999C-098570835D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BBAC-D9ED-41D3-BAA0-22709C425D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8474B-2A80-4F8E-92E9-77D3A0EEEA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87B-A52D-4CD7-AF5E-7612E830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CA8-1F7D-46A2-8FB6-3734D3EC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82C-D03F-4CDD-A7E5-88867285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F33-D50A-4BE8-900B-D7C0713D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7DF23-79EB-4455-879E-C8D8EA3F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B8688-D2E7-411D-A24A-1100DD28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72C70-9D00-4CB3-A12E-71A4090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946A2-3752-4416-BB5C-21D3FC02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80C66-A4B0-44F2-827C-461F220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0239-81A0-4A50-8605-F4A36FFA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4196D-C648-471B-B343-04E40BD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364-4D0E-4F16-B2C1-90CC1F3F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A3E3F-396D-494A-BF51-86C2190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F9186-04F9-4B36-BFD2-C2BB930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7795B-4672-45BE-BD94-C48E6DF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5C51F-0C9D-4BC9-8245-C3B59807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DC993-52A0-4C1C-B085-8B5E991C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9C8-10C2-4D1C-9490-E096CB6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2BD-3222-4A85-8DBC-A195906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E8D-D1A7-4E32-9CD7-1EAF9B20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590-5547-4446-A35D-1AB46680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945-A156-4F84-B5AD-DC16B9FF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1BD-F566-4F8A-9CEE-7CB584B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4EB-BB14-4AD5-BACB-149864A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7E56-8763-4C3C-843C-3A8C3B6E331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335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2920-5D27-439E-A088-8ACC522A49C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3920" y="98568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422600"/>
            <a:ext cx="4183200" cy="313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52360" y="863640"/>
            <a:ext cx="719964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75596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11280" y="1008000"/>
            <a:ext cx="612000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1152360"/>
            <a:ext cx="7704360" cy="541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0" y="582480"/>
            <a:ext cx="10079280" cy="6394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39:26Z</dcterms:created>
  <dc:creator>user </dc:creator>
  <dc:description/>
  <dc:language>en-US</dc:language>
  <cp:lastModifiedBy/>
  <cp:revision>0</cp:revision>
  <dc:subject/>
  <dc:title/>
</cp:coreProperties>
</file>