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37960" y="763560"/>
            <a:ext cx="5481720" cy="37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98840" y="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7"/>
          </p:nvPr>
        </p:nvSpPr>
        <p:spPr>
          <a:xfrm>
            <a:off x="4398480" y="955512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642F4-84D3-45F1-A101-ABC3FF93B1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BC9D4-730B-408B-9BD7-6E727AC3F7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6E0F1-E253-44A3-B839-28E24824A8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AF1E4-DA39-412D-B5A3-8BF967CD20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CCA15-7091-4551-89DE-63FEB287A59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1EFB5-5EB1-4ED4-A889-3A3AB9AAF2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1AF76-0C61-448A-A44C-EF69CEF2E8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00D7-E39D-4AF0-A366-97A9E1AD7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86612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4197960"/>
            <a:ext cx="86612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8F69-C33D-42F8-94E7-9B065513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844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419796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8440" y="419796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AA44-31FA-4962-816A-A1BE0D2F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8600" y="191268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7200" y="191268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419796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8600" y="419796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7200" y="419796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AFB4-6CAD-4D10-A5C5-0E15F817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79995-C4B4-4852-A706-000B0777E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20360" y="1912680"/>
            <a:ext cx="86612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F9820-1C3D-48FA-95F8-C4EDD9CE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86612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69F9E-ECDA-4433-A8D7-F3C9272C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64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8440" y="1912680"/>
            <a:ext cx="42264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E88AB-DCF3-459C-8EAD-D0F6BD7B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7FD5A-4E83-4AE0-98FF-82E5A898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4720" y="539640"/>
            <a:ext cx="905688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932FB-082B-4116-A045-4FE36D2E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8440" y="1912680"/>
            <a:ext cx="42264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20360" y="419796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2D769-165E-4AAD-872B-965361F5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12680"/>
            <a:ext cx="86612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CCA4-99E8-4BCC-8E30-2214ED35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64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844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8440" y="419796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3D902-5FF5-4C47-88A2-118D0B01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844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20360" y="4197960"/>
            <a:ext cx="86612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E5EDF-E1BC-4F2E-9054-111B3426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86612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20360" y="4197960"/>
            <a:ext cx="86612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08A69-EA32-42BD-9063-75C4D4F9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844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20360" y="419796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8440" y="419796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42517-44DC-475F-8799-6983C83A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8600" y="191268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77200" y="191268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20360" y="419796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8600" y="419796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77200" y="4197960"/>
            <a:ext cx="27885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6CDE1-DD32-4985-8BDE-87F4EC85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86612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68E1-A0E8-4DA8-9FE5-E1134DF6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64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8440" y="1912680"/>
            <a:ext cx="42264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0F44-C009-4C65-B6E1-8B29D2F0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534C-48F6-4AA2-8938-864AA234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539640"/>
            <a:ext cx="905688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9037-47DD-47F3-BA26-949D0F55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8440" y="1912680"/>
            <a:ext cx="42264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419796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9E09-BDB6-4CC8-9939-9591A545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64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844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8440" y="419796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15B2-A234-4733-8BDA-082E26FB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8440" y="1912680"/>
            <a:ext cx="422640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4197960"/>
            <a:ext cx="86612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767A-2DC9-4D25-87C6-49C5311C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F2E05-7CAA-4F35-B75A-82601BBD08D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56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12680"/>
            <a:ext cx="86612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6360" y="6527880"/>
            <a:ext cx="2340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48080" y="6527880"/>
            <a:ext cx="3187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7155000" y="6527880"/>
            <a:ext cx="233352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88D70-4061-4C5E-AA84-C4D87A89F9C4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5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53920" y="985680"/>
            <a:ext cx="8382240" cy="5588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4422600"/>
            <a:ext cx="4183200" cy="3137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52360" y="863640"/>
            <a:ext cx="7199640" cy="5975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008000" y="1008000"/>
            <a:ext cx="755964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511280" y="1008000"/>
            <a:ext cx="6120000" cy="5543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295280" y="1152360"/>
            <a:ext cx="7704360" cy="5416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80" y="582480"/>
            <a:ext cx="10079280" cy="6394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3T11:39:26Z</dcterms:created>
  <dc:creator>user </dc:creator>
  <dc:description/>
  <dc:language>en-US</dc:language>
  <cp:lastModifiedBy/>
  <cp:revision>0</cp:revision>
  <dc:subject/>
  <dc:title/>
</cp:coreProperties>
</file>