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741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e37416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4e93"/>
                </a:solidFill>
                <a:latin typeface="Century Schoolbook"/>
              </a:rPr>
              <a:t>Учитель математик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4e93"/>
                </a:solidFill>
                <a:latin typeface="Century Schoolbook"/>
              </a:rPr>
              <a:t>Первой квалификационной категори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4e93"/>
                </a:solidFill>
                <a:latin typeface="Century Schoolbook"/>
              </a:rPr>
              <a:t>Куценко Ольга Владимировна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4e93"/>
                </a:solidFill>
                <a:latin typeface="Century Schoolbook"/>
              </a:rPr>
              <a:t>МКОУ Веселовская СОШ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c005c"/>
                </a:solidFill>
                <a:latin typeface="Century Schoolbook"/>
              </a:rPr>
              <a:t>Конкурсное испытание </a:t>
            </a:r>
            <a:br>
              <a:rPr sz="3600"/>
            </a:br>
            <a:r>
              <a:rPr b="1" i="1" lang="en-US" sz="3600" spc="-1" strike="noStrike">
                <a:solidFill>
                  <a:srgbClr val="5c005c"/>
                </a:solidFill>
                <a:latin typeface="Century Schoolbook"/>
              </a:rPr>
              <a:t>«Методический семинар»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31640" y="333360"/>
            <a:ext cx="5843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004c"/>
                </a:solidFill>
                <a:latin typeface="Century Schoolbook"/>
              </a:rPr>
              <a:t>Результаты ЕГЭ (средний балл)</a:t>
            </a:r>
            <a:r>
              <a:rPr b="0" lang="en-US" sz="3200" spc="-1" strike="noStrike">
                <a:solidFill>
                  <a:srgbClr val="1a396c"/>
                </a:solidFill>
                <a:latin typeface="Century Schoolbook"/>
              </a:rPr>
              <a:t>   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765000"/>
          <a:ext cx="507672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765000"/>
                    <a:ext cx="507672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50920" y="3716280"/>
          <a:ext cx="4968720" cy="29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96872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8640" y="335772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b71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4c004c"/>
                </a:solidFill>
                <a:latin typeface="Century Schoolbook"/>
              </a:rPr>
              <a:t>Результаты ОГЭ (в процент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Литература: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1. Бакланский О.Е. Проблемное обучение: обоснование и реализация // Наука и школа. – 2000. - № 1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2. Заир-Бек С.И., Муштавинская И.В. “Развитие критического мышления на уроке”. – 2011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3. Манвелов С.Г. Конструирование современного урока. - М.:Просвещение, 2002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4. Селевко Г.К. Современные образовательные технологии: Учебное пособие. –  1998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5. Интернет – ресурсы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Century Schoolbook"/>
              </a:rPr>
              <a:t>    </a:t>
            </a:r>
            <a:r>
              <a:rPr b="0" lang="en-US" sz="2400" spc="-1" strike="noStrike" u="sng">
                <a:solidFill>
                  <a:srgbClr val="1a396c"/>
                </a:solidFill>
                <a:uFillTx/>
                <a:latin typeface="Century Schoolbook"/>
              </a:rPr>
              <a:t>Актуальность опыта</a:t>
            </a:r>
            <a:r>
              <a:rPr b="0" lang="en-US" sz="2400" spc="-1" strike="noStrike">
                <a:solidFill>
                  <a:srgbClr val="1a396c"/>
                </a:solidFill>
                <a:latin typeface="Century Schoolbook"/>
              </a:rPr>
              <a:t> заключается в том, что объективные потребности общества делают актуальной проблему широкого внедрения современных педагогических технологий с целью формирования ключевых компетенций учащихся на уроках математики.  Актуальность, вытекает из трудностей, которые испытывают ученики в процессе обучения. У учеников недостаточно развиты такие умения, как умение обобщать, выделять главное, сравнивать, сопоставлять различные факты и явления, давать им оценку. Особенно трудно ученикам оперировать полученными знаниями и применять их в новой ситуации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a396c"/>
                </a:solidFill>
                <a:latin typeface="Century Schoolbook"/>
              </a:rPr>
              <a:t>             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entury Schoolbook"/>
              </a:rPr>
              <a:t>Цель методического семинара:</a:t>
            </a:r>
            <a:r>
              <a:rPr b="1" i="1" lang="en-US" sz="2400" spc="-1" strike="noStrike">
                <a:solidFill>
                  <a:srgbClr val="1a396c"/>
                </a:solidFill>
                <a:latin typeface="Century Schoolbook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1a396c"/>
                </a:solidFill>
                <a:latin typeface="Century Schoolbook"/>
              </a:rPr>
              <a:t>       обобщение педагогического опыта использования технологий обучения на уроках математики.</a:t>
            </a:r>
            <a:br>
              <a:rPr sz="2400"/>
            </a:b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e93"/>
                </a:solidFill>
                <a:latin typeface="Arial Narrow"/>
              </a:rPr>
              <a:t>    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Century Schoolbook"/>
              </a:rPr>
              <a:t>Целью</a:t>
            </a:r>
            <a:r>
              <a:rPr b="0" lang="en-US" sz="2400" spc="-1" strike="noStrike">
                <a:solidFill>
                  <a:srgbClr val="66006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1a396c"/>
                </a:solidFill>
                <a:latin typeface="Century Schoolbook"/>
              </a:rPr>
              <a:t> моей педагогической деятельности является обеспечение прочного  и сознательного освоения учащимися системы знаний и умений по математике, умениями применять их в практической деятельности. </a:t>
            </a:r>
            <a:r>
              <a:rPr b="0" lang="en-US" sz="2400" spc="-1" strike="noStrike" u="sng">
                <a:solidFill>
                  <a:srgbClr val="1a396c"/>
                </a:solidFill>
                <a:uFillTx/>
                <a:latin typeface="Century Schoolbook"/>
              </a:rPr>
              <a:t>Но это не просто передача определённой суммы знаний, а формирование мотивации учеников на проявление инициативы и самостоятельности в открытии новых знаний.</a:t>
            </a:r>
            <a:r>
              <a:rPr b="0" lang="en-US" sz="2400" spc="-1" strike="noStrike">
                <a:solidFill>
                  <a:srgbClr val="1a396c"/>
                </a:solidFill>
                <a:latin typeface="Century Schoolbook"/>
              </a:rPr>
              <a:t> Также целью является создание в процессе обучения условий для развития познавательных, творческих, коммуникативных способностей учащихся средствами учебного предмета; формирование навыков самостоятельной работы.</a:t>
            </a:r>
            <a:r>
              <a:rPr b="0" lang="en-US" sz="2400" spc="-1" strike="noStrike">
                <a:solidFill>
                  <a:srgbClr val="244e93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74a"/>
                </a:solidFill>
                <a:latin typeface="Century Schoolbook"/>
              </a:rPr>
              <a:t>Для достижения цели ставлю перед  собой следующие педагогические</a:t>
            </a:r>
            <a:r>
              <a:rPr b="0" lang="en-US" sz="2400" spc="-1" strike="noStrike">
                <a:solidFill>
                  <a:srgbClr val="1a396c"/>
                </a:solidFill>
                <a:latin typeface="Century Schoolbook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Century Schoolbook"/>
              </a:rPr>
              <a:t>задачи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Century Schoolbook"/>
              </a:rPr>
              <a:t>:</a:t>
            </a: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-  Совершенствовать формы организации учебно–воспитательной деятельности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-  Использовать в учебно – воспитательном процессе   новые педагогические технологии. 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- Раскрывать творческий, интеллектуальный, нравственный потенциал каждого ученика, предоставить возможность проявить себя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- Прививать навыки самостоятельной работы, эффективной организации своей деятельности, самоконтроля, объективного оценивания полученных результатов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- Формировать устойчивый интерес к изучаемому предмету через классную, внеклассную, кружковую деятельность.</a:t>
            </a:r>
            <a:r>
              <a:rPr b="0" lang="ru-RU" sz="2400" spc="-1" strike="noStrike">
                <a:solidFill>
                  <a:srgbClr val="254b71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                    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604360" y="162864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e9f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21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44e93"/>
                </a:solidFill>
                <a:latin typeface="Century Schoolbook"/>
              </a:rPr>
              <a:t>                        </a:t>
            </a:r>
            <a:r>
              <a:rPr b="1" lang="ru-RU" sz="3200" spc="-1" strike="noStrike">
                <a:solidFill>
                  <a:srgbClr val="600060"/>
                </a:solidFill>
                <a:latin typeface="Century Schoolbook"/>
              </a:rPr>
              <a:t>Формы организации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0060"/>
                </a:solidFill>
                <a:latin typeface="Century Schoolbook"/>
              </a:rPr>
              <a:t>учебно–воспитательной деятельност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фронтальная работа 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работа в постоянных парах (группах) 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работа в парах (группах) сменного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состава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Century Schoolbook"/>
              </a:rPr>
              <a:t>индивидуальная работа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8459640" y="609300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10800"/>
                </a:moveTo>
                <a:lnTo>
                  <a:pt x="24605" y="3794"/>
                </a:lnTo>
                <a:lnTo>
                  <a:pt x="24605" y="17806"/>
                </a:lnTo>
                <a:close/>
              </a:path>
            </a:pathLst>
          </a:custGeom>
          <a:solidFill>
            <a:srgbClr val="e9f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2000" y="2492280"/>
            <a:ext cx="2881440" cy="1727280"/>
          </a:xfrm>
          <a:prstGeom prst="ellipse">
            <a:avLst/>
          </a:prstGeom>
          <a:solidFill>
            <a:srgbClr val="5b82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ТЕХНОЛОГИИ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4292640"/>
            <a:ext cx="2881080" cy="1727280"/>
          </a:xfrm>
          <a:prstGeom prst="ellipse">
            <a:avLst/>
          </a:prstGeom>
          <a:solidFill>
            <a:srgbClr val="ddf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b71"/>
                </a:solidFill>
                <a:latin typeface="Century Schoolbook"/>
              </a:rPr>
              <a:t>Исследовате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b71"/>
                </a:solidFill>
                <a:latin typeface="Century Schoolbook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869000"/>
            <a:ext cx="2881440" cy="1655640"/>
          </a:xfrm>
          <a:prstGeom prst="ellipse">
            <a:avLst/>
          </a:prstGeom>
          <a:solidFill>
            <a:srgbClr val="f6b9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Техноло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крит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565360"/>
            <a:ext cx="2916360" cy="1728720"/>
          </a:xfrm>
          <a:prstGeom prst="ellipse">
            <a:avLst/>
          </a:prstGeom>
          <a:solidFill>
            <a:srgbClr val="ff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сберег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64360" y="2565360"/>
            <a:ext cx="2879640" cy="1655640"/>
          </a:xfrm>
          <a:prstGeom prst="ellipse">
            <a:avLst/>
          </a:prstGeom>
          <a:solidFill>
            <a:srgbClr val="dbe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547e"/>
                </a:solidFill>
                <a:latin typeface="Century Schoolbook"/>
              </a:rPr>
              <a:t>Информ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547e"/>
                </a:solidFill>
                <a:latin typeface="Century Schoolbook"/>
              </a:rPr>
              <a:t>коммуник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547e"/>
                </a:solidFill>
                <a:latin typeface="Century Schoolbook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4221000"/>
            <a:ext cx="2916360" cy="165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Иг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81000"/>
            <a:ext cx="2952720" cy="1656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547e"/>
                </a:solidFill>
                <a:latin typeface="Century Schoolbook"/>
              </a:rPr>
              <a:t>Пробле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547e"/>
                </a:solidFill>
                <a:latin typeface="Century Schoolbook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260280"/>
            <a:ext cx="2951280" cy="1656000"/>
          </a:xfrm>
          <a:prstGeom prst="ellipse">
            <a:avLst/>
          </a:prstGeom>
          <a:solidFill>
            <a:srgbClr val="f4d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c8a"/>
                </a:solidFill>
                <a:latin typeface="Century Schoolbook"/>
              </a:rPr>
              <a:t>Личност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c8a"/>
                </a:solidFill>
                <a:latin typeface="Century Schoolbook"/>
              </a:rPr>
              <a:t>ориент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c8a"/>
                </a:solidFill>
                <a:latin typeface="Century Schoolbook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907920"/>
            <a:ext cx="2916360" cy="1727280"/>
          </a:xfrm>
          <a:prstGeom prst="ellipse">
            <a:avLst/>
          </a:prstGeom>
          <a:solidFill>
            <a:srgbClr val="f0c4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Развив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b71"/>
                </a:solidFill>
                <a:latin typeface="Century Schoolbook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4356720" y="1916640"/>
            <a:ext cx="503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192200">
            <a:off x="5508720" y="2133360"/>
            <a:ext cx="57600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314172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575800">
            <a:off x="5508360" y="3933720"/>
            <a:ext cx="57780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320000" y="4185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8513400">
            <a:off x="3131280" y="400500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2700000" y="3141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3558800">
            <a:off x="3094560" y="216864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19162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32720" y="4076640"/>
            <a:ext cx="395280" cy="289080"/>
          </a:xfrm>
          <a:custGeom>
            <a:avLst/>
            <a:gdLst>
              <a:gd name="textAreaLeft" fmla="*/ 18720 w 395280"/>
              <a:gd name="textAreaRight" fmla="*/ 376560 w 395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9525" h="21600">
                <a:moveTo>
                  <a:pt x="0" y="0"/>
                </a:moveTo>
                <a:lnTo>
                  <a:pt x="29525" y="0"/>
                </a:lnTo>
                <a:lnTo>
                  <a:pt x="29525" y="21600"/>
                </a:lnTo>
                <a:lnTo>
                  <a:pt x="0" y="21600"/>
                </a:lnTo>
                <a:close/>
              </a:path>
              <a:path fill="lightenLess" w="29525" h="21600">
                <a:moveTo>
                  <a:pt x="0" y="0"/>
                </a:moveTo>
                <a:lnTo>
                  <a:pt x="29525" y="0"/>
                </a:lnTo>
                <a:lnTo>
                  <a:pt x="28125" y="1400"/>
                </a:lnTo>
                <a:lnTo>
                  <a:pt x="1400" y="1400"/>
                </a:lnTo>
                <a:close/>
              </a:path>
              <a:path fill="darken" w="29525" h="21600">
                <a:moveTo>
                  <a:pt x="29525" y="0"/>
                </a:moveTo>
                <a:lnTo>
                  <a:pt x="29525" y="21600"/>
                </a:lnTo>
                <a:lnTo>
                  <a:pt x="28125" y="20200"/>
                </a:lnTo>
                <a:lnTo>
                  <a:pt x="28125" y="1400"/>
                </a:lnTo>
                <a:close/>
              </a:path>
              <a:path fill="darkenLess" w="29525" h="21600">
                <a:moveTo>
                  <a:pt x="29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25" y="20200"/>
                </a:lnTo>
                <a:close/>
              </a:path>
              <a:path fill="lighten" w="29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25" h="21600">
                <a:moveTo>
                  <a:pt x="7756" y="3794"/>
                </a:moveTo>
                <a:lnTo>
                  <a:pt x="21769" y="10800"/>
                </a:lnTo>
                <a:lnTo>
                  <a:pt x="7756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3794"/>
                </a:moveTo>
                <a:lnTo>
                  <a:pt x="20533" y="10800"/>
                </a:lnTo>
                <a:lnTo>
                  <a:pt x="6521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3272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005c"/>
                </a:solidFill>
                <a:latin typeface="Century Schoolbook"/>
              </a:rPr>
              <a:t>Личностно-ориентированные  технологии</a:t>
            </a: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b71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разноуровневое обучени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b71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индивидуальный и дифференцированный подход в обучени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b71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обучение в сотрудничеств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b71"/>
                </a:solidFill>
                <a:latin typeface="Wingdings 2"/>
                <a:ea typeface="Wingdings 2"/>
              </a:rPr>
              <a:t>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254b71"/>
                </a:solidFill>
                <a:latin typeface="Century Schoolbook"/>
              </a:rPr>
              <a:t>рефлексивная деятельность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6021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c005c"/>
                </a:solidFill>
                <a:latin typeface="Century Schoolbook"/>
              </a:rPr>
              <a:t>Информационно-коммуникационные технологии</a:t>
            </a: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b71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создаётся обучающая среда с ярким и наглядным представлением информации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3b59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использование ИКТ на уроках позволяет дифференцировать и индивидуализировать процесс усвоения знаний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3b59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информация, представленная в электронном виде, легко обновляема, а следовательно, всегда актуальна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3b59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проведение самоконтроля и взаимоконтроля в ходе выполнения заданий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3b59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появляется возможность разнообразить формы учебной деятельности школьников и формы контроля на уроке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3b59"/>
                </a:solidFill>
                <a:latin typeface="Wingdings 2"/>
                <a:ea typeface="Wingdings 2"/>
              </a:rPr>
              <a:t></a:t>
            </a:r>
            <a:r>
              <a:rPr b="0" lang="en-US" sz="2000" spc="-1" strike="noStrike">
                <a:solidFill>
                  <a:srgbClr val="1d3b59"/>
                </a:solidFill>
                <a:latin typeface="Century Schoolbook"/>
              </a:rPr>
              <a:t>расширяется возможность самостоятельной деятельности, формируются навыки исследовательской деятельности, появляется возможность самим в процессе независимо от преподавателя узнать новое понятие, подметить закономерность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845964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10800"/>
                </a:moveTo>
                <a:lnTo>
                  <a:pt x="20533" y="3794"/>
                </a:lnTo>
                <a:lnTo>
                  <a:pt x="20533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005c"/>
                </a:solidFill>
                <a:latin typeface="Century Schoolbook"/>
              </a:rPr>
              <a:t>Технология критического мышления</a:t>
            </a: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включает в себя три стадии: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─ 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Стадия вызова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─ 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Стадия осмыслени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"</a:t>
            </a:r>
            <a:r>
              <a:rPr b="1" lang="ru-RU" sz="2400" spc="-1" strike="noStrike">
                <a:solidFill>
                  <a:srgbClr val="254b71"/>
                </a:solidFill>
                <a:latin typeface="Century Schoolbook"/>
              </a:rPr>
              <a:t>ТАСК - анализ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". 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254b71"/>
                </a:solidFill>
                <a:latin typeface="Century Schoolbook"/>
              </a:rPr>
              <a:t>"ЧЕТЫРЕ РЕСУРСА" РАБОТЫ С ТЕКСТОМ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(Модель Льюка и Фрибоди)</a:t>
            </a:r>
            <a:r>
              <a:rPr b="1" lang="ru-RU" sz="2400" spc="-1" strike="noStrike">
                <a:solidFill>
                  <a:srgbClr val="254b71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0" lang="ru-RU" sz="2400" spc="-1" strike="noStrike" u="sng">
                <a:solidFill>
                  <a:srgbClr val="254b71"/>
                </a:solidFill>
                <a:uFillTx/>
                <a:latin typeface="Century Schoolbook"/>
              </a:rPr>
              <a:t>Умение кодировать</a:t>
            </a:r>
            <a:r>
              <a:rPr b="0" i="1" lang="ru-RU" sz="2400" spc="-1" strike="noStrike">
                <a:solidFill>
                  <a:srgbClr val="254b7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0" lang="ru-RU" sz="2400" spc="-1" strike="noStrike" u="sng">
                <a:solidFill>
                  <a:srgbClr val="254b71"/>
                </a:solidFill>
                <a:uFillTx/>
                <a:latin typeface="Century Schoolbook"/>
              </a:rPr>
              <a:t>Умение понять</a:t>
            </a:r>
            <a:r>
              <a:rPr b="1" lang="ru-RU" sz="2400" spc="-1" strike="noStrike">
                <a:solidFill>
                  <a:srgbClr val="254b7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0" lang="ru-RU" sz="2400" spc="-1" strike="noStrike" u="sng">
                <a:solidFill>
                  <a:srgbClr val="254b71"/>
                </a:solidFill>
                <a:uFillTx/>
                <a:latin typeface="Century Schoolbook"/>
              </a:rPr>
              <a:t>Умение применять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    </a:t>
            </a:r>
            <a:r>
              <a:rPr b="0" lang="ru-RU" sz="2400" spc="-1" strike="noStrike" u="sng">
                <a:solidFill>
                  <a:srgbClr val="254b71"/>
                </a:solidFill>
                <a:uFillTx/>
                <a:latin typeface="Century Schoolbook"/>
              </a:rPr>
              <a:t>Умение оценивать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─ </a:t>
            </a:r>
            <a:r>
              <a:rPr b="0" lang="ru-RU" sz="2400" spc="-1" strike="noStrike">
                <a:solidFill>
                  <a:srgbClr val="254b71"/>
                </a:solidFill>
                <a:latin typeface="Century Schoolbook"/>
              </a:rPr>
              <a:t>Стадия размышления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10800"/>
                </a:moveTo>
                <a:lnTo>
                  <a:pt x="20533" y="3794"/>
                </a:lnTo>
                <a:lnTo>
                  <a:pt x="20533" y="17806"/>
                </a:lnTo>
                <a:close/>
              </a:path>
            </a:pathLst>
          </a:cu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Evgeniy</cp:lastModifiedBy>
  <dcterms:modified xsi:type="dcterms:W3CDTF">2018-02-13T16:15:41Z</dcterms:modified>
  <cp:revision>63</cp:revision>
  <dc:subject/>
  <dc:title>шаблон для презентаций</dc:title>
</cp:coreProperties>
</file>